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.wmf" ContentType="image/x-wmf"/>
  <Override PartName="/ppt/media/image32.wmf" ContentType="image/x-wmf"/>
  <Override PartName="/ppt/media/image20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38.png" ContentType="image/png"/>
  <Override PartName="/ppt/media/image39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34.png" ContentType="image/png"/>
  <Override PartName="/ppt/media/image7.wmf" ContentType="image/x-wmf"/>
  <Override PartName="/ppt/media/image12.wmf" ContentType="image/x-wmf"/>
  <Override PartName="/ppt/media/image37.png" ContentType="image/png"/>
  <Override PartName="/ppt/media/image40.png" ContentType="image/png"/>
  <Override PartName="/ppt/media/image8.wmf" ContentType="image/x-wmf"/>
  <Override PartName="/ppt/media/image13.wmf" ContentType="image/x-wmf"/>
  <Override PartName="/ppt/media/image41.png" ContentType="image/png"/>
  <Override PartName="/ppt/media/image9.wmf" ContentType="image/x-wmf"/>
  <Override PartName="/ppt/media/image36.wmf" ContentType="image/x-wmf"/>
  <Override PartName="/ppt/media/image6.wmf" ContentType="image/x-wmf"/>
  <Override PartName="/ppt/media/image11.png" ContentType="image/png"/>
  <Override PartName="/ppt/media/image29.wmf" ContentType="image/x-wmf"/>
  <Override PartName="/ppt/media/image1.wmf" ContentType="image/x-wmf"/>
  <Override PartName="/ppt/media/image31.wmf" ContentType="image/x-wmf"/>
  <Override PartName="/ppt/media/image5.wmf" ContentType="image/x-wmf"/>
  <Override PartName="/ppt/media/image35.wmf" ContentType="image/x-wmf"/>
  <Override PartName="/ppt/media/image4.wmf" ContentType="image/x-wmf"/>
  <Override PartName="/ppt/media/image33.wmf" ContentType="image/x-wmf"/>
  <Override PartName="/ppt/media/image3.wmf" ContentType="image/x-wmf"/>
  <Override PartName="/ppt/media/image14.wmf" ContentType="image/x-wmf"/>
  <Override PartName="/ppt/media/image15.wmf" ContentType="image/x-wmf"/>
  <Override PartName="/ppt/media/image27.gif" ContentType="image/gif"/>
  <Override PartName="/ppt/media/image1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CA93-16D0-4D56-BCD2-5AB83AD95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38FB-FD0E-4569-9919-3C8B578B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9F8A-C736-4E53-A5AD-1FDF1A743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1607-E1C5-4DA5-BB50-19ECDA0FE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B47C-1FD3-4FD0-8314-80041A80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48E3-EC91-48E6-AA01-8E7997BB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4226-5319-4087-9D51-7E505DA9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02D7-7ABC-47F1-BC31-06267100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5BF0-DCFD-4601-9129-7C378ABD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36C2-6B19-4830-84E3-4451465D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4707-A84B-4C90-87CF-D2B85D24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EF84-C374-45EF-A3C1-6A6D60F1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BA6F-DADB-441D-BEAE-E2FC3BD13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2.wmf"/><Relationship Id="rId9" Type="http://schemas.openxmlformats.org/officeDocument/2006/relationships/image" Target="../media/image8.wmf"/><Relationship Id="rId10" Type="http://schemas.openxmlformats.org/officeDocument/2006/relationships/image" Target="../media/image9.wmf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wmf"/><Relationship Id="rId14" Type="http://schemas.openxmlformats.org/officeDocument/2006/relationships/image" Target="../media/image13.wmf"/><Relationship Id="rId15" Type="http://schemas.openxmlformats.org/officeDocument/2006/relationships/image" Target="../media/image14.wmf"/><Relationship Id="rId16" Type="http://schemas.openxmlformats.org/officeDocument/2006/relationships/image" Target="../media/image15.wmf"/><Relationship Id="rId17" Type="http://schemas.openxmlformats.org/officeDocument/2006/relationships/image" Target="../media/image16.wmf"/><Relationship Id="rId18" Type="http://schemas.openxmlformats.org/officeDocument/2006/relationships/image" Target="../media/image17.wmf"/><Relationship Id="rId19" Type="http://schemas.openxmlformats.org/officeDocument/2006/relationships/image" Target="../media/image18.jpeg"/><Relationship Id="rId20" Type="http://schemas.openxmlformats.org/officeDocument/2006/relationships/image" Target="../media/image18.jpeg"/><Relationship Id="rId21" Type="http://schemas.openxmlformats.org/officeDocument/2006/relationships/image" Target="../media/image10.png"/><Relationship Id="rId22" Type="http://schemas.openxmlformats.org/officeDocument/2006/relationships/image" Target="../media/image11.png"/><Relationship Id="rId23" Type="http://schemas.openxmlformats.org/officeDocument/2006/relationships/image" Target="../media/image16.wmf"/><Relationship Id="rId24" Type="http://schemas.openxmlformats.org/officeDocument/2006/relationships/image" Target="../media/image17.wmf"/><Relationship Id="rId25" Type="http://schemas.openxmlformats.org/officeDocument/2006/relationships/image" Target="../media/image19.wmf"/><Relationship Id="rId26" Type="http://schemas.openxmlformats.org/officeDocument/2006/relationships/image" Target="../media/image20.wmf"/><Relationship Id="rId27" Type="http://schemas.openxmlformats.org/officeDocument/2006/relationships/image" Target="../media/image21.jpeg"/><Relationship Id="rId28" Type="http://schemas.openxmlformats.org/officeDocument/2006/relationships/image" Target="../media/image22.png"/><Relationship Id="rId29" Type="http://schemas.openxmlformats.org/officeDocument/2006/relationships/image" Target="../media/image23.png"/><Relationship Id="rId30" Type="http://schemas.openxmlformats.org/officeDocument/2006/relationships/image" Target="../media/image24.png"/><Relationship Id="rId31" Type="http://schemas.openxmlformats.org/officeDocument/2006/relationships/image" Target="../media/image19.wmf"/><Relationship Id="rId32" Type="http://schemas.openxmlformats.org/officeDocument/2006/relationships/image" Target="../media/image20.wmf"/><Relationship Id="rId33" Type="http://schemas.openxmlformats.org/officeDocument/2006/relationships/image" Target="../media/image19.wmf"/><Relationship Id="rId34" Type="http://schemas.openxmlformats.org/officeDocument/2006/relationships/image" Target="../media/image20.wmf"/><Relationship Id="rId35" Type="http://schemas.openxmlformats.org/officeDocument/2006/relationships/image" Target="../media/image19.wmf"/><Relationship Id="rId36" Type="http://schemas.openxmlformats.org/officeDocument/2006/relationships/image" Target="../media/image20.wmf"/><Relationship Id="rId37" Type="http://schemas.openxmlformats.org/officeDocument/2006/relationships/image" Target="../media/image10.png"/><Relationship Id="rId38" Type="http://schemas.openxmlformats.org/officeDocument/2006/relationships/image" Target="../media/image11.png"/><Relationship Id="rId39" Type="http://schemas.openxmlformats.org/officeDocument/2006/relationships/image" Target="../media/image7.wmf"/><Relationship Id="rId40" Type="http://schemas.openxmlformats.org/officeDocument/2006/relationships/image" Target="../media/image2.wmf"/><Relationship Id="rId41" Type="http://schemas.openxmlformats.org/officeDocument/2006/relationships/image" Target="../media/image8.wmf"/><Relationship Id="rId42" Type="http://schemas.openxmlformats.org/officeDocument/2006/relationships/image" Target="../media/image9.wmf"/><Relationship Id="rId43" Type="http://schemas.openxmlformats.org/officeDocument/2006/relationships/image" Target="../media/image25.png"/><Relationship Id="rId44" Type="http://schemas.openxmlformats.org/officeDocument/2006/relationships/image" Target="../media/image26.png"/><Relationship Id="rId45" Type="http://schemas.openxmlformats.org/officeDocument/2006/relationships/image" Target="../media/image7.wmf"/><Relationship Id="rId46" Type="http://schemas.openxmlformats.org/officeDocument/2006/relationships/image" Target="../media/image2.wmf"/><Relationship Id="rId47" Type="http://schemas.openxmlformats.org/officeDocument/2006/relationships/image" Target="../media/image8.wmf"/><Relationship Id="rId48" Type="http://schemas.openxmlformats.org/officeDocument/2006/relationships/image" Target="../media/image9.wmf"/><Relationship Id="rId49" Type="http://schemas.openxmlformats.org/officeDocument/2006/relationships/image" Target="../media/image25.png"/><Relationship Id="rId50" Type="http://schemas.openxmlformats.org/officeDocument/2006/relationships/image" Target="../media/image26.png"/><Relationship Id="rId51" Type="http://schemas.openxmlformats.org/officeDocument/2006/relationships/image" Target="../media/image10.png"/><Relationship Id="rId52" Type="http://schemas.openxmlformats.org/officeDocument/2006/relationships/image" Target="../media/image11.png"/><Relationship Id="rId53" Type="http://schemas.openxmlformats.org/officeDocument/2006/relationships/image" Target="../media/image23.png"/><Relationship Id="rId54" Type="http://schemas.openxmlformats.org/officeDocument/2006/relationships/image" Target="../media/image27.gif"/><Relationship Id="rId55" Type="http://schemas.openxmlformats.org/officeDocument/2006/relationships/image" Target="../media/image7.wmf"/><Relationship Id="rId56" Type="http://schemas.openxmlformats.org/officeDocument/2006/relationships/image" Target="../media/image2.wmf"/><Relationship Id="rId57" Type="http://schemas.openxmlformats.org/officeDocument/2006/relationships/image" Target="../media/image8.wmf"/><Relationship Id="rId58" Type="http://schemas.openxmlformats.org/officeDocument/2006/relationships/image" Target="../media/image9.wmf"/><Relationship Id="rId59" Type="http://schemas.openxmlformats.org/officeDocument/2006/relationships/image" Target="../media/image28.wmf"/><Relationship Id="rId60" Type="http://schemas.openxmlformats.org/officeDocument/2006/relationships/image" Target="../media/image29.wmf"/><Relationship Id="rId61" Type="http://schemas.openxmlformats.org/officeDocument/2006/relationships/image" Target="../media/image7.wmf"/><Relationship Id="rId62" Type="http://schemas.openxmlformats.org/officeDocument/2006/relationships/image" Target="../media/image2.wmf"/><Relationship Id="rId63" Type="http://schemas.openxmlformats.org/officeDocument/2006/relationships/image" Target="../media/image8.wmf"/><Relationship Id="rId64" Type="http://schemas.openxmlformats.org/officeDocument/2006/relationships/image" Target="../media/image9.wmf"/><Relationship Id="rId65" Type="http://schemas.openxmlformats.org/officeDocument/2006/relationships/image" Target="../media/image30.wmf"/><Relationship Id="rId66" Type="http://schemas.openxmlformats.org/officeDocument/2006/relationships/image" Target="../media/image31.wmf"/><Relationship Id="rId67" Type="http://schemas.openxmlformats.org/officeDocument/2006/relationships/image" Target="../media/image32.wmf"/><Relationship Id="rId68" Type="http://schemas.openxmlformats.org/officeDocument/2006/relationships/image" Target="../media/image33.wmf"/><Relationship Id="rId69" Type="http://schemas.openxmlformats.org/officeDocument/2006/relationships/image" Target="../media/image28.wmf"/><Relationship Id="rId70" Type="http://schemas.openxmlformats.org/officeDocument/2006/relationships/image" Target="../media/image29.wmf"/><Relationship Id="rId71" Type="http://schemas.openxmlformats.org/officeDocument/2006/relationships/image" Target="../media/image34.png"/><Relationship Id="rId72" Type="http://schemas.openxmlformats.org/officeDocument/2006/relationships/image" Target="../media/image35.wmf"/><Relationship Id="rId73" Type="http://schemas.openxmlformats.org/officeDocument/2006/relationships/image" Target="../media/image36.wmf"/><Relationship Id="rId74" Type="http://schemas.openxmlformats.org/officeDocument/2006/relationships/image" Target="../media/image37.png"/><Relationship Id="rId75" Type="http://schemas.openxmlformats.org/officeDocument/2006/relationships/image" Target="../media/image38.png"/><Relationship Id="rId76" Type="http://schemas.openxmlformats.org/officeDocument/2006/relationships/image" Target="../media/image39.png"/><Relationship Id="rId77" Type="http://schemas.openxmlformats.org/officeDocument/2006/relationships/image" Target="../media/image39.png"/><Relationship Id="rId78" Type="http://schemas.openxmlformats.org/officeDocument/2006/relationships/image" Target="../media/image40.png"/><Relationship Id="rId79" Type="http://schemas.openxmlformats.org/officeDocument/2006/relationships/image" Target="../media/image40.png"/><Relationship Id="rId80" Type="http://schemas.openxmlformats.org/officeDocument/2006/relationships/image" Target="../media/image22.png"/><Relationship Id="rId81" Type="http://schemas.openxmlformats.org/officeDocument/2006/relationships/image" Target="../media/image41.png"/><Relationship Id="rId82" Type="http://schemas.openxmlformats.org/officeDocument/2006/relationships/image" Target="../media/image12.wmf"/><Relationship Id="rId83" Type="http://schemas.openxmlformats.org/officeDocument/2006/relationships/image" Target="../media/image13.wmf"/><Relationship Id="rId84" Type="http://schemas.openxmlformats.org/officeDocument/2006/relationships/image" Target="../media/image10.png"/><Relationship Id="rId85" Type="http://schemas.openxmlformats.org/officeDocument/2006/relationships/image" Target="../media/image11.png"/><Relationship Id="rId86" Type="http://schemas.openxmlformats.org/officeDocument/2006/relationships/image" Target="../media/image10.png"/><Relationship Id="rId87" Type="http://schemas.openxmlformats.org/officeDocument/2006/relationships/image" Target="../media/image11.png"/><Relationship Id="rId88" Type="http://schemas.openxmlformats.org/officeDocument/2006/relationships/image" Target="../media/image10.png"/><Relationship Id="rId89" Type="http://schemas.openxmlformats.org/officeDocument/2006/relationships/image" Target="../media/image11.png"/><Relationship Id="rId90" Type="http://schemas.openxmlformats.org/officeDocument/2006/relationships/image" Target="../media/image10.png"/><Relationship Id="rId91" Type="http://schemas.openxmlformats.org/officeDocument/2006/relationships/image" Target="../media/image11.png"/><Relationship Id="rId92" Type="http://schemas.openxmlformats.org/officeDocument/2006/relationships/image" Target="../media/image30.wmf"/><Relationship Id="rId93" Type="http://schemas.openxmlformats.org/officeDocument/2006/relationships/image" Target="../media/image31.wmf"/><Relationship Id="rId9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7960" y="141120"/>
            <a:ext cx="346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500" spc="-1" strike="noStrike">
                <a:solidFill>
                  <a:srgbClr val="0000ff"/>
                </a:solidFill>
                <a:latin typeface="Arial"/>
                <a:cs typeface="Arial"/>
              </a:rPr>
              <a:t>מערכת שעות לבחירה – שליש א' תשס"ג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06200" y="27144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50680" y="49212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שיש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6160" y="49212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1120" y="492120"/>
            <a:ext cx="39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חמיש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11640" y="49212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62480" y="492120"/>
            <a:ext cx="343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רביע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99480" y="492120"/>
            <a:ext cx="392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שליש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54920" y="492120"/>
            <a:ext cx="217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שנ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11280" y="492120"/>
            <a:ext cx="375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ראשון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7960" y="44460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7960" y="44460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4440" y="444600"/>
            <a:ext cx="8571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4446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6280" y="444600"/>
            <a:ext cx="8604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43160" y="444600"/>
            <a:ext cx="8557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98880" y="44460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05000" y="444600"/>
            <a:ext cx="8589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63960" y="44460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70440" y="444600"/>
            <a:ext cx="8571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34080" y="444600"/>
            <a:ext cx="8017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5800" y="4446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5800" y="4446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449280"/>
            <a:ext cx="4680" cy="27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449280"/>
            <a:ext cx="1440" cy="27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98880" y="449280"/>
            <a:ext cx="6120" cy="27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98880" y="449280"/>
            <a:ext cx="1440" cy="27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960" y="449280"/>
            <a:ext cx="6480" cy="27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3960" y="449280"/>
            <a:ext cx="1440" cy="27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27600" y="449280"/>
            <a:ext cx="6480" cy="27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27600" y="449280"/>
            <a:ext cx="1440" cy="27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635800" y="449280"/>
            <a:ext cx="4680" cy="27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35800" y="449280"/>
            <a:ext cx="1440" cy="27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02800" y="1187280"/>
            <a:ext cx="119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084560" y="3013200"/>
            <a:ext cx="507600" cy="911880"/>
            <a:chOff x="4084560" y="3013200"/>
            <a:chExt cx="507600" cy="911880"/>
          </a:xfrm>
        </p:grpSpPr>
        <p:sp>
          <p:nvSpPr>
            <p:cNvPr id="76" name=""/>
            <p:cNvSpPr/>
            <p:nvPr/>
          </p:nvSpPr>
          <p:spPr>
            <a:xfrm>
              <a:off x="4104720" y="3013200"/>
              <a:ext cx="44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4400280" y="3282840"/>
              <a:ext cx="191880" cy="226440"/>
              <a:chOff x="4400280" y="3282840"/>
              <a:chExt cx="191880" cy="226440"/>
            </a:xfrm>
          </p:grpSpPr>
          <p:pic>
            <p:nvPicPr>
              <p:cNvPr id="7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400280" y="328284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400280" y="328284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0" name=""/>
            <p:cNvGrpSpPr/>
            <p:nvPr/>
          </p:nvGrpSpPr>
          <p:grpSpPr>
            <a:xfrm>
              <a:off x="4084560" y="3261960"/>
              <a:ext cx="201600" cy="246960"/>
              <a:chOff x="4084560" y="3261960"/>
              <a:chExt cx="201600" cy="246960"/>
            </a:xfrm>
          </p:grpSpPr>
          <p:pic>
            <p:nvPicPr>
              <p:cNvPr id="8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084560" y="3261960"/>
                <a:ext cx="201600" cy="24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084560" y="3261960"/>
                <a:ext cx="201600" cy="246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3" name=""/>
            <p:cNvSpPr/>
            <p:nvPr/>
          </p:nvSpPr>
          <p:spPr>
            <a:xfrm>
              <a:off x="4119480" y="3581640"/>
              <a:ext cx="427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א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171320" y="375732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514440" y="723960"/>
            <a:ext cx="857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4440" y="723960"/>
            <a:ext cx="85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76280" y="723960"/>
            <a:ext cx="8604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76280" y="723960"/>
            <a:ext cx="860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43160" y="723960"/>
            <a:ext cx="855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43160" y="723960"/>
            <a:ext cx="85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05000" y="723960"/>
            <a:ext cx="8589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05000" y="723960"/>
            <a:ext cx="85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70440" y="723960"/>
            <a:ext cx="857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70440" y="723960"/>
            <a:ext cx="85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34080" y="723960"/>
            <a:ext cx="801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34080" y="723960"/>
            <a:ext cx="801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35800" y="72396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40480" y="723960"/>
            <a:ext cx="874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40480" y="723960"/>
            <a:ext cx="87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730080"/>
            <a:ext cx="4680" cy="107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730080"/>
            <a:ext cx="1440" cy="107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98880" y="730080"/>
            <a:ext cx="6120" cy="107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63960" y="730080"/>
            <a:ext cx="6480" cy="107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27600" y="730080"/>
            <a:ext cx="6480" cy="107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27600" y="730080"/>
            <a:ext cx="1440" cy="107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5800" y="730080"/>
            <a:ext cx="4680" cy="107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35800" y="730080"/>
            <a:ext cx="1440" cy="107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18160" y="730080"/>
            <a:ext cx="6480" cy="107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18160" y="730080"/>
            <a:ext cx="1800" cy="107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39640" y="1422360"/>
            <a:ext cx="825840" cy="747360"/>
            <a:chOff x="539640" y="1422360"/>
            <a:chExt cx="825840" cy="747360"/>
          </a:xfrm>
        </p:grpSpPr>
        <p:sp>
          <p:nvSpPr>
            <p:cNvPr id="111" name=""/>
            <p:cNvSpPr/>
            <p:nvPr/>
          </p:nvSpPr>
          <p:spPr>
            <a:xfrm>
              <a:off x="887760" y="1422360"/>
              <a:ext cx="445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95320" y="1558800"/>
              <a:ext cx="47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ווית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539640" y="1514520"/>
              <a:ext cx="324000" cy="391680"/>
              <a:chOff x="539640" y="1514520"/>
              <a:chExt cx="324000" cy="391680"/>
            </a:xfrm>
          </p:grpSpPr>
          <p:pic>
            <p:nvPicPr>
              <p:cNvPr id="11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39640" y="1514520"/>
                <a:ext cx="324000" cy="391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39640" y="1514520"/>
                <a:ext cx="324000" cy="391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6" name=""/>
            <p:cNvSpPr/>
            <p:nvPr/>
          </p:nvSpPr>
          <p:spPr>
            <a:xfrm>
              <a:off x="635760" y="1865160"/>
              <a:ext cx="61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ן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8600" y="2001960"/>
              <a:ext cx="28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ל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133880" y="795240"/>
            <a:ext cx="507960" cy="904320"/>
            <a:chOff x="4133880" y="795240"/>
            <a:chExt cx="507960" cy="904320"/>
          </a:xfrm>
        </p:grpSpPr>
        <p:sp>
          <p:nvSpPr>
            <p:cNvPr id="119" name=""/>
            <p:cNvSpPr/>
            <p:nvPr/>
          </p:nvSpPr>
          <p:spPr>
            <a:xfrm>
              <a:off x="4253760" y="1375560"/>
              <a:ext cx="384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 </a:t>
              </a:r>
              <a:r>
                <a:rPr b="0" lang="hi-IN" sz="1100" spc="-1" strike="noStrike">
                  <a:solidFill>
                    <a:srgbClr val="000000"/>
                  </a:solidFill>
                  <a:latin typeface="Arial"/>
                </a:rPr>
                <a:t>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79240" y="795240"/>
              <a:ext cx="44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4449960" y="1054440"/>
              <a:ext cx="191880" cy="226080"/>
              <a:chOff x="4449960" y="1054440"/>
              <a:chExt cx="191880" cy="226080"/>
            </a:xfrm>
          </p:grpSpPr>
          <p:pic>
            <p:nvPicPr>
              <p:cNvPr id="12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449960" y="1054440"/>
                <a:ext cx="191880" cy="22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449960" y="1054440"/>
                <a:ext cx="191880" cy="226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4" name=""/>
            <p:cNvGrpSpPr/>
            <p:nvPr/>
          </p:nvGrpSpPr>
          <p:grpSpPr>
            <a:xfrm>
              <a:off x="4133880" y="1033920"/>
              <a:ext cx="199800" cy="246600"/>
              <a:chOff x="4133880" y="1033920"/>
              <a:chExt cx="199800" cy="246600"/>
            </a:xfrm>
          </p:grpSpPr>
          <p:pic>
            <p:nvPicPr>
              <p:cNvPr id="12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133880" y="1033920"/>
                <a:ext cx="199800" cy="24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133880" y="1033920"/>
                <a:ext cx="199800" cy="246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7" name=""/>
            <p:cNvSpPr/>
            <p:nvPr/>
          </p:nvSpPr>
          <p:spPr>
            <a:xfrm>
              <a:off x="4287240" y="153180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973760" y="5030640"/>
            <a:ext cx="581040" cy="756720"/>
            <a:chOff x="4973760" y="5030640"/>
            <a:chExt cx="581040" cy="756720"/>
          </a:xfrm>
        </p:grpSpPr>
        <p:sp>
          <p:nvSpPr>
            <p:cNvPr id="129" name=""/>
            <p:cNvSpPr/>
            <p:nvPr/>
          </p:nvSpPr>
          <p:spPr>
            <a:xfrm>
              <a:off x="5090040" y="5030640"/>
              <a:ext cx="38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0" name="" descr=""/>
            <p:cNvPicPr/>
            <p:nvPr/>
          </p:nvPicPr>
          <p:blipFill>
            <a:blip r:embed="rId11"/>
            <a:stretch/>
          </p:blipFill>
          <p:spPr>
            <a:xfrm>
              <a:off x="5268960" y="5202360"/>
              <a:ext cx="285840" cy="30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12"/>
            <a:stretch/>
          </p:blipFill>
          <p:spPr>
            <a:xfrm>
              <a:off x="4973760" y="5202360"/>
              <a:ext cx="295200" cy="30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5079960" y="547200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67800" y="5619600"/>
              <a:ext cx="21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עמ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5774760" y="1739880"/>
            <a:ext cx="59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8:30-9: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180324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98880" y="180324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63960" y="18032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27600" y="18032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635800" y="180324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18160" y="18032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1809720"/>
            <a:ext cx="4680" cy="107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1809720"/>
            <a:ext cx="1440" cy="107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98880" y="1809720"/>
            <a:ext cx="6120" cy="107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98880" y="1809720"/>
            <a:ext cx="1440" cy="107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63960" y="1809720"/>
            <a:ext cx="6480" cy="107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63960" y="1809720"/>
            <a:ext cx="1440" cy="107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27600" y="1809720"/>
            <a:ext cx="6480" cy="107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27600" y="1809720"/>
            <a:ext cx="1440" cy="107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5800" y="1809720"/>
            <a:ext cx="4680" cy="107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5800" y="1809720"/>
            <a:ext cx="1440" cy="107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18160" y="1809720"/>
            <a:ext cx="6480" cy="107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18160" y="1809720"/>
            <a:ext cx="1800" cy="107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4440" y="2882880"/>
            <a:ext cx="857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4440" y="2882880"/>
            <a:ext cx="85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76280" y="2882880"/>
            <a:ext cx="8604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76280" y="2882880"/>
            <a:ext cx="860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43160" y="2882880"/>
            <a:ext cx="855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43160" y="2882880"/>
            <a:ext cx="85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05000" y="2882880"/>
            <a:ext cx="8589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05000" y="2882880"/>
            <a:ext cx="85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70440" y="2882880"/>
            <a:ext cx="857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70440" y="2882880"/>
            <a:ext cx="85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34080" y="2882880"/>
            <a:ext cx="801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34080" y="2882880"/>
            <a:ext cx="801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5800" y="28828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640480" y="2882880"/>
            <a:ext cx="877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640480" y="2882880"/>
            <a:ext cx="877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2889360"/>
            <a:ext cx="4680" cy="106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2889360"/>
            <a:ext cx="1440" cy="1069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98880" y="2889360"/>
            <a:ext cx="6120" cy="106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98880" y="2889360"/>
            <a:ext cx="1440" cy="1069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3960" y="2889360"/>
            <a:ext cx="6480" cy="106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3960" y="2889360"/>
            <a:ext cx="1440" cy="1069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27600" y="2889360"/>
            <a:ext cx="6480" cy="106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27600" y="2889360"/>
            <a:ext cx="1440" cy="1069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35800" y="2889360"/>
            <a:ext cx="4680" cy="106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35800" y="2889360"/>
            <a:ext cx="1440" cy="1069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18160" y="2889360"/>
            <a:ext cx="6480" cy="106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518160" y="2889360"/>
            <a:ext cx="1800" cy="1069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640080" y="2925720"/>
            <a:ext cx="599760" cy="1022040"/>
            <a:chOff x="640080" y="2925720"/>
            <a:chExt cx="599760" cy="1022040"/>
          </a:xfrm>
        </p:grpSpPr>
        <p:sp>
          <p:nvSpPr>
            <p:cNvPr id="181" name=""/>
            <p:cNvSpPr/>
            <p:nvPr/>
          </p:nvSpPr>
          <p:spPr>
            <a:xfrm>
              <a:off x="700920" y="2925720"/>
              <a:ext cx="50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יאטר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760320" y="3198960"/>
              <a:ext cx="304560" cy="329760"/>
              <a:chOff x="760320" y="3198960"/>
              <a:chExt cx="304560" cy="329760"/>
            </a:xfrm>
          </p:grpSpPr>
          <p:pic>
            <p:nvPicPr>
              <p:cNvPr id="18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60320" y="3198960"/>
                <a:ext cx="304560" cy="329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60320" y="3198960"/>
                <a:ext cx="304560" cy="329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5" name=""/>
            <p:cNvSpPr/>
            <p:nvPr/>
          </p:nvSpPr>
          <p:spPr>
            <a:xfrm>
              <a:off x="640080" y="3603600"/>
              <a:ext cx="599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ד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79400" y="3780000"/>
              <a:ext cx="28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ל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5727240" y="3908520"/>
            <a:ext cx="671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9:30-10: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7960" y="3959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395928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36680" y="3959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98880" y="395928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63960" y="3959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27600" y="3959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35800" y="395928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18160" y="3959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71600" y="3965400"/>
            <a:ext cx="4680" cy="107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3965400"/>
            <a:ext cx="1440" cy="107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98880" y="3965400"/>
            <a:ext cx="6120" cy="107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98880" y="3965400"/>
            <a:ext cx="1440" cy="107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63960" y="3965400"/>
            <a:ext cx="6480" cy="107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963960" y="3965400"/>
            <a:ext cx="1440" cy="107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27600" y="3965400"/>
            <a:ext cx="6480" cy="107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27600" y="3965400"/>
            <a:ext cx="1440" cy="107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35800" y="3965400"/>
            <a:ext cx="4680" cy="107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635800" y="3965400"/>
            <a:ext cx="1440" cy="107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518160" y="3965400"/>
            <a:ext cx="6480" cy="107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518160" y="3965400"/>
            <a:ext cx="1800" cy="107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80960" y="9237600"/>
            <a:ext cx="5121360" cy="451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86720" y="9402840"/>
            <a:ext cx="48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500" spc="-1" strike="noStrike">
                <a:solidFill>
                  <a:srgbClr val="0000ff"/>
                </a:solidFill>
                <a:latin typeface="Arial"/>
                <a:cs typeface="Arial"/>
              </a:rPr>
              <a:t>ועדות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74040" y="9264600"/>
            <a:ext cx="674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10000"/>
                </a:solidFill>
                <a:latin typeface="Arial"/>
                <a:ea typeface="Arial"/>
              </a:rPr>
              <a:t>12:45-13: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35800" y="5038560"/>
            <a:ext cx="4680" cy="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635800" y="5046840"/>
            <a:ext cx="4680" cy="23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4440" y="5051520"/>
            <a:ext cx="85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76280" y="5051520"/>
            <a:ext cx="860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43160" y="5051520"/>
            <a:ext cx="85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05000" y="5051520"/>
            <a:ext cx="85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60720" y="5051520"/>
            <a:ext cx="86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34080" y="5051520"/>
            <a:ext cx="801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635800" y="528012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40480" y="5051520"/>
            <a:ext cx="877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71600" y="5057640"/>
            <a:ext cx="4680" cy="106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71600" y="5057640"/>
            <a:ext cx="1440" cy="1067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98880" y="5057640"/>
            <a:ext cx="6120" cy="106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98880" y="5057640"/>
            <a:ext cx="1440" cy="1067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3960" y="5057640"/>
            <a:ext cx="1440" cy="1067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27600" y="5057640"/>
            <a:ext cx="1440" cy="1067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35800" y="5286240"/>
            <a:ext cx="4680" cy="106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635800" y="5057640"/>
            <a:ext cx="1440" cy="1067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18160" y="5057640"/>
            <a:ext cx="6480" cy="106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518160" y="5057640"/>
            <a:ext cx="1800" cy="2086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35800" y="635328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71600" y="6130800"/>
            <a:ext cx="1440" cy="520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98880" y="6130800"/>
            <a:ext cx="1440" cy="520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63960" y="6130800"/>
            <a:ext cx="6480" cy="52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963960" y="6130800"/>
            <a:ext cx="1440" cy="520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827600" y="6130800"/>
            <a:ext cx="6480" cy="52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827600" y="6130800"/>
            <a:ext cx="1440" cy="520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635800" y="6359400"/>
            <a:ext cx="4680" cy="52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635800" y="6130800"/>
            <a:ext cx="1440" cy="520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4120" y="5226120"/>
            <a:ext cx="706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קבלת שבת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50240" y="5773680"/>
            <a:ext cx="512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פרלמנט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30280" y="6107040"/>
            <a:ext cx="810720" cy="456840"/>
            <a:chOff x="530280" y="6107040"/>
            <a:chExt cx="810720" cy="456840"/>
          </a:xfrm>
        </p:grpSpPr>
        <p:pic>
          <p:nvPicPr>
            <p:cNvPr id="243" name="" descr=""/>
            <p:cNvPicPr/>
            <p:nvPr/>
          </p:nvPicPr>
          <p:blipFill>
            <a:blip r:embed="rId15"/>
            <a:stretch/>
          </p:blipFill>
          <p:spPr>
            <a:xfrm>
              <a:off x="530280" y="6107040"/>
              <a:ext cx="810720" cy="45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16"/>
            <a:stretch/>
          </p:blipFill>
          <p:spPr>
            <a:xfrm>
              <a:off x="530280" y="6107040"/>
              <a:ext cx="810720" cy="456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5" name=""/>
          <p:cNvGrpSpPr/>
          <p:nvPr/>
        </p:nvGrpSpPr>
        <p:grpSpPr>
          <a:xfrm>
            <a:off x="4827600" y="5792760"/>
            <a:ext cx="820080" cy="719280"/>
            <a:chOff x="4827600" y="5792760"/>
            <a:chExt cx="820080" cy="719280"/>
          </a:xfrm>
        </p:grpSpPr>
        <p:grpSp>
          <p:nvGrpSpPr>
            <p:cNvPr id="246" name=""/>
            <p:cNvGrpSpPr/>
            <p:nvPr/>
          </p:nvGrpSpPr>
          <p:grpSpPr>
            <a:xfrm>
              <a:off x="4827600" y="5819760"/>
              <a:ext cx="408960" cy="445320"/>
              <a:chOff x="4827600" y="5819760"/>
              <a:chExt cx="408960" cy="445320"/>
            </a:xfrm>
          </p:grpSpPr>
          <p:pic>
            <p:nvPicPr>
              <p:cNvPr id="247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827600" y="5819760"/>
                <a:ext cx="408960" cy="44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8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27600" y="5819760"/>
                <a:ext cx="408960" cy="445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9" name=""/>
            <p:cNvGrpSpPr/>
            <p:nvPr/>
          </p:nvGrpSpPr>
          <p:grpSpPr>
            <a:xfrm>
              <a:off x="5174280" y="5792760"/>
              <a:ext cx="473400" cy="475200"/>
              <a:chOff x="5174280" y="5792760"/>
              <a:chExt cx="473400" cy="475200"/>
            </a:xfrm>
          </p:grpSpPr>
          <p:sp>
            <p:nvSpPr>
              <p:cNvPr id="250" name=""/>
              <p:cNvSpPr/>
              <p:nvPr/>
            </p:nvSpPr>
            <p:spPr>
              <a:xfrm>
                <a:off x="5174280" y="5792760"/>
                <a:ext cx="473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100" spc="-1" strike="noStrike">
                    <a:solidFill>
                      <a:srgbClr val="0000ff"/>
                    </a:solidFill>
                    <a:latin typeface="Arial"/>
                    <a:cs typeface="Arial"/>
                  </a:rPr>
                  <a:t>ראשית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202000" y="5947200"/>
                <a:ext cx="445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100" spc="-1" strike="noStrike">
                    <a:solidFill>
                      <a:srgbClr val="0000ff"/>
                    </a:solidFill>
                    <a:latin typeface="Arial"/>
                    <a:cs typeface="Arial"/>
                  </a:rPr>
                  <a:t>קריאה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195520" y="6100200"/>
                <a:ext cx="448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100" spc="-1" strike="noStrike">
                    <a:solidFill>
                      <a:srgbClr val="0000ff"/>
                    </a:solidFill>
                    <a:latin typeface="Arial"/>
                    <a:cs typeface="Arial"/>
                  </a:rPr>
                  <a:t>וכתיבה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4963680" y="6217200"/>
              <a:ext cx="57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109840" y="6344280"/>
              <a:ext cx="25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ח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719320" y="6140520"/>
            <a:ext cx="749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0:45-11:3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635800" y="6880320"/>
            <a:ext cx="46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71600" y="6659640"/>
            <a:ext cx="1440" cy="477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98880" y="6659640"/>
            <a:ext cx="6120" cy="477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98880" y="6659640"/>
            <a:ext cx="1440" cy="477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963960" y="6659640"/>
            <a:ext cx="6480" cy="477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3960" y="6659640"/>
            <a:ext cx="1440" cy="477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27600" y="6659640"/>
            <a:ext cx="6480" cy="477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27600" y="6659640"/>
            <a:ext cx="1440" cy="477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35800" y="6888240"/>
            <a:ext cx="4680" cy="477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635800" y="6659640"/>
            <a:ext cx="1440" cy="477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970880" y="783756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4720" y="7365960"/>
            <a:ext cx="3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95360" y="7137360"/>
            <a:ext cx="876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376280" y="7137360"/>
            <a:ext cx="860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43160" y="7137360"/>
            <a:ext cx="85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05000" y="7137360"/>
            <a:ext cx="858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970440" y="7137360"/>
            <a:ext cx="85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834080" y="7137360"/>
            <a:ext cx="801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5800" y="736596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640480" y="7137360"/>
            <a:ext cx="877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71600" y="7143840"/>
            <a:ext cx="468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371600" y="7143840"/>
            <a:ext cx="1440" cy="1066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98880" y="7143840"/>
            <a:ext cx="612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98880" y="7143840"/>
            <a:ext cx="1440" cy="1066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963960" y="7143840"/>
            <a:ext cx="648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63960" y="7143840"/>
            <a:ext cx="1440" cy="1066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827600" y="7143840"/>
            <a:ext cx="648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827600" y="7143840"/>
            <a:ext cx="1440" cy="1066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635800" y="7372440"/>
            <a:ext cx="468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35800" y="7143840"/>
            <a:ext cx="1440" cy="1066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518160" y="7143840"/>
            <a:ext cx="648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518160" y="7143840"/>
            <a:ext cx="1800" cy="1066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635800" y="843912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371600" y="8217000"/>
            <a:ext cx="1440" cy="522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098880" y="8217000"/>
            <a:ext cx="1440" cy="522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63960" y="8217000"/>
            <a:ext cx="1440" cy="522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827600" y="8217000"/>
            <a:ext cx="6480" cy="52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827600" y="8217000"/>
            <a:ext cx="1440" cy="522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635800" y="8445600"/>
            <a:ext cx="4680" cy="52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635800" y="8217000"/>
            <a:ext cx="1440" cy="522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518160" y="8217000"/>
            <a:ext cx="6480" cy="52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518160" y="8217000"/>
            <a:ext cx="1800" cy="522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709600" y="8123400"/>
            <a:ext cx="749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1:45-12:3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635800" y="896796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71600" y="8745480"/>
            <a:ext cx="4680" cy="47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371600" y="8745480"/>
            <a:ext cx="1440" cy="95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98880" y="8745480"/>
            <a:ext cx="144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63960" y="8745480"/>
            <a:ext cx="144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1379520" y="9226440"/>
            <a:ext cx="512460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827600" y="8745480"/>
            <a:ext cx="144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635800" y="8974080"/>
            <a:ext cx="4680" cy="47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35800" y="8745480"/>
            <a:ext cx="144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635800" y="945360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518160" y="8745480"/>
            <a:ext cx="6480" cy="47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18160" y="8745480"/>
            <a:ext cx="1800" cy="9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4925880" y="716040"/>
            <a:ext cx="639720" cy="828000"/>
            <a:chOff x="4925880" y="716040"/>
            <a:chExt cx="639720" cy="828000"/>
          </a:xfrm>
        </p:grpSpPr>
        <p:sp>
          <p:nvSpPr>
            <p:cNvPr id="312" name=""/>
            <p:cNvSpPr/>
            <p:nvPr/>
          </p:nvSpPr>
          <p:spPr>
            <a:xfrm>
              <a:off x="4925880" y="716040"/>
              <a:ext cx="59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יסטור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965840" y="1228680"/>
              <a:ext cx="599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ד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085720" y="1376280"/>
              <a:ext cx="37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הוד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5" name="GreekVase_small" descr=""/>
            <p:cNvPicPr/>
            <p:nvPr/>
          </p:nvPicPr>
          <p:blipFill>
            <a:blip r:embed="rId19"/>
            <a:stretch/>
          </p:blipFill>
          <p:spPr>
            <a:xfrm>
              <a:off x="5111640" y="890640"/>
              <a:ext cx="214200" cy="36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6" name=""/>
          <p:cNvSpPr/>
          <p:nvPr/>
        </p:nvSpPr>
        <p:spPr>
          <a:xfrm>
            <a:off x="4829040" y="1550880"/>
            <a:ext cx="80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3192120" y="5159520"/>
            <a:ext cx="610200" cy="816480"/>
            <a:chOff x="3192120" y="5159520"/>
            <a:chExt cx="610200" cy="816480"/>
          </a:xfrm>
        </p:grpSpPr>
        <p:sp>
          <p:nvSpPr>
            <p:cNvPr id="318" name=""/>
            <p:cNvSpPr/>
            <p:nvPr/>
          </p:nvSpPr>
          <p:spPr>
            <a:xfrm>
              <a:off x="3192480" y="5159520"/>
              <a:ext cx="59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יסטור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192120" y="5643000"/>
              <a:ext cx="610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ה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42960" y="5808240"/>
              <a:ext cx="37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הוד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1" name="GreekVase_small" descr=""/>
            <p:cNvPicPr/>
            <p:nvPr/>
          </p:nvPicPr>
          <p:blipFill>
            <a:blip r:embed="rId20"/>
            <a:stretch/>
          </p:blipFill>
          <p:spPr>
            <a:xfrm>
              <a:off x="3378240" y="5331600"/>
              <a:ext cx="214200" cy="36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"/>
          <p:cNvSpPr/>
          <p:nvPr/>
        </p:nvSpPr>
        <p:spPr>
          <a:xfrm>
            <a:off x="4829040" y="4003560"/>
            <a:ext cx="80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80960" y="1440000"/>
            <a:ext cx="857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371600" y="400068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504720" y="144000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1371600" y="216540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29040" y="5788080"/>
            <a:ext cx="80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228760" y="5838840"/>
            <a:ext cx="857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132440" y="7230960"/>
            <a:ext cx="582480" cy="889920"/>
            <a:chOff x="4132440" y="7230960"/>
            <a:chExt cx="582480" cy="889920"/>
          </a:xfrm>
        </p:grpSpPr>
        <p:sp>
          <p:nvSpPr>
            <p:cNvPr id="330" name=""/>
            <p:cNvSpPr/>
            <p:nvPr/>
          </p:nvSpPr>
          <p:spPr>
            <a:xfrm>
              <a:off x="4229640" y="7230960"/>
              <a:ext cx="38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1" name="" descr=""/>
            <p:cNvPicPr/>
            <p:nvPr/>
          </p:nvPicPr>
          <p:blipFill>
            <a:blip r:embed="rId21"/>
            <a:stretch/>
          </p:blipFill>
          <p:spPr>
            <a:xfrm>
              <a:off x="4427640" y="7451640"/>
              <a:ext cx="287280" cy="30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22"/>
            <a:stretch/>
          </p:blipFill>
          <p:spPr>
            <a:xfrm>
              <a:off x="4132440" y="7451640"/>
              <a:ext cx="295200" cy="30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4232520" y="7761240"/>
              <a:ext cx="37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327920" y="7953120"/>
              <a:ext cx="21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עמ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 flipH="1">
            <a:off x="1371600" y="607680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829040" y="7862760"/>
            <a:ext cx="80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47840" y="4000680"/>
            <a:ext cx="857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829040" y="6512040"/>
            <a:ext cx="80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4836960" y="7145280"/>
            <a:ext cx="820800" cy="718200"/>
            <a:chOff x="4836960" y="7145280"/>
            <a:chExt cx="820800" cy="718200"/>
          </a:xfrm>
        </p:grpSpPr>
        <p:grpSp>
          <p:nvGrpSpPr>
            <p:cNvPr id="340" name=""/>
            <p:cNvGrpSpPr/>
            <p:nvPr/>
          </p:nvGrpSpPr>
          <p:grpSpPr>
            <a:xfrm>
              <a:off x="4836960" y="7172280"/>
              <a:ext cx="409320" cy="444240"/>
              <a:chOff x="4836960" y="7172280"/>
              <a:chExt cx="409320" cy="444240"/>
            </a:xfrm>
          </p:grpSpPr>
          <p:pic>
            <p:nvPicPr>
              <p:cNvPr id="341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4836960" y="7172280"/>
                <a:ext cx="409320" cy="444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2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4836960" y="7172280"/>
                <a:ext cx="409320" cy="444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43" name=""/>
            <p:cNvGrpSpPr/>
            <p:nvPr/>
          </p:nvGrpSpPr>
          <p:grpSpPr>
            <a:xfrm>
              <a:off x="5184000" y="7145280"/>
              <a:ext cx="473760" cy="474480"/>
              <a:chOff x="5184000" y="7145280"/>
              <a:chExt cx="473760" cy="474480"/>
            </a:xfrm>
          </p:grpSpPr>
          <p:sp>
            <p:nvSpPr>
              <p:cNvPr id="344" name=""/>
              <p:cNvSpPr/>
              <p:nvPr/>
            </p:nvSpPr>
            <p:spPr>
              <a:xfrm>
                <a:off x="5184000" y="7145280"/>
                <a:ext cx="473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100" spc="-1" strike="noStrike">
                    <a:solidFill>
                      <a:srgbClr val="0000ff"/>
                    </a:solidFill>
                    <a:latin typeface="Arial"/>
                    <a:cs typeface="Arial"/>
                  </a:rPr>
                  <a:t>ראשית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212080" y="7299720"/>
                <a:ext cx="445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100" spc="-1" strike="noStrike">
                    <a:solidFill>
                      <a:srgbClr val="0000ff"/>
                    </a:solidFill>
                    <a:latin typeface="Arial"/>
                    <a:cs typeface="Arial"/>
                  </a:rPr>
                  <a:t>קריאה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205600" y="7452000"/>
                <a:ext cx="448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100" spc="-1" strike="noStrike">
                    <a:solidFill>
                      <a:srgbClr val="0000ff"/>
                    </a:solidFill>
                    <a:latin typeface="Arial"/>
                    <a:cs typeface="Arial"/>
                  </a:rPr>
                  <a:t>וכתיבה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4973400" y="7569000"/>
              <a:ext cx="57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119920" y="7695720"/>
              <a:ext cx="25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ח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4873680" y="2257560"/>
            <a:ext cx="754200" cy="640800"/>
            <a:chOff x="4873680" y="2257560"/>
            <a:chExt cx="754200" cy="640800"/>
          </a:xfrm>
        </p:grpSpPr>
        <p:sp>
          <p:nvSpPr>
            <p:cNvPr id="350" name=""/>
            <p:cNvSpPr/>
            <p:nvPr/>
          </p:nvSpPr>
          <p:spPr>
            <a:xfrm>
              <a:off x="5229360" y="2257560"/>
              <a:ext cx="39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ד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4873680" y="2324160"/>
              <a:ext cx="496800" cy="312840"/>
              <a:chOff x="4873680" y="2324160"/>
              <a:chExt cx="496800" cy="312840"/>
            </a:xfrm>
          </p:grpSpPr>
          <p:pic>
            <p:nvPicPr>
              <p:cNvPr id="352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4873680" y="2324160"/>
                <a:ext cx="496800" cy="31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4873680" y="2324160"/>
                <a:ext cx="496800" cy="312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54" name=""/>
            <p:cNvSpPr/>
            <p:nvPr/>
          </p:nvSpPr>
          <p:spPr>
            <a:xfrm>
              <a:off x="4978800" y="2616120"/>
              <a:ext cx="523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בוצה א'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043600" y="2730600"/>
              <a:ext cx="279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עופ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 flipH="1">
            <a:off x="3095640" y="175104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485640" y="399888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465480" y="4060800"/>
            <a:ext cx="913680" cy="999720"/>
            <a:chOff x="465480" y="4060800"/>
            <a:chExt cx="913680" cy="999720"/>
          </a:xfrm>
        </p:grpSpPr>
        <p:sp>
          <p:nvSpPr>
            <p:cNvPr id="359" name=""/>
            <p:cNvSpPr/>
            <p:nvPr/>
          </p:nvSpPr>
          <p:spPr>
            <a:xfrm>
              <a:off x="465480" y="4060800"/>
              <a:ext cx="913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וג סקייטבור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0" name="A001s082_small" descr=""/>
            <p:cNvPicPr/>
            <p:nvPr/>
          </p:nvPicPr>
          <p:blipFill>
            <a:blip r:embed="rId27"/>
            <a:stretch/>
          </p:blipFill>
          <p:spPr>
            <a:xfrm>
              <a:off x="638280" y="4375080"/>
              <a:ext cx="571320" cy="32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723240" y="4799160"/>
              <a:ext cx="442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ונת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1432800" y="8197920"/>
            <a:ext cx="744480" cy="1018440"/>
            <a:chOff x="1432800" y="8197920"/>
            <a:chExt cx="744480" cy="1018440"/>
          </a:xfrm>
        </p:grpSpPr>
        <p:sp>
          <p:nvSpPr>
            <p:cNvPr id="363" name=""/>
            <p:cNvSpPr/>
            <p:nvPr/>
          </p:nvSpPr>
          <p:spPr>
            <a:xfrm>
              <a:off x="1432800" y="8197920"/>
              <a:ext cx="74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ישיבת עית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453680" y="8332920"/>
              <a:ext cx="67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ית  הספ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481760" y="8902800"/>
              <a:ext cx="61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ן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718280" y="9048600"/>
              <a:ext cx="189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ר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7" name="man_reading_newspaper_still" descr=""/>
            <p:cNvPicPr/>
            <p:nvPr/>
          </p:nvPicPr>
          <p:blipFill>
            <a:blip r:embed="rId28"/>
            <a:stretch/>
          </p:blipFill>
          <p:spPr>
            <a:xfrm>
              <a:off x="1638360" y="8450280"/>
              <a:ext cx="361800" cy="4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8" name=""/>
          <p:cNvSpPr/>
          <p:nvPr/>
        </p:nvSpPr>
        <p:spPr>
          <a:xfrm>
            <a:off x="3095640" y="607680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095640" y="8182080"/>
            <a:ext cx="876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3027600" y="8110440"/>
            <a:ext cx="992880" cy="1076400"/>
            <a:chOff x="3027600" y="8110440"/>
            <a:chExt cx="992880" cy="1076400"/>
          </a:xfrm>
        </p:grpSpPr>
        <p:sp>
          <p:nvSpPr>
            <p:cNvPr id="371" name=""/>
            <p:cNvSpPr/>
            <p:nvPr/>
          </p:nvSpPr>
          <p:spPr>
            <a:xfrm>
              <a:off x="3133080" y="8771040"/>
              <a:ext cx="7981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ן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27600" y="8110440"/>
              <a:ext cx="992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רפלקסולוג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127320" y="8925480"/>
              <a:ext cx="775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ליה וגיל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4" name="foot" descr=""/>
            <p:cNvPicPr/>
            <p:nvPr/>
          </p:nvPicPr>
          <p:blipFill>
            <a:blip r:embed="rId29"/>
            <a:stretch/>
          </p:blipFill>
          <p:spPr>
            <a:xfrm>
              <a:off x="3219120" y="8406360"/>
              <a:ext cx="590760" cy="37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"/>
          <p:cNvSpPr/>
          <p:nvPr/>
        </p:nvSpPr>
        <p:spPr>
          <a:xfrm>
            <a:off x="485640" y="447840"/>
            <a:ext cx="0" cy="668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85640" y="447840"/>
            <a:ext cx="51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2238480" y="447840"/>
            <a:ext cx="0" cy="45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238480" y="5048280"/>
            <a:ext cx="0" cy="418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29040" y="2265480"/>
            <a:ext cx="80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4919760" y="1581120"/>
            <a:ext cx="689400" cy="597240"/>
            <a:chOff x="4919760" y="1581120"/>
            <a:chExt cx="689400" cy="597240"/>
          </a:xfrm>
        </p:grpSpPr>
        <p:pic>
          <p:nvPicPr>
            <p:cNvPr id="381" name="pfir2s" descr=""/>
            <p:cNvPicPr/>
            <p:nvPr/>
          </p:nvPicPr>
          <p:blipFill>
            <a:blip r:embed="rId30"/>
            <a:stretch/>
          </p:blipFill>
          <p:spPr>
            <a:xfrm>
              <a:off x="4919760" y="1685880"/>
              <a:ext cx="322200" cy="4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16320" y="158112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שורש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307120" y="1843200"/>
              <a:ext cx="220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271120" y="1995480"/>
              <a:ext cx="270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נעמ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4883040" y="4210200"/>
            <a:ext cx="754200" cy="640800"/>
            <a:chOff x="4883040" y="4210200"/>
            <a:chExt cx="754200" cy="640800"/>
          </a:xfrm>
        </p:grpSpPr>
        <p:sp>
          <p:nvSpPr>
            <p:cNvPr id="386" name=""/>
            <p:cNvSpPr/>
            <p:nvPr/>
          </p:nvSpPr>
          <p:spPr>
            <a:xfrm>
              <a:off x="5238720" y="4210200"/>
              <a:ext cx="39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ד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4883040" y="4276800"/>
              <a:ext cx="496800" cy="312840"/>
              <a:chOff x="4883040" y="4276800"/>
              <a:chExt cx="496800" cy="312840"/>
            </a:xfrm>
          </p:grpSpPr>
          <p:pic>
            <p:nvPicPr>
              <p:cNvPr id="388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4883040" y="4276800"/>
                <a:ext cx="496800" cy="31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9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4883040" y="4276800"/>
                <a:ext cx="496800" cy="312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90" name=""/>
            <p:cNvSpPr/>
            <p:nvPr/>
          </p:nvSpPr>
          <p:spPr>
            <a:xfrm>
              <a:off x="4992120" y="4568760"/>
              <a:ext cx="518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בוצה ב'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052960" y="4683240"/>
              <a:ext cx="279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עופ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4854600" y="6515280"/>
            <a:ext cx="754200" cy="640440"/>
            <a:chOff x="4854600" y="6515280"/>
            <a:chExt cx="754200" cy="640440"/>
          </a:xfrm>
        </p:grpSpPr>
        <p:sp>
          <p:nvSpPr>
            <p:cNvPr id="393" name=""/>
            <p:cNvSpPr/>
            <p:nvPr/>
          </p:nvSpPr>
          <p:spPr>
            <a:xfrm>
              <a:off x="5210280" y="6515280"/>
              <a:ext cx="39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ד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4" name=""/>
            <p:cNvGrpSpPr/>
            <p:nvPr/>
          </p:nvGrpSpPr>
          <p:grpSpPr>
            <a:xfrm>
              <a:off x="4854600" y="6581520"/>
              <a:ext cx="497160" cy="312480"/>
              <a:chOff x="4854600" y="6581520"/>
              <a:chExt cx="497160" cy="312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4854600" y="6581520"/>
                <a:ext cx="497160" cy="31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6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4854600" y="6581520"/>
                <a:ext cx="497160" cy="312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97" name=""/>
            <p:cNvSpPr/>
            <p:nvPr/>
          </p:nvSpPr>
          <p:spPr>
            <a:xfrm>
              <a:off x="4986000" y="6873840"/>
              <a:ext cx="49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בוצה ג'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024520" y="6987960"/>
              <a:ext cx="279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עופ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873680" y="8610480"/>
            <a:ext cx="754200" cy="640800"/>
            <a:chOff x="4873680" y="8610480"/>
            <a:chExt cx="754200" cy="640800"/>
          </a:xfrm>
        </p:grpSpPr>
        <p:sp>
          <p:nvSpPr>
            <p:cNvPr id="400" name=""/>
            <p:cNvSpPr/>
            <p:nvPr/>
          </p:nvSpPr>
          <p:spPr>
            <a:xfrm>
              <a:off x="5229360" y="8610480"/>
              <a:ext cx="39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ד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4873680" y="8677080"/>
              <a:ext cx="497160" cy="312840"/>
              <a:chOff x="4873680" y="8677080"/>
              <a:chExt cx="497160" cy="312840"/>
            </a:xfrm>
          </p:grpSpPr>
          <p:pic>
            <p:nvPicPr>
              <p:cNvPr id="402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4873680" y="8677080"/>
                <a:ext cx="497160" cy="31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3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4873680" y="8677080"/>
                <a:ext cx="497160" cy="312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04" name=""/>
            <p:cNvSpPr/>
            <p:nvPr/>
          </p:nvSpPr>
          <p:spPr>
            <a:xfrm>
              <a:off x="4988160" y="8969400"/>
              <a:ext cx="512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בוצה ד'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43600" y="9083520"/>
              <a:ext cx="279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עופ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4092480" y="5091120"/>
            <a:ext cx="585720" cy="994680"/>
            <a:chOff x="4092480" y="5091120"/>
            <a:chExt cx="585720" cy="994680"/>
          </a:xfrm>
        </p:grpSpPr>
        <p:sp>
          <p:nvSpPr>
            <p:cNvPr id="407" name=""/>
            <p:cNvSpPr/>
            <p:nvPr/>
          </p:nvSpPr>
          <p:spPr>
            <a:xfrm>
              <a:off x="4161600" y="5091120"/>
              <a:ext cx="38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8" name="" descr=""/>
            <p:cNvPicPr/>
            <p:nvPr/>
          </p:nvPicPr>
          <p:blipFill>
            <a:blip r:embed="rId37"/>
            <a:stretch/>
          </p:blipFill>
          <p:spPr>
            <a:xfrm>
              <a:off x="4387680" y="5381640"/>
              <a:ext cx="287640" cy="31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" descr=""/>
            <p:cNvPicPr/>
            <p:nvPr/>
          </p:nvPicPr>
          <p:blipFill>
            <a:blip r:embed="rId38"/>
            <a:stretch/>
          </p:blipFill>
          <p:spPr>
            <a:xfrm>
              <a:off x="4092480" y="5381640"/>
              <a:ext cx="295200" cy="31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4113720" y="5745240"/>
              <a:ext cx="56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ות 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297680" y="5918040"/>
              <a:ext cx="21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עמ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3267000" y="785880"/>
            <a:ext cx="509400" cy="903960"/>
            <a:chOff x="3267000" y="785880"/>
            <a:chExt cx="509400" cy="903960"/>
          </a:xfrm>
        </p:grpSpPr>
        <p:sp>
          <p:nvSpPr>
            <p:cNvPr id="413" name=""/>
            <p:cNvSpPr/>
            <p:nvPr/>
          </p:nvSpPr>
          <p:spPr>
            <a:xfrm>
              <a:off x="3353400" y="136620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 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312360" y="785880"/>
              <a:ext cx="44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3583080" y="1045080"/>
              <a:ext cx="191880" cy="226080"/>
              <a:chOff x="3583080" y="1045080"/>
              <a:chExt cx="191880" cy="226080"/>
            </a:xfrm>
          </p:grpSpPr>
          <p:pic>
            <p:nvPicPr>
              <p:cNvPr id="416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3583080" y="1045080"/>
                <a:ext cx="191880" cy="22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7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3583080" y="1045080"/>
                <a:ext cx="191880" cy="226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18" name=""/>
            <p:cNvGrpSpPr/>
            <p:nvPr/>
          </p:nvGrpSpPr>
          <p:grpSpPr>
            <a:xfrm>
              <a:off x="3267000" y="1024200"/>
              <a:ext cx="199800" cy="246600"/>
              <a:chOff x="3267000" y="1024200"/>
              <a:chExt cx="199800" cy="246600"/>
            </a:xfrm>
          </p:grpSpPr>
          <p:pic>
            <p:nvPicPr>
              <p:cNvPr id="419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3267000" y="1024200"/>
                <a:ext cx="199800" cy="24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0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3267000" y="1024200"/>
                <a:ext cx="199800" cy="246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21" name=""/>
            <p:cNvSpPr/>
            <p:nvPr/>
          </p:nvSpPr>
          <p:spPr>
            <a:xfrm>
              <a:off x="3420360" y="152208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3211560" y="1890720"/>
            <a:ext cx="654120" cy="904320"/>
            <a:chOff x="3211560" y="1890720"/>
            <a:chExt cx="654120" cy="904320"/>
          </a:xfrm>
        </p:grpSpPr>
        <p:sp>
          <p:nvSpPr>
            <p:cNvPr id="423" name=""/>
            <p:cNvSpPr/>
            <p:nvPr/>
          </p:nvSpPr>
          <p:spPr>
            <a:xfrm>
              <a:off x="3224160" y="2471760"/>
              <a:ext cx="57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212280" y="1890720"/>
              <a:ext cx="648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צבע וצו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402000" y="262728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מיכ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6" name="colors_v" descr=""/>
            <p:cNvPicPr/>
            <p:nvPr/>
          </p:nvPicPr>
          <p:blipFill>
            <a:blip r:embed="rId43"/>
            <a:stretch/>
          </p:blipFill>
          <p:spPr>
            <a:xfrm>
              <a:off x="3211560" y="2077920"/>
              <a:ext cx="271440" cy="41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colors_p" descr=""/>
            <p:cNvPicPr/>
            <p:nvPr/>
          </p:nvPicPr>
          <p:blipFill>
            <a:blip r:embed="rId44"/>
            <a:stretch/>
          </p:blipFill>
          <p:spPr>
            <a:xfrm>
              <a:off x="3592440" y="2075040"/>
              <a:ext cx="273240" cy="419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8" name=""/>
          <p:cNvGrpSpPr/>
          <p:nvPr/>
        </p:nvGrpSpPr>
        <p:grpSpPr>
          <a:xfrm>
            <a:off x="3228840" y="2938320"/>
            <a:ext cx="507960" cy="904680"/>
            <a:chOff x="3228840" y="2938320"/>
            <a:chExt cx="507960" cy="904680"/>
          </a:xfrm>
        </p:grpSpPr>
        <p:sp>
          <p:nvSpPr>
            <p:cNvPr id="429" name=""/>
            <p:cNvSpPr/>
            <p:nvPr/>
          </p:nvSpPr>
          <p:spPr>
            <a:xfrm>
              <a:off x="3337920" y="3519360"/>
              <a:ext cx="39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 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274560" y="2938320"/>
              <a:ext cx="44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3544920" y="3197160"/>
              <a:ext cx="191880" cy="226800"/>
              <a:chOff x="3544920" y="3197160"/>
              <a:chExt cx="191880" cy="226800"/>
            </a:xfrm>
          </p:grpSpPr>
          <p:pic>
            <p:nvPicPr>
              <p:cNvPr id="432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3544920" y="319716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3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3544920" y="319716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34" name=""/>
            <p:cNvGrpSpPr/>
            <p:nvPr/>
          </p:nvGrpSpPr>
          <p:grpSpPr>
            <a:xfrm>
              <a:off x="3228840" y="3176640"/>
              <a:ext cx="199800" cy="247320"/>
              <a:chOff x="3228840" y="3176640"/>
              <a:chExt cx="199800" cy="247320"/>
            </a:xfrm>
          </p:grpSpPr>
          <p:pic>
            <p:nvPicPr>
              <p:cNvPr id="435" name="" descr=""/>
              <p:cNvPicPr/>
              <p:nvPr/>
            </p:nvPicPr>
            <p:blipFill>
              <a:blip r:embed="rId47"/>
              <a:stretch/>
            </p:blipFill>
            <p:spPr>
              <a:xfrm>
                <a:off x="3228840" y="31766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" descr=""/>
              <p:cNvPicPr/>
              <p:nvPr/>
            </p:nvPicPr>
            <p:blipFill>
              <a:blip r:embed="rId48"/>
              <a:stretch/>
            </p:blipFill>
            <p:spPr>
              <a:xfrm>
                <a:off x="3228840" y="31766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37" name=""/>
            <p:cNvSpPr/>
            <p:nvPr/>
          </p:nvSpPr>
          <p:spPr>
            <a:xfrm>
              <a:off x="3382560" y="367524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 flipH="1">
            <a:off x="3085920" y="4003560"/>
            <a:ext cx="866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3183120" y="4071960"/>
            <a:ext cx="663480" cy="904320"/>
            <a:chOff x="3183120" y="4071960"/>
            <a:chExt cx="663480" cy="904320"/>
          </a:xfrm>
        </p:grpSpPr>
        <p:sp>
          <p:nvSpPr>
            <p:cNvPr id="440" name=""/>
            <p:cNvSpPr/>
            <p:nvPr/>
          </p:nvSpPr>
          <p:spPr>
            <a:xfrm>
              <a:off x="3183120" y="4653000"/>
              <a:ext cx="599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ד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193200" y="4071960"/>
              <a:ext cx="648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צבע וצו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382920" y="480852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מיכ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3" name="colors_v" descr=""/>
            <p:cNvPicPr/>
            <p:nvPr/>
          </p:nvPicPr>
          <p:blipFill>
            <a:blip r:embed="rId49"/>
            <a:stretch/>
          </p:blipFill>
          <p:spPr>
            <a:xfrm>
              <a:off x="3192480" y="4259160"/>
              <a:ext cx="271440" cy="41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colors_p" descr=""/>
            <p:cNvPicPr/>
            <p:nvPr/>
          </p:nvPicPr>
          <p:blipFill>
            <a:blip r:embed="rId50"/>
            <a:stretch/>
          </p:blipFill>
          <p:spPr>
            <a:xfrm>
              <a:off x="3573360" y="4255920"/>
              <a:ext cx="273240" cy="419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5" name=""/>
          <p:cNvGrpSpPr/>
          <p:nvPr/>
        </p:nvGrpSpPr>
        <p:grpSpPr>
          <a:xfrm>
            <a:off x="3235320" y="6100920"/>
            <a:ext cx="582480" cy="994680"/>
            <a:chOff x="3235320" y="6100920"/>
            <a:chExt cx="582480" cy="994680"/>
          </a:xfrm>
        </p:grpSpPr>
        <p:sp>
          <p:nvSpPr>
            <p:cNvPr id="446" name=""/>
            <p:cNvSpPr/>
            <p:nvPr/>
          </p:nvSpPr>
          <p:spPr>
            <a:xfrm>
              <a:off x="3304080" y="6100920"/>
              <a:ext cx="38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7" name="" descr=""/>
            <p:cNvPicPr/>
            <p:nvPr/>
          </p:nvPicPr>
          <p:blipFill>
            <a:blip r:embed="rId51"/>
            <a:stretch/>
          </p:blipFill>
          <p:spPr>
            <a:xfrm>
              <a:off x="3530520" y="6391440"/>
              <a:ext cx="287280" cy="31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" descr=""/>
            <p:cNvPicPr/>
            <p:nvPr/>
          </p:nvPicPr>
          <p:blipFill>
            <a:blip r:embed="rId52"/>
            <a:stretch/>
          </p:blipFill>
          <p:spPr>
            <a:xfrm>
              <a:off x="3235320" y="6391440"/>
              <a:ext cx="295200" cy="31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3357720" y="675468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440520" y="6927840"/>
              <a:ext cx="21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עמ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2989800" y="9169560"/>
            <a:ext cx="1048680" cy="552240"/>
            <a:chOff x="2989800" y="9169560"/>
            <a:chExt cx="1048680" cy="552240"/>
          </a:xfrm>
        </p:grpSpPr>
        <p:sp>
          <p:nvSpPr>
            <p:cNvPr id="452" name=""/>
            <p:cNvSpPr/>
            <p:nvPr/>
          </p:nvSpPr>
          <p:spPr>
            <a:xfrm>
              <a:off x="2989800" y="9169560"/>
              <a:ext cx="992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רפלקסולוג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80520" y="9380520"/>
              <a:ext cx="476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ts val="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ל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גיל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4" name="foot" descr=""/>
            <p:cNvPicPr/>
            <p:nvPr/>
          </p:nvPicPr>
          <p:blipFill>
            <a:blip r:embed="rId53"/>
            <a:stretch/>
          </p:blipFill>
          <p:spPr>
            <a:xfrm>
              <a:off x="3448080" y="9350280"/>
              <a:ext cx="590400" cy="37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5" name=""/>
          <p:cNvGrpSpPr/>
          <p:nvPr/>
        </p:nvGrpSpPr>
        <p:grpSpPr>
          <a:xfrm>
            <a:off x="2251800" y="747720"/>
            <a:ext cx="849600" cy="959760"/>
            <a:chOff x="2251800" y="747720"/>
            <a:chExt cx="849600" cy="959760"/>
          </a:xfrm>
        </p:grpSpPr>
        <p:sp>
          <p:nvSpPr>
            <p:cNvPr id="456" name=""/>
            <p:cNvSpPr/>
            <p:nvPr/>
          </p:nvSpPr>
          <p:spPr>
            <a:xfrm>
              <a:off x="2251800" y="747720"/>
              <a:ext cx="849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לשנות ולש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384640" y="1539720"/>
              <a:ext cx="599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ד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543760" y="1374840"/>
              <a:ext cx="24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ת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9" name="debusum5" descr=""/>
            <p:cNvPicPr/>
            <p:nvPr/>
          </p:nvPicPr>
          <p:blipFill>
            <a:blip r:embed="rId54"/>
            <a:stretch/>
          </p:blipFill>
          <p:spPr>
            <a:xfrm>
              <a:off x="2517840" y="941400"/>
              <a:ext cx="296640" cy="42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0" name=""/>
          <p:cNvSpPr/>
          <p:nvPr/>
        </p:nvSpPr>
        <p:spPr>
          <a:xfrm>
            <a:off x="2238480" y="1754280"/>
            <a:ext cx="876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2400480" y="1852560"/>
            <a:ext cx="509760" cy="904320"/>
            <a:chOff x="2400480" y="1852560"/>
            <a:chExt cx="509760" cy="904320"/>
          </a:xfrm>
        </p:grpSpPr>
        <p:sp>
          <p:nvSpPr>
            <p:cNvPr id="462" name=""/>
            <p:cNvSpPr/>
            <p:nvPr/>
          </p:nvSpPr>
          <p:spPr>
            <a:xfrm>
              <a:off x="2482920" y="2433600"/>
              <a:ext cx="427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 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445840" y="1852560"/>
              <a:ext cx="44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2716200" y="2111400"/>
              <a:ext cx="192240" cy="226800"/>
              <a:chOff x="2716200" y="2111400"/>
              <a:chExt cx="192240" cy="226800"/>
            </a:xfrm>
          </p:grpSpPr>
          <p:pic>
            <p:nvPicPr>
              <p:cNvPr id="465" name="" descr=""/>
              <p:cNvPicPr/>
              <p:nvPr/>
            </p:nvPicPr>
            <p:blipFill>
              <a:blip r:embed="rId55"/>
              <a:stretch/>
            </p:blipFill>
            <p:spPr>
              <a:xfrm>
                <a:off x="2716200" y="211140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6" name="" descr=""/>
              <p:cNvPicPr/>
              <p:nvPr/>
            </p:nvPicPr>
            <p:blipFill>
              <a:blip r:embed="rId56"/>
              <a:stretch/>
            </p:blipFill>
            <p:spPr>
              <a:xfrm>
                <a:off x="2716200" y="211140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67" name=""/>
            <p:cNvGrpSpPr/>
            <p:nvPr/>
          </p:nvGrpSpPr>
          <p:grpSpPr>
            <a:xfrm>
              <a:off x="2400480" y="2090880"/>
              <a:ext cx="199800" cy="247320"/>
              <a:chOff x="2400480" y="2090880"/>
              <a:chExt cx="199800" cy="247320"/>
            </a:xfrm>
          </p:grpSpPr>
          <p:pic>
            <p:nvPicPr>
              <p:cNvPr id="468" name="" descr=""/>
              <p:cNvPicPr/>
              <p:nvPr/>
            </p:nvPicPr>
            <p:blipFill>
              <a:blip r:embed="rId57"/>
              <a:stretch/>
            </p:blipFill>
            <p:spPr>
              <a:xfrm>
                <a:off x="2400480" y="209088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9" name="" descr=""/>
              <p:cNvPicPr/>
              <p:nvPr/>
            </p:nvPicPr>
            <p:blipFill>
              <a:blip r:embed="rId58"/>
              <a:stretch/>
            </p:blipFill>
            <p:spPr>
              <a:xfrm>
                <a:off x="2400480" y="209088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70" name=""/>
            <p:cNvSpPr/>
            <p:nvPr/>
          </p:nvSpPr>
          <p:spPr>
            <a:xfrm>
              <a:off x="2553840" y="258912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2376360" y="2975040"/>
            <a:ext cx="576720" cy="956520"/>
            <a:chOff x="2376360" y="2975040"/>
            <a:chExt cx="576720" cy="956520"/>
          </a:xfrm>
        </p:grpSpPr>
        <p:sp>
          <p:nvSpPr>
            <p:cNvPr id="472" name=""/>
            <p:cNvSpPr/>
            <p:nvPr/>
          </p:nvSpPr>
          <p:spPr>
            <a:xfrm>
              <a:off x="2565360" y="2975040"/>
              <a:ext cx="30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נ"ך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" name=""/>
            <p:cNvGrpSpPr/>
            <p:nvPr/>
          </p:nvGrpSpPr>
          <p:grpSpPr>
            <a:xfrm>
              <a:off x="2386080" y="3157200"/>
              <a:ext cx="533160" cy="430560"/>
              <a:chOff x="2386080" y="3157200"/>
              <a:chExt cx="533160" cy="430560"/>
            </a:xfrm>
          </p:grpSpPr>
          <p:pic>
            <p:nvPicPr>
              <p:cNvPr id="474" name="" descr=""/>
              <p:cNvPicPr/>
              <p:nvPr/>
            </p:nvPicPr>
            <p:blipFill>
              <a:blip r:embed="rId59"/>
              <a:stretch/>
            </p:blipFill>
            <p:spPr>
              <a:xfrm>
                <a:off x="2386080" y="3157200"/>
                <a:ext cx="533160" cy="43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5" name="" descr=""/>
              <p:cNvPicPr/>
              <p:nvPr/>
            </p:nvPicPr>
            <p:blipFill>
              <a:blip r:embed="rId60"/>
              <a:stretch/>
            </p:blipFill>
            <p:spPr>
              <a:xfrm>
                <a:off x="2386080" y="3157200"/>
                <a:ext cx="533160" cy="430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76" name=""/>
            <p:cNvSpPr/>
            <p:nvPr/>
          </p:nvSpPr>
          <p:spPr>
            <a:xfrm>
              <a:off x="2376360" y="3602520"/>
              <a:ext cx="57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589840" y="3763800"/>
              <a:ext cx="24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ת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2400480" y="4081320"/>
            <a:ext cx="509400" cy="904680"/>
            <a:chOff x="2400480" y="4081320"/>
            <a:chExt cx="509400" cy="904680"/>
          </a:xfrm>
        </p:grpSpPr>
        <p:sp>
          <p:nvSpPr>
            <p:cNvPr id="479" name=""/>
            <p:cNvSpPr/>
            <p:nvPr/>
          </p:nvSpPr>
          <p:spPr>
            <a:xfrm>
              <a:off x="2486880" y="46623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 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446200" y="4081320"/>
              <a:ext cx="44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1" name=""/>
            <p:cNvGrpSpPr/>
            <p:nvPr/>
          </p:nvGrpSpPr>
          <p:grpSpPr>
            <a:xfrm>
              <a:off x="2716560" y="4340160"/>
              <a:ext cx="191880" cy="226800"/>
              <a:chOff x="2716560" y="4340160"/>
              <a:chExt cx="191880" cy="226800"/>
            </a:xfrm>
          </p:grpSpPr>
          <p:pic>
            <p:nvPicPr>
              <p:cNvPr id="482" name="" descr=""/>
              <p:cNvPicPr/>
              <p:nvPr/>
            </p:nvPicPr>
            <p:blipFill>
              <a:blip r:embed="rId61"/>
              <a:stretch/>
            </p:blipFill>
            <p:spPr>
              <a:xfrm>
                <a:off x="2716560" y="434016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3" name="" descr=""/>
              <p:cNvPicPr/>
              <p:nvPr/>
            </p:nvPicPr>
            <p:blipFill>
              <a:blip r:embed="rId62"/>
              <a:stretch/>
            </p:blipFill>
            <p:spPr>
              <a:xfrm>
                <a:off x="2716560" y="434016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4" name=""/>
            <p:cNvGrpSpPr/>
            <p:nvPr/>
          </p:nvGrpSpPr>
          <p:grpSpPr>
            <a:xfrm>
              <a:off x="2400480" y="4319640"/>
              <a:ext cx="199800" cy="247320"/>
              <a:chOff x="2400480" y="4319640"/>
              <a:chExt cx="199800" cy="247320"/>
            </a:xfrm>
          </p:grpSpPr>
          <p:pic>
            <p:nvPicPr>
              <p:cNvPr id="485" name="" descr=""/>
              <p:cNvPicPr/>
              <p:nvPr/>
            </p:nvPicPr>
            <p:blipFill>
              <a:blip r:embed="rId63"/>
              <a:stretch/>
            </p:blipFill>
            <p:spPr>
              <a:xfrm>
                <a:off x="2400480" y="43196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6" name="" descr=""/>
              <p:cNvPicPr/>
              <p:nvPr/>
            </p:nvPicPr>
            <p:blipFill>
              <a:blip r:embed="rId64"/>
              <a:stretch/>
            </p:blipFill>
            <p:spPr>
              <a:xfrm>
                <a:off x="2400480" y="43196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87" name=""/>
            <p:cNvSpPr/>
            <p:nvPr/>
          </p:nvSpPr>
          <p:spPr>
            <a:xfrm>
              <a:off x="2554200" y="481824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2366640" y="5035680"/>
            <a:ext cx="576720" cy="810720"/>
            <a:chOff x="2366640" y="5035680"/>
            <a:chExt cx="576720" cy="810720"/>
          </a:xfrm>
        </p:grpSpPr>
        <p:sp>
          <p:nvSpPr>
            <p:cNvPr id="489" name=""/>
            <p:cNvSpPr/>
            <p:nvPr/>
          </p:nvSpPr>
          <p:spPr>
            <a:xfrm>
              <a:off x="2429280" y="503568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0" name="" descr=""/>
            <p:cNvPicPr/>
            <p:nvPr/>
          </p:nvPicPr>
          <p:blipFill>
            <a:blip r:embed="rId65"/>
            <a:stretch/>
          </p:blipFill>
          <p:spPr>
            <a:xfrm>
              <a:off x="2460600" y="5308560"/>
              <a:ext cx="39060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" descr=""/>
            <p:cNvPicPr/>
            <p:nvPr/>
          </p:nvPicPr>
          <p:blipFill>
            <a:blip r:embed="rId66"/>
            <a:stretch/>
          </p:blipFill>
          <p:spPr>
            <a:xfrm>
              <a:off x="2460600" y="5175360"/>
              <a:ext cx="39060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2366640" y="5578560"/>
              <a:ext cx="57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482920" y="567864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2257560" y="5824440"/>
            <a:ext cx="812880" cy="650520"/>
            <a:chOff x="2257560" y="5824440"/>
            <a:chExt cx="812880" cy="650520"/>
          </a:xfrm>
        </p:grpSpPr>
        <p:sp>
          <p:nvSpPr>
            <p:cNvPr id="495" name=""/>
            <p:cNvSpPr/>
            <p:nvPr/>
          </p:nvSpPr>
          <p:spPr>
            <a:xfrm>
              <a:off x="2257560" y="5824440"/>
              <a:ext cx="812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שימות 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2533680" y="5964120"/>
              <a:ext cx="295560" cy="318960"/>
              <a:chOff x="2533680" y="5964120"/>
              <a:chExt cx="295560" cy="318960"/>
            </a:xfrm>
          </p:grpSpPr>
          <p:pic>
            <p:nvPicPr>
              <p:cNvPr id="497" name="" descr=""/>
              <p:cNvPicPr/>
              <p:nvPr/>
            </p:nvPicPr>
            <p:blipFill>
              <a:blip r:embed="rId67"/>
              <a:stretch/>
            </p:blipFill>
            <p:spPr>
              <a:xfrm>
                <a:off x="2533680" y="5964120"/>
                <a:ext cx="295560" cy="31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8" name="" descr=""/>
              <p:cNvPicPr/>
              <p:nvPr/>
            </p:nvPicPr>
            <p:blipFill>
              <a:blip r:embed="rId68"/>
              <a:stretch/>
            </p:blipFill>
            <p:spPr>
              <a:xfrm>
                <a:off x="2533680" y="5964120"/>
                <a:ext cx="295560" cy="318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99" name=""/>
            <p:cNvSpPr/>
            <p:nvPr/>
          </p:nvSpPr>
          <p:spPr>
            <a:xfrm>
              <a:off x="2393640" y="6208560"/>
              <a:ext cx="558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ו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542680" y="6307200"/>
              <a:ext cx="24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ת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2325960" y="7216920"/>
            <a:ext cx="599760" cy="956520"/>
            <a:chOff x="2325960" y="7216920"/>
            <a:chExt cx="599760" cy="956520"/>
          </a:xfrm>
        </p:grpSpPr>
        <p:sp>
          <p:nvSpPr>
            <p:cNvPr id="502" name=""/>
            <p:cNvSpPr/>
            <p:nvPr/>
          </p:nvSpPr>
          <p:spPr>
            <a:xfrm>
              <a:off x="2536200" y="7216920"/>
              <a:ext cx="30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נ"ך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2357280" y="7399080"/>
              <a:ext cx="532800" cy="430560"/>
              <a:chOff x="2357280" y="7399080"/>
              <a:chExt cx="532800" cy="430560"/>
            </a:xfrm>
          </p:grpSpPr>
          <p:pic>
            <p:nvPicPr>
              <p:cNvPr id="504" name="" descr=""/>
              <p:cNvPicPr/>
              <p:nvPr/>
            </p:nvPicPr>
            <p:blipFill>
              <a:blip r:embed="rId69"/>
              <a:stretch/>
            </p:blipFill>
            <p:spPr>
              <a:xfrm>
                <a:off x="2357280" y="7399080"/>
                <a:ext cx="532800" cy="43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5" name="" descr=""/>
              <p:cNvPicPr/>
              <p:nvPr/>
            </p:nvPicPr>
            <p:blipFill>
              <a:blip r:embed="rId70"/>
              <a:stretch/>
            </p:blipFill>
            <p:spPr>
              <a:xfrm>
                <a:off x="2357280" y="7399080"/>
                <a:ext cx="532800" cy="430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06" name=""/>
            <p:cNvSpPr/>
            <p:nvPr/>
          </p:nvSpPr>
          <p:spPr>
            <a:xfrm>
              <a:off x="2325960" y="7844400"/>
              <a:ext cx="599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ד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561040" y="8005680"/>
              <a:ext cx="24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ת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1461960" y="3089160"/>
            <a:ext cx="646200" cy="669240"/>
            <a:chOff x="1461960" y="3089160"/>
            <a:chExt cx="646200" cy="669240"/>
          </a:xfrm>
        </p:grpSpPr>
        <p:pic>
          <p:nvPicPr>
            <p:cNvPr id="509" name="ktcl1w" descr=""/>
            <p:cNvPicPr/>
            <p:nvPr/>
          </p:nvPicPr>
          <p:blipFill>
            <a:blip r:embed="rId71"/>
            <a:stretch/>
          </p:blipFill>
          <p:spPr>
            <a:xfrm>
              <a:off x="1461960" y="3146040"/>
              <a:ext cx="64620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"/>
            <p:cNvSpPr/>
            <p:nvPr/>
          </p:nvSpPr>
          <p:spPr>
            <a:xfrm>
              <a:off x="1599840" y="3089160"/>
              <a:ext cx="36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ישו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506240" y="3458880"/>
              <a:ext cx="57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608840" y="3590640"/>
              <a:ext cx="357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1503720" y="738360"/>
            <a:ext cx="599760" cy="680400"/>
            <a:chOff x="1503720" y="738360"/>
            <a:chExt cx="599760" cy="680400"/>
          </a:xfrm>
        </p:grpSpPr>
        <p:sp>
          <p:nvSpPr>
            <p:cNvPr id="514" name=""/>
            <p:cNvSpPr/>
            <p:nvPr/>
          </p:nvSpPr>
          <p:spPr>
            <a:xfrm>
              <a:off x="1596240" y="738360"/>
              <a:ext cx="360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ימ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5" name=""/>
            <p:cNvGrpSpPr/>
            <p:nvPr/>
          </p:nvGrpSpPr>
          <p:grpSpPr>
            <a:xfrm>
              <a:off x="1703520" y="901440"/>
              <a:ext cx="171360" cy="277200"/>
              <a:chOff x="1703520" y="901440"/>
              <a:chExt cx="171360" cy="277200"/>
            </a:xfrm>
          </p:grpSpPr>
          <p:pic>
            <p:nvPicPr>
              <p:cNvPr id="516" name="" descr=""/>
              <p:cNvPicPr/>
              <p:nvPr/>
            </p:nvPicPr>
            <p:blipFill>
              <a:blip r:embed="rId72"/>
              <a:stretch/>
            </p:blipFill>
            <p:spPr>
              <a:xfrm>
                <a:off x="1703520" y="901440"/>
                <a:ext cx="171360" cy="27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7" name="" descr=""/>
              <p:cNvPicPr/>
              <p:nvPr/>
            </p:nvPicPr>
            <p:blipFill>
              <a:blip r:embed="rId73"/>
              <a:stretch/>
            </p:blipFill>
            <p:spPr>
              <a:xfrm>
                <a:off x="1703520" y="901440"/>
                <a:ext cx="171360" cy="277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8" name=""/>
            <p:cNvSpPr/>
            <p:nvPr/>
          </p:nvSpPr>
          <p:spPr>
            <a:xfrm>
              <a:off x="1503720" y="1149120"/>
              <a:ext cx="599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ד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604160" y="1251000"/>
              <a:ext cx="357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1516320" y="6119640"/>
            <a:ext cx="599760" cy="955440"/>
            <a:chOff x="1516320" y="6119640"/>
            <a:chExt cx="599760" cy="955440"/>
          </a:xfrm>
        </p:grpSpPr>
        <p:pic>
          <p:nvPicPr>
            <p:cNvPr id="521" name="m301" descr=""/>
            <p:cNvPicPr/>
            <p:nvPr/>
          </p:nvPicPr>
          <p:blipFill>
            <a:blip r:embed="rId74"/>
            <a:stretch/>
          </p:blipFill>
          <p:spPr>
            <a:xfrm>
              <a:off x="1608120" y="634212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>
              <a:off x="1585800" y="6119640"/>
              <a:ext cx="397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רידג'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516320" y="6732720"/>
              <a:ext cx="599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ד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552320" y="6907320"/>
              <a:ext cx="49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י ונת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 flipH="1">
            <a:off x="1361880" y="8182080"/>
            <a:ext cx="866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1517400" y="7224840"/>
            <a:ext cx="606960" cy="926280"/>
            <a:chOff x="1517400" y="7224840"/>
            <a:chExt cx="606960" cy="926280"/>
          </a:xfrm>
        </p:grpSpPr>
        <p:pic>
          <p:nvPicPr>
            <p:cNvPr id="527" name="acs1" descr=""/>
            <p:cNvPicPr/>
            <p:nvPr/>
          </p:nvPicPr>
          <p:blipFill>
            <a:blip r:embed="rId75"/>
            <a:stretch/>
          </p:blipFill>
          <p:spPr>
            <a:xfrm>
              <a:off x="1630440" y="7486560"/>
              <a:ext cx="366480" cy="3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"/>
            <p:cNvSpPr/>
            <p:nvPr/>
          </p:nvSpPr>
          <p:spPr>
            <a:xfrm>
              <a:off x="1613880" y="7224840"/>
              <a:ext cx="43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טאי צ'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517400" y="7843680"/>
              <a:ext cx="58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628280" y="7983360"/>
              <a:ext cx="49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י ונת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485640" y="5581800"/>
            <a:ext cx="88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1380960" y="9696600"/>
            <a:ext cx="513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4920840" y="3043080"/>
            <a:ext cx="711360" cy="829800"/>
            <a:chOff x="4920840" y="3043080"/>
            <a:chExt cx="711360" cy="829800"/>
          </a:xfrm>
        </p:grpSpPr>
        <p:sp>
          <p:nvSpPr>
            <p:cNvPr id="534" name=""/>
            <p:cNvSpPr/>
            <p:nvPr/>
          </p:nvSpPr>
          <p:spPr>
            <a:xfrm>
              <a:off x="4951800" y="3043080"/>
              <a:ext cx="680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סיכולוג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920840" y="3564000"/>
              <a:ext cx="610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ה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024160" y="3705120"/>
              <a:ext cx="37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הוד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7" name="mh2l_p" descr=""/>
            <p:cNvPicPr/>
            <p:nvPr/>
          </p:nvPicPr>
          <p:blipFill>
            <a:blip r:embed="rId76"/>
            <a:stretch/>
          </p:blipFill>
          <p:spPr>
            <a:xfrm>
              <a:off x="5024520" y="3195720"/>
              <a:ext cx="446040" cy="38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8" name=""/>
          <p:cNvGrpSpPr/>
          <p:nvPr/>
        </p:nvGrpSpPr>
        <p:grpSpPr>
          <a:xfrm>
            <a:off x="3178080" y="7205760"/>
            <a:ext cx="710640" cy="829440"/>
            <a:chOff x="3178080" y="7205760"/>
            <a:chExt cx="710640" cy="829440"/>
          </a:xfrm>
        </p:grpSpPr>
        <p:sp>
          <p:nvSpPr>
            <p:cNvPr id="539" name=""/>
            <p:cNvSpPr/>
            <p:nvPr/>
          </p:nvSpPr>
          <p:spPr>
            <a:xfrm>
              <a:off x="3208320" y="7205760"/>
              <a:ext cx="680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סיכולוג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178080" y="7726320"/>
              <a:ext cx="610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ה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280680" y="7867440"/>
              <a:ext cx="37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הוד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2" name="mh2l_p" descr=""/>
            <p:cNvPicPr/>
            <p:nvPr/>
          </p:nvPicPr>
          <p:blipFill>
            <a:blip r:embed="rId77"/>
            <a:stretch/>
          </p:blipFill>
          <p:spPr>
            <a:xfrm>
              <a:off x="3281400" y="7358040"/>
              <a:ext cx="445680" cy="38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3" name=""/>
          <p:cNvGrpSpPr/>
          <p:nvPr/>
        </p:nvGrpSpPr>
        <p:grpSpPr>
          <a:xfrm>
            <a:off x="1499400" y="4070520"/>
            <a:ext cx="600840" cy="955080"/>
            <a:chOff x="1499400" y="4070520"/>
            <a:chExt cx="600840" cy="955080"/>
          </a:xfrm>
        </p:grpSpPr>
        <p:sp>
          <p:nvSpPr>
            <p:cNvPr id="544" name=""/>
            <p:cNvSpPr/>
            <p:nvPr/>
          </p:nvSpPr>
          <p:spPr>
            <a:xfrm>
              <a:off x="1624680" y="4070520"/>
              <a:ext cx="430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נדס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79680" y="4211640"/>
              <a:ext cx="520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וחש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499400" y="4707000"/>
              <a:ext cx="58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מתקדמ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710360" y="4857840"/>
              <a:ext cx="192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8" name="triangle1" descr=""/>
            <p:cNvPicPr/>
            <p:nvPr/>
          </p:nvPicPr>
          <p:blipFill>
            <a:blip r:embed="rId78"/>
            <a:stretch/>
          </p:blipFill>
          <p:spPr>
            <a:xfrm>
              <a:off x="1514520" y="4421160"/>
              <a:ext cx="534960" cy="29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9" name=""/>
          <p:cNvGrpSpPr/>
          <p:nvPr/>
        </p:nvGrpSpPr>
        <p:grpSpPr>
          <a:xfrm>
            <a:off x="1400040" y="1441440"/>
            <a:ext cx="824040" cy="745560"/>
            <a:chOff x="1400040" y="1441440"/>
            <a:chExt cx="824040" cy="745560"/>
          </a:xfrm>
        </p:grpSpPr>
        <p:sp>
          <p:nvSpPr>
            <p:cNvPr id="550" name=""/>
            <p:cNvSpPr/>
            <p:nvPr/>
          </p:nvSpPr>
          <p:spPr>
            <a:xfrm>
              <a:off x="1757880" y="1441440"/>
              <a:ext cx="430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נדס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703520" y="1573200"/>
              <a:ext cx="520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וחש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558440" y="1896840"/>
              <a:ext cx="529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מתחיל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720080" y="2019240"/>
              <a:ext cx="192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4" name="triangle1" descr=""/>
            <p:cNvPicPr/>
            <p:nvPr/>
          </p:nvPicPr>
          <p:blipFill>
            <a:blip r:embed="rId79"/>
            <a:stretch/>
          </p:blipFill>
          <p:spPr>
            <a:xfrm>
              <a:off x="1400040" y="1639800"/>
              <a:ext cx="534960" cy="291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5" name=""/>
          <p:cNvGrpSpPr/>
          <p:nvPr/>
        </p:nvGrpSpPr>
        <p:grpSpPr>
          <a:xfrm>
            <a:off x="4695840" y="9191520"/>
            <a:ext cx="985320" cy="533520"/>
            <a:chOff x="4695840" y="9191520"/>
            <a:chExt cx="985320" cy="533520"/>
          </a:xfrm>
        </p:grpSpPr>
        <p:sp>
          <p:nvSpPr>
            <p:cNvPr id="556" name=""/>
            <p:cNvSpPr/>
            <p:nvPr/>
          </p:nvSpPr>
          <p:spPr>
            <a:xfrm>
              <a:off x="4919040" y="9191520"/>
              <a:ext cx="74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ישיבת עית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997160" y="9307440"/>
              <a:ext cx="67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ית  הספ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063040" y="9420120"/>
              <a:ext cx="61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ן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452200" y="9537840"/>
              <a:ext cx="189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ר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0" name="man_reading_newspaper_still" descr=""/>
            <p:cNvPicPr/>
            <p:nvPr/>
          </p:nvPicPr>
          <p:blipFill>
            <a:blip r:embed="rId80"/>
            <a:stretch/>
          </p:blipFill>
          <p:spPr>
            <a:xfrm>
              <a:off x="4695840" y="9253440"/>
              <a:ext cx="361800" cy="4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"/>
          <p:cNvSpPr/>
          <p:nvPr/>
        </p:nvSpPr>
        <p:spPr>
          <a:xfrm flipH="1">
            <a:off x="495360" y="2160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2228760" y="6524640"/>
            <a:ext cx="857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2281320" y="6519960"/>
            <a:ext cx="792000" cy="574200"/>
            <a:chOff x="2281320" y="6519960"/>
            <a:chExt cx="792000" cy="574200"/>
          </a:xfrm>
        </p:grpSpPr>
        <p:sp>
          <p:nvSpPr>
            <p:cNvPr id="564" name=""/>
            <p:cNvSpPr/>
            <p:nvPr/>
          </p:nvSpPr>
          <p:spPr>
            <a:xfrm>
              <a:off x="2825640" y="6519960"/>
              <a:ext cx="247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יוג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678760" y="6647040"/>
              <a:ext cx="381600" cy="2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530800" y="692640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7" name="yoga" descr=""/>
            <p:cNvPicPr/>
            <p:nvPr/>
          </p:nvPicPr>
          <p:blipFill>
            <a:blip r:embed="rId81"/>
            <a:stretch/>
          </p:blipFill>
          <p:spPr>
            <a:xfrm>
              <a:off x="2281320" y="6562800"/>
              <a:ext cx="461880" cy="39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8" name=""/>
          <p:cNvGrpSpPr/>
          <p:nvPr/>
        </p:nvGrpSpPr>
        <p:grpSpPr>
          <a:xfrm>
            <a:off x="2225880" y="8269200"/>
            <a:ext cx="895320" cy="945720"/>
            <a:chOff x="2225880" y="8269200"/>
            <a:chExt cx="895320" cy="945720"/>
          </a:xfrm>
        </p:grpSpPr>
        <p:sp>
          <p:nvSpPr>
            <p:cNvPr id="569" name=""/>
            <p:cNvSpPr/>
            <p:nvPr/>
          </p:nvSpPr>
          <p:spPr>
            <a:xfrm>
              <a:off x="2225880" y="8269200"/>
              <a:ext cx="895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דרמה יצירת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" name=""/>
            <p:cNvGrpSpPr/>
            <p:nvPr/>
          </p:nvGrpSpPr>
          <p:grpSpPr>
            <a:xfrm>
              <a:off x="2498760" y="8532720"/>
              <a:ext cx="304560" cy="329760"/>
              <a:chOff x="2498760" y="8532720"/>
              <a:chExt cx="304560" cy="329760"/>
            </a:xfrm>
          </p:grpSpPr>
          <p:pic>
            <p:nvPicPr>
              <p:cNvPr id="571" name="" descr=""/>
              <p:cNvPicPr/>
              <p:nvPr/>
            </p:nvPicPr>
            <p:blipFill>
              <a:blip r:embed="rId82"/>
              <a:stretch/>
            </p:blipFill>
            <p:spPr>
              <a:xfrm>
                <a:off x="2498760" y="8532720"/>
                <a:ext cx="304560" cy="329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2" name="" descr=""/>
              <p:cNvPicPr/>
              <p:nvPr/>
            </p:nvPicPr>
            <p:blipFill>
              <a:blip r:embed="rId83"/>
              <a:stretch/>
            </p:blipFill>
            <p:spPr>
              <a:xfrm>
                <a:off x="2498760" y="8532720"/>
                <a:ext cx="304560" cy="329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73" name=""/>
            <p:cNvSpPr/>
            <p:nvPr/>
          </p:nvSpPr>
          <p:spPr>
            <a:xfrm>
              <a:off x="2371680" y="8899560"/>
              <a:ext cx="57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494080" y="904716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2228760" y="8182080"/>
            <a:ext cx="876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1492200" y="2147760"/>
            <a:ext cx="582480" cy="747000"/>
            <a:chOff x="1492200" y="2147760"/>
            <a:chExt cx="582480" cy="747000"/>
          </a:xfrm>
        </p:grpSpPr>
        <p:sp>
          <p:nvSpPr>
            <p:cNvPr id="577" name=""/>
            <p:cNvSpPr/>
            <p:nvPr/>
          </p:nvSpPr>
          <p:spPr>
            <a:xfrm>
              <a:off x="1560960" y="2147760"/>
              <a:ext cx="38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8" name="" descr=""/>
            <p:cNvPicPr/>
            <p:nvPr/>
          </p:nvPicPr>
          <p:blipFill>
            <a:blip r:embed="rId84"/>
            <a:stretch/>
          </p:blipFill>
          <p:spPr>
            <a:xfrm>
              <a:off x="1787400" y="2323800"/>
              <a:ext cx="287280" cy="31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" descr=""/>
            <p:cNvPicPr/>
            <p:nvPr/>
          </p:nvPicPr>
          <p:blipFill>
            <a:blip r:embed="rId85"/>
            <a:stretch/>
          </p:blipFill>
          <p:spPr>
            <a:xfrm>
              <a:off x="1492200" y="2323800"/>
              <a:ext cx="295200" cy="31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1585440" y="2601720"/>
              <a:ext cx="38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668600" y="2727000"/>
              <a:ext cx="21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עמ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647640" y="2147760"/>
            <a:ext cx="582840" cy="747360"/>
            <a:chOff x="647640" y="2147760"/>
            <a:chExt cx="582840" cy="747360"/>
          </a:xfrm>
        </p:grpSpPr>
        <p:sp>
          <p:nvSpPr>
            <p:cNvPr id="583" name=""/>
            <p:cNvSpPr/>
            <p:nvPr/>
          </p:nvSpPr>
          <p:spPr>
            <a:xfrm>
              <a:off x="716760" y="2147760"/>
              <a:ext cx="38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4" name="" descr=""/>
            <p:cNvPicPr/>
            <p:nvPr/>
          </p:nvPicPr>
          <p:blipFill>
            <a:blip r:embed="rId86"/>
            <a:stretch/>
          </p:blipFill>
          <p:spPr>
            <a:xfrm>
              <a:off x="943200" y="2333520"/>
              <a:ext cx="287280" cy="31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5" name="" descr=""/>
            <p:cNvPicPr/>
            <p:nvPr/>
          </p:nvPicPr>
          <p:blipFill>
            <a:blip r:embed="rId87"/>
            <a:stretch/>
          </p:blipFill>
          <p:spPr>
            <a:xfrm>
              <a:off x="647640" y="2333520"/>
              <a:ext cx="295560" cy="31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752760" y="2611440"/>
              <a:ext cx="37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52840" y="2727360"/>
              <a:ext cx="21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עמ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1511280" y="5081760"/>
            <a:ext cx="585000" cy="994320"/>
            <a:chOff x="1511280" y="5081760"/>
            <a:chExt cx="585000" cy="994320"/>
          </a:xfrm>
        </p:grpSpPr>
        <p:sp>
          <p:nvSpPr>
            <p:cNvPr id="589" name=""/>
            <p:cNvSpPr/>
            <p:nvPr/>
          </p:nvSpPr>
          <p:spPr>
            <a:xfrm>
              <a:off x="1579680" y="5081760"/>
              <a:ext cx="38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0" name="" descr=""/>
            <p:cNvPicPr/>
            <p:nvPr/>
          </p:nvPicPr>
          <p:blipFill>
            <a:blip r:embed="rId88"/>
            <a:stretch/>
          </p:blipFill>
          <p:spPr>
            <a:xfrm>
              <a:off x="1806120" y="5371920"/>
              <a:ext cx="287280" cy="31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" descr=""/>
            <p:cNvPicPr/>
            <p:nvPr/>
          </p:nvPicPr>
          <p:blipFill>
            <a:blip r:embed="rId89"/>
            <a:stretch/>
          </p:blipFill>
          <p:spPr>
            <a:xfrm>
              <a:off x="1511280" y="5371920"/>
              <a:ext cx="294840" cy="31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1531800" y="5735520"/>
              <a:ext cx="56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ות 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715760" y="5908320"/>
              <a:ext cx="21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עמ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4" name=""/>
          <p:cNvSpPr/>
          <p:nvPr/>
        </p:nvSpPr>
        <p:spPr>
          <a:xfrm>
            <a:off x="4829040" y="8624880"/>
            <a:ext cx="80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4916520" y="7859880"/>
            <a:ext cx="581040" cy="756360"/>
            <a:chOff x="4916520" y="7859880"/>
            <a:chExt cx="581040" cy="756360"/>
          </a:xfrm>
        </p:grpSpPr>
        <p:sp>
          <p:nvSpPr>
            <p:cNvPr id="596" name=""/>
            <p:cNvSpPr/>
            <p:nvPr/>
          </p:nvSpPr>
          <p:spPr>
            <a:xfrm>
              <a:off x="5032800" y="7859880"/>
              <a:ext cx="38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7" name="" descr=""/>
            <p:cNvPicPr/>
            <p:nvPr/>
          </p:nvPicPr>
          <p:blipFill>
            <a:blip r:embed="rId90"/>
            <a:stretch/>
          </p:blipFill>
          <p:spPr>
            <a:xfrm>
              <a:off x="5211720" y="8031240"/>
              <a:ext cx="285840" cy="30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" descr=""/>
            <p:cNvPicPr/>
            <p:nvPr/>
          </p:nvPicPr>
          <p:blipFill>
            <a:blip r:embed="rId91"/>
            <a:stretch/>
          </p:blipFill>
          <p:spPr>
            <a:xfrm>
              <a:off x="4916520" y="8031240"/>
              <a:ext cx="295200" cy="30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"/>
            <p:cNvSpPr/>
            <p:nvPr/>
          </p:nvSpPr>
          <p:spPr>
            <a:xfrm>
              <a:off x="4993920" y="8300880"/>
              <a:ext cx="38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110560" y="8448480"/>
              <a:ext cx="21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עמ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527040" y="711360"/>
            <a:ext cx="771480" cy="725040"/>
            <a:chOff x="527040" y="711360"/>
            <a:chExt cx="771480" cy="725040"/>
          </a:xfrm>
        </p:grpSpPr>
        <p:pic>
          <p:nvPicPr>
            <p:cNvPr id="602" name="" descr=""/>
            <p:cNvPicPr/>
            <p:nvPr/>
          </p:nvPicPr>
          <p:blipFill>
            <a:blip r:embed="rId92"/>
            <a:stretch/>
          </p:blipFill>
          <p:spPr>
            <a:xfrm>
              <a:off x="746280" y="727200"/>
              <a:ext cx="39024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" descr=""/>
            <p:cNvPicPr/>
            <p:nvPr/>
          </p:nvPicPr>
          <p:blipFill>
            <a:blip r:embed="rId93"/>
            <a:stretch/>
          </p:blipFill>
          <p:spPr>
            <a:xfrm>
              <a:off x="527040" y="736560"/>
              <a:ext cx="39060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"/>
            <p:cNvSpPr/>
            <p:nvPr/>
          </p:nvSpPr>
          <p:spPr>
            <a:xfrm>
              <a:off x="630360" y="1140120"/>
              <a:ext cx="599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ד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68600" y="126864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87400" y="711360"/>
              <a:ext cx="4111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6T05:04:02Z</dcterms:created>
  <dc:creator>--</dc:creator>
  <dc:description/>
  <dc:language>en-US</dc:language>
  <cp:lastModifiedBy>--</cp:lastModifiedBy>
  <dcterms:modified xsi:type="dcterms:W3CDTF">2003-01-17T04:10:03Z</dcterms:modified>
  <cp:revision>178</cp:revision>
  <dc:subject/>
  <dc:title>מצגת של PowerPoint</dc:title>
</cp:coreProperties>
</file>