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0.wmf" ContentType="image/x-wmf"/>
  <Override PartName="/ppt/media/image26.gif" ContentType="image/gif"/>
  <Override PartName="/ppt/media/image23.wmf" ContentType="image/x-wmf"/>
  <Override PartName="/ppt/media/image22.png" ContentType="image/png"/>
  <Override PartName="/ppt/media/image21.gif" ContentType="image/gif"/>
  <Override PartName="/ppt/media/image25.gif" ContentType="image/gif"/>
  <Override PartName="/ppt/media/image18.wmf" ContentType="image/x-wmf"/>
  <Override PartName="/ppt/media/image5.png" ContentType="image/png"/>
  <Override PartName="/ppt/media/image35.png" ContentType="image/png"/>
  <Override PartName="/ppt/media/image9.wmf" ContentType="image/x-wmf"/>
  <Override PartName="/ppt/media/image15.png" ContentType="image/png"/>
  <Override PartName="/ppt/media/image12.gif" ContentType="image/gif"/>
  <Override PartName="/ppt/media/image19.wmf" ContentType="image/x-wmf"/>
  <Override PartName="/ppt/media/image17.wmf" ContentType="image/x-wmf"/>
  <Override PartName="/ppt/media/image34.png" ContentType="image/png"/>
  <Override PartName="/ppt/media/image29.wmf" ContentType="image/x-wmf"/>
  <Override PartName="/ppt/media/image11.png" ContentType="image/png"/>
  <Override PartName="/ppt/media/image33.png" ContentType="image/png"/>
  <Override PartName="/ppt/media/image16.wmf" ContentType="image/x-wmf"/>
  <Override PartName="/ppt/media/image8.gif" ContentType="image/gif"/>
  <Override PartName="/ppt/media/image4.wmf" ContentType="image/x-wmf"/>
  <Override PartName="/ppt/media/image7.gif" ContentType="image/gif"/>
  <Override PartName="/ppt/media/image3.wmf" ContentType="image/x-wmf"/>
  <Override PartName="/ppt/media/image6.gif" ContentType="image/gif"/>
  <Override PartName="/ppt/media/image32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28.gif" ContentType="image/gif"/>
  <Override PartName="/ppt/media/image24.wmf" ContentType="image/x-wmf"/>
  <Override PartName="/ppt/media/image10.wmf" ContentType="image/x-wmf"/>
  <Override PartName="/ppt/media/image14.gif" ContentType="image/gif"/>
  <Override PartName="/ppt/media/image13.png" ContentType="image/png"/>
  <Override PartName="/ppt/media/image2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F94-86E4-44CB-BAC6-CF233D1D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B52-FDB4-4755-8FD5-7A9F5D43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06D-D573-4063-9B04-7C54F1C2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27B-47EC-4F41-80E0-27F6A5E9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7A22-6DD7-44E4-BD08-9EDE9E84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B96-7B31-481D-B86D-80077BAB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B16-7F28-4D5A-975E-17B161D3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3D5-067C-4A38-BB2A-8BF37941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B52-B75A-4B7A-998E-CF904BDA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25DC-0E2D-4130-BF99-91C4E836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F582-83CC-4AEE-968E-FECE0F82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05A-A61B-4A27-9A9A-7AD8DCF7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56AF-F197-4CCD-A687-1A03483D3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image" Target="../media/image6.gi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image" Target="../media/image7.gif"/><Relationship Id="rId16" Type="http://schemas.openxmlformats.org/officeDocument/2006/relationships/image" Target="../media/image8.gif"/><Relationship Id="rId17" Type="http://schemas.openxmlformats.org/officeDocument/2006/relationships/image" Target="../media/image5.png"/><Relationship Id="rId18" Type="http://schemas.openxmlformats.org/officeDocument/2006/relationships/image" Target="../media/image6.gif"/><Relationship Id="rId19" Type="http://schemas.openxmlformats.org/officeDocument/2006/relationships/image" Target="../media/image9.wmf"/><Relationship Id="rId20" Type="http://schemas.openxmlformats.org/officeDocument/2006/relationships/image" Target="../media/image10.wmf"/><Relationship Id="rId21" Type="http://schemas.openxmlformats.org/officeDocument/2006/relationships/image" Target="../media/image8.gif"/><Relationship Id="rId22" Type="http://schemas.openxmlformats.org/officeDocument/2006/relationships/image" Target="../media/image11.png"/><Relationship Id="rId23" Type="http://schemas.openxmlformats.org/officeDocument/2006/relationships/image" Target="../media/image12.gif"/><Relationship Id="rId24" Type="http://schemas.openxmlformats.org/officeDocument/2006/relationships/image" Target="../media/image13.png"/><Relationship Id="rId25" Type="http://schemas.openxmlformats.org/officeDocument/2006/relationships/image" Target="../media/image14.gif"/><Relationship Id="rId26" Type="http://schemas.openxmlformats.org/officeDocument/2006/relationships/image" Target="../media/image11.png"/><Relationship Id="rId27" Type="http://schemas.openxmlformats.org/officeDocument/2006/relationships/image" Target="../media/image15.png"/><Relationship Id="rId28" Type="http://schemas.openxmlformats.org/officeDocument/2006/relationships/image" Target="../media/image16.wmf"/><Relationship Id="rId29" Type="http://schemas.openxmlformats.org/officeDocument/2006/relationships/image" Target="../media/image17.wmf"/><Relationship Id="rId30" Type="http://schemas.openxmlformats.org/officeDocument/2006/relationships/image" Target="../media/image11.png"/><Relationship Id="rId31" Type="http://schemas.openxmlformats.org/officeDocument/2006/relationships/image" Target="../media/image13.png"/><Relationship Id="rId32" Type="http://schemas.openxmlformats.org/officeDocument/2006/relationships/image" Target="../media/image14.gif"/><Relationship Id="rId33" Type="http://schemas.openxmlformats.org/officeDocument/2006/relationships/image" Target="../media/image18.wmf"/><Relationship Id="rId34" Type="http://schemas.openxmlformats.org/officeDocument/2006/relationships/image" Target="../media/image19.wmf"/><Relationship Id="rId35" Type="http://schemas.openxmlformats.org/officeDocument/2006/relationships/image" Target="../media/image11.png"/><Relationship Id="rId36" Type="http://schemas.openxmlformats.org/officeDocument/2006/relationships/image" Target="../media/image1.wmf"/><Relationship Id="rId37" Type="http://schemas.openxmlformats.org/officeDocument/2006/relationships/image" Target="../media/image2.wmf"/><Relationship Id="rId38" Type="http://schemas.openxmlformats.org/officeDocument/2006/relationships/image" Target="../media/image3.wmf"/><Relationship Id="rId39" Type="http://schemas.openxmlformats.org/officeDocument/2006/relationships/image" Target="../media/image4.wmf"/><Relationship Id="rId40" Type="http://schemas.openxmlformats.org/officeDocument/2006/relationships/image" Target="../media/image20.gif"/><Relationship Id="rId41" Type="http://schemas.openxmlformats.org/officeDocument/2006/relationships/image" Target="../media/image1.wmf"/><Relationship Id="rId42" Type="http://schemas.openxmlformats.org/officeDocument/2006/relationships/image" Target="../media/image2.wmf"/><Relationship Id="rId43" Type="http://schemas.openxmlformats.org/officeDocument/2006/relationships/image" Target="../media/image3.wmf"/><Relationship Id="rId44" Type="http://schemas.openxmlformats.org/officeDocument/2006/relationships/image" Target="../media/image4.wmf"/><Relationship Id="rId45" Type="http://schemas.openxmlformats.org/officeDocument/2006/relationships/image" Target="../media/image11.png"/><Relationship Id="rId46" Type="http://schemas.openxmlformats.org/officeDocument/2006/relationships/image" Target="../media/image1.wmf"/><Relationship Id="rId47" Type="http://schemas.openxmlformats.org/officeDocument/2006/relationships/image" Target="../media/image2.wmf"/><Relationship Id="rId48" Type="http://schemas.openxmlformats.org/officeDocument/2006/relationships/image" Target="../media/image3.wmf"/><Relationship Id="rId49" Type="http://schemas.openxmlformats.org/officeDocument/2006/relationships/image" Target="../media/image4.wmf"/><Relationship Id="rId50" Type="http://schemas.openxmlformats.org/officeDocument/2006/relationships/image" Target="../media/image15.png"/><Relationship Id="rId51" Type="http://schemas.openxmlformats.org/officeDocument/2006/relationships/image" Target="../media/image21.gif"/><Relationship Id="rId52" Type="http://schemas.openxmlformats.org/officeDocument/2006/relationships/image" Target="../media/image1.wmf"/><Relationship Id="rId53" Type="http://schemas.openxmlformats.org/officeDocument/2006/relationships/image" Target="../media/image2.wmf"/><Relationship Id="rId54" Type="http://schemas.openxmlformats.org/officeDocument/2006/relationships/image" Target="../media/image3.wmf"/><Relationship Id="rId55" Type="http://schemas.openxmlformats.org/officeDocument/2006/relationships/image" Target="../media/image4.wmf"/><Relationship Id="rId56" Type="http://schemas.openxmlformats.org/officeDocument/2006/relationships/image" Target="../media/image22.png"/><Relationship Id="rId57" Type="http://schemas.openxmlformats.org/officeDocument/2006/relationships/image" Target="../media/image22.png"/><Relationship Id="rId58" Type="http://schemas.openxmlformats.org/officeDocument/2006/relationships/image" Target="../media/image22.png"/><Relationship Id="rId5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gi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26.gif"/><Relationship Id="rId11" Type="http://schemas.openxmlformats.org/officeDocument/2006/relationships/image" Target="../media/image23.wmf"/><Relationship Id="rId12" Type="http://schemas.openxmlformats.org/officeDocument/2006/relationships/image" Target="../media/image24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3.wmf"/><Relationship Id="rId16" Type="http://schemas.openxmlformats.org/officeDocument/2006/relationships/image" Target="../media/image4.wmf"/><Relationship Id="rId17" Type="http://schemas.openxmlformats.org/officeDocument/2006/relationships/image" Target="../media/image25.gi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1.wmf"/><Relationship Id="rId21" Type="http://schemas.openxmlformats.org/officeDocument/2006/relationships/image" Target="../media/image2.wmf"/><Relationship Id="rId22" Type="http://schemas.openxmlformats.org/officeDocument/2006/relationships/image" Target="../media/image3.wmf"/><Relationship Id="rId23" Type="http://schemas.openxmlformats.org/officeDocument/2006/relationships/image" Target="../media/image4.wmf"/><Relationship Id="rId24" Type="http://schemas.openxmlformats.org/officeDocument/2006/relationships/image" Target="../media/image18.wmf"/><Relationship Id="rId25" Type="http://schemas.openxmlformats.org/officeDocument/2006/relationships/image" Target="../media/image19.wmf"/><Relationship Id="rId26" Type="http://schemas.openxmlformats.org/officeDocument/2006/relationships/image" Target="../media/image26.gif"/><Relationship Id="rId27" Type="http://schemas.openxmlformats.org/officeDocument/2006/relationships/image" Target="../media/image11.png"/><Relationship Id="rId28" Type="http://schemas.openxmlformats.org/officeDocument/2006/relationships/image" Target="../media/image15.png"/><Relationship Id="rId29" Type="http://schemas.openxmlformats.org/officeDocument/2006/relationships/image" Target="../media/image27.png"/><Relationship Id="rId30" Type="http://schemas.openxmlformats.org/officeDocument/2006/relationships/image" Target="../media/image18.wmf"/><Relationship Id="rId31" Type="http://schemas.openxmlformats.org/officeDocument/2006/relationships/image" Target="../media/image19.wmf"/><Relationship Id="rId32" Type="http://schemas.openxmlformats.org/officeDocument/2006/relationships/image" Target="../media/image1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image" Target="../media/image4.wmf"/><Relationship Id="rId36" Type="http://schemas.openxmlformats.org/officeDocument/2006/relationships/image" Target="../media/image11.png"/><Relationship Id="rId37" Type="http://schemas.openxmlformats.org/officeDocument/2006/relationships/image" Target="../media/image27.png"/><Relationship Id="rId38" Type="http://schemas.openxmlformats.org/officeDocument/2006/relationships/image" Target="../media/image16.wmf"/><Relationship Id="rId39" Type="http://schemas.openxmlformats.org/officeDocument/2006/relationships/image" Target="../media/image17.wmf"/><Relationship Id="rId40" Type="http://schemas.openxmlformats.org/officeDocument/2006/relationships/image" Target="../media/image28.gif"/><Relationship Id="rId41" Type="http://schemas.openxmlformats.org/officeDocument/2006/relationships/image" Target="../media/image18.wmf"/><Relationship Id="rId42" Type="http://schemas.openxmlformats.org/officeDocument/2006/relationships/image" Target="../media/image19.wmf"/><Relationship Id="rId43" Type="http://schemas.openxmlformats.org/officeDocument/2006/relationships/image" Target="../media/image29.wmf"/><Relationship Id="rId44" Type="http://schemas.openxmlformats.org/officeDocument/2006/relationships/image" Target="../media/image30.wmf"/><Relationship Id="rId45" Type="http://schemas.openxmlformats.org/officeDocument/2006/relationships/image" Target="../media/image13.png"/><Relationship Id="rId46" Type="http://schemas.openxmlformats.org/officeDocument/2006/relationships/image" Target="../media/image31.wmf"/><Relationship Id="rId47" Type="http://schemas.openxmlformats.org/officeDocument/2006/relationships/image" Target="../media/image32.wmf"/><Relationship Id="rId48" Type="http://schemas.openxmlformats.org/officeDocument/2006/relationships/image" Target="../media/image18.wmf"/><Relationship Id="rId49" Type="http://schemas.openxmlformats.org/officeDocument/2006/relationships/image" Target="../media/image19.wmf"/><Relationship Id="rId50" Type="http://schemas.openxmlformats.org/officeDocument/2006/relationships/image" Target="../media/image28.gif"/><Relationship Id="rId51" Type="http://schemas.openxmlformats.org/officeDocument/2006/relationships/image" Target="../media/image33.png"/><Relationship Id="rId52" Type="http://schemas.openxmlformats.org/officeDocument/2006/relationships/image" Target="../media/image31.wmf"/><Relationship Id="rId53" Type="http://schemas.openxmlformats.org/officeDocument/2006/relationships/image" Target="../media/image32.wmf"/><Relationship Id="rId54" Type="http://schemas.openxmlformats.org/officeDocument/2006/relationships/image" Target="../media/image18.wmf"/><Relationship Id="rId55" Type="http://schemas.openxmlformats.org/officeDocument/2006/relationships/image" Target="../media/image19.wmf"/><Relationship Id="rId56" Type="http://schemas.openxmlformats.org/officeDocument/2006/relationships/image" Target="../media/image28.gif"/><Relationship Id="rId57" Type="http://schemas.openxmlformats.org/officeDocument/2006/relationships/image" Target="../media/image34.png"/><Relationship Id="rId58" Type="http://schemas.openxmlformats.org/officeDocument/2006/relationships/image" Target="../media/image35.png"/><Relationship Id="rId5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7360" y="260280"/>
          <a:ext cx="8388360" cy="6222960"/>
        </p:xfrm>
        <a:graphic>
          <a:graphicData uri="http://schemas.openxmlformats.org/drawingml/2006/table">
            <a:tbl>
              <a:tblPr/>
              <a:tblGrid>
                <a:gridCol w="2298600"/>
                <a:gridCol w="2286000"/>
                <a:gridCol w="2273400"/>
                <a:gridCol w="153036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" name=""/>
          <p:cNvGrpSpPr/>
          <p:nvPr/>
        </p:nvGrpSpPr>
        <p:grpSpPr>
          <a:xfrm>
            <a:off x="6086880" y="3722760"/>
            <a:ext cx="901440" cy="754920"/>
            <a:chOff x="6086880" y="3722760"/>
            <a:chExt cx="901440" cy="754920"/>
          </a:xfrm>
        </p:grpSpPr>
        <p:sp>
          <p:nvSpPr>
            <p:cNvPr id="43" name=""/>
            <p:cNvSpPr/>
            <p:nvPr/>
          </p:nvSpPr>
          <p:spPr>
            <a:xfrm>
              <a:off x="6656040" y="392256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86880" y="372276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6413760" y="3924000"/>
              <a:ext cx="191880" cy="226440"/>
              <a:chOff x="6413760" y="3924000"/>
              <a:chExt cx="191880" cy="226440"/>
            </a:xfrm>
          </p:grpSpPr>
          <p:pic>
            <p:nvPicPr>
              <p:cNvPr id="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13760" y="39240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13760" y="39240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" name=""/>
            <p:cNvGrpSpPr/>
            <p:nvPr/>
          </p:nvGrpSpPr>
          <p:grpSpPr>
            <a:xfrm>
              <a:off x="6164280" y="3913200"/>
              <a:ext cx="199800" cy="246600"/>
              <a:chOff x="6164280" y="3913200"/>
              <a:chExt cx="199800" cy="246600"/>
            </a:xfrm>
          </p:grpSpPr>
          <p:pic>
            <p:nvPicPr>
              <p:cNvPr id="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64280" y="391320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64280" y="391320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"/>
            <p:cNvSpPr/>
            <p:nvPr/>
          </p:nvSpPr>
          <p:spPr>
            <a:xfrm>
              <a:off x="6393960" y="41446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146640" y="42465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5000760" y="4334040"/>
            <a:ext cx="792000" cy="21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0120" y="4076640"/>
            <a:ext cx="79236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14800" y="3624120"/>
            <a:ext cx="877680" cy="593280"/>
            <a:chOff x="4114800" y="3624120"/>
            <a:chExt cx="877680" cy="593280"/>
          </a:xfrm>
        </p:grpSpPr>
        <p:grpSp>
          <p:nvGrpSpPr>
            <p:cNvPr id="56" name=""/>
            <p:cNvGrpSpPr/>
            <p:nvPr/>
          </p:nvGrpSpPr>
          <p:grpSpPr>
            <a:xfrm>
              <a:off x="4114800" y="3714840"/>
              <a:ext cx="361440" cy="332640"/>
              <a:chOff x="4114800" y="3714840"/>
              <a:chExt cx="361440" cy="332640"/>
            </a:xfrm>
          </p:grpSpPr>
          <p:sp>
            <p:nvSpPr>
              <p:cNvPr id="57" name=""/>
              <p:cNvSpPr/>
              <p:nvPr/>
            </p:nvSpPr>
            <p:spPr>
              <a:xfrm>
                <a:off x="4114800" y="37148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295520" y="37148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114800" y="38811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295520" y="38811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4528080" y="376092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85320" y="388764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86320" y="362412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53560" y="398628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76600" y="3608280"/>
            <a:ext cx="926640" cy="612000"/>
            <a:chOff x="2676600" y="3608280"/>
            <a:chExt cx="926640" cy="612000"/>
          </a:xfrm>
        </p:grpSpPr>
        <p:sp>
          <p:nvSpPr>
            <p:cNvPr id="66" name=""/>
            <p:cNvSpPr/>
            <p:nvPr/>
          </p:nvSpPr>
          <p:spPr>
            <a:xfrm>
              <a:off x="3225960" y="3798720"/>
              <a:ext cx="37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76600" y="360828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003480" y="3828960"/>
              <a:ext cx="192240" cy="226440"/>
              <a:chOff x="3003480" y="3828960"/>
              <a:chExt cx="192240" cy="226440"/>
            </a:xfrm>
          </p:grpSpPr>
          <p:pic>
            <p:nvPicPr>
              <p:cNvPr id="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003480" y="382896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003480" y="382896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" name=""/>
            <p:cNvGrpSpPr/>
            <p:nvPr/>
          </p:nvGrpSpPr>
          <p:grpSpPr>
            <a:xfrm>
              <a:off x="2754360" y="3817800"/>
              <a:ext cx="199800" cy="247320"/>
              <a:chOff x="2754360" y="3817800"/>
              <a:chExt cx="199800" cy="247320"/>
            </a:xfrm>
          </p:grpSpPr>
          <p:pic>
            <p:nvPicPr>
              <p:cNvPr id="7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754360" y="38178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754360" y="38178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" name=""/>
            <p:cNvSpPr/>
            <p:nvPr/>
          </p:nvSpPr>
          <p:spPr>
            <a:xfrm>
              <a:off x="3269520" y="38970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74880" y="39891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733840" y="4324320"/>
            <a:ext cx="79200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4305240"/>
            <a:ext cx="79236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6680" y="4049640"/>
            <a:ext cx="79200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דורית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611360" y="3753000"/>
            <a:ext cx="887040" cy="726120"/>
            <a:chOff x="1611360" y="3753000"/>
            <a:chExt cx="887040" cy="726120"/>
          </a:xfrm>
        </p:grpSpPr>
        <p:pic>
          <p:nvPicPr>
            <p:cNvPr id="80" name="acs1" descr=""/>
            <p:cNvPicPr/>
            <p:nvPr/>
          </p:nvPicPr>
          <p:blipFill>
            <a:blip r:embed="rId9"/>
            <a:stretch/>
          </p:blipFill>
          <p:spPr>
            <a:xfrm>
              <a:off x="1611360" y="3786120"/>
              <a:ext cx="36684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973520" y="3753000"/>
              <a:ext cx="52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ימצ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91240" y="392400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82800" y="41493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ר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30080" y="42480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924160" y="43488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78480" y="43488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75480" y="45396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68840" y="19080"/>
            <a:ext cx="342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ב' תשס"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43880" y="400680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40-11: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82040" y="4950000"/>
            <a:ext cx="76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0-11: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19840" y="5267160"/>
            <a:ext cx="79200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056200" y="4621320"/>
            <a:ext cx="1115640" cy="624600"/>
            <a:chOff x="5056200" y="4621320"/>
            <a:chExt cx="1115640" cy="624600"/>
          </a:xfrm>
        </p:grpSpPr>
        <p:sp>
          <p:nvSpPr>
            <p:cNvPr id="93" name=""/>
            <p:cNvSpPr/>
            <p:nvPr/>
          </p:nvSpPr>
          <p:spPr>
            <a:xfrm>
              <a:off x="5421240" y="4621320"/>
              <a:ext cx="50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63080" y="475128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04560" y="490680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59840" y="5014800"/>
              <a:ext cx="49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dna_looking_through_magnifying_glass_ty_CLR" descr=""/>
            <p:cNvPicPr/>
            <p:nvPr/>
          </p:nvPicPr>
          <p:blipFill>
            <a:blip r:embed="rId10"/>
            <a:stretch/>
          </p:blipFill>
          <p:spPr>
            <a:xfrm>
              <a:off x="5056200" y="4627440"/>
              <a:ext cx="59364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6296400" y="4672080"/>
            <a:ext cx="834480" cy="754920"/>
            <a:chOff x="6296400" y="4672080"/>
            <a:chExt cx="834480" cy="754920"/>
          </a:xfrm>
        </p:grpSpPr>
        <p:sp>
          <p:nvSpPr>
            <p:cNvPr id="99" name=""/>
            <p:cNvSpPr/>
            <p:nvPr/>
          </p:nvSpPr>
          <p:spPr>
            <a:xfrm>
              <a:off x="6806880" y="487188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6400" y="467208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6564600" y="4873320"/>
              <a:ext cx="191880" cy="226440"/>
              <a:chOff x="6564600" y="4873320"/>
              <a:chExt cx="191880" cy="22644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64600" y="48733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64600" y="48733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6315120" y="4862520"/>
              <a:ext cx="199800" cy="246600"/>
              <a:chOff x="6315120" y="4862520"/>
              <a:chExt cx="199800" cy="246600"/>
            </a:xfrm>
          </p:grpSpPr>
          <p:pic>
            <p:nvPicPr>
              <p:cNvPr id="10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315120" y="486252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315120" y="486252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"/>
            <p:cNvSpPr/>
            <p:nvPr/>
          </p:nvSpPr>
          <p:spPr>
            <a:xfrm>
              <a:off x="6544800" y="50940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7480" y="51958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14640" y="4871880"/>
            <a:ext cx="1056600" cy="478800"/>
            <a:chOff x="3914640" y="4871880"/>
            <a:chExt cx="1056600" cy="478800"/>
          </a:xfrm>
        </p:grpSpPr>
        <p:grpSp>
          <p:nvGrpSpPr>
            <p:cNvPr id="110" name=""/>
            <p:cNvGrpSpPr/>
            <p:nvPr/>
          </p:nvGrpSpPr>
          <p:grpSpPr>
            <a:xfrm>
              <a:off x="3914640" y="4905360"/>
              <a:ext cx="361440" cy="332640"/>
              <a:chOff x="3914640" y="4905360"/>
              <a:chExt cx="361440" cy="3326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14640" y="49053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95360" y="49053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14640" y="50716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95360" y="50716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442040" y="499896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61280" y="513540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1200" y="487188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6160" y="511956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645640" y="4871880"/>
            <a:ext cx="1229760" cy="526680"/>
            <a:chOff x="2645640" y="4871880"/>
            <a:chExt cx="1229760" cy="526680"/>
          </a:xfrm>
        </p:grpSpPr>
        <p:sp>
          <p:nvSpPr>
            <p:cNvPr id="120" name=""/>
            <p:cNvSpPr/>
            <p:nvPr/>
          </p:nvSpPr>
          <p:spPr>
            <a:xfrm>
              <a:off x="3155760" y="4995720"/>
              <a:ext cx="608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45640" y="4871880"/>
              <a:ext cx="1190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מהפכה הצרפ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66720" y="50846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68280" y="51674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france_fl_md_CLR" descr=""/>
            <p:cNvPicPr/>
            <p:nvPr/>
          </p:nvPicPr>
          <p:blipFill>
            <a:blip r:embed="rId15"/>
            <a:stretch/>
          </p:blipFill>
          <p:spPr>
            <a:xfrm>
              <a:off x="2706480" y="4991040"/>
              <a:ext cx="44136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523800" y="4678200"/>
            <a:ext cx="944640" cy="704880"/>
            <a:chOff x="523800" y="4678200"/>
            <a:chExt cx="944640" cy="704880"/>
          </a:xfrm>
        </p:grpSpPr>
        <p:sp>
          <p:nvSpPr>
            <p:cNvPr id="126" name=""/>
            <p:cNvSpPr/>
            <p:nvPr/>
          </p:nvSpPr>
          <p:spPr>
            <a:xfrm>
              <a:off x="612720" y="4678200"/>
              <a:ext cx="85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קרמ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3000" y="48560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86760" y="505764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63360" y="52196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woman_at_pottery_wheel_ty_CLR_Horiz" descr=""/>
            <p:cNvPicPr/>
            <p:nvPr/>
          </p:nvPicPr>
          <p:blipFill>
            <a:blip r:embed="rId16"/>
            <a:stretch/>
          </p:blipFill>
          <p:spPr>
            <a:xfrm>
              <a:off x="523800" y="4824360"/>
              <a:ext cx="493560" cy="55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1754280" y="4700520"/>
            <a:ext cx="887040" cy="726480"/>
            <a:chOff x="1754280" y="4700520"/>
            <a:chExt cx="887040" cy="726480"/>
          </a:xfrm>
        </p:grpSpPr>
        <p:pic>
          <p:nvPicPr>
            <p:cNvPr id="132" name="acs1" descr=""/>
            <p:cNvPicPr/>
            <p:nvPr/>
          </p:nvPicPr>
          <p:blipFill>
            <a:blip r:embed="rId17"/>
            <a:stretch/>
          </p:blipFill>
          <p:spPr>
            <a:xfrm>
              <a:off x="1754280" y="4734000"/>
              <a:ext cx="36684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116440" y="4700520"/>
              <a:ext cx="52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ימצ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34160" y="487188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25720" y="50972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ר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73000" y="51958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662960" y="59180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323040" y="5597640"/>
            <a:ext cx="886320" cy="824760"/>
            <a:chOff x="6323040" y="5597640"/>
            <a:chExt cx="886320" cy="824760"/>
          </a:xfrm>
        </p:grpSpPr>
        <p:sp>
          <p:nvSpPr>
            <p:cNvPr id="139" name=""/>
            <p:cNvSpPr/>
            <p:nvPr/>
          </p:nvSpPr>
          <p:spPr>
            <a:xfrm>
              <a:off x="6688080" y="5597640"/>
              <a:ext cx="50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67360" y="5803920"/>
              <a:ext cx="342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33080" y="608328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88720" y="6191280"/>
              <a:ext cx="49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dna_looking_through_magnifying_glass_ty_CLR" descr=""/>
            <p:cNvPicPr/>
            <p:nvPr/>
          </p:nvPicPr>
          <p:blipFill>
            <a:blip r:embed="rId18"/>
            <a:stretch/>
          </p:blipFill>
          <p:spPr>
            <a:xfrm>
              <a:off x="6323040" y="560412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3514680" y="5667480"/>
            <a:ext cx="809640" cy="707400"/>
            <a:chOff x="3514680" y="5667480"/>
            <a:chExt cx="809640" cy="707400"/>
          </a:xfrm>
        </p:grpSpPr>
        <p:grpSp>
          <p:nvGrpSpPr>
            <p:cNvPr id="145" name=""/>
            <p:cNvGrpSpPr/>
            <p:nvPr/>
          </p:nvGrpSpPr>
          <p:grpSpPr>
            <a:xfrm>
              <a:off x="3514680" y="5758200"/>
              <a:ext cx="361440" cy="332640"/>
              <a:chOff x="3514680" y="5758200"/>
              <a:chExt cx="361440" cy="332640"/>
            </a:xfrm>
          </p:grpSpPr>
          <p:sp>
            <p:nvSpPr>
              <p:cNvPr id="146" name=""/>
              <p:cNvSpPr/>
              <p:nvPr/>
            </p:nvSpPr>
            <p:spPr>
              <a:xfrm>
                <a:off x="3514680" y="57582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95400" y="57582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14680" y="59245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95400" y="59245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3954600" y="5861160"/>
              <a:ext cx="36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94760" y="605484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04920" y="566748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2360" y="614376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50800" y="5683320"/>
            <a:ext cx="880920" cy="672480"/>
            <a:chOff x="550800" y="5683320"/>
            <a:chExt cx="880920" cy="672480"/>
          </a:xfrm>
        </p:grpSpPr>
        <p:sp>
          <p:nvSpPr>
            <p:cNvPr id="155" name=""/>
            <p:cNvSpPr/>
            <p:nvPr/>
          </p:nvSpPr>
          <p:spPr>
            <a:xfrm>
              <a:off x="929520" y="5683320"/>
              <a:ext cx="50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יאט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50800" y="5737320"/>
              <a:ext cx="304560" cy="329760"/>
              <a:chOff x="550800" y="5737320"/>
              <a:chExt cx="304560" cy="329760"/>
            </a:xfrm>
          </p:grpSpPr>
          <p:pic>
            <p:nvPicPr>
              <p:cNvPr id="15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550800" y="573732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50800" y="573732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" name=""/>
            <p:cNvSpPr/>
            <p:nvPr/>
          </p:nvSpPr>
          <p:spPr>
            <a:xfrm>
              <a:off x="835200" y="5856480"/>
              <a:ext cx="59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4360" y="602316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9360" y="612468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650960" y="5616720"/>
            <a:ext cx="944640" cy="704880"/>
            <a:chOff x="1650960" y="5616720"/>
            <a:chExt cx="944640" cy="704880"/>
          </a:xfrm>
        </p:grpSpPr>
        <p:sp>
          <p:nvSpPr>
            <p:cNvPr id="163" name=""/>
            <p:cNvSpPr/>
            <p:nvPr/>
          </p:nvSpPr>
          <p:spPr>
            <a:xfrm>
              <a:off x="1739880" y="5616720"/>
              <a:ext cx="85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קרמ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80160" y="57945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3920" y="599616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90520" y="615816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woman_at_pottery_wheel_ty_CLR_Horiz" descr=""/>
            <p:cNvPicPr/>
            <p:nvPr/>
          </p:nvPicPr>
          <p:blipFill>
            <a:blip r:embed="rId21"/>
            <a:stretch/>
          </p:blipFill>
          <p:spPr>
            <a:xfrm>
              <a:off x="1650960" y="5762880"/>
              <a:ext cx="493560" cy="55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"/>
          <p:cNvSpPr/>
          <p:nvPr/>
        </p:nvSpPr>
        <p:spPr>
          <a:xfrm>
            <a:off x="7682040" y="115884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338880" y="919080"/>
            <a:ext cx="833040" cy="717120"/>
            <a:chOff x="6338880" y="919080"/>
            <a:chExt cx="833040" cy="717120"/>
          </a:xfrm>
        </p:grpSpPr>
        <p:sp>
          <p:nvSpPr>
            <p:cNvPr id="170" name=""/>
            <p:cNvSpPr/>
            <p:nvPr/>
          </p:nvSpPr>
          <p:spPr>
            <a:xfrm>
              <a:off x="6343560" y="91908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90320" y="11253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43160" y="135252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mh2l_p" descr=""/>
            <p:cNvPicPr/>
            <p:nvPr/>
          </p:nvPicPr>
          <p:blipFill>
            <a:blip r:embed="rId22"/>
            <a:stretch/>
          </p:blipFill>
          <p:spPr>
            <a:xfrm>
              <a:off x="6338880" y="106200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678720" y="14986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110200" y="858960"/>
            <a:ext cx="952560" cy="805680"/>
            <a:chOff x="5110200" y="858960"/>
            <a:chExt cx="952560" cy="805680"/>
          </a:xfrm>
        </p:grpSpPr>
        <p:pic>
          <p:nvPicPr>
            <p:cNvPr id="176" name="girl_playing_ukulele_ty_CLR" descr=""/>
            <p:cNvPicPr/>
            <p:nvPr/>
          </p:nvPicPr>
          <p:blipFill>
            <a:blip r:embed="rId23"/>
            <a:stretch/>
          </p:blipFill>
          <p:spPr>
            <a:xfrm>
              <a:off x="5110200" y="893520"/>
              <a:ext cx="38880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430960" y="858960"/>
              <a:ext cx="631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 ע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ס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43200" y="1189080"/>
              <a:ext cx="60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98280" y="134460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92640" y="14335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119480" y="919080"/>
            <a:ext cx="811080" cy="707400"/>
            <a:chOff x="4119480" y="919080"/>
            <a:chExt cx="811080" cy="707400"/>
          </a:xfrm>
        </p:grpSpPr>
        <p:sp>
          <p:nvSpPr>
            <p:cNvPr id="182" name=""/>
            <p:cNvSpPr/>
            <p:nvPr/>
          </p:nvSpPr>
          <p:spPr>
            <a:xfrm>
              <a:off x="4682880" y="919080"/>
              <a:ext cx="247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ג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45360" y="11030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87680" y="130644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yoga" descr=""/>
            <p:cNvPicPr/>
            <p:nvPr/>
          </p:nvPicPr>
          <p:blipFill>
            <a:blip r:embed="rId24"/>
            <a:stretch/>
          </p:blipFill>
          <p:spPr>
            <a:xfrm>
              <a:off x="4119480" y="952200"/>
              <a:ext cx="4618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291560" y="139536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712960" y="893880"/>
            <a:ext cx="924120" cy="705600"/>
            <a:chOff x="2712960" y="893880"/>
            <a:chExt cx="924120" cy="705600"/>
          </a:xfrm>
        </p:grpSpPr>
        <p:sp>
          <p:nvSpPr>
            <p:cNvPr id="188" name=""/>
            <p:cNvSpPr/>
            <p:nvPr/>
          </p:nvSpPr>
          <p:spPr>
            <a:xfrm>
              <a:off x="3250080" y="110340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07520" y="127800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19480" y="909720"/>
              <a:ext cx="4046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א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germ_squishing_around_ty_CLR" descr=""/>
            <p:cNvPicPr/>
            <p:nvPr/>
          </p:nvPicPr>
          <p:blipFill>
            <a:blip r:embed="rId25"/>
            <a:stretch/>
          </p:blipFill>
          <p:spPr>
            <a:xfrm>
              <a:off x="2712960" y="89388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829960" y="13683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776240" y="885960"/>
            <a:ext cx="833040" cy="716760"/>
            <a:chOff x="1776240" y="885960"/>
            <a:chExt cx="833040" cy="716760"/>
          </a:xfrm>
        </p:grpSpPr>
        <p:sp>
          <p:nvSpPr>
            <p:cNvPr id="194" name=""/>
            <p:cNvSpPr/>
            <p:nvPr/>
          </p:nvSpPr>
          <p:spPr>
            <a:xfrm>
              <a:off x="1780920" y="88596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27680" y="109188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80520" y="131904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" name="mh2l_p" descr=""/>
            <p:cNvPicPr/>
            <p:nvPr/>
          </p:nvPicPr>
          <p:blipFill>
            <a:blip r:embed="rId26"/>
            <a:stretch/>
          </p:blipFill>
          <p:spPr>
            <a:xfrm>
              <a:off x="1776240" y="1028520"/>
              <a:ext cx="446040" cy="3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116080" y="146520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73040" y="852480"/>
            <a:ext cx="1040040" cy="821520"/>
            <a:chOff x="473040" y="852480"/>
            <a:chExt cx="1040040" cy="821520"/>
          </a:xfrm>
        </p:grpSpPr>
        <p:sp>
          <p:nvSpPr>
            <p:cNvPr id="200" name=""/>
            <p:cNvSpPr/>
            <p:nvPr/>
          </p:nvSpPr>
          <p:spPr>
            <a:xfrm>
              <a:off x="1086840" y="1119240"/>
              <a:ext cx="34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3040" y="852480"/>
              <a:ext cx="1040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בוכים ודרקונ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(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&amp;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89280" y="132228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נת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4880" y="14428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???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dragon_blowing_fire_sm_CLR" descr=""/>
            <p:cNvPicPr/>
            <p:nvPr/>
          </p:nvPicPr>
          <p:blipFill>
            <a:blip r:embed="rId27"/>
            <a:stretch/>
          </p:blipFill>
          <p:spPr>
            <a:xfrm>
              <a:off x="593640" y="998280"/>
              <a:ext cx="47916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7682040" y="209232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0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394320" y="1844640"/>
            <a:ext cx="771480" cy="715320"/>
            <a:chOff x="6394320" y="1844640"/>
            <a:chExt cx="771480" cy="715320"/>
          </a:xfrm>
        </p:grpSpPr>
        <p:pic>
          <p:nvPicPr>
            <p:cNvPr id="207" name="" descr=""/>
            <p:cNvPicPr/>
            <p:nvPr/>
          </p:nvPicPr>
          <p:blipFill>
            <a:blip r:embed="rId28"/>
            <a:stretch/>
          </p:blipFill>
          <p:spPr>
            <a:xfrm>
              <a:off x="6613200" y="186048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9"/>
            <a:stretch/>
          </p:blipFill>
          <p:spPr>
            <a:xfrm>
              <a:off x="6394320" y="1870200"/>
              <a:ext cx="39024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783840" y="20257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35520" y="22874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54680" y="1844640"/>
              <a:ext cx="411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63080" y="2422440"/>
              <a:ext cx="62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מסריט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119560" y="1862280"/>
            <a:ext cx="833040" cy="716760"/>
            <a:chOff x="5119560" y="1862280"/>
            <a:chExt cx="833040" cy="716760"/>
          </a:xfrm>
        </p:grpSpPr>
        <p:sp>
          <p:nvSpPr>
            <p:cNvPr id="214" name=""/>
            <p:cNvSpPr/>
            <p:nvPr/>
          </p:nvSpPr>
          <p:spPr>
            <a:xfrm>
              <a:off x="5124240" y="186228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71000" y="206820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23840" y="229536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mh2l_p" descr=""/>
            <p:cNvPicPr/>
            <p:nvPr/>
          </p:nvPicPr>
          <p:blipFill>
            <a:blip r:embed="rId30"/>
            <a:stretch/>
          </p:blipFill>
          <p:spPr>
            <a:xfrm>
              <a:off x="5119560" y="2004840"/>
              <a:ext cx="446040" cy="3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459400" y="244152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833640" y="1728720"/>
            <a:ext cx="1109880" cy="526320"/>
            <a:chOff x="3833640" y="1728720"/>
            <a:chExt cx="1109880" cy="526320"/>
          </a:xfrm>
        </p:grpSpPr>
        <p:sp>
          <p:nvSpPr>
            <p:cNvPr id="220" name=""/>
            <p:cNvSpPr/>
            <p:nvPr/>
          </p:nvSpPr>
          <p:spPr>
            <a:xfrm>
              <a:off x="4388040" y="1728720"/>
              <a:ext cx="247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ג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99480" y="194148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54800" y="20397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yoga" descr=""/>
            <p:cNvPicPr/>
            <p:nvPr/>
          </p:nvPicPr>
          <p:blipFill>
            <a:blip r:embed="rId31"/>
            <a:stretch/>
          </p:blipFill>
          <p:spPr>
            <a:xfrm>
              <a:off x="3833640" y="1771560"/>
              <a:ext cx="46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186800" y="20239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674800" y="1731960"/>
            <a:ext cx="924120" cy="705600"/>
            <a:chOff x="2674800" y="1731960"/>
            <a:chExt cx="924120" cy="705600"/>
          </a:xfrm>
        </p:grpSpPr>
        <p:sp>
          <p:nvSpPr>
            <p:cNvPr id="226" name=""/>
            <p:cNvSpPr/>
            <p:nvPr/>
          </p:nvSpPr>
          <p:spPr>
            <a:xfrm>
              <a:off x="3211920" y="194148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69360" y="211608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81320" y="1747800"/>
              <a:ext cx="4046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א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germ_squishing_around_ty_CLR" descr=""/>
            <p:cNvPicPr/>
            <p:nvPr/>
          </p:nvPicPr>
          <p:blipFill>
            <a:blip r:embed="rId32"/>
            <a:stretch/>
          </p:blipFill>
          <p:spPr>
            <a:xfrm>
              <a:off x="2674800" y="173196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791800" y="22064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724120" y="2409840"/>
            <a:ext cx="79236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743280" y="2249640"/>
            <a:ext cx="1188000" cy="435960"/>
            <a:chOff x="3743280" y="2249640"/>
            <a:chExt cx="1188000" cy="435960"/>
          </a:xfrm>
        </p:grpSpPr>
        <p:sp>
          <p:nvSpPr>
            <p:cNvPr id="233" name=""/>
            <p:cNvSpPr/>
            <p:nvPr/>
          </p:nvSpPr>
          <p:spPr>
            <a:xfrm>
              <a:off x="4176000" y="224964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33"/>
            <a:stretch/>
          </p:blipFill>
          <p:spPr>
            <a:xfrm>
              <a:off x="3743280" y="22780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34"/>
            <a:stretch/>
          </p:blipFill>
          <p:spPr>
            <a:xfrm>
              <a:off x="3952800" y="232560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249080" y="2419200"/>
              <a:ext cx="6271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r>
                <a:rPr b="0" lang="hi-IN" sz="12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01720" y="25178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585800" y="2205000"/>
            <a:ext cx="1114560" cy="459720"/>
            <a:chOff x="1585800" y="2205000"/>
            <a:chExt cx="1114560" cy="459720"/>
          </a:xfrm>
        </p:grpSpPr>
        <p:sp>
          <p:nvSpPr>
            <p:cNvPr id="239" name=""/>
            <p:cNvSpPr/>
            <p:nvPr/>
          </p:nvSpPr>
          <p:spPr>
            <a:xfrm>
              <a:off x="1962000" y="220500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19960" y="240156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52240" y="249552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mh2l_p" descr=""/>
            <p:cNvPicPr/>
            <p:nvPr/>
          </p:nvPicPr>
          <p:blipFill>
            <a:blip r:embed="rId35"/>
            <a:stretch/>
          </p:blipFill>
          <p:spPr>
            <a:xfrm>
              <a:off x="1585800" y="2242800"/>
              <a:ext cx="4460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992240" y="252720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581120" y="1728720"/>
            <a:ext cx="1096200" cy="507240"/>
            <a:chOff x="1581120" y="1728720"/>
            <a:chExt cx="1096200" cy="507240"/>
          </a:xfrm>
        </p:grpSpPr>
        <p:sp>
          <p:nvSpPr>
            <p:cNvPr id="245" name=""/>
            <p:cNvSpPr/>
            <p:nvPr/>
          </p:nvSpPr>
          <p:spPr>
            <a:xfrm>
              <a:off x="2167200" y="1928880"/>
              <a:ext cx="37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95600" y="172872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1830240" y="1930320"/>
              <a:ext cx="192240" cy="226800"/>
              <a:chOff x="1830240" y="1930320"/>
              <a:chExt cx="192240" cy="226800"/>
            </a:xfrm>
          </p:grpSpPr>
          <p:pic>
            <p:nvPicPr>
              <p:cNvPr id="248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1830240" y="19303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1830240" y="19303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0" name=""/>
            <p:cNvGrpSpPr/>
            <p:nvPr/>
          </p:nvGrpSpPr>
          <p:grpSpPr>
            <a:xfrm>
              <a:off x="1581120" y="1919160"/>
              <a:ext cx="199800" cy="247320"/>
              <a:chOff x="1581120" y="1919160"/>
              <a:chExt cx="199800" cy="247320"/>
            </a:xfrm>
          </p:grpSpPr>
          <p:pic>
            <p:nvPicPr>
              <p:cNvPr id="251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581120" y="19191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1581120" y="19191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" name=""/>
            <p:cNvSpPr/>
            <p:nvPr/>
          </p:nvSpPr>
          <p:spPr>
            <a:xfrm>
              <a:off x="2353680" y="20271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19880" y="20048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85920" y="1738440"/>
            <a:ext cx="1084680" cy="678600"/>
            <a:chOff x="385920" y="1738440"/>
            <a:chExt cx="1084680" cy="678600"/>
          </a:xfrm>
        </p:grpSpPr>
        <p:sp>
          <p:nvSpPr>
            <p:cNvPr id="256" name=""/>
            <p:cNvSpPr/>
            <p:nvPr/>
          </p:nvSpPr>
          <p:spPr>
            <a:xfrm>
              <a:off x="752040" y="2004840"/>
              <a:ext cx="574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8960" y="1738440"/>
              <a:ext cx="825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 ש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מי הבינ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03960" y="208404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נת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3480" y="21859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damsel_rescuing_knight_ty_CLR" descr=""/>
            <p:cNvPicPr/>
            <p:nvPr/>
          </p:nvPicPr>
          <p:blipFill>
            <a:blip r:embed="rId40"/>
            <a:stretch/>
          </p:blipFill>
          <p:spPr>
            <a:xfrm>
              <a:off x="385920" y="1822320"/>
              <a:ext cx="436680" cy="55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>
            <a:off x="7634160" y="305100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50-10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027760" y="2665440"/>
            <a:ext cx="901440" cy="754920"/>
            <a:chOff x="5027760" y="2665440"/>
            <a:chExt cx="901440" cy="754920"/>
          </a:xfrm>
        </p:grpSpPr>
        <p:sp>
          <p:nvSpPr>
            <p:cNvPr id="263" name=""/>
            <p:cNvSpPr/>
            <p:nvPr/>
          </p:nvSpPr>
          <p:spPr>
            <a:xfrm>
              <a:off x="5596920" y="286524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27760" y="266544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354640" y="2866680"/>
              <a:ext cx="191880" cy="226440"/>
              <a:chOff x="5354640" y="2866680"/>
              <a:chExt cx="191880" cy="226440"/>
            </a:xfrm>
          </p:grpSpPr>
          <p:pic>
            <p:nvPicPr>
              <p:cNvPr id="266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5354640" y="28666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5354640" y="28666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8" name=""/>
            <p:cNvGrpSpPr/>
            <p:nvPr/>
          </p:nvGrpSpPr>
          <p:grpSpPr>
            <a:xfrm>
              <a:off x="5105160" y="2855880"/>
              <a:ext cx="199800" cy="246600"/>
              <a:chOff x="5105160" y="2855880"/>
              <a:chExt cx="199800" cy="246600"/>
            </a:xfrm>
          </p:grpSpPr>
          <p:pic>
            <p:nvPicPr>
              <p:cNvPr id="269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5105160" y="285588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5105160" y="285588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1" name=""/>
            <p:cNvSpPr/>
            <p:nvPr/>
          </p:nvSpPr>
          <p:spPr>
            <a:xfrm>
              <a:off x="5334840" y="30873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87520" y="31892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329520" y="2646360"/>
            <a:ext cx="833040" cy="717120"/>
            <a:chOff x="6329520" y="2646360"/>
            <a:chExt cx="833040" cy="717120"/>
          </a:xfrm>
        </p:grpSpPr>
        <p:sp>
          <p:nvSpPr>
            <p:cNvPr id="274" name=""/>
            <p:cNvSpPr/>
            <p:nvPr/>
          </p:nvSpPr>
          <p:spPr>
            <a:xfrm>
              <a:off x="6334200" y="264636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0960" y="28526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33800" y="30798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mh2l_p" descr=""/>
            <p:cNvPicPr/>
            <p:nvPr/>
          </p:nvPicPr>
          <p:blipFill>
            <a:blip r:embed="rId45"/>
            <a:stretch/>
          </p:blipFill>
          <p:spPr>
            <a:xfrm>
              <a:off x="6329520" y="278928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669360" y="322596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600360" y="3200400"/>
            <a:ext cx="1353240" cy="450360"/>
            <a:chOff x="3600360" y="3200400"/>
            <a:chExt cx="1353240" cy="450360"/>
          </a:xfrm>
        </p:grpSpPr>
        <p:sp>
          <p:nvSpPr>
            <p:cNvPr id="280" name=""/>
            <p:cNvSpPr/>
            <p:nvPr/>
          </p:nvSpPr>
          <p:spPr>
            <a:xfrm>
              <a:off x="4303800" y="3371760"/>
              <a:ext cx="36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29480" y="320040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3849480" y="3354480"/>
              <a:ext cx="192240" cy="226440"/>
              <a:chOff x="3849480" y="3354480"/>
              <a:chExt cx="192240" cy="226440"/>
            </a:xfrm>
          </p:grpSpPr>
          <p:pic>
            <p:nvPicPr>
              <p:cNvPr id="283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3849480" y="33544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3849480" y="33544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5" name=""/>
            <p:cNvGrpSpPr/>
            <p:nvPr/>
          </p:nvGrpSpPr>
          <p:grpSpPr>
            <a:xfrm>
              <a:off x="3600360" y="3343320"/>
              <a:ext cx="199800" cy="247320"/>
              <a:chOff x="3600360" y="3343320"/>
              <a:chExt cx="199800" cy="247320"/>
            </a:xfrm>
          </p:grpSpPr>
          <p:pic>
            <p:nvPicPr>
              <p:cNvPr id="286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3600360" y="3343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3600360" y="3343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>
              <a:off x="4629960" y="34322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35160" y="34196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706480" y="2752560"/>
            <a:ext cx="1040040" cy="821520"/>
            <a:chOff x="2706480" y="2752560"/>
            <a:chExt cx="1040040" cy="821520"/>
          </a:xfrm>
        </p:grpSpPr>
        <p:sp>
          <p:nvSpPr>
            <p:cNvPr id="291" name=""/>
            <p:cNvSpPr/>
            <p:nvPr/>
          </p:nvSpPr>
          <p:spPr>
            <a:xfrm>
              <a:off x="3320280" y="3019320"/>
              <a:ext cx="34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06480" y="2752560"/>
              <a:ext cx="1040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בוכים ודרקונ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&amp;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22720" y="322236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נת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18320" y="334296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???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dragon_blowing_fire_sm_CLR" descr=""/>
            <p:cNvPicPr/>
            <p:nvPr/>
          </p:nvPicPr>
          <p:blipFill>
            <a:blip r:embed="rId50"/>
            <a:stretch/>
          </p:blipFill>
          <p:spPr>
            <a:xfrm>
              <a:off x="2827080" y="2898360"/>
              <a:ext cx="479160" cy="53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"/>
          <p:cNvGrpSpPr/>
          <p:nvPr/>
        </p:nvGrpSpPr>
        <p:grpSpPr>
          <a:xfrm>
            <a:off x="3905280" y="2690640"/>
            <a:ext cx="1056600" cy="478800"/>
            <a:chOff x="3905280" y="2690640"/>
            <a:chExt cx="1056600" cy="478800"/>
          </a:xfrm>
        </p:grpSpPr>
        <p:grpSp>
          <p:nvGrpSpPr>
            <p:cNvPr id="297" name=""/>
            <p:cNvGrpSpPr/>
            <p:nvPr/>
          </p:nvGrpSpPr>
          <p:grpSpPr>
            <a:xfrm>
              <a:off x="3905280" y="2724120"/>
              <a:ext cx="361440" cy="332640"/>
              <a:chOff x="3905280" y="2724120"/>
              <a:chExt cx="361440" cy="332640"/>
            </a:xfrm>
          </p:grpSpPr>
          <p:sp>
            <p:nvSpPr>
              <p:cNvPr id="298" name=""/>
              <p:cNvSpPr/>
              <p:nvPr/>
            </p:nvSpPr>
            <p:spPr>
              <a:xfrm>
                <a:off x="3905280" y="27241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086000" y="27241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905280" y="28904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86000" y="28904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4432680" y="281772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1920" y="295416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71840" y="269064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86800" y="29383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438120" y="3346560"/>
            <a:ext cx="792360" cy="21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680840" y="2719440"/>
            <a:ext cx="946800" cy="872280"/>
            <a:chOff x="1680840" y="2719440"/>
            <a:chExt cx="946800" cy="872280"/>
          </a:xfrm>
        </p:grpSpPr>
        <p:sp>
          <p:nvSpPr>
            <p:cNvPr id="308" name=""/>
            <p:cNvSpPr/>
            <p:nvPr/>
          </p:nvSpPr>
          <p:spPr>
            <a:xfrm>
              <a:off x="1680840" y="2719440"/>
              <a:ext cx="92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ת מוס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85640" y="2896920"/>
              <a:ext cx="342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88000" y="32716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48320" y="336060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" name="music_staff_md_CLR" descr=""/>
            <p:cNvPicPr/>
            <p:nvPr/>
          </p:nvPicPr>
          <p:blipFill>
            <a:blip r:embed="rId51"/>
            <a:stretch/>
          </p:blipFill>
          <p:spPr>
            <a:xfrm>
              <a:off x="1733400" y="2879640"/>
              <a:ext cx="514440" cy="41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3" name=""/>
          <p:cNvGrpSpPr/>
          <p:nvPr/>
        </p:nvGrpSpPr>
        <p:grpSpPr>
          <a:xfrm>
            <a:off x="485640" y="2724120"/>
            <a:ext cx="1027800" cy="602640"/>
            <a:chOff x="485640" y="2724120"/>
            <a:chExt cx="1027800" cy="602640"/>
          </a:xfrm>
        </p:grpSpPr>
        <p:sp>
          <p:nvSpPr>
            <p:cNvPr id="314" name=""/>
            <p:cNvSpPr/>
            <p:nvPr/>
          </p:nvSpPr>
          <p:spPr>
            <a:xfrm>
              <a:off x="932040" y="2905200"/>
              <a:ext cx="36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4160" y="272412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735120" y="2906640"/>
              <a:ext cx="191880" cy="226800"/>
              <a:chOff x="735120" y="2906640"/>
              <a:chExt cx="191880" cy="226800"/>
            </a:xfrm>
          </p:grpSpPr>
          <p:pic>
            <p:nvPicPr>
              <p:cNvPr id="317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735120" y="290664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735120" y="290664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9" name=""/>
            <p:cNvGrpSpPr/>
            <p:nvPr/>
          </p:nvGrpSpPr>
          <p:grpSpPr>
            <a:xfrm>
              <a:off x="485640" y="2895480"/>
              <a:ext cx="199800" cy="247320"/>
              <a:chOff x="485640" y="2895480"/>
              <a:chExt cx="199800" cy="247320"/>
            </a:xfrm>
          </p:grpSpPr>
          <p:pic>
            <p:nvPicPr>
              <p:cNvPr id="320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485640" y="28954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485640" y="28954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2" name=""/>
            <p:cNvSpPr/>
            <p:nvPr/>
          </p:nvSpPr>
          <p:spPr>
            <a:xfrm>
              <a:off x="982080" y="29941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6320" y="30956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796000" y="3213000"/>
            <a:ext cx="777240" cy="412200"/>
            <a:chOff x="5796000" y="3213000"/>
            <a:chExt cx="777240" cy="412200"/>
          </a:xfrm>
        </p:grpSpPr>
        <p:pic>
          <p:nvPicPr>
            <p:cNvPr id="325" name="piano_short" descr=""/>
            <p:cNvPicPr/>
            <p:nvPr/>
          </p:nvPicPr>
          <p:blipFill>
            <a:blip r:embed="rId56"/>
            <a:srcRect l="50084" t="0" r="0" b="0"/>
            <a:stretch/>
          </p:blipFill>
          <p:spPr>
            <a:xfrm>
              <a:off x="5848200" y="3213000"/>
              <a:ext cx="639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081840" y="345600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96000" y="3457440"/>
              <a:ext cx="282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148360" y="5803920"/>
            <a:ext cx="777240" cy="412200"/>
            <a:chOff x="5148360" y="5803920"/>
            <a:chExt cx="777240" cy="412200"/>
          </a:xfrm>
        </p:grpSpPr>
        <p:pic>
          <p:nvPicPr>
            <p:cNvPr id="329" name="piano_short" descr=""/>
            <p:cNvPicPr/>
            <p:nvPr/>
          </p:nvPicPr>
          <p:blipFill>
            <a:blip r:embed="rId57"/>
            <a:srcRect l="50084" t="0" r="0" b="0"/>
            <a:stretch/>
          </p:blipFill>
          <p:spPr>
            <a:xfrm>
              <a:off x="5200560" y="5803920"/>
              <a:ext cx="639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434200" y="604692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48360" y="6048360"/>
              <a:ext cx="282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95640" y="2341440"/>
            <a:ext cx="1139040" cy="321840"/>
            <a:chOff x="395640" y="2341440"/>
            <a:chExt cx="1139040" cy="321840"/>
          </a:xfrm>
        </p:grpSpPr>
        <p:pic>
          <p:nvPicPr>
            <p:cNvPr id="333" name="piano_short" descr=""/>
            <p:cNvPicPr/>
            <p:nvPr/>
          </p:nvPicPr>
          <p:blipFill>
            <a:blip r:embed="rId58"/>
            <a:srcRect l="50084" t="0" r="0" b="0"/>
            <a:stretch/>
          </p:blipFill>
          <p:spPr>
            <a:xfrm>
              <a:off x="895320" y="2394000"/>
              <a:ext cx="639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395640" y="234144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1680" y="24955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387360" y="260280"/>
          <a:ext cx="8388360" cy="6222960"/>
        </p:xfrm>
        <a:graphic>
          <a:graphicData uri="http://schemas.openxmlformats.org/drawingml/2006/table">
            <a:tbl>
              <a:tblPr/>
              <a:tblGrid>
                <a:gridCol w="2298600"/>
                <a:gridCol w="2286000"/>
                <a:gridCol w="2273400"/>
                <a:gridCol w="153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2868840" y="19080"/>
            <a:ext cx="342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ב' תשס"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3960" y="44460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33120" y="43488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98520" y="4255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43880" y="400680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40-11: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82040" y="4950000"/>
            <a:ext cx="76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0-11: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62960" y="59180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82040" y="115884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82040" y="209232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0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34160" y="305100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50-10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6377040" y="938160"/>
            <a:ext cx="878760" cy="680400"/>
            <a:chOff x="6377040" y="938160"/>
            <a:chExt cx="878760" cy="680400"/>
          </a:xfrm>
        </p:grpSpPr>
        <p:sp>
          <p:nvSpPr>
            <p:cNvPr id="348" name=""/>
            <p:cNvSpPr/>
            <p:nvPr/>
          </p:nvSpPr>
          <p:spPr>
            <a:xfrm>
              <a:off x="6625800" y="9572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טכ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"/>
            <a:stretch/>
          </p:blipFill>
          <p:spPr>
            <a:xfrm>
              <a:off x="6377040" y="1014480"/>
              <a:ext cx="29664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2"/>
            <a:stretch/>
          </p:blipFill>
          <p:spPr>
            <a:xfrm>
              <a:off x="6377040" y="938160"/>
              <a:ext cx="2966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756840" y="113040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16080" y="128916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ר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74240" y="1387440"/>
              <a:ext cx="49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409920" y="3195720"/>
            <a:ext cx="1332720" cy="459720"/>
            <a:chOff x="3409920" y="3195720"/>
            <a:chExt cx="1332720" cy="459720"/>
          </a:xfrm>
        </p:grpSpPr>
        <p:grpSp>
          <p:nvGrpSpPr>
            <p:cNvPr id="355" name=""/>
            <p:cNvGrpSpPr/>
            <p:nvPr/>
          </p:nvGrpSpPr>
          <p:grpSpPr>
            <a:xfrm>
              <a:off x="3409920" y="3238920"/>
              <a:ext cx="361440" cy="332640"/>
              <a:chOff x="3409920" y="3238920"/>
              <a:chExt cx="361440" cy="332640"/>
            </a:xfrm>
          </p:grpSpPr>
          <p:sp>
            <p:nvSpPr>
              <p:cNvPr id="356" name=""/>
              <p:cNvSpPr/>
              <p:nvPr/>
            </p:nvSpPr>
            <p:spPr>
              <a:xfrm>
                <a:off x="3409920" y="32389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90640" y="32389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409920" y="34052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90640" y="34052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3841200" y="334188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32680" y="344052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0160" y="319572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96840" y="34243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079960" y="887400"/>
            <a:ext cx="1178280" cy="617040"/>
            <a:chOff x="5079960" y="887400"/>
            <a:chExt cx="1178280" cy="617040"/>
          </a:xfrm>
        </p:grpSpPr>
        <p:sp>
          <p:nvSpPr>
            <p:cNvPr id="365" name=""/>
            <p:cNvSpPr/>
            <p:nvPr/>
          </p:nvSpPr>
          <p:spPr>
            <a:xfrm>
              <a:off x="5746680" y="98424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49480" y="1192320"/>
              <a:ext cx="608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942520" y="128736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82080" y="12733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9" name="noahs_ark_rocking_ty_CLR" descr=""/>
            <p:cNvPicPr/>
            <p:nvPr/>
          </p:nvPicPr>
          <p:blipFill>
            <a:blip r:embed="rId3"/>
            <a:stretch/>
          </p:blipFill>
          <p:spPr>
            <a:xfrm>
              <a:off x="5079960" y="887400"/>
              <a:ext cx="6397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"/>
          <p:cNvGrpSpPr/>
          <p:nvPr/>
        </p:nvGrpSpPr>
        <p:grpSpPr>
          <a:xfrm>
            <a:off x="3743280" y="1281240"/>
            <a:ext cx="1066320" cy="478800"/>
            <a:chOff x="3743280" y="1281240"/>
            <a:chExt cx="1066320" cy="478800"/>
          </a:xfrm>
        </p:grpSpPr>
        <p:grpSp>
          <p:nvGrpSpPr>
            <p:cNvPr id="371" name=""/>
            <p:cNvGrpSpPr/>
            <p:nvPr/>
          </p:nvGrpSpPr>
          <p:grpSpPr>
            <a:xfrm>
              <a:off x="3743280" y="1343160"/>
              <a:ext cx="361440" cy="332640"/>
              <a:chOff x="3743280" y="1343160"/>
              <a:chExt cx="361440" cy="332640"/>
            </a:xfrm>
          </p:grpSpPr>
          <p:sp>
            <p:nvSpPr>
              <p:cNvPr id="372" name=""/>
              <p:cNvSpPr/>
              <p:nvPr/>
            </p:nvSpPr>
            <p:spPr>
              <a:xfrm>
                <a:off x="3743280" y="13431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924000" y="13431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43280" y="15094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924000" y="15094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4260240" y="141768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99640" y="154476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19560" y="12812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34160" y="15289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724120" y="1467000"/>
            <a:ext cx="792360" cy="21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4038840" y="750960"/>
            <a:ext cx="926640" cy="612000"/>
            <a:chOff x="4038840" y="750960"/>
            <a:chExt cx="926640" cy="612000"/>
          </a:xfrm>
        </p:grpSpPr>
        <p:sp>
          <p:nvSpPr>
            <p:cNvPr id="382" name=""/>
            <p:cNvSpPr/>
            <p:nvPr/>
          </p:nvSpPr>
          <p:spPr>
            <a:xfrm>
              <a:off x="4588200" y="941400"/>
              <a:ext cx="37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38840" y="75096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4365720" y="971640"/>
              <a:ext cx="192240" cy="226440"/>
              <a:chOff x="4365720" y="971640"/>
              <a:chExt cx="192240" cy="226440"/>
            </a:xfrm>
          </p:grpSpPr>
          <p:pic>
            <p:nvPicPr>
              <p:cNvPr id="38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365720" y="9716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65720" y="9716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7" name=""/>
            <p:cNvGrpSpPr/>
            <p:nvPr/>
          </p:nvGrpSpPr>
          <p:grpSpPr>
            <a:xfrm>
              <a:off x="4116600" y="960480"/>
              <a:ext cx="199800" cy="247320"/>
              <a:chOff x="4116600" y="960480"/>
              <a:chExt cx="199800" cy="247320"/>
            </a:xfrm>
          </p:grpSpPr>
          <p:pic>
            <p:nvPicPr>
              <p:cNvPr id="38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116600" y="9604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6600" y="9604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0" name=""/>
            <p:cNvSpPr/>
            <p:nvPr/>
          </p:nvSpPr>
          <p:spPr>
            <a:xfrm>
              <a:off x="4631760" y="10396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37120" y="11318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17680" y="816120"/>
            <a:ext cx="940320" cy="639000"/>
            <a:chOff x="517680" y="816120"/>
            <a:chExt cx="940320" cy="639000"/>
          </a:xfrm>
        </p:grpSpPr>
        <p:pic>
          <p:nvPicPr>
            <p:cNvPr id="393" name="" descr=""/>
            <p:cNvPicPr/>
            <p:nvPr/>
          </p:nvPicPr>
          <p:blipFill>
            <a:blip r:embed="rId8"/>
            <a:stretch/>
          </p:blipFill>
          <p:spPr>
            <a:xfrm>
              <a:off x="736560" y="860400"/>
              <a:ext cx="390600" cy="4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9"/>
            <a:stretch/>
          </p:blipFill>
          <p:spPr>
            <a:xfrm>
              <a:off x="517680" y="869760"/>
              <a:ext cx="390240" cy="4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849240" y="1025280"/>
              <a:ext cx="608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39960" y="11444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25560" y="816120"/>
              <a:ext cx="411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3680" y="1317600"/>
              <a:ext cx="62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מסריט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47840" y="1467000"/>
            <a:ext cx="792000" cy="21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639800" y="822240"/>
            <a:ext cx="970920" cy="910800"/>
            <a:chOff x="1639800" y="822240"/>
            <a:chExt cx="970920" cy="910800"/>
          </a:xfrm>
        </p:grpSpPr>
        <p:sp>
          <p:nvSpPr>
            <p:cNvPr id="401" name=""/>
            <p:cNvSpPr/>
            <p:nvPr/>
          </p:nvSpPr>
          <p:spPr>
            <a:xfrm>
              <a:off x="1645200" y="82224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אדם והס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42800" y="1052640"/>
              <a:ext cx="34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66040" y="140040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4" name="earthy_pollution_sm_CLR" descr=""/>
            <p:cNvPicPr/>
            <p:nvPr/>
          </p:nvPicPr>
          <p:blipFill>
            <a:blip r:embed="rId10"/>
            <a:stretch/>
          </p:blipFill>
          <p:spPr>
            <a:xfrm>
              <a:off x="1639800" y="930240"/>
              <a:ext cx="54432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1755360" y="15019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291360" y="1766880"/>
            <a:ext cx="940680" cy="518400"/>
            <a:chOff x="6291360" y="1766880"/>
            <a:chExt cx="940680" cy="518400"/>
          </a:xfrm>
        </p:grpSpPr>
        <p:sp>
          <p:nvSpPr>
            <p:cNvPr id="407" name=""/>
            <p:cNvSpPr/>
            <p:nvPr/>
          </p:nvSpPr>
          <p:spPr>
            <a:xfrm>
              <a:off x="6587640" y="176688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טכ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8" name="" descr=""/>
            <p:cNvPicPr/>
            <p:nvPr/>
          </p:nvPicPr>
          <p:blipFill>
            <a:blip r:embed="rId11"/>
            <a:stretch/>
          </p:blipFill>
          <p:spPr>
            <a:xfrm>
              <a:off x="6338880" y="1824120"/>
              <a:ext cx="2970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12"/>
            <a:stretch/>
          </p:blipFill>
          <p:spPr>
            <a:xfrm>
              <a:off x="6291360" y="1824120"/>
              <a:ext cx="2966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6615720" y="194004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49440" y="20700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ר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03040" y="2054160"/>
              <a:ext cx="49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971960" y="1738440"/>
            <a:ext cx="885600" cy="592920"/>
            <a:chOff x="4971960" y="1738440"/>
            <a:chExt cx="885600" cy="592920"/>
          </a:xfrm>
        </p:grpSpPr>
        <p:sp>
          <p:nvSpPr>
            <p:cNvPr id="414" name=""/>
            <p:cNvSpPr/>
            <p:nvPr/>
          </p:nvSpPr>
          <p:spPr>
            <a:xfrm>
              <a:off x="5446800" y="1900080"/>
              <a:ext cx="4107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71960" y="173844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240160" y="1920960"/>
              <a:ext cx="191880" cy="226440"/>
              <a:chOff x="5240160" y="1920960"/>
              <a:chExt cx="191880" cy="226440"/>
            </a:xfrm>
          </p:grpSpPr>
          <p:pic>
            <p:nvPicPr>
              <p:cNvPr id="41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240160" y="19209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240160" y="19209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9" name=""/>
            <p:cNvGrpSpPr/>
            <p:nvPr/>
          </p:nvGrpSpPr>
          <p:grpSpPr>
            <a:xfrm>
              <a:off x="4991040" y="1909800"/>
              <a:ext cx="199800" cy="247320"/>
              <a:chOff x="4991040" y="1909800"/>
              <a:chExt cx="199800" cy="24732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991040" y="19098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991040" y="19098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2" name=""/>
            <p:cNvSpPr/>
            <p:nvPr/>
          </p:nvSpPr>
          <p:spPr>
            <a:xfrm>
              <a:off x="5477760" y="20080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73040" y="21002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546880" y="2116080"/>
            <a:ext cx="1179360" cy="588240"/>
            <a:chOff x="5546880" y="2116080"/>
            <a:chExt cx="1179360" cy="588240"/>
          </a:xfrm>
        </p:grpSpPr>
        <p:sp>
          <p:nvSpPr>
            <p:cNvPr id="425" name=""/>
            <p:cNvSpPr/>
            <p:nvPr/>
          </p:nvSpPr>
          <p:spPr>
            <a:xfrm>
              <a:off x="6175440" y="221292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31160" y="2392200"/>
              <a:ext cx="595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09440" y="248760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49000" y="247320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9" name="noahs_ark_rocking_ty_CLR" descr=""/>
            <p:cNvPicPr/>
            <p:nvPr/>
          </p:nvPicPr>
          <p:blipFill>
            <a:blip r:embed="rId17"/>
            <a:stretch/>
          </p:blipFill>
          <p:spPr>
            <a:xfrm>
              <a:off x="5546880" y="2116080"/>
              <a:ext cx="6397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"/>
          <p:cNvGrpSpPr/>
          <p:nvPr/>
        </p:nvGrpSpPr>
        <p:grpSpPr>
          <a:xfrm>
            <a:off x="2962440" y="1808280"/>
            <a:ext cx="978120" cy="500760"/>
            <a:chOff x="2962440" y="1808280"/>
            <a:chExt cx="978120" cy="500760"/>
          </a:xfrm>
        </p:grpSpPr>
        <p:sp>
          <p:nvSpPr>
            <p:cNvPr id="431" name=""/>
            <p:cNvSpPr/>
            <p:nvPr/>
          </p:nvSpPr>
          <p:spPr>
            <a:xfrm>
              <a:off x="3185280" y="180828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2" name="" descr=""/>
            <p:cNvPicPr/>
            <p:nvPr/>
          </p:nvPicPr>
          <p:blipFill>
            <a:blip r:embed="rId18"/>
            <a:stretch/>
          </p:blipFill>
          <p:spPr>
            <a:xfrm>
              <a:off x="2962440" y="1884240"/>
              <a:ext cx="295200" cy="31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19"/>
            <a:stretch/>
          </p:blipFill>
          <p:spPr>
            <a:xfrm>
              <a:off x="2962440" y="1884240"/>
              <a:ext cx="295200" cy="3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3261960" y="198756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75240" y="208584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25520" y="207792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724120" y="2409840"/>
            <a:ext cx="79236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753000" y="2243160"/>
            <a:ext cx="1065600" cy="478800"/>
            <a:chOff x="3753000" y="2243160"/>
            <a:chExt cx="1065600" cy="478800"/>
          </a:xfrm>
        </p:grpSpPr>
        <p:grpSp>
          <p:nvGrpSpPr>
            <p:cNvPr id="439" name=""/>
            <p:cNvGrpSpPr/>
            <p:nvPr/>
          </p:nvGrpSpPr>
          <p:grpSpPr>
            <a:xfrm>
              <a:off x="3753000" y="2305080"/>
              <a:ext cx="360720" cy="332640"/>
              <a:chOff x="3753000" y="2305080"/>
              <a:chExt cx="360720" cy="332640"/>
            </a:xfrm>
          </p:grpSpPr>
          <p:sp>
            <p:nvSpPr>
              <p:cNvPr id="440" name=""/>
              <p:cNvSpPr/>
              <p:nvPr/>
            </p:nvSpPr>
            <p:spPr>
              <a:xfrm>
                <a:off x="3753000" y="2305080"/>
                <a:ext cx="18036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933360" y="2305080"/>
                <a:ext cx="18036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53000" y="2471400"/>
                <a:ext cx="18036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933360" y="2471400"/>
                <a:ext cx="18036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4269600" y="237960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508640" y="250668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28920" y="2243160"/>
              <a:ext cx="40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43160" y="24908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029480" y="1722600"/>
            <a:ext cx="926280" cy="612000"/>
            <a:chOff x="4029480" y="1722600"/>
            <a:chExt cx="926280" cy="612000"/>
          </a:xfrm>
        </p:grpSpPr>
        <p:sp>
          <p:nvSpPr>
            <p:cNvPr id="449" name=""/>
            <p:cNvSpPr/>
            <p:nvPr/>
          </p:nvSpPr>
          <p:spPr>
            <a:xfrm>
              <a:off x="4578480" y="1913040"/>
              <a:ext cx="37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29480" y="172260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4356000" y="1943280"/>
              <a:ext cx="191880" cy="226440"/>
              <a:chOff x="4356000" y="1943280"/>
              <a:chExt cx="191880" cy="226440"/>
            </a:xfrm>
          </p:grpSpPr>
          <p:pic>
            <p:nvPicPr>
              <p:cNvPr id="45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356000" y="19432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356000" y="19432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4" name=""/>
            <p:cNvGrpSpPr/>
            <p:nvPr/>
          </p:nvGrpSpPr>
          <p:grpSpPr>
            <a:xfrm>
              <a:off x="4106880" y="1932120"/>
              <a:ext cx="199440" cy="247320"/>
              <a:chOff x="4106880" y="1932120"/>
              <a:chExt cx="199440" cy="247320"/>
            </a:xfrm>
          </p:grpSpPr>
          <p:pic>
            <p:nvPicPr>
              <p:cNvPr id="455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106880" y="1932120"/>
                <a:ext cx="19944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4106880" y="1932120"/>
                <a:ext cx="19944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7" name=""/>
            <p:cNvSpPr/>
            <p:nvPr/>
          </p:nvSpPr>
          <p:spPr>
            <a:xfrm>
              <a:off x="4622040" y="20113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27040" y="21034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743200" y="884160"/>
            <a:ext cx="978120" cy="501120"/>
            <a:chOff x="2743200" y="884160"/>
            <a:chExt cx="978120" cy="501120"/>
          </a:xfrm>
        </p:grpSpPr>
        <p:sp>
          <p:nvSpPr>
            <p:cNvPr id="460" name=""/>
            <p:cNvSpPr/>
            <p:nvPr/>
          </p:nvSpPr>
          <p:spPr>
            <a:xfrm>
              <a:off x="2966040" y="88416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1" name="" descr=""/>
            <p:cNvPicPr/>
            <p:nvPr/>
          </p:nvPicPr>
          <p:blipFill>
            <a:blip r:embed="rId24"/>
            <a:stretch/>
          </p:blipFill>
          <p:spPr>
            <a:xfrm>
              <a:off x="2743200" y="9604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25"/>
            <a:stretch/>
          </p:blipFill>
          <p:spPr>
            <a:xfrm>
              <a:off x="2743200" y="9604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3042720" y="106380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56000" y="116208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06280" y="115416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020600" y="1751040"/>
            <a:ext cx="970920" cy="910440"/>
            <a:chOff x="1020600" y="1751040"/>
            <a:chExt cx="970920" cy="910440"/>
          </a:xfrm>
        </p:grpSpPr>
        <p:sp>
          <p:nvSpPr>
            <p:cNvPr id="467" name=""/>
            <p:cNvSpPr/>
            <p:nvPr/>
          </p:nvSpPr>
          <p:spPr>
            <a:xfrm>
              <a:off x="1026000" y="175104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אדם והס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23600" y="1981080"/>
              <a:ext cx="34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46840" y="23288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0" name="earthy_pollution_sm_CLR" descr=""/>
            <p:cNvPicPr/>
            <p:nvPr/>
          </p:nvPicPr>
          <p:blipFill>
            <a:blip r:embed="rId26"/>
            <a:stretch/>
          </p:blipFill>
          <p:spPr>
            <a:xfrm>
              <a:off x="1020600" y="1858680"/>
              <a:ext cx="54432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1136160" y="24303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100920" y="3160800"/>
            <a:ext cx="1143000" cy="459720"/>
            <a:chOff x="6100920" y="3160800"/>
            <a:chExt cx="1143000" cy="459720"/>
          </a:xfrm>
        </p:grpSpPr>
        <p:sp>
          <p:nvSpPr>
            <p:cNvPr id="473" name=""/>
            <p:cNvSpPr/>
            <p:nvPr/>
          </p:nvSpPr>
          <p:spPr>
            <a:xfrm>
              <a:off x="6505560" y="317016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73240" y="333864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05520" y="345132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6" name="mh2l_p" descr=""/>
            <p:cNvPicPr/>
            <p:nvPr/>
          </p:nvPicPr>
          <p:blipFill>
            <a:blip r:embed="rId27"/>
            <a:stretch/>
          </p:blipFill>
          <p:spPr>
            <a:xfrm>
              <a:off x="6100920" y="316080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6555240" y="348300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122800" y="2674800"/>
            <a:ext cx="987120" cy="659880"/>
            <a:chOff x="5122800" y="2674800"/>
            <a:chExt cx="987120" cy="659880"/>
          </a:xfrm>
        </p:grpSpPr>
        <p:sp>
          <p:nvSpPr>
            <p:cNvPr id="479" name=""/>
            <p:cNvSpPr/>
            <p:nvPr/>
          </p:nvSpPr>
          <p:spPr>
            <a:xfrm>
              <a:off x="5528520" y="3046320"/>
              <a:ext cx="581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תקדמ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96840" y="2674800"/>
              <a:ext cx="54468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בוכ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דרקונ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&amp;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823360" y="312588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נת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96400" y="310356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3" name="dragon_blowing_fire_sm_CLR" descr=""/>
            <p:cNvPicPr/>
            <p:nvPr/>
          </p:nvPicPr>
          <p:blipFill>
            <a:blip r:embed="rId28"/>
            <a:stretch/>
          </p:blipFill>
          <p:spPr>
            <a:xfrm>
              <a:off x="5122800" y="2706840"/>
              <a:ext cx="47952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4" name=""/>
          <p:cNvGrpSpPr/>
          <p:nvPr/>
        </p:nvGrpSpPr>
        <p:grpSpPr>
          <a:xfrm>
            <a:off x="6135840" y="2655720"/>
            <a:ext cx="1110960" cy="526680"/>
            <a:chOff x="6135840" y="2655720"/>
            <a:chExt cx="1110960" cy="526680"/>
          </a:xfrm>
        </p:grpSpPr>
        <p:sp>
          <p:nvSpPr>
            <p:cNvPr id="485" name=""/>
            <p:cNvSpPr/>
            <p:nvPr/>
          </p:nvSpPr>
          <p:spPr>
            <a:xfrm>
              <a:off x="6631560" y="2655720"/>
              <a:ext cx="441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"ארוע"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01320" y="281448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03200" y="2898720"/>
              <a:ext cx="33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וו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509880" y="3044880"/>
              <a:ext cx="73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האו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9" name="mh6_g" descr=""/>
            <p:cNvPicPr/>
            <p:nvPr/>
          </p:nvPicPr>
          <p:blipFill>
            <a:blip r:embed="rId29"/>
            <a:stretch/>
          </p:blipFill>
          <p:spPr>
            <a:xfrm>
              <a:off x="6135840" y="2730240"/>
              <a:ext cx="491760" cy="41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0" name=""/>
          <p:cNvGrpSpPr/>
          <p:nvPr/>
        </p:nvGrpSpPr>
        <p:grpSpPr>
          <a:xfrm>
            <a:off x="5010120" y="3224160"/>
            <a:ext cx="1332720" cy="459720"/>
            <a:chOff x="5010120" y="3224160"/>
            <a:chExt cx="1332720" cy="459720"/>
          </a:xfrm>
        </p:grpSpPr>
        <p:grpSp>
          <p:nvGrpSpPr>
            <p:cNvPr id="491" name=""/>
            <p:cNvGrpSpPr/>
            <p:nvPr/>
          </p:nvGrpSpPr>
          <p:grpSpPr>
            <a:xfrm>
              <a:off x="5010120" y="3267360"/>
              <a:ext cx="361440" cy="332640"/>
              <a:chOff x="5010120" y="3267360"/>
              <a:chExt cx="361440" cy="332640"/>
            </a:xfrm>
          </p:grpSpPr>
          <p:sp>
            <p:nvSpPr>
              <p:cNvPr id="492" name=""/>
              <p:cNvSpPr/>
              <p:nvPr/>
            </p:nvSpPr>
            <p:spPr>
              <a:xfrm>
                <a:off x="5010120" y="32673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190840" y="326736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10120" y="34336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90840" y="34336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5441400" y="337032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2880" y="346896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00360" y="322416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97040" y="34527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790720" y="2684520"/>
            <a:ext cx="978480" cy="500760"/>
            <a:chOff x="2790720" y="2684520"/>
            <a:chExt cx="978480" cy="500760"/>
          </a:xfrm>
        </p:grpSpPr>
        <p:sp>
          <p:nvSpPr>
            <p:cNvPr id="501" name=""/>
            <p:cNvSpPr/>
            <p:nvPr/>
          </p:nvSpPr>
          <p:spPr>
            <a:xfrm>
              <a:off x="3013920" y="268452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2" name="" descr=""/>
            <p:cNvPicPr/>
            <p:nvPr/>
          </p:nvPicPr>
          <p:blipFill>
            <a:blip r:embed="rId30"/>
            <a:stretch/>
          </p:blipFill>
          <p:spPr>
            <a:xfrm>
              <a:off x="2790720" y="2760480"/>
              <a:ext cx="295560" cy="31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" descr=""/>
            <p:cNvPicPr/>
            <p:nvPr/>
          </p:nvPicPr>
          <p:blipFill>
            <a:blip r:embed="rId31"/>
            <a:stretch/>
          </p:blipFill>
          <p:spPr>
            <a:xfrm>
              <a:off x="2790720" y="2760480"/>
              <a:ext cx="295560" cy="3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090600" y="286380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04240" y="296208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54160" y="295416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5896080" y="5129280"/>
            <a:ext cx="1332720" cy="459720"/>
            <a:chOff x="5896080" y="5129280"/>
            <a:chExt cx="1332720" cy="459720"/>
          </a:xfrm>
        </p:grpSpPr>
        <p:grpSp>
          <p:nvGrpSpPr>
            <p:cNvPr id="508" name=""/>
            <p:cNvGrpSpPr/>
            <p:nvPr/>
          </p:nvGrpSpPr>
          <p:grpSpPr>
            <a:xfrm>
              <a:off x="5896080" y="5172480"/>
              <a:ext cx="361440" cy="332640"/>
              <a:chOff x="5896080" y="5172480"/>
              <a:chExt cx="361440" cy="332640"/>
            </a:xfrm>
          </p:grpSpPr>
          <p:sp>
            <p:nvSpPr>
              <p:cNvPr id="509" name=""/>
              <p:cNvSpPr/>
              <p:nvPr/>
            </p:nvSpPr>
            <p:spPr>
              <a:xfrm>
                <a:off x="5896080" y="51724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076800" y="517248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96080" y="53388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076800" y="53388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6327360" y="527544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18840" y="537408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86320" y="512928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83000" y="53578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048200" y="2681280"/>
            <a:ext cx="885600" cy="592920"/>
            <a:chOff x="4048200" y="2681280"/>
            <a:chExt cx="885600" cy="592920"/>
          </a:xfrm>
        </p:grpSpPr>
        <p:sp>
          <p:nvSpPr>
            <p:cNvPr id="518" name=""/>
            <p:cNvSpPr/>
            <p:nvPr/>
          </p:nvSpPr>
          <p:spPr>
            <a:xfrm>
              <a:off x="4523040" y="2842920"/>
              <a:ext cx="4107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200" y="268128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4316400" y="2863800"/>
              <a:ext cx="191880" cy="226440"/>
              <a:chOff x="4316400" y="2863800"/>
              <a:chExt cx="191880" cy="226440"/>
            </a:xfrm>
          </p:grpSpPr>
          <p:pic>
            <p:nvPicPr>
              <p:cNvPr id="521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4316400" y="28638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2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316400" y="28638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3" name=""/>
            <p:cNvGrpSpPr/>
            <p:nvPr/>
          </p:nvGrpSpPr>
          <p:grpSpPr>
            <a:xfrm>
              <a:off x="4067280" y="2852640"/>
              <a:ext cx="199800" cy="247320"/>
              <a:chOff x="4067280" y="2852640"/>
              <a:chExt cx="199800" cy="247320"/>
            </a:xfrm>
          </p:grpSpPr>
          <p:pic>
            <p:nvPicPr>
              <p:cNvPr id="524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4067280" y="2852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5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4067280" y="2852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6" name=""/>
            <p:cNvSpPr/>
            <p:nvPr/>
          </p:nvSpPr>
          <p:spPr>
            <a:xfrm>
              <a:off x="4554000" y="29509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9280" y="30430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1187640" y="3032280"/>
            <a:ext cx="70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קבלת שב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6400800" y="3624120"/>
            <a:ext cx="846720" cy="602640"/>
            <a:chOff x="6400800" y="3624120"/>
            <a:chExt cx="846720" cy="602640"/>
          </a:xfrm>
        </p:grpSpPr>
        <p:grpSp>
          <p:nvGrpSpPr>
            <p:cNvPr id="530" name=""/>
            <p:cNvGrpSpPr/>
            <p:nvPr/>
          </p:nvGrpSpPr>
          <p:grpSpPr>
            <a:xfrm>
              <a:off x="6400800" y="3667320"/>
              <a:ext cx="361440" cy="332640"/>
              <a:chOff x="6400800" y="3667320"/>
              <a:chExt cx="361440" cy="332640"/>
            </a:xfrm>
          </p:grpSpPr>
          <p:sp>
            <p:nvSpPr>
              <p:cNvPr id="531" name=""/>
              <p:cNvSpPr/>
              <p:nvPr/>
            </p:nvSpPr>
            <p:spPr>
              <a:xfrm>
                <a:off x="6400800" y="36673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581520" y="36673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400800" y="38336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581520" y="383364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6832080" y="377028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90400" y="389736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91400" y="362412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40400" y="39956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110280" y="4122720"/>
            <a:ext cx="1143000" cy="459720"/>
            <a:chOff x="6110280" y="4122720"/>
            <a:chExt cx="1143000" cy="459720"/>
          </a:xfrm>
        </p:grpSpPr>
        <p:sp>
          <p:nvSpPr>
            <p:cNvPr id="540" name=""/>
            <p:cNvSpPr/>
            <p:nvPr/>
          </p:nvSpPr>
          <p:spPr>
            <a:xfrm>
              <a:off x="6514920" y="413208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582600" y="430056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14880" y="441324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3" name="mh2l_p" descr=""/>
            <p:cNvPicPr/>
            <p:nvPr/>
          </p:nvPicPr>
          <p:blipFill>
            <a:blip r:embed="rId36"/>
            <a:stretch/>
          </p:blipFill>
          <p:spPr>
            <a:xfrm>
              <a:off x="6110280" y="412272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6564600" y="444492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011560" y="4065480"/>
            <a:ext cx="1111680" cy="526680"/>
            <a:chOff x="5011560" y="4065480"/>
            <a:chExt cx="1111680" cy="526680"/>
          </a:xfrm>
        </p:grpSpPr>
        <p:sp>
          <p:nvSpPr>
            <p:cNvPr id="546" name=""/>
            <p:cNvSpPr/>
            <p:nvPr/>
          </p:nvSpPr>
          <p:spPr>
            <a:xfrm>
              <a:off x="5508000" y="4065480"/>
              <a:ext cx="441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"ארוע"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77400" y="422424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79640" y="4308480"/>
              <a:ext cx="33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וו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6320" y="4454640"/>
              <a:ext cx="73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האו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0" name="mh6_g" descr=""/>
            <p:cNvPicPr/>
            <p:nvPr/>
          </p:nvPicPr>
          <p:blipFill>
            <a:blip r:embed="rId37"/>
            <a:stretch/>
          </p:blipFill>
          <p:spPr>
            <a:xfrm>
              <a:off x="5011560" y="4140000"/>
              <a:ext cx="492120" cy="41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1" name=""/>
          <p:cNvGrpSpPr/>
          <p:nvPr/>
        </p:nvGrpSpPr>
        <p:grpSpPr>
          <a:xfrm>
            <a:off x="5213520" y="3625920"/>
            <a:ext cx="1066320" cy="487080"/>
            <a:chOff x="5213520" y="3625920"/>
            <a:chExt cx="1066320" cy="487080"/>
          </a:xfrm>
        </p:grpSpPr>
        <p:pic>
          <p:nvPicPr>
            <p:cNvPr id="552" name="" descr=""/>
            <p:cNvPicPr/>
            <p:nvPr/>
          </p:nvPicPr>
          <p:blipFill>
            <a:blip r:embed="rId38"/>
            <a:stretch/>
          </p:blipFill>
          <p:spPr>
            <a:xfrm>
              <a:off x="5432400" y="3641760"/>
              <a:ext cx="3898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39"/>
            <a:stretch/>
          </p:blipFill>
          <p:spPr>
            <a:xfrm>
              <a:off x="5213520" y="3651480"/>
              <a:ext cx="39024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5566320" y="381636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87880" y="39452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83240" y="3625920"/>
              <a:ext cx="4107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22480" y="39751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קלט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824280" y="3821040"/>
            <a:ext cx="1242000" cy="634320"/>
            <a:chOff x="3824280" y="3821040"/>
            <a:chExt cx="1242000" cy="634320"/>
          </a:xfrm>
        </p:grpSpPr>
        <p:sp>
          <p:nvSpPr>
            <p:cNvPr id="559" name=""/>
            <p:cNvSpPr/>
            <p:nvPr/>
          </p:nvSpPr>
          <p:spPr>
            <a:xfrm>
              <a:off x="4002480" y="3821040"/>
              <a:ext cx="100944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רטים קלאס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29720" y="398124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550040" y="41083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2" name="funny_men_hand_cart_ty_CLR" descr=""/>
            <p:cNvPicPr/>
            <p:nvPr/>
          </p:nvPicPr>
          <p:blipFill>
            <a:blip r:embed="rId40"/>
            <a:stretch/>
          </p:blipFill>
          <p:spPr>
            <a:xfrm>
              <a:off x="3824280" y="3954240"/>
              <a:ext cx="57960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4259160" y="42242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2714760" y="4119480"/>
            <a:ext cx="1204920" cy="488160"/>
            <a:chOff x="2714760" y="4119480"/>
            <a:chExt cx="1204920" cy="488160"/>
          </a:xfrm>
        </p:grpSpPr>
        <p:grpSp>
          <p:nvGrpSpPr>
            <p:cNvPr id="565" name=""/>
            <p:cNvGrpSpPr/>
            <p:nvPr/>
          </p:nvGrpSpPr>
          <p:grpSpPr>
            <a:xfrm>
              <a:off x="2714760" y="4181400"/>
              <a:ext cx="361440" cy="332640"/>
              <a:chOff x="2714760" y="4181400"/>
              <a:chExt cx="361440" cy="332640"/>
            </a:xfrm>
          </p:grpSpPr>
          <p:sp>
            <p:nvSpPr>
              <p:cNvPr id="566" name=""/>
              <p:cNvSpPr/>
              <p:nvPr/>
            </p:nvSpPr>
            <p:spPr>
              <a:xfrm>
                <a:off x="2714760" y="41814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895480" y="418140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714760" y="43477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895480" y="4347720"/>
                <a:ext cx="180720" cy="1663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3127680" y="4294080"/>
              <a:ext cx="581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ל הרמ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61760" y="439236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ו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86280" y="4119480"/>
              <a:ext cx="833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- תג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015360" y="43765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905200" y="3656160"/>
            <a:ext cx="978120" cy="500760"/>
            <a:chOff x="2905200" y="3656160"/>
            <a:chExt cx="978120" cy="500760"/>
          </a:xfrm>
        </p:grpSpPr>
        <p:sp>
          <p:nvSpPr>
            <p:cNvPr id="575" name=""/>
            <p:cNvSpPr/>
            <p:nvPr/>
          </p:nvSpPr>
          <p:spPr>
            <a:xfrm>
              <a:off x="3128040" y="365616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6" name="" descr=""/>
            <p:cNvPicPr/>
            <p:nvPr/>
          </p:nvPicPr>
          <p:blipFill>
            <a:blip r:embed="rId41"/>
            <a:stretch/>
          </p:blipFill>
          <p:spPr>
            <a:xfrm>
              <a:off x="2905200" y="3732120"/>
              <a:ext cx="295200" cy="31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" descr=""/>
            <p:cNvPicPr/>
            <p:nvPr/>
          </p:nvPicPr>
          <p:blipFill>
            <a:blip r:embed="rId42"/>
            <a:stretch/>
          </p:blipFill>
          <p:spPr>
            <a:xfrm>
              <a:off x="2905200" y="3732120"/>
              <a:ext cx="295200" cy="3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3204720" y="383544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618000" y="39337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068280" y="392580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331280" y="4059360"/>
            <a:ext cx="51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פרלמנט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863640" y="4392720"/>
            <a:ext cx="1325160" cy="780120"/>
            <a:chOff x="863640" y="4392720"/>
            <a:chExt cx="1325160" cy="780120"/>
          </a:xfrm>
        </p:grpSpPr>
        <p:pic>
          <p:nvPicPr>
            <p:cNvPr id="583" name="" descr=""/>
            <p:cNvPicPr/>
            <p:nvPr/>
          </p:nvPicPr>
          <p:blipFill>
            <a:blip r:embed="rId43"/>
            <a:stretch/>
          </p:blipFill>
          <p:spPr>
            <a:xfrm>
              <a:off x="863640" y="4392720"/>
              <a:ext cx="1325160" cy="78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" descr=""/>
            <p:cNvPicPr/>
            <p:nvPr/>
          </p:nvPicPr>
          <p:blipFill>
            <a:blip r:embed="rId44"/>
            <a:stretch/>
          </p:blipFill>
          <p:spPr>
            <a:xfrm>
              <a:off x="863640" y="4392720"/>
              <a:ext cx="1325160" cy="78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5" name=""/>
          <p:cNvGrpSpPr/>
          <p:nvPr/>
        </p:nvGrpSpPr>
        <p:grpSpPr>
          <a:xfrm>
            <a:off x="4920120" y="4643280"/>
            <a:ext cx="877320" cy="659880"/>
            <a:chOff x="4920120" y="4643280"/>
            <a:chExt cx="877320" cy="659880"/>
          </a:xfrm>
        </p:grpSpPr>
        <p:sp>
          <p:nvSpPr>
            <p:cNvPr id="586" name=""/>
            <p:cNvSpPr/>
            <p:nvPr/>
          </p:nvSpPr>
          <p:spPr>
            <a:xfrm>
              <a:off x="5549760" y="4643280"/>
              <a:ext cx="247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ג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12240" y="482760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26280" y="50878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9" name="yoga" descr=""/>
            <p:cNvPicPr/>
            <p:nvPr/>
          </p:nvPicPr>
          <p:blipFill>
            <a:blip r:embed="rId45"/>
            <a:stretch/>
          </p:blipFill>
          <p:spPr>
            <a:xfrm>
              <a:off x="4986360" y="4676760"/>
              <a:ext cx="46188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4920120" y="50720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6094440" y="4565520"/>
            <a:ext cx="1166040" cy="613800"/>
            <a:chOff x="6094440" y="4565520"/>
            <a:chExt cx="1166040" cy="613800"/>
          </a:xfrm>
        </p:grpSpPr>
        <p:pic>
          <p:nvPicPr>
            <p:cNvPr id="592" name="" descr=""/>
            <p:cNvPicPr/>
            <p:nvPr/>
          </p:nvPicPr>
          <p:blipFill>
            <a:blip r:embed="rId46"/>
            <a:stretch/>
          </p:blipFill>
          <p:spPr>
            <a:xfrm>
              <a:off x="6246720" y="4600440"/>
              <a:ext cx="361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47"/>
            <a:stretch/>
          </p:blipFill>
          <p:spPr>
            <a:xfrm>
              <a:off x="6094440" y="4619520"/>
              <a:ext cx="404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6366600" y="4565520"/>
              <a:ext cx="893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מתחיל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94200" y="48592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49760" y="49482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5019840" y="5276880"/>
            <a:ext cx="792000" cy="2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Times New Roman"/>
                <a:cs typeface="Arial"/>
              </a:rPr>
              <a:t>חני - חונכ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809800" y="4732200"/>
            <a:ext cx="902520" cy="710640"/>
            <a:chOff x="2809800" y="4732200"/>
            <a:chExt cx="902520" cy="710640"/>
          </a:xfrm>
        </p:grpSpPr>
        <p:sp>
          <p:nvSpPr>
            <p:cNvPr id="599" name=""/>
            <p:cNvSpPr/>
            <p:nvPr/>
          </p:nvSpPr>
          <p:spPr>
            <a:xfrm>
              <a:off x="2957040" y="473220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48"/>
            <a:stretch/>
          </p:blipFill>
          <p:spPr>
            <a:xfrm>
              <a:off x="2809800" y="487512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49"/>
            <a:stretch/>
          </p:blipFill>
          <p:spPr>
            <a:xfrm>
              <a:off x="2809800" y="487512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3231000" y="492120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123000" y="511488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44440" y="521172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805200" y="4754520"/>
            <a:ext cx="1242000" cy="634320"/>
            <a:chOff x="3805200" y="4754520"/>
            <a:chExt cx="1242000" cy="634320"/>
          </a:xfrm>
        </p:grpSpPr>
        <p:sp>
          <p:nvSpPr>
            <p:cNvPr id="606" name=""/>
            <p:cNvSpPr/>
            <p:nvPr/>
          </p:nvSpPr>
          <p:spPr>
            <a:xfrm>
              <a:off x="3983400" y="4754520"/>
              <a:ext cx="100944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רטים קלאס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10640" y="491472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30960" y="50418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9" name="funny_men_hand_cart_ty_CLR" descr=""/>
            <p:cNvPicPr/>
            <p:nvPr/>
          </p:nvPicPr>
          <p:blipFill>
            <a:blip r:embed="rId50"/>
            <a:stretch/>
          </p:blipFill>
          <p:spPr>
            <a:xfrm>
              <a:off x="3805200" y="4887720"/>
              <a:ext cx="57960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4240080" y="51577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6235560" y="5533920"/>
            <a:ext cx="1013040" cy="478800"/>
            <a:chOff x="6235560" y="5533920"/>
            <a:chExt cx="1013040" cy="478800"/>
          </a:xfrm>
        </p:grpSpPr>
        <p:sp>
          <p:nvSpPr>
            <p:cNvPr id="612" name=""/>
            <p:cNvSpPr/>
            <p:nvPr/>
          </p:nvSpPr>
          <p:spPr>
            <a:xfrm>
              <a:off x="6883560" y="5533920"/>
              <a:ext cx="36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23640" y="568944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59880" y="58071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91880" y="578160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" name="acs2" descr=""/>
            <p:cNvPicPr/>
            <p:nvPr/>
          </p:nvPicPr>
          <p:blipFill>
            <a:blip r:embed="rId51"/>
            <a:stretch/>
          </p:blipFill>
          <p:spPr>
            <a:xfrm>
              <a:off x="6235560" y="5592600"/>
              <a:ext cx="33984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"/>
          <p:cNvGrpSpPr/>
          <p:nvPr/>
        </p:nvGrpSpPr>
        <p:grpSpPr>
          <a:xfrm>
            <a:off x="4998960" y="5708520"/>
            <a:ext cx="1045080" cy="699480"/>
            <a:chOff x="4998960" y="5708520"/>
            <a:chExt cx="1045080" cy="699480"/>
          </a:xfrm>
        </p:grpSpPr>
        <p:pic>
          <p:nvPicPr>
            <p:cNvPr id="618" name="" descr=""/>
            <p:cNvPicPr/>
            <p:nvPr/>
          </p:nvPicPr>
          <p:blipFill>
            <a:blip r:embed="rId52"/>
            <a:stretch/>
          </p:blipFill>
          <p:spPr>
            <a:xfrm>
              <a:off x="4998960" y="5752800"/>
              <a:ext cx="361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53"/>
            <a:stretch/>
          </p:blipFill>
          <p:spPr>
            <a:xfrm>
              <a:off x="5008320" y="5724360"/>
              <a:ext cx="405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5395680" y="5708520"/>
              <a:ext cx="6483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מתחיל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89520" y="62020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68440" y="61768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2781360" y="5665680"/>
            <a:ext cx="901800" cy="710640"/>
            <a:chOff x="2781360" y="5665680"/>
            <a:chExt cx="901800" cy="710640"/>
          </a:xfrm>
        </p:grpSpPr>
        <p:sp>
          <p:nvSpPr>
            <p:cNvPr id="624" name=""/>
            <p:cNvSpPr/>
            <p:nvPr/>
          </p:nvSpPr>
          <p:spPr>
            <a:xfrm>
              <a:off x="2927880" y="566568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5" name="" descr=""/>
            <p:cNvPicPr/>
            <p:nvPr/>
          </p:nvPicPr>
          <p:blipFill>
            <a:blip r:embed="rId54"/>
            <a:stretch/>
          </p:blipFill>
          <p:spPr>
            <a:xfrm>
              <a:off x="2781360" y="5808600"/>
              <a:ext cx="29484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" descr=""/>
            <p:cNvPicPr/>
            <p:nvPr/>
          </p:nvPicPr>
          <p:blipFill>
            <a:blip r:embed="rId55"/>
            <a:stretch/>
          </p:blipFill>
          <p:spPr>
            <a:xfrm>
              <a:off x="2781360" y="5808600"/>
              <a:ext cx="29484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3202200" y="585468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93840" y="604836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15640" y="614520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776760" y="5688000"/>
            <a:ext cx="1242000" cy="634320"/>
            <a:chOff x="3776760" y="5688000"/>
            <a:chExt cx="1242000" cy="634320"/>
          </a:xfrm>
        </p:grpSpPr>
        <p:sp>
          <p:nvSpPr>
            <p:cNvPr id="631" name=""/>
            <p:cNvSpPr/>
            <p:nvPr/>
          </p:nvSpPr>
          <p:spPr>
            <a:xfrm>
              <a:off x="3954960" y="5688000"/>
              <a:ext cx="100944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רטים קלאס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282200" y="584820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02520" y="59752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4" name="funny_men_hand_cart_ty_CLR" descr=""/>
            <p:cNvPicPr/>
            <p:nvPr/>
          </p:nvPicPr>
          <p:blipFill>
            <a:blip r:embed="rId56"/>
            <a:stretch/>
          </p:blipFill>
          <p:spPr>
            <a:xfrm>
              <a:off x="3776760" y="5821200"/>
              <a:ext cx="57960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4211640" y="60912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078600" y="6000840"/>
            <a:ext cx="1172520" cy="535680"/>
            <a:chOff x="6078600" y="6000840"/>
            <a:chExt cx="1172520" cy="535680"/>
          </a:xfrm>
        </p:grpSpPr>
        <p:sp>
          <p:nvSpPr>
            <p:cNvPr id="637" name=""/>
            <p:cNvSpPr/>
            <p:nvPr/>
          </p:nvSpPr>
          <p:spPr>
            <a:xfrm>
              <a:off x="6634800" y="6238800"/>
              <a:ext cx="616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543360" y="6000840"/>
              <a:ext cx="5158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מנים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סגנו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65640" y="63183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0" name="colors_v" descr=""/>
            <p:cNvPicPr/>
            <p:nvPr/>
          </p:nvPicPr>
          <p:blipFill>
            <a:blip r:embed="rId57"/>
            <a:stretch/>
          </p:blipFill>
          <p:spPr>
            <a:xfrm>
              <a:off x="6078600" y="6045120"/>
              <a:ext cx="21240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colors_p" descr=""/>
            <p:cNvPicPr/>
            <p:nvPr/>
          </p:nvPicPr>
          <p:blipFill>
            <a:blip r:embed="rId58"/>
            <a:stretch/>
          </p:blipFill>
          <p:spPr>
            <a:xfrm>
              <a:off x="6281640" y="6060960"/>
              <a:ext cx="23292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6512040" y="6305400"/>
              <a:ext cx="49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3:36:17Z</dcterms:created>
  <dc:creator>--</dc:creator>
  <dc:description/>
  <dc:language>en-US</dc:language>
  <cp:lastModifiedBy>--</cp:lastModifiedBy>
  <dcterms:modified xsi:type="dcterms:W3CDTF">2004-01-28T03:26:46Z</dcterms:modified>
  <cp:revision>58</cp:revision>
  <dc:subject/>
  <dc:title>מצגת של PowerPoint</dc:title>
</cp:coreProperties>
</file>