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gif" ContentType="image/gif"/>
  <Override PartName="/ppt/media/image7.wmf" ContentType="image/x-wmf"/>
  <Override PartName="/ppt/media/image40.png" ContentType="image/png"/>
  <Override PartName="/ppt/media/image8.wmf" ContentType="image/x-wmf"/>
  <Override PartName="/ppt/media/image38.wmf" ContentType="image/x-wmf"/>
  <Override PartName="/ppt/media/image25.png" ContentType="image/png"/>
  <Override PartName="/ppt/media/image43.gif" ContentType="image/gif"/>
  <Override PartName="/ppt/media/image33.gif" ContentType="image/gif"/>
  <Override PartName="/ppt/media/image29.png" ContentType="image/png"/>
  <Override PartName="/ppt/media/image16.wmf" ContentType="image/x-wmf"/>
  <Override PartName="/ppt/media/image28.gif" ContentType="image/gif"/>
  <Override PartName="/ppt/media/image1.wmf" ContentType="image/x-wmf"/>
  <Override PartName="/ppt/media/image5.gif" ContentType="image/gif"/>
  <Override PartName="/ppt/media/image17.gif" ContentType="image/gif"/>
  <Override PartName="/ppt/media/image14.gif" ContentType="image/gif"/>
  <Override PartName="/ppt/media/image6.png" ContentType="image/png"/>
  <Override PartName="/ppt/media/image3.gif" ContentType="image/gif"/>
  <Override PartName="/ppt/media/image18.png" ContentType="image/png"/>
  <Override PartName="/ppt/media/image21.wmf" ContentType="image/x-wmf"/>
  <Override PartName="/ppt/media/image20.png" ContentType="image/png"/>
  <Override PartName="/ppt/media/image27.png" ContentType="image/png"/>
  <Override PartName="/ppt/media/image4.gif" ContentType="image/gif"/>
  <Override PartName="/ppt/media/image60.gif" ContentType="image/gif"/>
  <Override PartName="/ppt/media/image26.png" ContentType="image/png"/>
  <Override PartName="/ppt/media/image23.gif" ContentType="image/gif"/>
  <Override PartName="/ppt/media/image56.wmf" ContentType="image/x-wmf"/>
  <Override PartName="/ppt/media/image22.wmf" ContentType="image/x-wmf"/>
  <Override PartName="/ppt/media/image61.png" ContentType="image/png"/>
  <Override PartName="/ppt/media/image31.gif" ContentType="image/gif"/>
  <Override PartName="/ppt/media/image24.png" ContentType="image/png"/>
  <Override PartName="/ppt/media/image19.gif" ContentType="image/gif"/>
  <Override PartName="/ppt/media/image37.wmf" ContentType="image/x-wmf"/>
  <Override PartName="/ppt/media/image12.jpeg" ContentType="image/jpeg"/>
  <Override PartName="/ppt/media/image9.wmf" ContentType="image/x-wmf"/>
  <Override PartName="/ppt/media/image41.png" ContentType="image/png"/>
  <Override PartName="/ppt/media/image11.gif" ContentType="image/gif"/>
  <Override PartName="/ppt/media/image13.gif" ContentType="image/gif"/>
  <Override PartName="/ppt/media/image30.gif" ContentType="image/gif"/>
  <Override PartName="/ppt/media/image34.jpeg" ContentType="image/jpeg"/>
  <Override PartName="/ppt/media/image32.gif" ContentType="image/gif"/>
  <Override PartName="/ppt/media/image35.png" ContentType="image/png"/>
  <Override PartName="/ppt/media/image42.gif" ContentType="image/gif"/>
  <Override PartName="/ppt/media/image36.gif" ContentType="image/gif"/>
  <Override PartName="/ppt/media/image39.png" ContentType="image/png"/>
  <Override PartName="/ppt/media/image46.gif" ContentType="image/gif"/>
  <Override PartName="/ppt/media/image44.png" ContentType="image/png"/>
  <Override PartName="/ppt/media/image51.gif" ContentType="image/gif"/>
  <Override PartName="/ppt/media/image47.gif" ContentType="image/gif"/>
  <Override PartName="/ppt/media/image45.gif" ContentType="image/gif"/>
  <Override PartName="/ppt/media/image48.png" ContentType="image/png"/>
  <Override PartName="/ppt/media/image49.gif" ContentType="image/gif"/>
  <Override PartName="/ppt/media/image52.gif" ContentType="image/gif"/>
  <Override PartName="/ppt/media/image10.wmf" ContentType="image/x-wmf"/>
  <Override PartName="/ppt/media/image53.png" ContentType="image/png"/>
  <Override PartName="/ppt/media/image50.gif" ContentType="image/gif"/>
  <Override PartName="/ppt/media/image2.wmf" ContentType="image/x-wmf"/>
  <Override PartName="/ppt/media/image54.gif" ContentType="image/gif"/>
  <Override PartName="/ppt/media/image57.gif" ContentType="image/gif"/>
  <Override PartName="/ppt/media/image15.wmf" ContentType="image/x-wmf"/>
  <Override PartName="/ppt/media/image55.gif" ContentType="image/gif"/>
  <Override PartName="/ppt/media/image5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B533-5CF9-444F-95FA-68FCA0EAD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0C8C-DB9B-447D-9026-91625E7B0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88BA-BB0E-4B7D-B7DC-330947E60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EBF5-7F66-4DB0-A963-2002F53B9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485D-EFCB-44CF-AC7F-BCCADDE1D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94FB-A71A-4BAE-B231-7F7968DCA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5E66-8DD8-44A7-A973-74890F1A2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DDF1-EC73-442A-81A6-77058AD02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5FF9-8DD1-46AC-A8B3-3944A0204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9DC6-5DB6-4DA9-8D03-F20D68B4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803E-703B-4EBC-BFF3-E07D8491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6016-8F5A-4C11-8637-4D7B2F07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FCD46-DE59-471E-BDBA-D3F40B2668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5.gif"/><Relationship Id="rId12" Type="http://schemas.openxmlformats.org/officeDocument/2006/relationships/image" Target="../media/image11.gif"/><Relationship Id="rId13" Type="http://schemas.openxmlformats.org/officeDocument/2006/relationships/image" Target="../media/image4.gif"/><Relationship Id="rId14" Type="http://schemas.openxmlformats.org/officeDocument/2006/relationships/image" Target="../media/image7.wmf"/><Relationship Id="rId15" Type="http://schemas.openxmlformats.org/officeDocument/2006/relationships/image" Target="../media/image8.wmf"/><Relationship Id="rId16" Type="http://schemas.openxmlformats.org/officeDocument/2006/relationships/image" Target="../media/image9.wmf"/><Relationship Id="rId17" Type="http://schemas.openxmlformats.org/officeDocument/2006/relationships/image" Target="../media/image10.wmf"/><Relationship Id="rId18" Type="http://schemas.openxmlformats.org/officeDocument/2006/relationships/image" Target="../media/image4.gif"/><Relationship Id="rId19" Type="http://schemas.openxmlformats.org/officeDocument/2006/relationships/image" Target="../media/image12.jpeg"/><Relationship Id="rId20" Type="http://schemas.openxmlformats.org/officeDocument/2006/relationships/image" Target="../media/image13.gif"/><Relationship Id="rId21" Type="http://schemas.openxmlformats.org/officeDocument/2006/relationships/image" Target="../media/image14.gif"/><Relationship Id="rId22" Type="http://schemas.openxmlformats.org/officeDocument/2006/relationships/image" Target="../media/image4.gif"/><Relationship Id="rId23" Type="http://schemas.openxmlformats.org/officeDocument/2006/relationships/image" Target="../media/image13.gif"/><Relationship Id="rId24" Type="http://schemas.openxmlformats.org/officeDocument/2006/relationships/image" Target="../media/image14.gif"/><Relationship Id="rId25" Type="http://schemas.openxmlformats.org/officeDocument/2006/relationships/image" Target="../media/image15.wmf"/><Relationship Id="rId26" Type="http://schemas.openxmlformats.org/officeDocument/2006/relationships/image" Target="../media/image16.wmf"/><Relationship Id="rId27" Type="http://schemas.openxmlformats.org/officeDocument/2006/relationships/image" Target="../media/image13.gif"/><Relationship Id="rId28" Type="http://schemas.openxmlformats.org/officeDocument/2006/relationships/image" Target="../media/image17.gif"/><Relationship Id="rId29" Type="http://schemas.openxmlformats.org/officeDocument/2006/relationships/image" Target="../media/image13.gif"/><Relationship Id="rId30" Type="http://schemas.openxmlformats.org/officeDocument/2006/relationships/image" Target="../media/image14.gif"/><Relationship Id="rId31" Type="http://schemas.openxmlformats.org/officeDocument/2006/relationships/image" Target="../media/image1.wmf"/><Relationship Id="rId32" Type="http://schemas.openxmlformats.org/officeDocument/2006/relationships/image" Target="../media/image2.wmf"/><Relationship Id="rId33" Type="http://schemas.openxmlformats.org/officeDocument/2006/relationships/image" Target="../media/image17.gif"/><Relationship Id="rId34" Type="http://schemas.openxmlformats.org/officeDocument/2006/relationships/image" Target="../media/image7.wmf"/><Relationship Id="rId35" Type="http://schemas.openxmlformats.org/officeDocument/2006/relationships/image" Target="../media/image8.wmf"/><Relationship Id="rId36" Type="http://schemas.openxmlformats.org/officeDocument/2006/relationships/image" Target="../media/image9.wmf"/><Relationship Id="rId37" Type="http://schemas.openxmlformats.org/officeDocument/2006/relationships/image" Target="../media/image10.wmf"/><Relationship Id="rId38" Type="http://schemas.openxmlformats.org/officeDocument/2006/relationships/image" Target="../media/image13.gif"/><Relationship Id="rId39" Type="http://schemas.openxmlformats.org/officeDocument/2006/relationships/image" Target="../media/image6.png"/><Relationship Id="rId40" Type="http://schemas.openxmlformats.org/officeDocument/2006/relationships/image" Target="../media/image13.gif"/><Relationship Id="rId41" Type="http://schemas.openxmlformats.org/officeDocument/2006/relationships/image" Target="../media/image18.png"/><Relationship Id="rId42" Type="http://schemas.openxmlformats.org/officeDocument/2006/relationships/image" Target="../media/image19.gif"/><Relationship Id="rId43" Type="http://schemas.openxmlformats.org/officeDocument/2006/relationships/image" Target="../media/image7.wmf"/><Relationship Id="rId44" Type="http://schemas.openxmlformats.org/officeDocument/2006/relationships/image" Target="../media/image8.wmf"/><Relationship Id="rId45" Type="http://schemas.openxmlformats.org/officeDocument/2006/relationships/image" Target="../media/image9.wmf"/><Relationship Id="rId46" Type="http://schemas.openxmlformats.org/officeDocument/2006/relationships/image" Target="../media/image10.wmf"/><Relationship Id="rId47" Type="http://schemas.openxmlformats.org/officeDocument/2006/relationships/image" Target="../media/image7.wmf"/><Relationship Id="rId48" Type="http://schemas.openxmlformats.org/officeDocument/2006/relationships/image" Target="../media/image8.wmf"/><Relationship Id="rId49" Type="http://schemas.openxmlformats.org/officeDocument/2006/relationships/image" Target="../media/image9.wmf"/><Relationship Id="rId50" Type="http://schemas.openxmlformats.org/officeDocument/2006/relationships/image" Target="../media/image10.wmf"/><Relationship Id="rId51" Type="http://schemas.openxmlformats.org/officeDocument/2006/relationships/image" Target="../media/image18.png"/><Relationship Id="rId52" Type="http://schemas.openxmlformats.org/officeDocument/2006/relationships/image" Target="../media/image20.png"/><Relationship Id="rId53" Type="http://schemas.openxmlformats.org/officeDocument/2006/relationships/image" Target="../media/image21.wmf"/><Relationship Id="rId54" Type="http://schemas.openxmlformats.org/officeDocument/2006/relationships/image" Target="../media/image22.wmf"/><Relationship Id="rId55" Type="http://schemas.openxmlformats.org/officeDocument/2006/relationships/image" Target="../media/image12.jpeg"/><Relationship Id="rId56" Type="http://schemas.openxmlformats.org/officeDocument/2006/relationships/image" Target="../media/image4.gif"/><Relationship Id="rId57" Type="http://schemas.openxmlformats.org/officeDocument/2006/relationships/image" Target="../media/image19.gif"/><Relationship Id="rId58" Type="http://schemas.openxmlformats.org/officeDocument/2006/relationships/image" Target="../media/image23.gif"/><Relationship Id="rId59" Type="http://schemas.openxmlformats.org/officeDocument/2006/relationships/image" Target="../media/image6.png"/><Relationship Id="rId60" Type="http://schemas.openxmlformats.org/officeDocument/2006/relationships/image" Target="../media/image24.png"/><Relationship Id="rId61" Type="http://schemas.openxmlformats.org/officeDocument/2006/relationships/image" Target="../media/image7.wmf"/><Relationship Id="rId62" Type="http://schemas.openxmlformats.org/officeDocument/2006/relationships/image" Target="../media/image8.wmf"/><Relationship Id="rId63" Type="http://schemas.openxmlformats.org/officeDocument/2006/relationships/image" Target="../media/image9.wmf"/><Relationship Id="rId64" Type="http://schemas.openxmlformats.org/officeDocument/2006/relationships/image" Target="../media/image10.wmf"/><Relationship Id="rId65" Type="http://schemas.openxmlformats.org/officeDocument/2006/relationships/image" Target="../media/image25.png"/><Relationship Id="rId66" Type="http://schemas.openxmlformats.org/officeDocument/2006/relationships/image" Target="../media/image26.png"/><Relationship Id="rId67" Type="http://schemas.openxmlformats.org/officeDocument/2006/relationships/image" Target="../media/image7.wmf"/><Relationship Id="rId68" Type="http://schemas.openxmlformats.org/officeDocument/2006/relationships/image" Target="../media/image8.wmf"/><Relationship Id="rId69" Type="http://schemas.openxmlformats.org/officeDocument/2006/relationships/image" Target="../media/image9.wmf"/><Relationship Id="rId70" Type="http://schemas.openxmlformats.org/officeDocument/2006/relationships/image" Target="../media/image10.wmf"/><Relationship Id="rId71" Type="http://schemas.openxmlformats.org/officeDocument/2006/relationships/image" Target="../media/image17.gif"/><Relationship Id="rId72" Type="http://schemas.openxmlformats.org/officeDocument/2006/relationships/image" Target="../media/image27.png"/><Relationship Id="rId73" Type="http://schemas.openxmlformats.org/officeDocument/2006/relationships/image" Target="../media/image11.gif"/><Relationship Id="rId74" Type="http://schemas.openxmlformats.org/officeDocument/2006/relationships/image" Target="../media/image7.wmf"/><Relationship Id="rId75" Type="http://schemas.openxmlformats.org/officeDocument/2006/relationships/image" Target="../media/image8.wmf"/><Relationship Id="rId76" Type="http://schemas.openxmlformats.org/officeDocument/2006/relationships/image" Target="../media/image9.wmf"/><Relationship Id="rId77" Type="http://schemas.openxmlformats.org/officeDocument/2006/relationships/image" Target="../media/image10.wmf"/><Relationship Id="rId78" Type="http://schemas.openxmlformats.org/officeDocument/2006/relationships/image" Target="../media/image25.png"/><Relationship Id="rId79" Type="http://schemas.openxmlformats.org/officeDocument/2006/relationships/image" Target="../media/image21.wmf"/><Relationship Id="rId80" Type="http://schemas.openxmlformats.org/officeDocument/2006/relationships/image" Target="../media/image22.wmf"/><Relationship Id="rId81" Type="http://schemas.openxmlformats.org/officeDocument/2006/relationships/image" Target="../media/image27.png"/><Relationship Id="rId82" Type="http://schemas.openxmlformats.org/officeDocument/2006/relationships/image" Target="../media/image24.png"/><Relationship Id="rId83" Type="http://schemas.openxmlformats.org/officeDocument/2006/relationships/image" Target="../media/image7.wmf"/><Relationship Id="rId84" Type="http://schemas.openxmlformats.org/officeDocument/2006/relationships/image" Target="../media/image8.wmf"/><Relationship Id="rId85" Type="http://schemas.openxmlformats.org/officeDocument/2006/relationships/image" Target="../media/image9.wmf"/><Relationship Id="rId86" Type="http://schemas.openxmlformats.org/officeDocument/2006/relationships/image" Target="../media/image10.wmf"/><Relationship Id="rId87" Type="http://schemas.openxmlformats.org/officeDocument/2006/relationships/image" Target="../media/image24.png"/><Relationship Id="rId88" Type="http://schemas.openxmlformats.org/officeDocument/2006/relationships/image" Target="../media/image14.gif"/><Relationship Id="rId89" Type="http://schemas.openxmlformats.org/officeDocument/2006/relationships/image" Target="../media/image7.wmf"/><Relationship Id="rId90" Type="http://schemas.openxmlformats.org/officeDocument/2006/relationships/image" Target="../media/image8.wmf"/><Relationship Id="rId91" Type="http://schemas.openxmlformats.org/officeDocument/2006/relationships/image" Target="../media/image9.wmf"/><Relationship Id="rId92" Type="http://schemas.openxmlformats.org/officeDocument/2006/relationships/image" Target="../media/image10.wmf"/><Relationship Id="rId93" Type="http://schemas.openxmlformats.org/officeDocument/2006/relationships/image" Target="../media/image21.wmf"/><Relationship Id="rId94" Type="http://schemas.openxmlformats.org/officeDocument/2006/relationships/image" Target="../media/image22.wmf"/><Relationship Id="rId95" Type="http://schemas.openxmlformats.org/officeDocument/2006/relationships/image" Target="../media/image21.wmf"/><Relationship Id="rId96" Type="http://schemas.openxmlformats.org/officeDocument/2006/relationships/image" Target="../media/image22.wmf"/><Relationship Id="rId97" Type="http://schemas.openxmlformats.org/officeDocument/2006/relationships/image" Target="../media/image6.png"/><Relationship Id="rId98" Type="http://schemas.openxmlformats.org/officeDocument/2006/relationships/image" Target="../media/image14.gif"/><Relationship Id="rId99" Type="http://schemas.openxmlformats.org/officeDocument/2006/relationships/image" Target="../media/image21.wmf"/><Relationship Id="rId100" Type="http://schemas.openxmlformats.org/officeDocument/2006/relationships/image" Target="../media/image22.wmf"/><Relationship Id="rId101" Type="http://schemas.openxmlformats.org/officeDocument/2006/relationships/image" Target="../media/image24.png"/><Relationship Id="rId102" Type="http://schemas.openxmlformats.org/officeDocument/2006/relationships/image" Target="../media/image28.gif"/><Relationship Id="rId103" Type="http://schemas.openxmlformats.org/officeDocument/2006/relationships/image" Target="../media/image14.gif"/><Relationship Id="rId104" Type="http://schemas.openxmlformats.org/officeDocument/2006/relationships/image" Target="../media/image29.png"/><Relationship Id="rId105" Type="http://schemas.openxmlformats.org/officeDocument/2006/relationships/image" Target="../media/image30.gif"/><Relationship Id="rId106" Type="http://schemas.openxmlformats.org/officeDocument/2006/relationships/image" Target="../media/image31.gif"/><Relationship Id="rId107" Type="http://schemas.openxmlformats.org/officeDocument/2006/relationships/image" Target="../media/image14.gif"/><Relationship Id="rId108" Type="http://schemas.openxmlformats.org/officeDocument/2006/relationships/image" Target="../media/image1.wmf"/><Relationship Id="rId109" Type="http://schemas.openxmlformats.org/officeDocument/2006/relationships/image" Target="../media/image2.wmf"/><Relationship Id="rId110" Type="http://schemas.openxmlformats.org/officeDocument/2006/relationships/image" Target="../media/image32.gif"/><Relationship Id="rId111" Type="http://schemas.openxmlformats.org/officeDocument/2006/relationships/image" Target="../media/image32.gif"/><Relationship Id="rId112" Type="http://schemas.openxmlformats.org/officeDocument/2006/relationships/image" Target="../media/image32.gif"/><Relationship Id="rId113" Type="http://schemas.openxmlformats.org/officeDocument/2006/relationships/image" Target="../media/image32.gif"/><Relationship Id="rId114" Type="http://schemas.openxmlformats.org/officeDocument/2006/relationships/image" Target="../media/image32.gif"/><Relationship Id="rId115" Type="http://schemas.openxmlformats.org/officeDocument/2006/relationships/image" Target="../media/image33.gif"/><Relationship Id="rId116" Type="http://schemas.openxmlformats.org/officeDocument/2006/relationships/image" Target="../media/image34.jpeg"/><Relationship Id="rId11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2.wmf"/><Relationship Id="rId9" Type="http://schemas.openxmlformats.org/officeDocument/2006/relationships/image" Target="../media/image35.png"/><Relationship Id="rId10" Type="http://schemas.openxmlformats.org/officeDocument/2006/relationships/image" Target="../media/image7.wmf"/><Relationship Id="rId11" Type="http://schemas.openxmlformats.org/officeDocument/2006/relationships/image" Target="../media/image8.wmf"/><Relationship Id="rId12" Type="http://schemas.openxmlformats.org/officeDocument/2006/relationships/image" Target="../media/image9.wmf"/><Relationship Id="rId13" Type="http://schemas.openxmlformats.org/officeDocument/2006/relationships/image" Target="../media/image10.wmf"/><Relationship Id="rId14" Type="http://schemas.openxmlformats.org/officeDocument/2006/relationships/image" Target="../media/image36.gif"/><Relationship Id="rId15" Type="http://schemas.openxmlformats.org/officeDocument/2006/relationships/image" Target="../media/image13.gif"/><Relationship Id="rId16" Type="http://schemas.openxmlformats.org/officeDocument/2006/relationships/image" Target="../media/image6.png"/><Relationship Id="rId17" Type="http://schemas.openxmlformats.org/officeDocument/2006/relationships/image" Target="../media/image17.gif"/><Relationship Id="rId18" Type="http://schemas.openxmlformats.org/officeDocument/2006/relationships/image" Target="../media/image11.gif"/><Relationship Id="rId19" Type="http://schemas.openxmlformats.org/officeDocument/2006/relationships/image" Target="../media/image13.gif"/><Relationship Id="rId20" Type="http://schemas.openxmlformats.org/officeDocument/2006/relationships/image" Target="../media/image18.png"/><Relationship Id="rId21" Type="http://schemas.openxmlformats.org/officeDocument/2006/relationships/image" Target="../media/image36.gif"/><Relationship Id="rId22" Type="http://schemas.openxmlformats.org/officeDocument/2006/relationships/image" Target="../media/image35.png"/><Relationship Id="rId23" Type="http://schemas.openxmlformats.org/officeDocument/2006/relationships/image" Target="../media/image36.gif"/><Relationship Id="rId24" Type="http://schemas.openxmlformats.org/officeDocument/2006/relationships/image" Target="../media/image24.png"/><Relationship Id="rId25" Type="http://schemas.openxmlformats.org/officeDocument/2006/relationships/image" Target="../media/image36.gif"/><Relationship Id="rId26" Type="http://schemas.openxmlformats.org/officeDocument/2006/relationships/image" Target="../media/image36.gif"/><Relationship Id="rId27" Type="http://schemas.openxmlformats.org/officeDocument/2006/relationships/image" Target="../media/image18.png"/><Relationship Id="rId28" Type="http://schemas.openxmlformats.org/officeDocument/2006/relationships/image" Target="../media/image18.png"/><Relationship Id="rId29" Type="http://schemas.openxmlformats.org/officeDocument/2006/relationships/image" Target="../media/image13.gif"/><Relationship Id="rId30" Type="http://schemas.openxmlformats.org/officeDocument/2006/relationships/image" Target="../media/image36.gif"/><Relationship Id="rId31" Type="http://schemas.openxmlformats.org/officeDocument/2006/relationships/image" Target="../media/image13.gif"/><Relationship Id="rId32" Type="http://schemas.openxmlformats.org/officeDocument/2006/relationships/image" Target="../media/image35.png"/><Relationship Id="rId33" Type="http://schemas.openxmlformats.org/officeDocument/2006/relationships/image" Target="../media/image37.wmf"/><Relationship Id="rId34" Type="http://schemas.openxmlformats.org/officeDocument/2006/relationships/image" Target="../media/image38.wmf"/><Relationship Id="rId35" Type="http://schemas.openxmlformats.org/officeDocument/2006/relationships/image" Target="../media/image17.gif"/><Relationship Id="rId36" Type="http://schemas.openxmlformats.org/officeDocument/2006/relationships/image" Target="../media/image36.gif"/><Relationship Id="rId37" Type="http://schemas.openxmlformats.org/officeDocument/2006/relationships/image" Target="../media/image1.wmf"/><Relationship Id="rId38" Type="http://schemas.openxmlformats.org/officeDocument/2006/relationships/image" Target="../media/image2.wmf"/><Relationship Id="rId39" Type="http://schemas.openxmlformats.org/officeDocument/2006/relationships/image" Target="../media/image27.png"/><Relationship Id="rId40" Type="http://schemas.openxmlformats.org/officeDocument/2006/relationships/image" Target="../media/image36.gif"/><Relationship Id="rId41" Type="http://schemas.openxmlformats.org/officeDocument/2006/relationships/image" Target="../media/image13.gif"/><Relationship Id="rId42" Type="http://schemas.openxmlformats.org/officeDocument/2006/relationships/image" Target="../media/image24.png"/><Relationship Id="rId43" Type="http://schemas.openxmlformats.org/officeDocument/2006/relationships/image" Target="../media/image39.png"/><Relationship Id="rId44" Type="http://schemas.openxmlformats.org/officeDocument/2006/relationships/image" Target="../media/image18.png"/><Relationship Id="rId45" Type="http://schemas.openxmlformats.org/officeDocument/2006/relationships/image" Target="../media/image7.wmf"/><Relationship Id="rId46" Type="http://schemas.openxmlformats.org/officeDocument/2006/relationships/image" Target="../media/image8.wmf"/><Relationship Id="rId47" Type="http://schemas.openxmlformats.org/officeDocument/2006/relationships/image" Target="../media/image9.wmf"/><Relationship Id="rId48" Type="http://schemas.openxmlformats.org/officeDocument/2006/relationships/image" Target="../media/image10.wmf"/><Relationship Id="rId49" Type="http://schemas.openxmlformats.org/officeDocument/2006/relationships/image" Target="../media/image4.gif"/><Relationship Id="rId50" Type="http://schemas.openxmlformats.org/officeDocument/2006/relationships/image" Target="../media/image40.png"/><Relationship Id="rId51" Type="http://schemas.openxmlformats.org/officeDocument/2006/relationships/image" Target="../media/image41.png"/><Relationship Id="rId52" Type="http://schemas.openxmlformats.org/officeDocument/2006/relationships/image" Target="../media/image39.png"/><Relationship Id="rId53" Type="http://schemas.openxmlformats.org/officeDocument/2006/relationships/image" Target="../media/image29.png"/><Relationship Id="rId54" Type="http://schemas.openxmlformats.org/officeDocument/2006/relationships/image" Target="../media/image42.gif"/><Relationship Id="rId55" Type="http://schemas.openxmlformats.org/officeDocument/2006/relationships/image" Target="../media/image14.gif"/><Relationship Id="rId56" Type="http://schemas.openxmlformats.org/officeDocument/2006/relationships/image" Target="../media/image43.gif"/><Relationship Id="rId57" Type="http://schemas.openxmlformats.org/officeDocument/2006/relationships/image" Target="../media/image13.gif"/><Relationship Id="rId58" Type="http://schemas.openxmlformats.org/officeDocument/2006/relationships/image" Target="../media/image1.wmf"/><Relationship Id="rId59" Type="http://schemas.openxmlformats.org/officeDocument/2006/relationships/image" Target="../media/image2.wmf"/><Relationship Id="rId60" Type="http://schemas.openxmlformats.org/officeDocument/2006/relationships/image" Target="../media/image19.gif"/><Relationship Id="rId61" Type="http://schemas.openxmlformats.org/officeDocument/2006/relationships/image" Target="../media/image1.wmf"/><Relationship Id="rId62" Type="http://schemas.openxmlformats.org/officeDocument/2006/relationships/image" Target="../media/image2.wmf"/><Relationship Id="rId63" Type="http://schemas.openxmlformats.org/officeDocument/2006/relationships/image" Target="../media/image31.gif"/><Relationship Id="rId64" Type="http://schemas.openxmlformats.org/officeDocument/2006/relationships/image" Target="../media/image7.wmf"/><Relationship Id="rId65" Type="http://schemas.openxmlformats.org/officeDocument/2006/relationships/image" Target="../media/image8.wmf"/><Relationship Id="rId66" Type="http://schemas.openxmlformats.org/officeDocument/2006/relationships/image" Target="../media/image9.wmf"/><Relationship Id="rId67" Type="http://schemas.openxmlformats.org/officeDocument/2006/relationships/image" Target="../media/image10.wmf"/><Relationship Id="rId68" Type="http://schemas.openxmlformats.org/officeDocument/2006/relationships/image" Target="../media/image14.gif"/><Relationship Id="rId69" Type="http://schemas.openxmlformats.org/officeDocument/2006/relationships/image" Target="../media/image1.wmf"/><Relationship Id="rId70" Type="http://schemas.openxmlformats.org/officeDocument/2006/relationships/image" Target="../media/image2.wmf"/><Relationship Id="rId71" Type="http://schemas.openxmlformats.org/officeDocument/2006/relationships/image" Target="../media/image39.png"/><Relationship Id="rId72" Type="http://schemas.openxmlformats.org/officeDocument/2006/relationships/image" Target="../media/image24.png"/><Relationship Id="rId73" Type="http://schemas.openxmlformats.org/officeDocument/2006/relationships/image" Target="../media/image39.png"/><Relationship Id="rId74" Type="http://schemas.openxmlformats.org/officeDocument/2006/relationships/image" Target="../media/image7.wmf"/><Relationship Id="rId75" Type="http://schemas.openxmlformats.org/officeDocument/2006/relationships/image" Target="../media/image8.wmf"/><Relationship Id="rId76" Type="http://schemas.openxmlformats.org/officeDocument/2006/relationships/image" Target="../media/image9.wmf"/><Relationship Id="rId77" Type="http://schemas.openxmlformats.org/officeDocument/2006/relationships/image" Target="../media/image10.wmf"/><Relationship Id="rId78" Type="http://schemas.openxmlformats.org/officeDocument/2006/relationships/image" Target="../media/image44.png"/><Relationship Id="rId79" Type="http://schemas.openxmlformats.org/officeDocument/2006/relationships/image" Target="../media/image13.gif"/><Relationship Id="rId80" Type="http://schemas.openxmlformats.org/officeDocument/2006/relationships/image" Target="../media/image7.wmf"/><Relationship Id="rId81" Type="http://schemas.openxmlformats.org/officeDocument/2006/relationships/image" Target="../media/image8.wmf"/><Relationship Id="rId82" Type="http://schemas.openxmlformats.org/officeDocument/2006/relationships/image" Target="../media/image9.wmf"/><Relationship Id="rId83" Type="http://schemas.openxmlformats.org/officeDocument/2006/relationships/image" Target="../media/image10.wmf"/><Relationship Id="rId84" Type="http://schemas.openxmlformats.org/officeDocument/2006/relationships/image" Target="../media/image45.gif"/><Relationship Id="rId85" Type="http://schemas.openxmlformats.org/officeDocument/2006/relationships/image" Target="../media/image17.gif"/><Relationship Id="rId86" Type="http://schemas.openxmlformats.org/officeDocument/2006/relationships/image" Target="../media/image37.wmf"/><Relationship Id="rId87" Type="http://schemas.openxmlformats.org/officeDocument/2006/relationships/image" Target="../media/image38.wmf"/><Relationship Id="rId88" Type="http://schemas.openxmlformats.org/officeDocument/2006/relationships/image" Target="../media/image7.wmf"/><Relationship Id="rId89" Type="http://schemas.openxmlformats.org/officeDocument/2006/relationships/image" Target="../media/image8.wmf"/><Relationship Id="rId90" Type="http://schemas.openxmlformats.org/officeDocument/2006/relationships/image" Target="../media/image9.wmf"/><Relationship Id="rId91" Type="http://schemas.openxmlformats.org/officeDocument/2006/relationships/image" Target="../media/image10.wmf"/><Relationship Id="rId92" Type="http://schemas.openxmlformats.org/officeDocument/2006/relationships/image" Target="../media/image46.gif"/><Relationship Id="rId93" Type="http://schemas.openxmlformats.org/officeDocument/2006/relationships/image" Target="../media/image47.gif"/><Relationship Id="rId94" Type="http://schemas.openxmlformats.org/officeDocument/2006/relationships/image" Target="../media/image30.gif"/><Relationship Id="rId95" Type="http://schemas.openxmlformats.org/officeDocument/2006/relationships/image" Target="../media/image48.png"/><Relationship Id="rId96" Type="http://schemas.openxmlformats.org/officeDocument/2006/relationships/image" Target="../media/image48.png"/><Relationship Id="rId97" Type="http://schemas.openxmlformats.org/officeDocument/2006/relationships/image" Target="../media/image40.png"/><Relationship Id="rId98" Type="http://schemas.openxmlformats.org/officeDocument/2006/relationships/image" Target="../media/image47.gif"/><Relationship Id="rId99" Type="http://schemas.openxmlformats.org/officeDocument/2006/relationships/image" Target="../media/image31.gif"/><Relationship Id="rId100" Type="http://schemas.openxmlformats.org/officeDocument/2006/relationships/image" Target="../media/image49.gif"/><Relationship Id="rId101" Type="http://schemas.openxmlformats.org/officeDocument/2006/relationships/image" Target="../media/image50.gif"/><Relationship Id="rId102" Type="http://schemas.openxmlformats.org/officeDocument/2006/relationships/image" Target="../media/image51.gif"/><Relationship Id="rId103" Type="http://schemas.openxmlformats.org/officeDocument/2006/relationships/image" Target="../media/image52.gif"/><Relationship Id="rId10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gi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5.gif"/><Relationship Id="rId6" Type="http://schemas.openxmlformats.org/officeDocument/2006/relationships/image" Target="../media/image13.gif"/><Relationship Id="rId7" Type="http://schemas.openxmlformats.org/officeDocument/2006/relationships/image" Target="../media/image55.gif"/><Relationship Id="rId8" Type="http://schemas.openxmlformats.org/officeDocument/2006/relationships/image" Target="../media/image6.png"/><Relationship Id="rId9" Type="http://schemas.openxmlformats.org/officeDocument/2006/relationships/image" Target="../media/image17.gif"/><Relationship Id="rId10" Type="http://schemas.openxmlformats.org/officeDocument/2006/relationships/image" Target="../media/image13.gif"/><Relationship Id="rId11" Type="http://schemas.openxmlformats.org/officeDocument/2006/relationships/image" Target="../media/image55.gif"/><Relationship Id="rId12" Type="http://schemas.openxmlformats.org/officeDocument/2006/relationships/image" Target="../media/image55.gif"/><Relationship Id="rId13" Type="http://schemas.openxmlformats.org/officeDocument/2006/relationships/image" Target="../media/image13.gif"/><Relationship Id="rId14" Type="http://schemas.openxmlformats.org/officeDocument/2006/relationships/image" Target="../media/image55.gif"/><Relationship Id="rId15" Type="http://schemas.openxmlformats.org/officeDocument/2006/relationships/image" Target="../media/image24.png"/><Relationship Id="rId16" Type="http://schemas.openxmlformats.org/officeDocument/2006/relationships/image" Target="../media/image55.gif"/><Relationship Id="rId17" Type="http://schemas.openxmlformats.org/officeDocument/2006/relationships/image" Target="../media/image14.gif"/><Relationship Id="rId18" Type="http://schemas.openxmlformats.org/officeDocument/2006/relationships/image" Target="../media/image16.wmf"/><Relationship Id="rId19" Type="http://schemas.openxmlformats.org/officeDocument/2006/relationships/image" Target="../media/image6.png"/><Relationship Id="rId20" Type="http://schemas.openxmlformats.org/officeDocument/2006/relationships/image" Target="../media/image56.wmf"/><Relationship Id="rId21" Type="http://schemas.openxmlformats.org/officeDocument/2006/relationships/image" Target="../media/image57.gif"/><Relationship Id="rId22" Type="http://schemas.openxmlformats.org/officeDocument/2006/relationships/image" Target="../media/image54.gif"/><Relationship Id="rId23" Type="http://schemas.openxmlformats.org/officeDocument/2006/relationships/image" Target="../media/image21.wmf"/><Relationship Id="rId24" Type="http://schemas.openxmlformats.org/officeDocument/2006/relationships/image" Target="../media/image22.wmf"/><Relationship Id="rId25" Type="http://schemas.openxmlformats.org/officeDocument/2006/relationships/image" Target="../media/image5.gif"/><Relationship Id="rId26" Type="http://schemas.openxmlformats.org/officeDocument/2006/relationships/image" Target="../media/image21.wmf"/><Relationship Id="rId27" Type="http://schemas.openxmlformats.org/officeDocument/2006/relationships/image" Target="../media/image22.wmf"/><Relationship Id="rId28" Type="http://schemas.openxmlformats.org/officeDocument/2006/relationships/image" Target="../media/image28.gif"/><Relationship Id="rId29" Type="http://schemas.openxmlformats.org/officeDocument/2006/relationships/image" Target="../media/image7.wmf"/><Relationship Id="rId30" Type="http://schemas.openxmlformats.org/officeDocument/2006/relationships/image" Target="../media/image8.wmf"/><Relationship Id="rId31" Type="http://schemas.openxmlformats.org/officeDocument/2006/relationships/image" Target="../media/image9.wmf"/><Relationship Id="rId32" Type="http://schemas.openxmlformats.org/officeDocument/2006/relationships/image" Target="../media/image10.wmf"/><Relationship Id="rId33" Type="http://schemas.openxmlformats.org/officeDocument/2006/relationships/image" Target="../media/image5.gif"/><Relationship Id="rId34" Type="http://schemas.openxmlformats.org/officeDocument/2006/relationships/image" Target="../media/image7.wmf"/><Relationship Id="rId35" Type="http://schemas.openxmlformats.org/officeDocument/2006/relationships/image" Target="../media/image8.wmf"/><Relationship Id="rId36" Type="http://schemas.openxmlformats.org/officeDocument/2006/relationships/image" Target="../media/image9.wmf"/><Relationship Id="rId37" Type="http://schemas.openxmlformats.org/officeDocument/2006/relationships/image" Target="../media/image10.wmf"/><Relationship Id="rId38" Type="http://schemas.openxmlformats.org/officeDocument/2006/relationships/image" Target="../media/image21.wmf"/><Relationship Id="rId39" Type="http://schemas.openxmlformats.org/officeDocument/2006/relationships/image" Target="../media/image22.wmf"/><Relationship Id="rId40" Type="http://schemas.openxmlformats.org/officeDocument/2006/relationships/image" Target="../media/image24.png"/><Relationship Id="rId41" Type="http://schemas.openxmlformats.org/officeDocument/2006/relationships/image" Target="../media/image7.wmf"/><Relationship Id="rId42" Type="http://schemas.openxmlformats.org/officeDocument/2006/relationships/image" Target="../media/image8.wmf"/><Relationship Id="rId43" Type="http://schemas.openxmlformats.org/officeDocument/2006/relationships/image" Target="../media/image9.wmf"/><Relationship Id="rId44" Type="http://schemas.openxmlformats.org/officeDocument/2006/relationships/image" Target="../media/image10.wmf"/><Relationship Id="rId45" Type="http://schemas.openxmlformats.org/officeDocument/2006/relationships/image" Target="../media/image21.wmf"/><Relationship Id="rId46" Type="http://schemas.openxmlformats.org/officeDocument/2006/relationships/image" Target="../media/image22.wmf"/><Relationship Id="rId47" Type="http://schemas.openxmlformats.org/officeDocument/2006/relationships/image" Target="../media/image13.gif"/><Relationship Id="rId48" Type="http://schemas.openxmlformats.org/officeDocument/2006/relationships/image" Target="../media/image58.png"/><Relationship Id="rId49" Type="http://schemas.openxmlformats.org/officeDocument/2006/relationships/image" Target="../media/image59.gif"/><Relationship Id="rId50" Type="http://schemas.openxmlformats.org/officeDocument/2006/relationships/image" Target="../media/image21.wmf"/><Relationship Id="rId51" Type="http://schemas.openxmlformats.org/officeDocument/2006/relationships/image" Target="../media/image22.wmf"/><Relationship Id="rId52" Type="http://schemas.openxmlformats.org/officeDocument/2006/relationships/image" Target="../media/image7.wmf"/><Relationship Id="rId53" Type="http://schemas.openxmlformats.org/officeDocument/2006/relationships/image" Target="../media/image8.wmf"/><Relationship Id="rId54" Type="http://schemas.openxmlformats.org/officeDocument/2006/relationships/image" Target="../media/image9.wmf"/><Relationship Id="rId55" Type="http://schemas.openxmlformats.org/officeDocument/2006/relationships/image" Target="../media/image10.wmf"/><Relationship Id="rId56" Type="http://schemas.openxmlformats.org/officeDocument/2006/relationships/image" Target="../media/image47.gif"/><Relationship Id="rId57" Type="http://schemas.openxmlformats.org/officeDocument/2006/relationships/image" Target="../media/image60.gif"/><Relationship Id="rId58" Type="http://schemas.openxmlformats.org/officeDocument/2006/relationships/image" Target="../media/image61.png"/><Relationship Id="rId59" Type="http://schemas.openxmlformats.org/officeDocument/2006/relationships/image" Target="../media/image25.png"/><Relationship Id="rId6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610080" y="2092320"/>
            <a:ext cx="716760" cy="480960"/>
            <a:chOff x="3610080" y="2092320"/>
            <a:chExt cx="716760" cy="480960"/>
          </a:xfrm>
        </p:grpSpPr>
        <p:sp>
          <p:nvSpPr>
            <p:cNvPr id="42" name=""/>
            <p:cNvSpPr/>
            <p:nvPr/>
          </p:nvSpPr>
          <p:spPr>
            <a:xfrm>
              <a:off x="3903480" y="2092320"/>
              <a:ext cx="270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ק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3610080" y="2254320"/>
              <a:ext cx="29520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638520" y="2187720"/>
              <a:ext cx="295200" cy="3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3975120" y="2227320"/>
              <a:ext cx="20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נ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774240" y="23335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252880" y="187200"/>
            <a:ext cx="217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שני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186760" y="4044960"/>
            <a:ext cx="75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1:50-11:1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196120" y="4987800"/>
            <a:ext cx="76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2:35-11:5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196120" y="6622920"/>
            <a:ext cx="75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3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30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-13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4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205840" y="958680"/>
            <a:ext cx="703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8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35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-9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244000" y="1892160"/>
            <a:ext cx="703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9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-10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205840" y="3089160"/>
            <a:ext cx="75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1:00-10:2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64120" y="6642000"/>
            <a:ext cx="575280" cy="1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חוק וסדר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87480" y="6642000"/>
            <a:ext cx="575280" cy="1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חוק וסדר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196120" y="2530440"/>
            <a:ext cx="76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00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-10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99080" y="2455920"/>
            <a:ext cx="650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הפסקה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440" y="171360"/>
            <a:ext cx="8772480" cy="6639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0440" y="37152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0440" y="63828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0440" y="157176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440" y="252396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0440" y="273384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0160" y="3676680"/>
            <a:ext cx="876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0440" y="463860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0440" y="558180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182080" y="162000"/>
            <a:ext cx="0" cy="663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257720" y="171360"/>
            <a:ext cx="0" cy="663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224920" y="425520"/>
            <a:ext cx="703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8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3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30680" y="450720"/>
            <a:ext cx="718560" cy="1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מפגש בוקר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00160" y="6562800"/>
            <a:ext cx="876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186760" y="6016680"/>
            <a:ext cx="76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3:20-12:4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01880" y="-38160"/>
            <a:ext cx="3510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500" spc="-1" strike="noStrike">
                <a:solidFill>
                  <a:srgbClr val="0000ff"/>
                </a:solidFill>
                <a:latin typeface="Arial"/>
                <a:cs typeface="Arial"/>
              </a:rPr>
              <a:t>מערכת שעות לבחירה – שליש ב' תשס“ח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190920" y="177840"/>
            <a:ext cx="375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ראשון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17040" y="441360"/>
            <a:ext cx="718560" cy="1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מפגש בוקר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66360" y="2503440"/>
            <a:ext cx="650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הפסקה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7485120" y="644400"/>
            <a:ext cx="737280" cy="715320"/>
            <a:chOff x="7485120" y="644400"/>
            <a:chExt cx="737280" cy="715320"/>
          </a:xfrm>
        </p:grpSpPr>
        <p:sp>
          <p:nvSpPr>
            <p:cNvPr id="78" name=""/>
            <p:cNvSpPr/>
            <p:nvPr/>
          </p:nvSpPr>
          <p:spPr>
            <a:xfrm>
              <a:off x="7485120" y="644400"/>
              <a:ext cx="6778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פגש 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9" name="mushroom_house_sm_CLR" descr=""/>
            <p:cNvPicPr/>
            <p:nvPr/>
          </p:nvPicPr>
          <p:blipFill>
            <a:blip r:embed="rId3"/>
            <a:stretch/>
          </p:blipFill>
          <p:spPr>
            <a:xfrm>
              <a:off x="7607160" y="657360"/>
              <a:ext cx="514440" cy="51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7578360" y="1128600"/>
              <a:ext cx="644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בית א-ב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6480000" y="592200"/>
            <a:ext cx="923400" cy="672480"/>
            <a:chOff x="6480000" y="592200"/>
            <a:chExt cx="923400" cy="672480"/>
          </a:xfrm>
        </p:grpSpPr>
        <p:sp>
          <p:nvSpPr>
            <p:cNvPr id="82" name=""/>
            <p:cNvSpPr/>
            <p:nvPr/>
          </p:nvSpPr>
          <p:spPr>
            <a:xfrm>
              <a:off x="7004160" y="669960"/>
              <a:ext cx="3099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תנ"ך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084800" y="944640"/>
              <a:ext cx="19584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068600" y="773280"/>
              <a:ext cx="256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פ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5" name="noahs_ark_rocking_ty_CLR" descr=""/>
            <p:cNvPicPr/>
            <p:nvPr/>
          </p:nvPicPr>
          <p:blipFill>
            <a:blip r:embed="rId4"/>
            <a:stretch/>
          </p:blipFill>
          <p:spPr>
            <a:xfrm>
              <a:off x="6480000" y="592200"/>
              <a:ext cx="64008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6850800" y="103356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4157640" y="644400"/>
            <a:ext cx="1007280" cy="596880"/>
            <a:chOff x="4157640" y="644400"/>
            <a:chExt cx="1007280" cy="596880"/>
          </a:xfrm>
        </p:grpSpPr>
        <p:sp>
          <p:nvSpPr>
            <p:cNvPr id="88" name=""/>
            <p:cNvSpPr/>
            <p:nvPr/>
          </p:nvSpPr>
          <p:spPr>
            <a:xfrm>
              <a:off x="4638600" y="863640"/>
              <a:ext cx="1760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682160" y="716040"/>
              <a:ext cx="284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לו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25920" y="644400"/>
              <a:ext cx="3920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דע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1" name="atomic_energy_sm_CLR" descr=""/>
            <p:cNvPicPr/>
            <p:nvPr/>
          </p:nvPicPr>
          <p:blipFill>
            <a:blip r:embed="rId5"/>
            <a:stretch/>
          </p:blipFill>
          <p:spPr>
            <a:xfrm>
              <a:off x="4157640" y="652320"/>
              <a:ext cx="588960" cy="5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4612320" y="9763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5841360" y="1089000"/>
            <a:ext cx="881640" cy="489960"/>
            <a:chOff x="5841360" y="1089000"/>
            <a:chExt cx="881640" cy="489960"/>
          </a:xfrm>
        </p:grpSpPr>
        <p:pic>
          <p:nvPicPr>
            <p:cNvPr id="94" name="bkcl1a" descr=""/>
            <p:cNvPicPr/>
            <p:nvPr/>
          </p:nvPicPr>
          <p:blipFill>
            <a:blip r:embed="rId6"/>
            <a:stretch/>
          </p:blipFill>
          <p:spPr>
            <a:xfrm>
              <a:off x="6286680" y="1206360"/>
              <a:ext cx="419040" cy="3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6309360" y="1089000"/>
              <a:ext cx="4136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פר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073200" y="1278000"/>
              <a:ext cx="20952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-י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096960" y="1116000"/>
              <a:ext cx="214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ר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41360" y="13478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6953400" y="1147680"/>
            <a:ext cx="925920" cy="450360"/>
            <a:chOff x="6953400" y="1147680"/>
            <a:chExt cx="925920" cy="450360"/>
          </a:xfrm>
        </p:grpSpPr>
        <p:sp>
          <p:nvSpPr>
            <p:cNvPr id="100" name=""/>
            <p:cNvSpPr/>
            <p:nvPr/>
          </p:nvSpPr>
          <p:spPr>
            <a:xfrm>
              <a:off x="6969960" y="1147680"/>
              <a:ext cx="44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7173720" y="1311120"/>
              <a:ext cx="191880" cy="226800"/>
              <a:chOff x="7173720" y="1311120"/>
              <a:chExt cx="191880" cy="226800"/>
            </a:xfrm>
          </p:grpSpPr>
          <p:pic>
            <p:nvPicPr>
              <p:cNvPr id="10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173720" y="1311120"/>
                <a:ext cx="19188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173720" y="1311120"/>
                <a:ext cx="191880" cy="22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4" name=""/>
            <p:cNvGrpSpPr/>
            <p:nvPr/>
          </p:nvGrpSpPr>
          <p:grpSpPr>
            <a:xfrm>
              <a:off x="6953400" y="1299960"/>
              <a:ext cx="199800" cy="247320"/>
              <a:chOff x="6953400" y="1299960"/>
              <a:chExt cx="199800" cy="247320"/>
            </a:xfrm>
          </p:grpSpPr>
          <p:pic>
            <p:nvPicPr>
              <p:cNvPr id="105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6953400" y="129996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6953400" y="129996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7" name=""/>
            <p:cNvSpPr/>
            <p:nvPr/>
          </p:nvSpPr>
          <p:spPr>
            <a:xfrm>
              <a:off x="7610760" y="1265040"/>
              <a:ext cx="25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דס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402320" y="1265040"/>
              <a:ext cx="17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326720" y="13669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957920" y="1900080"/>
            <a:ext cx="874440" cy="678600"/>
            <a:chOff x="4957920" y="1900080"/>
            <a:chExt cx="874440" cy="678600"/>
          </a:xfrm>
        </p:grpSpPr>
        <p:sp>
          <p:nvSpPr>
            <p:cNvPr id="111" name=""/>
            <p:cNvSpPr/>
            <p:nvPr/>
          </p:nvSpPr>
          <p:spPr>
            <a:xfrm>
              <a:off x="5541840" y="2330280"/>
              <a:ext cx="195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01520" y="2172960"/>
              <a:ext cx="284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לו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373720" y="1958760"/>
              <a:ext cx="45864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דע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בס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4" name="atomic_energy_sm_CLR" descr=""/>
            <p:cNvPicPr/>
            <p:nvPr/>
          </p:nvPicPr>
          <p:blipFill>
            <a:blip r:embed="rId11"/>
            <a:stretch/>
          </p:blipFill>
          <p:spPr>
            <a:xfrm>
              <a:off x="4957920" y="1900080"/>
              <a:ext cx="588960" cy="5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5107680" y="234756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4313160" y="1573200"/>
            <a:ext cx="834120" cy="548640"/>
            <a:chOff x="4313160" y="1573200"/>
            <a:chExt cx="834120" cy="548640"/>
          </a:xfrm>
        </p:grpSpPr>
        <p:sp>
          <p:nvSpPr>
            <p:cNvPr id="117" name=""/>
            <p:cNvSpPr/>
            <p:nvPr/>
          </p:nvSpPr>
          <p:spPr>
            <a:xfrm>
              <a:off x="4884480" y="1801800"/>
              <a:ext cx="26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סיג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24120" y="1576440"/>
              <a:ext cx="56700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לאלגבר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645080" y="1836720"/>
              <a:ext cx="1760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0" name="walking_1_sm_CLR" descr=""/>
            <p:cNvPicPr/>
            <p:nvPr/>
          </p:nvPicPr>
          <p:blipFill>
            <a:blip r:embed="rId12"/>
            <a:stretch/>
          </p:blipFill>
          <p:spPr>
            <a:xfrm>
              <a:off x="4313160" y="1573200"/>
              <a:ext cx="342720" cy="47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4574520" y="18907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6165720" y="1963800"/>
            <a:ext cx="1102320" cy="586800"/>
            <a:chOff x="6165720" y="1963800"/>
            <a:chExt cx="1102320" cy="586800"/>
          </a:xfrm>
        </p:grpSpPr>
        <p:sp>
          <p:nvSpPr>
            <p:cNvPr id="123" name=""/>
            <p:cNvSpPr/>
            <p:nvPr/>
          </p:nvSpPr>
          <p:spPr>
            <a:xfrm>
              <a:off x="6832440" y="2089440"/>
              <a:ext cx="3099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תנ"ך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753240" y="2240280"/>
              <a:ext cx="17604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011360" y="2202120"/>
              <a:ext cx="256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פ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6" name="noahs_ark_rocking_ty_CLR" descr=""/>
            <p:cNvPicPr/>
            <p:nvPr/>
          </p:nvPicPr>
          <p:blipFill>
            <a:blip r:embed="rId13"/>
            <a:stretch/>
          </p:blipFill>
          <p:spPr>
            <a:xfrm>
              <a:off x="6165720" y="1963800"/>
              <a:ext cx="63972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6698520" y="231948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286160" y="2052720"/>
            <a:ext cx="818280" cy="526320"/>
            <a:chOff x="4286160" y="2052720"/>
            <a:chExt cx="818280" cy="526320"/>
          </a:xfrm>
        </p:grpSpPr>
        <p:sp>
          <p:nvSpPr>
            <p:cNvPr id="129" name=""/>
            <p:cNvSpPr/>
            <p:nvPr/>
          </p:nvSpPr>
          <p:spPr>
            <a:xfrm>
              <a:off x="4437720" y="2052720"/>
              <a:ext cx="666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 </a:t>
              </a: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4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4516200" y="2178000"/>
              <a:ext cx="192240" cy="226800"/>
              <a:chOff x="4516200" y="2178000"/>
              <a:chExt cx="192240" cy="226800"/>
            </a:xfrm>
          </p:grpSpPr>
          <p:pic>
            <p:nvPicPr>
              <p:cNvPr id="131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4516200" y="2178000"/>
                <a:ext cx="19224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4516200" y="2178000"/>
                <a:ext cx="192240" cy="22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3" name=""/>
            <p:cNvGrpSpPr/>
            <p:nvPr/>
          </p:nvGrpSpPr>
          <p:grpSpPr>
            <a:xfrm>
              <a:off x="4286160" y="2176560"/>
              <a:ext cx="199800" cy="247320"/>
              <a:chOff x="4286160" y="2176560"/>
              <a:chExt cx="199800" cy="247320"/>
            </a:xfrm>
          </p:grpSpPr>
          <p:pic>
            <p:nvPicPr>
              <p:cNvPr id="134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286160" y="217656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286160" y="217656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6" name=""/>
            <p:cNvSpPr/>
            <p:nvPr/>
          </p:nvSpPr>
          <p:spPr>
            <a:xfrm>
              <a:off x="4676760" y="2131920"/>
              <a:ext cx="36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ת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811760" y="2246400"/>
              <a:ext cx="17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507560" y="23479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4280040" y="3630600"/>
            <a:ext cx="990000" cy="596160"/>
            <a:chOff x="4280040" y="3630600"/>
            <a:chExt cx="990000" cy="596160"/>
          </a:xfrm>
        </p:grpSpPr>
        <p:sp>
          <p:nvSpPr>
            <p:cNvPr id="140" name=""/>
            <p:cNvSpPr/>
            <p:nvPr/>
          </p:nvSpPr>
          <p:spPr>
            <a:xfrm>
              <a:off x="4822920" y="3698640"/>
              <a:ext cx="3099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תנ"ך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887000" y="3935160"/>
              <a:ext cx="17604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859280" y="3792240"/>
              <a:ext cx="256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פ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3" name="noahs_ark_rocking_ty_CLR" descr=""/>
            <p:cNvPicPr/>
            <p:nvPr/>
          </p:nvPicPr>
          <p:blipFill>
            <a:blip r:embed="rId18"/>
            <a:stretch/>
          </p:blipFill>
          <p:spPr>
            <a:xfrm>
              <a:off x="4280040" y="3630600"/>
              <a:ext cx="640080" cy="54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4717440" y="39956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7407360" y="3649680"/>
            <a:ext cx="777240" cy="482040"/>
            <a:chOff x="7407360" y="3649680"/>
            <a:chExt cx="777240" cy="482040"/>
          </a:xfrm>
        </p:grpSpPr>
        <p:sp>
          <p:nvSpPr>
            <p:cNvPr id="146" name=""/>
            <p:cNvSpPr/>
            <p:nvPr/>
          </p:nvSpPr>
          <p:spPr>
            <a:xfrm>
              <a:off x="7655760" y="3649680"/>
              <a:ext cx="50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היה הי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647480" y="3772080"/>
              <a:ext cx="22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939080" y="3776760"/>
              <a:ext cx="23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קרי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9" name="GreekVase_small" descr=""/>
            <p:cNvPicPr/>
            <p:nvPr/>
          </p:nvPicPr>
          <p:blipFill>
            <a:blip r:embed="rId19"/>
            <a:stretch/>
          </p:blipFill>
          <p:spPr>
            <a:xfrm>
              <a:off x="7407360" y="3719520"/>
              <a:ext cx="214200" cy="3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7632000" y="390060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229440" y="3666960"/>
            <a:ext cx="1126080" cy="464400"/>
            <a:chOff x="6229440" y="3666960"/>
            <a:chExt cx="1126080" cy="464400"/>
          </a:xfrm>
        </p:grpSpPr>
        <p:sp>
          <p:nvSpPr>
            <p:cNvPr id="152" name=""/>
            <p:cNvSpPr/>
            <p:nvPr/>
          </p:nvSpPr>
          <p:spPr>
            <a:xfrm>
              <a:off x="6829200" y="3806640"/>
              <a:ext cx="17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694200" y="3666960"/>
              <a:ext cx="604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068240" y="3832200"/>
              <a:ext cx="2628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סיג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5" name="addition_2_plus_2_ty_CLR" descr=""/>
            <p:cNvPicPr/>
            <p:nvPr/>
          </p:nvPicPr>
          <p:blipFill>
            <a:blip r:embed="rId20"/>
            <a:stretch/>
          </p:blipFill>
          <p:spPr>
            <a:xfrm>
              <a:off x="6229440" y="3676680"/>
              <a:ext cx="585720" cy="3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6802920" y="39002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722920" y="5011560"/>
            <a:ext cx="816840" cy="615600"/>
            <a:chOff x="5722920" y="5011560"/>
            <a:chExt cx="816840" cy="615600"/>
          </a:xfrm>
        </p:grpSpPr>
        <p:pic>
          <p:nvPicPr>
            <p:cNvPr id="158" name="accountant_raising_pencil_sm_CLR" descr=""/>
            <p:cNvPicPr/>
            <p:nvPr/>
          </p:nvPicPr>
          <p:blipFill>
            <a:blip r:embed="rId21"/>
            <a:stretch/>
          </p:blipFill>
          <p:spPr>
            <a:xfrm>
              <a:off x="5722920" y="5011560"/>
              <a:ext cx="474480" cy="54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6081480" y="5200560"/>
              <a:ext cx="3146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יט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148440" y="5291280"/>
              <a:ext cx="17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938560" y="5057640"/>
              <a:ext cx="4683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לש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87160" y="53960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317840" y="4630680"/>
            <a:ext cx="884160" cy="605880"/>
            <a:chOff x="4317840" y="4630680"/>
            <a:chExt cx="884160" cy="605880"/>
          </a:xfrm>
        </p:grpSpPr>
        <p:sp>
          <p:nvSpPr>
            <p:cNvPr id="164" name=""/>
            <p:cNvSpPr/>
            <p:nvPr/>
          </p:nvSpPr>
          <p:spPr>
            <a:xfrm>
              <a:off x="4879800" y="4670280"/>
              <a:ext cx="3099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תנ"ך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20480" y="4935600"/>
              <a:ext cx="20952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-י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915800" y="4782960"/>
              <a:ext cx="256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פ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7" name="noahs_ark_rocking_ty_CLR" descr=""/>
            <p:cNvPicPr/>
            <p:nvPr/>
          </p:nvPicPr>
          <p:blipFill>
            <a:blip r:embed="rId22"/>
            <a:stretch/>
          </p:blipFill>
          <p:spPr>
            <a:xfrm>
              <a:off x="4317840" y="4630680"/>
              <a:ext cx="63972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4714920" y="5005440"/>
              <a:ext cx="487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בחוץ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4505400" y="2752560"/>
            <a:ext cx="1083240" cy="559800"/>
            <a:chOff x="4505400" y="2752560"/>
            <a:chExt cx="1083240" cy="559800"/>
          </a:xfrm>
        </p:grpSpPr>
        <p:sp>
          <p:nvSpPr>
            <p:cNvPr id="170" name=""/>
            <p:cNvSpPr/>
            <p:nvPr/>
          </p:nvSpPr>
          <p:spPr>
            <a:xfrm>
              <a:off x="4513320" y="2752560"/>
              <a:ext cx="10238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לקראת תיכ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096160" y="2987640"/>
              <a:ext cx="17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325840" y="3022560"/>
              <a:ext cx="2628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סיג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3" name="addition_2_plus_2_ty_CLR" descr=""/>
            <p:cNvPicPr/>
            <p:nvPr/>
          </p:nvPicPr>
          <p:blipFill>
            <a:blip r:embed="rId23"/>
            <a:stretch/>
          </p:blipFill>
          <p:spPr>
            <a:xfrm>
              <a:off x="4505400" y="2838600"/>
              <a:ext cx="585720" cy="3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5022000" y="30812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6053040" y="4059360"/>
            <a:ext cx="816840" cy="615240"/>
            <a:chOff x="6053040" y="4059360"/>
            <a:chExt cx="816840" cy="615240"/>
          </a:xfrm>
        </p:grpSpPr>
        <p:pic>
          <p:nvPicPr>
            <p:cNvPr id="176" name="accountant_raising_pencil_sm_CLR" descr=""/>
            <p:cNvPicPr/>
            <p:nvPr/>
          </p:nvPicPr>
          <p:blipFill>
            <a:blip r:embed="rId24"/>
            <a:stretch/>
          </p:blipFill>
          <p:spPr>
            <a:xfrm>
              <a:off x="6053040" y="4059360"/>
              <a:ext cx="474480" cy="54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6411600" y="4248000"/>
              <a:ext cx="3146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יט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477840" y="4338720"/>
              <a:ext cx="20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-י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268680" y="4105080"/>
              <a:ext cx="4683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לש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317280" y="444348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5540400" y="5630760"/>
            <a:ext cx="1500120" cy="856800"/>
            <a:chOff x="5540400" y="5630760"/>
            <a:chExt cx="1500120" cy="856800"/>
          </a:xfrm>
        </p:grpSpPr>
        <p:grpSp>
          <p:nvGrpSpPr>
            <p:cNvPr id="182" name=""/>
            <p:cNvGrpSpPr/>
            <p:nvPr/>
          </p:nvGrpSpPr>
          <p:grpSpPr>
            <a:xfrm>
              <a:off x="5540400" y="5706720"/>
              <a:ext cx="1325520" cy="780840"/>
              <a:chOff x="5540400" y="5706720"/>
              <a:chExt cx="1325520" cy="780840"/>
            </a:xfrm>
          </p:grpSpPr>
          <p:pic>
            <p:nvPicPr>
              <p:cNvPr id="183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5540400" y="5706720"/>
                <a:ext cx="1325520" cy="78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4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5540400" y="5706720"/>
                <a:ext cx="1325520" cy="780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5" name=""/>
            <p:cNvSpPr/>
            <p:nvPr/>
          </p:nvSpPr>
          <p:spPr>
            <a:xfrm>
              <a:off x="6497280" y="5630760"/>
              <a:ext cx="5432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רלמנ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בית ספ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5551560" y="619200"/>
            <a:ext cx="884880" cy="637560"/>
            <a:chOff x="5551560" y="619200"/>
            <a:chExt cx="884880" cy="637560"/>
          </a:xfrm>
        </p:grpSpPr>
        <p:sp>
          <p:nvSpPr>
            <p:cNvPr id="187" name=""/>
            <p:cNvSpPr/>
            <p:nvPr/>
          </p:nvSpPr>
          <p:spPr>
            <a:xfrm>
              <a:off x="6191640" y="873360"/>
              <a:ext cx="17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173640" y="775080"/>
              <a:ext cx="2628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סיג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9" name="addition_2_plus_2_ty_CLR" descr=""/>
            <p:cNvPicPr/>
            <p:nvPr/>
          </p:nvPicPr>
          <p:blipFill>
            <a:blip r:embed="rId27"/>
            <a:stretch/>
          </p:blipFill>
          <p:spPr>
            <a:xfrm>
              <a:off x="5619960" y="733680"/>
              <a:ext cx="585720" cy="3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676120" y="1025640"/>
              <a:ext cx="546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551560" y="619200"/>
              <a:ext cx="605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322800" y="636480"/>
            <a:ext cx="975600" cy="593640"/>
            <a:chOff x="3322800" y="636480"/>
            <a:chExt cx="975600" cy="593640"/>
          </a:xfrm>
        </p:grpSpPr>
        <p:sp>
          <p:nvSpPr>
            <p:cNvPr id="193" name=""/>
            <p:cNvSpPr/>
            <p:nvPr/>
          </p:nvSpPr>
          <p:spPr>
            <a:xfrm>
              <a:off x="3835800" y="892080"/>
              <a:ext cx="22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61120" y="666720"/>
              <a:ext cx="604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88080" y="812520"/>
              <a:ext cx="203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נ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6" name="girl_holding_123_ty_CLR" descr=""/>
            <p:cNvPicPr/>
            <p:nvPr/>
          </p:nvPicPr>
          <p:blipFill>
            <a:blip r:embed="rId28"/>
            <a:stretch/>
          </p:blipFill>
          <p:spPr>
            <a:xfrm>
              <a:off x="3322800" y="636480"/>
              <a:ext cx="59364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3745800" y="98568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933480" y="628560"/>
            <a:ext cx="1209240" cy="455040"/>
            <a:chOff x="933480" y="628560"/>
            <a:chExt cx="1209240" cy="455040"/>
          </a:xfrm>
        </p:grpSpPr>
        <p:sp>
          <p:nvSpPr>
            <p:cNvPr id="199" name=""/>
            <p:cNvSpPr/>
            <p:nvPr/>
          </p:nvSpPr>
          <p:spPr>
            <a:xfrm>
              <a:off x="1512720" y="75888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398600" y="628560"/>
              <a:ext cx="6048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4-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761120" y="784080"/>
              <a:ext cx="3816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2" name="addition_2_plus_2_ty_CLR" descr=""/>
            <p:cNvPicPr/>
            <p:nvPr/>
          </p:nvPicPr>
          <p:blipFill>
            <a:blip r:embed="rId29"/>
            <a:stretch/>
          </p:blipFill>
          <p:spPr>
            <a:xfrm>
              <a:off x="933480" y="647640"/>
              <a:ext cx="585720" cy="3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1507680" y="85248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1709640" y="992160"/>
            <a:ext cx="816840" cy="615240"/>
            <a:chOff x="1709640" y="992160"/>
            <a:chExt cx="816840" cy="615240"/>
          </a:xfrm>
        </p:grpSpPr>
        <p:pic>
          <p:nvPicPr>
            <p:cNvPr id="205" name="accountant_raising_pencil_sm_CLR" descr=""/>
            <p:cNvPicPr/>
            <p:nvPr/>
          </p:nvPicPr>
          <p:blipFill>
            <a:blip r:embed="rId30"/>
            <a:stretch/>
          </p:blipFill>
          <p:spPr>
            <a:xfrm>
              <a:off x="1709640" y="992160"/>
              <a:ext cx="474480" cy="54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2068200" y="1180800"/>
              <a:ext cx="3146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יט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134440" y="1271520"/>
              <a:ext cx="20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-י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925280" y="1037880"/>
              <a:ext cx="4683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לש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973880" y="137628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7458120" y="3230640"/>
            <a:ext cx="612000" cy="482040"/>
            <a:chOff x="7458120" y="3230640"/>
            <a:chExt cx="612000" cy="482040"/>
          </a:xfrm>
        </p:grpSpPr>
        <p:sp>
          <p:nvSpPr>
            <p:cNvPr id="211" name=""/>
            <p:cNvSpPr/>
            <p:nvPr/>
          </p:nvSpPr>
          <p:spPr>
            <a:xfrm>
              <a:off x="7780320" y="3230640"/>
              <a:ext cx="270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ק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2" name="" descr=""/>
            <p:cNvPicPr/>
            <p:nvPr/>
          </p:nvPicPr>
          <p:blipFill>
            <a:blip r:embed="rId31"/>
            <a:stretch/>
          </p:blipFill>
          <p:spPr>
            <a:xfrm>
              <a:off x="7458120" y="3354480"/>
              <a:ext cx="29520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" descr=""/>
            <p:cNvPicPr/>
            <p:nvPr/>
          </p:nvPicPr>
          <p:blipFill>
            <a:blip r:embed="rId32"/>
            <a:stretch/>
          </p:blipFill>
          <p:spPr>
            <a:xfrm>
              <a:off x="7486920" y="3287880"/>
              <a:ext cx="295200" cy="3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7786080" y="3375000"/>
              <a:ext cx="284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לו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489080" y="348156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351240" y="2693880"/>
            <a:ext cx="975600" cy="593640"/>
            <a:chOff x="3351240" y="2693880"/>
            <a:chExt cx="975600" cy="593640"/>
          </a:xfrm>
        </p:grpSpPr>
        <p:sp>
          <p:nvSpPr>
            <p:cNvPr id="217" name=""/>
            <p:cNvSpPr/>
            <p:nvPr/>
          </p:nvSpPr>
          <p:spPr>
            <a:xfrm>
              <a:off x="3864240" y="2949480"/>
              <a:ext cx="22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589560" y="2724120"/>
              <a:ext cx="604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016520" y="2869920"/>
              <a:ext cx="203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נ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0" name="girl_holding_123_ty_CLR" descr=""/>
            <p:cNvPicPr/>
            <p:nvPr/>
          </p:nvPicPr>
          <p:blipFill>
            <a:blip r:embed="rId33"/>
            <a:stretch/>
          </p:blipFill>
          <p:spPr>
            <a:xfrm>
              <a:off x="3351240" y="2693880"/>
              <a:ext cx="59364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3774240" y="304308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4676760" y="5205240"/>
            <a:ext cx="1014840" cy="412200"/>
            <a:chOff x="4676760" y="5205240"/>
            <a:chExt cx="1014840" cy="412200"/>
          </a:xfrm>
        </p:grpSpPr>
        <p:sp>
          <p:nvSpPr>
            <p:cNvPr id="223" name=""/>
            <p:cNvSpPr/>
            <p:nvPr/>
          </p:nvSpPr>
          <p:spPr>
            <a:xfrm>
              <a:off x="4777200" y="5205240"/>
              <a:ext cx="5662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4" name=""/>
            <p:cNvGrpSpPr/>
            <p:nvPr/>
          </p:nvGrpSpPr>
          <p:grpSpPr>
            <a:xfrm>
              <a:off x="4906800" y="5330520"/>
              <a:ext cx="192240" cy="226800"/>
              <a:chOff x="4906800" y="5330520"/>
              <a:chExt cx="192240" cy="226800"/>
            </a:xfrm>
          </p:grpSpPr>
          <p:pic>
            <p:nvPicPr>
              <p:cNvPr id="225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4906800" y="5330520"/>
                <a:ext cx="19224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6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4906800" y="5330520"/>
                <a:ext cx="192240" cy="22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7" name=""/>
            <p:cNvGrpSpPr/>
            <p:nvPr/>
          </p:nvGrpSpPr>
          <p:grpSpPr>
            <a:xfrm>
              <a:off x="4676760" y="5319720"/>
              <a:ext cx="199800" cy="246960"/>
              <a:chOff x="4676760" y="5319720"/>
              <a:chExt cx="199800" cy="246960"/>
            </a:xfrm>
          </p:grpSpPr>
          <p:pic>
            <p:nvPicPr>
              <p:cNvPr id="228" name="" descr=""/>
              <p:cNvPicPr/>
              <p:nvPr/>
            </p:nvPicPr>
            <p:blipFill>
              <a:blip r:embed="rId36"/>
              <a:stretch/>
            </p:blipFill>
            <p:spPr>
              <a:xfrm>
                <a:off x="4676760" y="5319720"/>
                <a:ext cx="199800" cy="246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9" name="" descr=""/>
              <p:cNvPicPr/>
              <p:nvPr/>
            </p:nvPicPr>
            <p:blipFill>
              <a:blip r:embed="rId37"/>
              <a:stretch/>
            </p:blipFill>
            <p:spPr>
              <a:xfrm>
                <a:off x="4676760" y="5319720"/>
                <a:ext cx="199800" cy="246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30" name=""/>
            <p:cNvSpPr/>
            <p:nvPr/>
          </p:nvSpPr>
          <p:spPr>
            <a:xfrm>
              <a:off x="5124600" y="5284800"/>
              <a:ext cx="36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ת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495760" y="539892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012640" y="53863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1046160" y="1562040"/>
            <a:ext cx="1069920" cy="521640"/>
            <a:chOff x="1046160" y="1562040"/>
            <a:chExt cx="1069920" cy="521640"/>
          </a:xfrm>
        </p:grpSpPr>
        <p:sp>
          <p:nvSpPr>
            <p:cNvPr id="234" name=""/>
            <p:cNvSpPr/>
            <p:nvPr/>
          </p:nvSpPr>
          <p:spPr>
            <a:xfrm>
              <a:off x="1711080" y="186372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511280" y="1562040"/>
              <a:ext cx="6048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5-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26120" y="1736640"/>
              <a:ext cx="3816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7" name="addition_2_plus_2_ty_CLR" descr=""/>
            <p:cNvPicPr/>
            <p:nvPr/>
          </p:nvPicPr>
          <p:blipFill>
            <a:blip r:embed="rId38"/>
            <a:stretch/>
          </p:blipFill>
          <p:spPr>
            <a:xfrm>
              <a:off x="1046160" y="1581120"/>
              <a:ext cx="585720" cy="3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1086480" y="185256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4222800" y="3174840"/>
            <a:ext cx="1009080" cy="547200"/>
            <a:chOff x="4222800" y="3174840"/>
            <a:chExt cx="1009080" cy="547200"/>
          </a:xfrm>
        </p:grpSpPr>
        <p:pic>
          <p:nvPicPr>
            <p:cNvPr id="240" name="bkcl1a" descr=""/>
            <p:cNvPicPr/>
            <p:nvPr/>
          </p:nvPicPr>
          <p:blipFill>
            <a:blip r:embed="rId39"/>
            <a:stretch/>
          </p:blipFill>
          <p:spPr>
            <a:xfrm>
              <a:off x="4343400" y="3311640"/>
              <a:ext cx="419040" cy="33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4222800" y="3174840"/>
              <a:ext cx="8190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הסיפור שלא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נגמ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743720" y="3430440"/>
              <a:ext cx="17604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973040" y="3392640"/>
              <a:ext cx="214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ר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679280" y="34909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2907360" y="3181320"/>
            <a:ext cx="1092240" cy="521640"/>
            <a:chOff x="2907360" y="3181320"/>
            <a:chExt cx="1092240" cy="521640"/>
          </a:xfrm>
        </p:grpSpPr>
        <p:sp>
          <p:nvSpPr>
            <p:cNvPr id="246" name=""/>
            <p:cNvSpPr/>
            <p:nvPr/>
          </p:nvSpPr>
          <p:spPr>
            <a:xfrm>
              <a:off x="3367800" y="3502080"/>
              <a:ext cx="20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-י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332160" y="3267000"/>
              <a:ext cx="6044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בוגר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618000" y="3527280"/>
              <a:ext cx="3816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9" name="addition_2_plus_2_ty_CLR" descr=""/>
            <p:cNvPicPr/>
            <p:nvPr/>
          </p:nvPicPr>
          <p:blipFill>
            <a:blip r:embed="rId40"/>
            <a:stretch/>
          </p:blipFill>
          <p:spPr>
            <a:xfrm>
              <a:off x="2981160" y="3181320"/>
              <a:ext cx="585360" cy="3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2907360" y="34718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3522600" y="1542960"/>
            <a:ext cx="817560" cy="626400"/>
            <a:chOff x="3522600" y="1542960"/>
            <a:chExt cx="817560" cy="626400"/>
          </a:xfrm>
        </p:grpSpPr>
        <p:sp>
          <p:nvSpPr>
            <p:cNvPr id="252" name=""/>
            <p:cNvSpPr/>
            <p:nvPr/>
          </p:nvSpPr>
          <p:spPr>
            <a:xfrm>
              <a:off x="4143600" y="1825200"/>
              <a:ext cx="96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522600" y="1542960"/>
              <a:ext cx="700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שעת סיפו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033080" y="1726920"/>
              <a:ext cx="2142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ר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5" name="boy" descr=""/>
            <p:cNvPicPr/>
            <p:nvPr/>
          </p:nvPicPr>
          <p:blipFill>
            <a:blip r:embed="rId41"/>
            <a:stretch/>
          </p:blipFill>
          <p:spPr>
            <a:xfrm>
              <a:off x="3714840" y="1709640"/>
              <a:ext cx="34272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4005360" y="1938240"/>
              <a:ext cx="33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גן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1862280" y="5022720"/>
            <a:ext cx="664560" cy="604080"/>
            <a:chOff x="1862280" y="5022720"/>
            <a:chExt cx="664560" cy="604080"/>
          </a:xfrm>
        </p:grpSpPr>
        <p:sp>
          <p:nvSpPr>
            <p:cNvPr id="258" name=""/>
            <p:cNvSpPr/>
            <p:nvPr/>
          </p:nvSpPr>
          <p:spPr>
            <a:xfrm>
              <a:off x="2002680" y="5098680"/>
              <a:ext cx="5022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צרפת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974240" y="539568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048760" y="5217840"/>
              <a:ext cx="3816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184840" y="5306760"/>
              <a:ext cx="214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2" name="eiffel_tower_flag_waving_sm_CLR" descr=""/>
            <p:cNvPicPr/>
            <p:nvPr/>
          </p:nvPicPr>
          <p:blipFill>
            <a:blip r:embed="rId42"/>
            <a:stretch/>
          </p:blipFill>
          <p:spPr>
            <a:xfrm>
              <a:off x="1862280" y="5022720"/>
              <a:ext cx="370080" cy="554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3" name=""/>
          <p:cNvGrpSpPr/>
          <p:nvPr/>
        </p:nvGrpSpPr>
        <p:grpSpPr>
          <a:xfrm>
            <a:off x="3038400" y="4214880"/>
            <a:ext cx="1052640" cy="421560"/>
            <a:chOff x="3038400" y="4214880"/>
            <a:chExt cx="1052640" cy="421560"/>
          </a:xfrm>
        </p:grpSpPr>
        <p:sp>
          <p:nvSpPr>
            <p:cNvPr id="264" name=""/>
            <p:cNvSpPr/>
            <p:nvPr/>
          </p:nvSpPr>
          <p:spPr>
            <a:xfrm>
              <a:off x="3091320" y="4214880"/>
              <a:ext cx="9122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 בוגר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3259080" y="4349520"/>
              <a:ext cx="191880" cy="226800"/>
              <a:chOff x="3259080" y="4349520"/>
              <a:chExt cx="191880" cy="226800"/>
            </a:xfrm>
          </p:grpSpPr>
          <p:pic>
            <p:nvPicPr>
              <p:cNvPr id="266" name="" descr=""/>
              <p:cNvPicPr/>
              <p:nvPr/>
            </p:nvPicPr>
            <p:blipFill>
              <a:blip r:embed="rId43"/>
              <a:stretch/>
            </p:blipFill>
            <p:spPr>
              <a:xfrm>
                <a:off x="3259080" y="4349520"/>
                <a:ext cx="19188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7" name="" descr=""/>
              <p:cNvPicPr/>
              <p:nvPr/>
            </p:nvPicPr>
            <p:blipFill>
              <a:blip r:embed="rId44"/>
              <a:stretch/>
            </p:blipFill>
            <p:spPr>
              <a:xfrm>
                <a:off x="3259080" y="4349520"/>
                <a:ext cx="191880" cy="22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68" name=""/>
            <p:cNvGrpSpPr/>
            <p:nvPr/>
          </p:nvGrpSpPr>
          <p:grpSpPr>
            <a:xfrm>
              <a:off x="3038400" y="4338720"/>
              <a:ext cx="199800" cy="247320"/>
              <a:chOff x="3038400" y="4338720"/>
              <a:chExt cx="199800" cy="247320"/>
            </a:xfrm>
          </p:grpSpPr>
          <p:pic>
            <p:nvPicPr>
              <p:cNvPr id="269" name="" descr=""/>
              <p:cNvPicPr/>
              <p:nvPr/>
            </p:nvPicPr>
            <p:blipFill>
              <a:blip r:embed="rId45"/>
              <a:stretch/>
            </p:blipFill>
            <p:spPr>
              <a:xfrm>
                <a:off x="3038400" y="433872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0" name="" descr=""/>
              <p:cNvPicPr/>
              <p:nvPr/>
            </p:nvPicPr>
            <p:blipFill>
              <a:blip r:embed="rId46"/>
              <a:stretch/>
            </p:blipFill>
            <p:spPr>
              <a:xfrm>
                <a:off x="3038400" y="433872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71" name=""/>
            <p:cNvSpPr/>
            <p:nvPr/>
          </p:nvSpPr>
          <p:spPr>
            <a:xfrm>
              <a:off x="3724560" y="4294080"/>
              <a:ext cx="36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ת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432600" y="4294080"/>
              <a:ext cx="264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ט-י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450240" y="44053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614880" y="5205240"/>
            <a:ext cx="1191960" cy="412200"/>
            <a:chOff x="614880" y="5205240"/>
            <a:chExt cx="1191960" cy="412200"/>
          </a:xfrm>
        </p:grpSpPr>
        <p:sp>
          <p:nvSpPr>
            <p:cNvPr id="275" name=""/>
            <p:cNvSpPr/>
            <p:nvPr/>
          </p:nvSpPr>
          <p:spPr>
            <a:xfrm>
              <a:off x="614880" y="5205240"/>
              <a:ext cx="9122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 בוגר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011240" y="5330520"/>
              <a:ext cx="192240" cy="226800"/>
              <a:chOff x="1011240" y="5330520"/>
              <a:chExt cx="192240" cy="226800"/>
            </a:xfrm>
          </p:grpSpPr>
          <p:pic>
            <p:nvPicPr>
              <p:cNvPr id="277" name="" descr=""/>
              <p:cNvPicPr/>
              <p:nvPr/>
            </p:nvPicPr>
            <p:blipFill>
              <a:blip r:embed="rId47"/>
              <a:stretch/>
            </p:blipFill>
            <p:spPr>
              <a:xfrm>
                <a:off x="1011240" y="5330520"/>
                <a:ext cx="19224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8" name="" descr=""/>
              <p:cNvPicPr/>
              <p:nvPr/>
            </p:nvPicPr>
            <p:blipFill>
              <a:blip r:embed="rId48"/>
              <a:stretch/>
            </p:blipFill>
            <p:spPr>
              <a:xfrm>
                <a:off x="1011240" y="5330520"/>
                <a:ext cx="192240" cy="22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79" name=""/>
            <p:cNvGrpSpPr/>
            <p:nvPr/>
          </p:nvGrpSpPr>
          <p:grpSpPr>
            <a:xfrm>
              <a:off x="781200" y="5319360"/>
              <a:ext cx="199800" cy="247320"/>
              <a:chOff x="781200" y="5319360"/>
              <a:chExt cx="199800" cy="247320"/>
            </a:xfrm>
          </p:grpSpPr>
          <p:pic>
            <p:nvPicPr>
              <p:cNvPr id="280" name="" descr=""/>
              <p:cNvPicPr/>
              <p:nvPr/>
            </p:nvPicPr>
            <p:blipFill>
              <a:blip r:embed="rId49"/>
              <a:stretch/>
            </p:blipFill>
            <p:spPr>
              <a:xfrm>
                <a:off x="781200" y="531936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1" name="" descr=""/>
              <p:cNvPicPr/>
              <p:nvPr/>
            </p:nvPicPr>
            <p:blipFill>
              <a:blip r:embed="rId50"/>
              <a:stretch/>
            </p:blipFill>
            <p:spPr>
              <a:xfrm>
                <a:off x="781200" y="531936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82" name=""/>
            <p:cNvSpPr/>
            <p:nvPr/>
          </p:nvSpPr>
          <p:spPr>
            <a:xfrm>
              <a:off x="1200600" y="5284440"/>
              <a:ext cx="36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ת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630800" y="5398920"/>
              <a:ext cx="17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136160" y="53863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5827680" y="1552680"/>
            <a:ext cx="806400" cy="597600"/>
            <a:chOff x="5827680" y="1552680"/>
            <a:chExt cx="806400" cy="597600"/>
          </a:xfrm>
        </p:grpSpPr>
        <p:sp>
          <p:nvSpPr>
            <p:cNvPr id="286" name=""/>
            <p:cNvSpPr/>
            <p:nvPr/>
          </p:nvSpPr>
          <p:spPr>
            <a:xfrm>
              <a:off x="6330960" y="1815840"/>
              <a:ext cx="22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827680" y="1552680"/>
              <a:ext cx="7002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לקרוא סיפו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436080" y="1717560"/>
              <a:ext cx="1152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9" name="boy" descr=""/>
            <p:cNvPicPr/>
            <p:nvPr/>
          </p:nvPicPr>
          <p:blipFill>
            <a:blip r:embed="rId51"/>
            <a:stretch/>
          </p:blipFill>
          <p:spPr>
            <a:xfrm>
              <a:off x="5838840" y="1699920"/>
              <a:ext cx="34272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6147000" y="1919160"/>
              <a:ext cx="487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בחוץ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6472080" y="5013360"/>
            <a:ext cx="827280" cy="591480"/>
            <a:chOff x="6472080" y="5013360"/>
            <a:chExt cx="827280" cy="591480"/>
          </a:xfrm>
        </p:grpSpPr>
        <p:sp>
          <p:nvSpPr>
            <p:cNvPr id="292" name=""/>
            <p:cNvSpPr/>
            <p:nvPr/>
          </p:nvSpPr>
          <p:spPr>
            <a:xfrm>
              <a:off x="6480000" y="5013360"/>
              <a:ext cx="5860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דיטציה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890040" y="5238720"/>
              <a:ext cx="198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874200" y="5084640"/>
              <a:ext cx="194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קר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5" name="yoga" descr=""/>
            <p:cNvPicPr/>
            <p:nvPr/>
          </p:nvPicPr>
          <p:blipFill>
            <a:blip r:embed="rId52"/>
            <a:stretch/>
          </p:blipFill>
          <p:spPr>
            <a:xfrm>
              <a:off x="6472080" y="5129280"/>
              <a:ext cx="46188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6832080" y="5373720"/>
              <a:ext cx="467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</a:rPr>
                <a:t>בחוץ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209520" y="770040"/>
            <a:ext cx="519120" cy="791280"/>
            <a:chOff x="209520" y="770040"/>
            <a:chExt cx="519120" cy="791280"/>
          </a:xfrm>
        </p:grpSpPr>
        <p:sp>
          <p:nvSpPr>
            <p:cNvPr id="298" name=""/>
            <p:cNvSpPr/>
            <p:nvPr/>
          </p:nvSpPr>
          <p:spPr>
            <a:xfrm>
              <a:off x="209520" y="770040"/>
              <a:ext cx="5191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פורט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9" name=""/>
            <p:cNvGrpSpPr/>
            <p:nvPr/>
          </p:nvGrpSpPr>
          <p:grpSpPr>
            <a:xfrm>
              <a:off x="266760" y="912600"/>
              <a:ext cx="401400" cy="404280"/>
              <a:chOff x="266760" y="912600"/>
              <a:chExt cx="401400" cy="404280"/>
            </a:xfrm>
          </p:grpSpPr>
          <p:pic>
            <p:nvPicPr>
              <p:cNvPr id="300" name="" descr=""/>
              <p:cNvPicPr/>
              <p:nvPr/>
            </p:nvPicPr>
            <p:blipFill>
              <a:blip r:embed="rId53"/>
              <a:stretch/>
            </p:blipFill>
            <p:spPr>
              <a:xfrm>
                <a:off x="266760" y="912600"/>
                <a:ext cx="401400" cy="404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1" name="" descr=""/>
              <p:cNvPicPr/>
              <p:nvPr/>
            </p:nvPicPr>
            <p:blipFill>
              <a:blip r:embed="rId54"/>
              <a:stretch/>
            </p:blipFill>
            <p:spPr>
              <a:xfrm>
                <a:off x="266760" y="912600"/>
                <a:ext cx="401400" cy="404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02" name=""/>
            <p:cNvSpPr/>
            <p:nvPr/>
          </p:nvSpPr>
          <p:spPr>
            <a:xfrm>
              <a:off x="343800" y="1270080"/>
              <a:ext cx="210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יד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66480" y="139356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206280" y="1582560"/>
            <a:ext cx="777240" cy="577080"/>
            <a:chOff x="206280" y="1582560"/>
            <a:chExt cx="777240" cy="577080"/>
          </a:xfrm>
        </p:grpSpPr>
        <p:sp>
          <p:nvSpPr>
            <p:cNvPr id="305" name=""/>
            <p:cNvSpPr/>
            <p:nvPr/>
          </p:nvSpPr>
          <p:spPr>
            <a:xfrm>
              <a:off x="372960" y="1582560"/>
              <a:ext cx="5922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היסטורי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יחידה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64400" y="1800000"/>
              <a:ext cx="20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-י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38000" y="1804680"/>
              <a:ext cx="23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קרי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8" name="GreekVase_small" descr=""/>
            <p:cNvPicPr/>
            <p:nvPr/>
          </p:nvPicPr>
          <p:blipFill>
            <a:blip r:embed="rId55"/>
            <a:stretch/>
          </p:blipFill>
          <p:spPr>
            <a:xfrm>
              <a:off x="206280" y="1690560"/>
              <a:ext cx="214200" cy="36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430920" y="19285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6308640" y="3106800"/>
            <a:ext cx="990000" cy="596160"/>
            <a:chOff x="6308640" y="3106800"/>
            <a:chExt cx="990000" cy="596160"/>
          </a:xfrm>
        </p:grpSpPr>
        <p:sp>
          <p:nvSpPr>
            <p:cNvPr id="311" name=""/>
            <p:cNvSpPr/>
            <p:nvPr/>
          </p:nvSpPr>
          <p:spPr>
            <a:xfrm>
              <a:off x="6851520" y="3174840"/>
              <a:ext cx="3099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תנ"ך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894360" y="3411360"/>
              <a:ext cx="19584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887880" y="3268440"/>
              <a:ext cx="256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פ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4" name="noahs_ark_rocking_ty_CLR" descr=""/>
            <p:cNvPicPr/>
            <p:nvPr/>
          </p:nvPicPr>
          <p:blipFill>
            <a:blip r:embed="rId56"/>
            <a:stretch/>
          </p:blipFill>
          <p:spPr>
            <a:xfrm>
              <a:off x="6308640" y="3106800"/>
              <a:ext cx="640080" cy="54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6746040" y="34718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1719360" y="4003560"/>
            <a:ext cx="664560" cy="604080"/>
            <a:chOff x="1719360" y="4003560"/>
            <a:chExt cx="664560" cy="604080"/>
          </a:xfrm>
        </p:grpSpPr>
        <p:sp>
          <p:nvSpPr>
            <p:cNvPr id="317" name=""/>
            <p:cNvSpPr/>
            <p:nvPr/>
          </p:nvSpPr>
          <p:spPr>
            <a:xfrm>
              <a:off x="1859760" y="4079520"/>
              <a:ext cx="5022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צרפת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831320" y="43765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905840" y="4198680"/>
              <a:ext cx="3816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058840" y="428760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1" name="eiffel_tower_flag_waving_sm_CLR" descr=""/>
            <p:cNvPicPr/>
            <p:nvPr/>
          </p:nvPicPr>
          <p:blipFill>
            <a:blip r:embed="rId57"/>
            <a:stretch/>
          </p:blipFill>
          <p:spPr>
            <a:xfrm>
              <a:off x="1719360" y="4003560"/>
              <a:ext cx="370080" cy="554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2" name=""/>
          <p:cNvGrpSpPr/>
          <p:nvPr/>
        </p:nvGrpSpPr>
        <p:grpSpPr>
          <a:xfrm>
            <a:off x="4815000" y="1023840"/>
            <a:ext cx="959760" cy="612360"/>
            <a:chOff x="4815000" y="1023840"/>
            <a:chExt cx="959760" cy="612360"/>
          </a:xfrm>
        </p:grpSpPr>
        <p:sp>
          <p:nvSpPr>
            <p:cNvPr id="323" name=""/>
            <p:cNvSpPr/>
            <p:nvPr/>
          </p:nvSpPr>
          <p:spPr>
            <a:xfrm>
              <a:off x="5184360" y="1060560"/>
              <a:ext cx="4885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לילי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478120" y="1316160"/>
              <a:ext cx="14400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ו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438160" y="1154160"/>
              <a:ext cx="226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ריו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222160" y="140508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7" name="kokopelli_group_sm_CLR" descr=""/>
            <p:cNvPicPr/>
            <p:nvPr/>
          </p:nvPicPr>
          <p:blipFill>
            <a:blip r:embed="rId58"/>
            <a:stretch/>
          </p:blipFill>
          <p:spPr>
            <a:xfrm>
              <a:off x="4815000" y="1023840"/>
              <a:ext cx="560160" cy="560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8" name=""/>
          <p:cNvGrpSpPr/>
          <p:nvPr/>
        </p:nvGrpSpPr>
        <p:grpSpPr>
          <a:xfrm>
            <a:off x="7277040" y="2127240"/>
            <a:ext cx="916920" cy="432720"/>
            <a:chOff x="7277040" y="2127240"/>
            <a:chExt cx="916920" cy="432720"/>
          </a:xfrm>
        </p:grpSpPr>
        <p:pic>
          <p:nvPicPr>
            <p:cNvPr id="329" name="bkcl1a" descr=""/>
            <p:cNvPicPr/>
            <p:nvPr/>
          </p:nvPicPr>
          <p:blipFill>
            <a:blip r:embed="rId59"/>
            <a:stretch/>
          </p:blipFill>
          <p:spPr>
            <a:xfrm>
              <a:off x="7277040" y="2158920"/>
              <a:ext cx="419040" cy="3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7690320" y="2127240"/>
              <a:ext cx="4136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פר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673400" y="2268360"/>
              <a:ext cx="20952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-י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954200" y="2230560"/>
              <a:ext cx="214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ר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641360" y="23288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7115040" y="2736720"/>
            <a:ext cx="1113840" cy="514440"/>
            <a:chOff x="7115040" y="2736720"/>
            <a:chExt cx="1113840" cy="514440"/>
          </a:xfrm>
        </p:grpSpPr>
        <p:sp>
          <p:nvSpPr>
            <p:cNvPr id="335" name=""/>
            <p:cNvSpPr/>
            <p:nvPr/>
          </p:nvSpPr>
          <p:spPr>
            <a:xfrm>
              <a:off x="7260480" y="2736720"/>
              <a:ext cx="968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 כתיבה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867440" y="2835000"/>
              <a:ext cx="26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462080" y="2815920"/>
              <a:ext cx="40032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8" name="girl" descr=""/>
            <p:cNvPicPr/>
            <p:nvPr/>
          </p:nvPicPr>
          <p:blipFill>
            <a:blip r:embed="rId60"/>
            <a:stretch/>
          </p:blipFill>
          <p:spPr>
            <a:xfrm>
              <a:off x="7115040" y="2830320"/>
              <a:ext cx="34128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"/>
            <p:cNvSpPr/>
            <p:nvPr/>
          </p:nvSpPr>
          <p:spPr>
            <a:xfrm>
              <a:off x="7565400" y="295740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6139080" y="2762280"/>
            <a:ext cx="978840" cy="459720"/>
            <a:chOff x="6139080" y="2762280"/>
            <a:chExt cx="978840" cy="459720"/>
          </a:xfrm>
        </p:grpSpPr>
        <p:sp>
          <p:nvSpPr>
            <p:cNvPr id="341" name=""/>
            <p:cNvSpPr/>
            <p:nvPr/>
          </p:nvSpPr>
          <p:spPr>
            <a:xfrm>
              <a:off x="6139080" y="2762280"/>
              <a:ext cx="5662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6440400" y="2906640"/>
              <a:ext cx="192240" cy="226800"/>
              <a:chOff x="6440400" y="2906640"/>
              <a:chExt cx="192240" cy="226800"/>
            </a:xfrm>
          </p:grpSpPr>
          <p:pic>
            <p:nvPicPr>
              <p:cNvPr id="343" name="" descr=""/>
              <p:cNvPicPr/>
              <p:nvPr/>
            </p:nvPicPr>
            <p:blipFill>
              <a:blip r:embed="rId61"/>
              <a:stretch/>
            </p:blipFill>
            <p:spPr>
              <a:xfrm>
                <a:off x="6440400" y="2906640"/>
                <a:ext cx="19224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4" name="" descr=""/>
              <p:cNvPicPr/>
              <p:nvPr/>
            </p:nvPicPr>
            <p:blipFill>
              <a:blip r:embed="rId62"/>
              <a:stretch/>
            </p:blipFill>
            <p:spPr>
              <a:xfrm>
                <a:off x="6440400" y="2906640"/>
                <a:ext cx="192240" cy="22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45" name=""/>
            <p:cNvGrpSpPr/>
            <p:nvPr/>
          </p:nvGrpSpPr>
          <p:grpSpPr>
            <a:xfrm>
              <a:off x="6229440" y="2895840"/>
              <a:ext cx="199800" cy="247320"/>
              <a:chOff x="6229440" y="2895840"/>
              <a:chExt cx="199800" cy="247320"/>
            </a:xfrm>
          </p:grpSpPr>
          <p:pic>
            <p:nvPicPr>
              <p:cNvPr id="346" name="" descr=""/>
              <p:cNvPicPr/>
              <p:nvPr/>
            </p:nvPicPr>
            <p:blipFill>
              <a:blip r:embed="rId63"/>
              <a:stretch/>
            </p:blipFill>
            <p:spPr>
              <a:xfrm>
                <a:off x="6229440" y="289584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7" name="" descr=""/>
              <p:cNvPicPr/>
              <p:nvPr/>
            </p:nvPicPr>
            <p:blipFill>
              <a:blip r:embed="rId64"/>
              <a:stretch/>
            </p:blipFill>
            <p:spPr>
              <a:xfrm>
                <a:off x="6229440" y="289584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48" name=""/>
            <p:cNvSpPr/>
            <p:nvPr/>
          </p:nvSpPr>
          <p:spPr>
            <a:xfrm>
              <a:off x="6658200" y="2793960"/>
              <a:ext cx="36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ת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791040" y="288936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565320" y="299088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5499000" y="3098880"/>
            <a:ext cx="835920" cy="623160"/>
            <a:chOff x="5499000" y="3098880"/>
            <a:chExt cx="835920" cy="623160"/>
          </a:xfrm>
        </p:grpSpPr>
        <p:pic>
          <p:nvPicPr>
            <p:cNvPr id="352" name="computer2" descr=""/>
            <p:cNvPicPr/>
            <p:nvPr/>
          </p:nvPicPr>
          <p:blipFill>
            <a:blip r:embed="rId65"/>
            <a:stretch/>
          </p:blipFill>
          <p:spPr>
            <a:xfrm>
              <a:off x="5499000" y="3232080"/>
              <a:ext cx="352440" cy="4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5604120" y="3098880"/>
              <a:ext cx="5860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חשבים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927400" y="3254400"/>
              <a:ext cx="407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לון ס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897880" y="3368520"/>
              <a:ext cx="37116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ב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774760" y="34909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7082280" y="4121280"/>
            <a:ext cx="1142280" cy="500760"/>
            <a:chOff x="7082280" y="4121280"/>
            <a:chExt cx="1142280" cy="500760"/>
          </a:xfrm>
        </p:grpSpPr>
        <p:pic>
          <p:nvPicPr>
            <p:cNvPr id="358" name="image3" descr=""/>
            <p:cNvPicPr/>
            <p:nvPr/>
          </p:nvPicPr>
          <p:blipFill>
            <a:blip r:embed="rId66"/>
            <a:stretch/>
          </p:blipFill>
          <p:spPr>
            <a:xfrm flipH="1">
              <a:off x="7153560" y="4270320"/>
              <a:ext cx="411120" cy="30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7082280" y="4121280"/>
              <a:ext cx="1142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שחקים חברתי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828560" y="4303800"/>
              <a:ext cx="2581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דס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569000" y="427032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464960" y="4390920"/>
              <a:ext cx="578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ורשה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5144760" y="3948120"/>
            <a:ext cx="1010520" cy="497520"/>
            <a:chOff x="5144760" y="3948120"/>
            <a:chExt cx="1010520" cy="497520"/>
          </a:xfrm>
        </p:grpSpPr>
        <p:sp>
          <p:nvSpPr>
            <p:cNvPr id="364" name=""/>
            <p:cNvSpPr/>
            <p:nvPr/>
          </p:nvSpPr>
          <p:spPr>
            <a:xfrm>
              <a:off x="5144760" y="3948120"/>
              <a:ext cx="9867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5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 תגבו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5526000" y="4073400"/>
              <a:ext cx="191880" cy="226800"/>
              <a:chOff x="5526000" y="4073400"/>
              <a:chExt cx="191880" cy="226800"/>
            </a:xfrm>
          </p:grpSpPr>
          <p:pic>
            <p:nvPicPr>
              <p:cNvPr id="366" name="" descr=""/>
              <p:cNvPicPr/>
              <p:nvPr/>
            </p:nvPicPr>
            <p:blipFill>
              <a:blip r:embed="rId67"/>
              <a:stretch/>
            </p:blipFill>
            <p:spPr>
              <a:xfrm>
                <a:off x="5526000" y="4073400"/>
                <a:ext cx="19188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7" name="" descr=""/>
              <p:cNvPicPr/>
              <p:nvPr/>
            </p:nvPicPr>
            <p:blipFill>
              <a:blip r:embed="rId68"/>
              <a:stretch/>
            </p:blipFill>
            <p:spPr>
              <a:xfrm>
                <a:off x="5526000" y="4073400"/>
                <a:ext cx="191880" cy="22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68" name=""/>
            <p:cNvGrpSpPr/>
            <p:nvPr/>
          </p:nvGrpSpPr>
          <p:grpSpPr>
            <a:xfrm>
              <a:off x="5295960" y="4071960"/>
              <a:ext cx="199440" cy="246960"/>
              <a:chOff x="5295960" y="4071960"/>
              <a:chExt cx="199440" cy="246960"/>
            </a:xfrm>
          </p:grpSpPr>
          <p:pic>
            <p:nvPicPr>
              <p:cNvPr id="369" name="" descr=""/>
              <p:cNvPicPr/>
              <p:nvPr/>
            </p:nvPicPr>
            <p:blipFill>
              <a:blip r:embed="rId69"/>
              <a:stretch/>
            </p:blipFill>
            <p:spPr>
              <a:xfrm>
                <a:off x="5295960" y="4071960"/>
                <a:ext cx="199440" cy="246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0" name="" descr=""/>
              <p:cNvPicPr/>
              <p:nvPr/>
            </p:nvPicPr>
            <p:blipFill>
              <a:blip r:embed="rId70"/>
              <a:stretch/>
            </p:blipFill>
            <p:spPr>
              <a:xfrm>
                <a:off x="5295960" y="4071960"/>
                <a:ext cx="199440" cy="246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71" name=""/>
            <p:cNvSpPr/>
            <p:nvPr/>
          </p:nvSpPr>
          <p:spPr>
            <a:xfrm>
              <a:off x="5686200" y="4027320"/>
              <a:ext cx="36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ת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821200" y="4132080"/>
              <a:ext cx="17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02680" y="42145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7313760" y="4619520"/>
            <a:ext cx="947160" cy="601560"/>
            <a:chOff x="7313760" y="4619520"/>
            <a:chExt cx="947160" cy="601560"/>
          </a:xfrm>
        </p:grpSpPr>
        <p:sp>
          <p:nvSpPr>
            <p:cNvPr id="375" name=""/>
            <p:cNvSpPr/>
            <p:nvPr/>
          </p:nvSpPr>
          <p:spPr>
            <a:xfrm>
              <a:off x="7721640" y="4740120"/>
              <a:ext cx="22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542360" y="4619520"/>
              <a:ext cx="604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969320" y="4765320"/>
              <a:ext cx="203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נ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8" name="girl_holding_123_ty_CLR" descr=""/>
            <p:cNvPicPr/>
            <p:nvPr/>
          </p:nvPicPr>
          <p:blipFill>
            <a:blip r:embed="rId71"/>
            <a:stretch/>
          </p:blipFill>
          <p:spPr>
            <a:xfrm>
              <a:off x="7313760" y="4627440"/>
              <a:ext cx="59364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7708320" y="484308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7327080" y="5075280"/>
            <a:ext cx="772200" cy="570960"/>
            <a:chOff x="7327080" y="5075280"/>
            <a:chExt cx="772200" cy="570960"/>
          </a:xfrm>
        </p:grpSpPr>
        <p:sp>
          <p:nvSpPr>
            <p:cNvPr id="381" name=""/>
            <p:cNvSpPr/>
            <p:nvPr/>
          </p:nvSpPr>
          <p:spPr>
            <a:xfrm>
              <a:off x="7767720" y="5075280"/>
              <a:ext cx="331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שיר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453440" y="5119560"/>
              <a:ext cx="2581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דס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872120" y="543240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4" name="lb_mu_v" descr=""/>
            <p:cNvPicPr/>
            <p:nvPr/>
          </p:nvPicPr>
          <p:blipFill>
            <a:blip r:embed="rId72"/>
            <a:stretch/>
          </p:blipFill>
          <p:spPr>
            <a:xfrm>
              <a:off x="7442280" y="5245200"/>
              <a:ext cx="632880" cy="22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7327080" y="54151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6334200" y="4653000"/>
            <a:ext cx="1074600" cy="604800"/>
            <a:chOff x="6334200" y="4653000"/>
            <a:chExt cx="1074600" cy="604800"/>
          </a:xfrm>
        </p:grpSpPr>
        <p:sp>
          <p:nvSpPr>
            <p:cNvPr id="387" name=""/>
            <p:cNvSpPr/>
            <p:nvPr/>
          </p:nvSpPr>
          <p:spPr>
            <a:xfrm>
              <a:off x="6846480" y="4735440"/>
              <a:ext cx="26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סיג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334200" y="4653000"/>
              <a:ext cx="10238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חשבון לאלגבר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607440" y="4770360"/>
              <a:ext cx="1760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0" name="walking_1_sm_CLR" descr=""/>
            <p:cNvPicPr/>
            <p:nvPr/>
          </p:nvPicPr>
          <p:blipFill>
            <a:blip r:embed="rId73"/>
            <a:stretch/>
          </p:blipFill>
          <p:spPr>
            <a:xfrm>
              <a:off x="7066080" y="4783320"/>
              <a:ext cx="34272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"/>
            <p:cNvSpPr/>
            <p:nvPr/>
          </p:nvSpPr>
          <p:spPr>
            <a:xfrm>
              <a:off x="6670080" y="483408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5267160" y="4662360"/>
            <a:ext cx="955080" cy="421560"/>
            <a:chOff x="5267160" y="4662360"/>
            <a:chExt cx="955080" cy="421560"/>
          </a:xfrm>
        </p:grpSpPr>
        <p:sp>
          <p:nvSpPr>
            <p:cNvPr id="393" name=""/>
            <p:cNvSpPr/>
            <p:nvPr/>
          </p:nvSpPr>
          <p:spPr>
            <a:xfrm>
              <a:off x="5492880" y="4662360"/>
              <a:ext cx="4885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4" name=""/>
            <p:cNvGrpSpPr/>
            <p:nvPr/>
          </p:nvGrpSpPr>
          <p:grpSpPr>
            <a:xfrm>
              <a:off x="5497200" y="4807080"/>
              <a:ext cx="192240" cy="226440"/>
              <a:chOff x="5497200" y="4807080"/>
              <a:chExt cx="192240" cy="226440"/>
            </a:xfrm>
          </p:grpSpPr>
          <p:pic>
            <p:nvPicPr>
              <p:cNvPr id="395" name="" descr=""/>
              <p:cNvPicPr/>
              <p:nvPr/>
            </p:nvPicPr>
            <p:blipFill>
              <a:blip r:embed="rId74"/>
              <a:stretch/>
            </p:blipFill>
            <p:spPr>
              <a:xfrm>
                <a:off x="5497200" y="4807080"/>
                <a:ext cx="192240" cy="22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6" name="" descr=""/>
              <p:cNvPicPr/>
              <p:nvPr/>
            </p:nvPicPr>
            <p:blipFill>
              <a:blip r:embed="rId75"/>
              <a:stretch/>
            </p:blipFill>
            <p:spPr>
              <a:xfrm>
                <a:off x="5497200" y="4807080"/>
                <a:ext cx="192240" cy="226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97" name=""/>
            <p:cNvGrpSpPr/>
            <p:nvPr/>
          </p:nvGrpSpPr>
          <p:grpSpPr>
            <a:xfrm>
              <a:off x="5267160" y="4795920"/>
              <a:ext cx="199800" cy="247320"/>
              <a:chOff x="5267160" y="4795920"/>
              <a:chExt cx="199800" cy="247320"/>
            </a:xfrm>
          </p:grpSpPr>
          <p:pic>
            <p:nvPicPr>
              <p:cNvPr id="398" name="" descr=""/>
              <p:cNvPicPr/>
              <p:nvPr/>
            </p:nvPicPr>
            <p:blipFill>
              <a:blip r:embed="rId76"/>
              <a:stretch/>
            </p:blipFill>
            <p:spPr>
              <a:xfrm>
                <a:off x="5267160" y="479592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9" name="" descr=""/>
              <p:cNvPicPr/>
              <p:nvPr/>
            </p:nvPicPr>
            <p:blipFill>
              <a:blip r:embed="rId77"/>
              <a:stretch/>
            </p:blipFill>
            <p:spPr>
              <a:xfrm>
                <a:off x="5267160" y="479592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00" name=""/>
            <p:cNvSpPr/>
            <p:nvPr/>
          </p:nvSpPr>
          <p:spPr>
            <a:xfrm>
              <a:off x="6004080" y="4741920"/>
              <a:ext cx="115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754960" y="4741920"/>
              <a:ext cx="17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669640" y="485280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2469960" y="660240"/>
            <a:ext cx="942120" cy="775440"/>
            <a:chOff x="2469960" y="660240"/>
            <a:chExt cx="942120" cy="775440"/>
          </a:xfrm>
        </p:grpSpPr>
        <p:pic>
          <p:nvPicPr>
            <p:cNvPr id="404" name="computer2" descr=""/>
            <p:cNvPicPr/>
            <p:nvPr/>
          </p:nvPicPr>
          <p:blipFill>
            <a:blip r:embed="rId78"/>
            <a:stretch/>
          </p:blipFill>
          <p:spPr>
            <a:xfrm>
              <a:off x="2584080" y="946080"/>
              <a:ext cx="352080" cy="42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"/>
            <p:cNvSpPr/>
            <p:nvPr/>
          </p:nvSpPr>
          <p:spPr>
            <a:xfrm>
              <a:off x="2469960" y="660240"/>
              <a:ext cx="58608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חשבים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וחושב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017160" y="96804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מי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976480" y="1082520"/>
              <a:ext cx="37584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859480" y="120456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2133720" y="1550880"/>
            <a:ext cx="571680" cy="556920"/>
            <a:chOff x="2133720" y="1550880"/>
            <a:chExt cx="571680" cy="556920"/>
          </a:xfrm>
        </p:grpSpPr>
        <p:sp>
          <p:nvSpPr>
            <p:cNvPr id="410" name=""/>
            <p:cNvSpPr/>
            <p:nvPr/>
          </p:nvSpPr>
          <p:spPr>
            <a:xfrm>
              <a:off x="2138760" y="1550880"/>
              <a:ext cx="526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פורט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509560" y="185112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2133720" y="1703520"/>
              <a:ext cx="401040" cy="404280"/>
              <a:chOff x="2133720" y="1703520"/>
              <a:chExt cx="401040" cy="404280"/>
            </a:xfrm>
          </p:grpSpPr>
          <p:pic>
            <p:nvPicPr>
              <p:cNvPr id="413" name="" descr=""/>
              <p:cNvPicPr/>
              <p:nvPr/>
            </p:nvPicPr>
            <p:blipFill>
              <a:blip r:embed="rId79"/>
              <a:stretch/>
            </p:blipFill>
            <p:spPr>
              <a:xfrm>
                <a:off x="2133720" y="1703520"/>
                <a:ext cx="401040" cy="404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4" name="" descr=""/>
              <p:cNvPicPr/>
              <p:nvPr/>
            </p:nvPicPr>
            <p:blipFill>
              <a:blip r:embed="rId80"/>
              <a:stretch/>
            </p:blipFill>
            <p:spPr>
              <a:xfrm>
                <a:off x="2133720" y="1703520"/>
                <a:ext cx="401040" cy="404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15" name=""/>
            <p:cNvSpPr/>
            <p:nvPr/>
          </p:nvSpPr>
          <p:spPr>
            <a:xfrm>
              <a:off x="2477520" y="1689120"/>
              <a:ext cx="210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יד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1213200" y="1989000"/>
            <a:ext cx="995400" cy="561600"/>
            <a:chOff x="1213200" y="1989000"/>
            <a:chExt cx="995400" cy="561600"/>
          </a:xfrm>
        </p:grpSpPr>
        <p:sp>
          <p:nvSpPr>
            <p:cNvPr id="417" name=""/>
            <p:cNvSpPr/>
            <p:nvPr/>
          </p:nvSpPr>
          <p:spPr>
            <a:xfrm>
              <a:off x="1389600" y="1989000"/>
              <a:ext cx="649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שיר שבל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893960" y="2376360"/>
              <a:ext cx="3146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יט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13160" y="2336760"/>
              <a:ext cx="22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20" name="lb_mu_v" descr=""/>
            <p:cNvPicPr/>
            <p:nvPr/>
          </p:nvPicPr>
          <p:blipFill>
            <a:blip r:embed="rId81"/>
            <a:stretch/>
          </p:blipFill>
          <p:spPr>
            <a:xfrm>
              <a:off x="1393920" y="2158920"/>
              <a:ext cx="633240" cy="2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1213200" y="2319480"/>
              <a:ext cx="487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בחוץ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2631240" y="1603440"/>
            <a:ext cx="1000440" cy="565920"/>
            <a:chOff x="2631240" y="1603440"/>
            <a:chExt cx="1000440" cy="565920"/>
          </a:xfrm>
        </p:grpSpPr>
        <p:sp>
          <p:nvSpPr>
            <p:cNvPr id="423" name=""/>
            <p:cNvSpPr/>
            <p:nvPr/>
          </p:nvSpPr>
          <p:spPr>
            <a:xfrm>
              <a:off x="2631240" y="1603440"/>
              <a:ext cx="968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 כתיבה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238200" y="1701720"/>
              <a:ext cx="26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175560" y="1815840"/>
              <a:ext cx="40032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26" name="girl" descr=""/>
            <p:cNvPicPr/>
            <p:nvPr/>
          </p:nvPicPr>
          <p:blipFill>
            <a:blip r:embed="rId82"/>
            <a:stretch/>
          </p:blipFill>
          <p:spPr>
            <a:xfrm>
              <a:off x="2828880" y="1725480"/>
              <a:ext cx="341280" cy="42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"/>
            <p:cNvSpPr/>
            <p:nvPr/>
          </p:nvSpPr>
          <p:spPr>
            <a:xfrm>
              <a:off x="3079080" y="19382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219240" y="2138400"/>
            <a:ext cx="1033200" cy="431280"/>
            <a:chOff x="219240" y="2138400"/>
            <a:chExt cx="1033200" cy="431280"/>
          </a:xfrm>
        </p:grpSpPr>
        <p:sp>
          <p:nvSpPr>
            <p:cNvPr id="429" name=""/>
            <p:cNvSpPr/>
            <p:nvPr/>
          </p:nvSpPr>
          <p:spPr>
            <a:xfrm>
              <a:off x="471600" y="2138400"/>
              <a:ext cx="5662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449280" y="2263680"/>
              <a:ext cx="192240" cy="226800"/>
              <a:chOff x="449280" y="2263680"/>
              <a:chExt cx="192240" cy="226800"/>
            </a:xfrm>
          </p:grpSpPr>
          <p:pic>
            <p:nvPicPr>
              <p:cNvPr id="431" name="" descr=""/>
              <p:cNvPicPr/>
              <p:nvPr/>
            </p:nvPicPr>
            <p:blipFill>
              <a:blip r:embed="rId83"/>
              <a:stretch/>
            </p:blipFill>
            <p:spPr>
              <a:xfrm>
                <a:off x="449280" y="2263680"/>
                <a:ext cx="19224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2" name="" descr=""/>
              <p:cNvPicPr/>
              <p:nvPr/>
            </p:nvPicPr>
            <p:blipFill>
              <a:blip r:embed="rId84"/>
              <a:stretch/>
            </p:blipFill>
            <p:spPr>
              <a:xfrm>
                <a:off x="449280" y="2263680"/>
                <a:ext cx="192240" cy="22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33" name=""/>
            <p:cNvGrpSpPr/>
            <p:nvPr/>
          </p:nvGrpSpPr>
          <p:grpSpPr>
            <a:xfrm>
              <a:off x="219240" y="2252520"/>
              <a:ext cx="199800" cy="247320"/>
              <a:chOff x="219240" y="2252520"/>
              <a:chExt cx="199800" cy="247320"/>
            </a:xfrm>
          </p:grpSpPr>
          <p:pic>
            <p:nvPicPr>
              <p:cNvPr id="434" name="" descr=""/>
              <p:cNvPicPr/>
              <p:nvPr/>
            </p:nvPicPr>
            <p:blipFill>
              <a:blip r:embed="rId85"/>
              <a:stretch/>
            </p:blipFill>
            <p:spPr>
              <a:xfrm>
                <a:off x="219240" y="225252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5" name="" descr=""/>
              <p:cNvPicPr/>
              <p:nvPr/>
            </p:nvPicPr>
            <p:blipFill>
              <a:blip r:embed="rId86"/>
              <a:stretch/>
            </p:blipFill>
            <p:spPr>
              <a:xfrm>
                <a:off x="219240" y="225252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36" name=""/>
            <p:cNvSpPr/>
            <p:nvPr/>
          </p:nvSpPr>
          <p:spPr>
            <a:xfrm>
              <a:off x="885960" y="2217600"/>
              <a:ext cx="36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ת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37920" y="221760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21720" y="233856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2202480" y="2746440"/>
            <a:ext cx="1000440" cy="565920"/>
            <a:chOff x="2202480" y="2746440"/>
            <a:chExt cx="1000440" cy="565920"/>
          </a:xfrm>
        </p:grpSpPr>
        <p:sp>
          <p:nvSpPr>
            <p:cNvPr id="440" name=""/>
            <p:cNvSpPr/>
            <p:nvPr/>
          </p:nvSpPr>
          <p:spPr>
            <a:xfrm>
              <a:off x="2202480" y="2746440"/>
              <a:ext cx="968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 כתיבה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809440" y="2844720"/>
              <a:ext cx="26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746800" y="2958840"/>
              <a:ext cx="40032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3" name="girl" descr=""/>
            <p:cNvPicPr/>
            <p:nvPr/>
          </p:nvPicPr>
          <p:blipFill>
            <a:blip r:embed="rId87"/>
            <a:stretch/>
          </p:blipFill>
          <p:spPr>
            <a:xfrm>
              <a:off x="2400120" y="2868480"/>
              <a:ext cx="341280" cy="42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2650320" y="30812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1662120" y="3097080"/>
            <a:ext cx="816480" cy="615600"/>
            <a:chOff x="1662120" y="3097080"/>
            <a:chExt cx="816480" cy="615600"/>
          </a:xfrm>
        </p:grpSpPr>
        <p:pic>
          <p:nvPicPr>
            <p:cNvPr id="446" name="accountant_raising_pencil_sm_CLR" descr=""/>
            <p:cNvPicPr/>
            <p:nvPr/>
          </p:nvPicPr>
          <p:blipFill>
            <a:blip r:embed="rId88"/>
            <a:stretch/>
          </p:blipFill>
          <p:spPr>
            <a:xfrm>
              <a:off x="1662120" y="3097080"/>
              <a:ext cx="474480" cy="54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"/>
            <p:cNvSpPr/>
            <p:nvPr/>
          </p:nvSpPr>
          <p:spPr>
            <a:xfrm>
              <a:off x="2048760" y="3276720"/>
              <a:ext cx="3146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יט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117160" y="336708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06200" y="3133800"/>
              <a:ext cx="4680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לש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926000" y="348156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228600" y="2757600"/>
            <a:ext cx="1023840" cy="421560"/>
            <a:chOff x="228600" y="2757600"/>
            <a:chExt cx="1023840" cy="421560"/>
          </a:xfrm>
        </p:grpSpPr>
        <p:sp>
          <p:nvSpPr>
            <p:cNvPr id="452" name=""/>
            <p:cNvSpPr/>
            <p:nvPr/>
          </p:nvSpPr>
          <p:spPr>
            <a:xfrm>
              <a:off x="481320" y="2757600"/>
              <a:ext cx="5662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3" name=""/>
            <p:cNvGrpSpPr/>
            <p:nvPr/>
          </p:nvGrpSpPr>
          <p:grpSpPr>
            <a:xfrm>
              <a:off x="458640" y="2882880"/>
              <a:ext cx="192240" cy="226800"/>
              <a:chOff x="458640" y="2882880"/>
              <a:chExt cx="192240" cy="226800"/>
            </a:xfrm>
          </p:grpSpPr>
          <p:pic>
            <p:nvPicPr>
              <p:cNvPr id="454" name="" descr=""/>
              <p:cNvPicPr/>
              <p:nvPr/>
            </p:nvPicPr>
            <p:blipFill>
              <a:blip r:embed="rId89"/>
              <a:stretch/>
            </p:blipFill>
            <p:spPr>
              <a:xfrm>
                <a:off x="458640" y="2882880"/>
                <a:ext cx="19224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5" name="" descr=""/>
              <p:cNvPicPr/>
              <p:nvPr/>
            </p:nvPicPr>
            <p:blipFill>
              <a:blip r:embed="rId90"/>
              <a:stretch/>
            </p:blipFill>
            <p:spPr>
              <a:xfrm>
                <a:off x="458640" y="2882880"/>
                <a:ext cx="192240" cy="22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56" name=""/>
            <p:cNvGrpSpPr/>
            <p:nvPr/>
          </p:nvGrpSpPr>
          <p:grpSpPr>
            <a:xfrm>
              <a:off x="228600" y="2871720"/>
              <a:ext cx="199800" cy="247320"/>
              <a:chOff x="228600" y="2871720"/>
              <a:chExt cx="199800" cy="247320"/>
            </a:xfrm>
          </p:grpSpPr>
          <p:pic>
            <p:nvPicPr>
              <p:cNvPr id="457" name="" descr=""/>
              <p:cNvPicPr/>
              <p:nvPr/>
            </p:nvPicPr>
            <p:blipFill>
              <a:blip r:embed="rId91"/>
              <a:stretch/>
            </p:blipFill>
            <p:spPr>
              <a:xfrm>
                <a:off x="228600" y="287172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8" name="" descr=""/>
              <p:cNvPicPr/>
              <p:nvPr/>
            </p:nvPicPr>
            <p:blipFill>
              <a:blip r:embed="rId92"/>
              <a:stretch/>
            </p:blipFill>
            <p:spPr>
              <a:xfrm>
                <a:off x="228600" y="287172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59" name=""/>
            <p:cNvSpPr/>
            <p:nvPr/>
          </p:nvSpPr>
          <p:spPr>
            <a:xfrm>
              <a:off x="885960" y="2836800"/>
              <a:ext cx="36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ת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66360" y="282744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59520" y="29480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217080" y="3160800"/>
            <a:ext cx="858240" cy="534240"/>
            <a:chOff x="217080" y="3160800"/>
            <a:chExt cx="858240" cy="534240"/>
          </a:xfrm>
        </p:grpSpPr>
        <p:sp>
          <p:nvSpPr>
            <p:cNvPr id="463" name=""/>
            <p:cNvSpPr/>
            <p:nvPr/>
          </p:nvSpPr>
          <p:spPr>
            <a:xfrm>
              <a:off x="509040" y="3160800"/>
              <a:ext cx="56628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פורט –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שחק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כדור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17080" y="3527280"/>
              <a:ext cx="214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5" name=""/>
            <p:cNvGrpSpPr/>
            <p:nvPr/>
          </p:nvGrpSpPr>
          <p:grpSpPr>
            <a:xfrm>
              <a:off x="247680" y="3179880"/>
              <a:ext cx="401760" cy="404640"/>
              <a:chOff x="247680" y="3179880"/>
              <a:chExt cx="401760" cy="404640"/>
            </a:xfrm>
          </p:grpSpPr>
          <p:pic>
            <p:nvPicPr>
              <p:cNvPr id="466" name="" descr=""/>
              <p:cNvPicPr/>
              <p:nvPr/>
            </p:nvPicPr>
            <p:blipFill>
              <a:blip r:embed="rId93"/>
              <a:stretch/>
            </p:blipFill>
            <p:spPr>
              <a:xfrm>
                <a:off x="247680" y="3179880"/>
                <a:ext cx="401760" cy="404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7" name="" descr=""/>
              <p:cNvPicPr/>
              <p:nvPr/>
            </p:nvPicPr>
            <p:blipFill>
              <a:blip r:embed="rId94"/>
              <a:stretch/>
            </p:blipFill>
            <p:spPr>
              <a:xfrm>
                <a:off x="247680" y="3179880"/>
                <a:ext cx="401760" cy="404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68" name=""/>
            <p:cNvSpPr/>
            <p:nvPr/>
          </p:nvSpPr>
          <p:spPr>
            <a:xfrm>
              <a:off x="505800" y="3527280"/>
              <a:ext cx="210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יד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247680" y="3693960"/>
            <a:ext cx="583200" cy="591480"/>
            <a:chOff x="247680" y="3693960"/>
            <a:chExt cx="583200" cy="591480"/>
          </a:xfrm>
        </p:grpSpPr>
        <p:sp>
          <p:nvSpPr>
            <p:cNvPr id="470" name=""/>
            <p:cNvSpPr/>
            <p:nvPr/>
          </p:nvSpPr>
          <p:spPr>
            <a:xfrm>
              <a:off x="312120" y="3693960"/>
              <a:ext cx="40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פור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65200" y="4117680"/>
              <a:ext cx="22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2" name=""/>
            <p:cNvGrpSpPr/>
            <p:nvPr/>
          </p:nvGrpSpPr>
          <p:grpSpPr>
            <a:xfrm>
              <a:off x="247680" y="3846240"/>
              <a:ext cx="401040" cy="404640"/>
              <a:chOff x="247680" y="3846240"/>
              <a:chExt cx="401040" cy="404640"/>
            </a:xfrm>
          </p:grpSpPr>
          <p:pic>
            <p:nvPicPr>
              <p:cNvPr id="473" name="" descr=""/>
              <p:cNvPicPr/>
              <p:nvPr/>
            </p:nvPicPr>
            <p:blipFill>
              <a:blip r:embed="rId95"/>
              <a:stretch/>
            </p:blipFill>
            <p:spPr>
              <a:xfrm>
                <a:off x="247680" y="3846240"/>
                <a:ext cx="401040" cy="404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4" name="" descr=""/>
              <p:cNvPicPr/>
              <p:nvPr/>
            </p:nvPicPr>
            <p:blipFill>
              <a:blip r:embed="rId96"/>
              <a:stretch/>
            </p:blipFill>
            <p:spPr>
              <a:xfrm>
                <a:off x="247680" y="3846240"/>
                <a:ext cx="401040" cy="404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75" name=""/>
            <p:cNvSpPr/>
            <p:nvPr/>
          </p:nvSpPr>
          <p:spPr>
            <a:xfrm>
              <a:off x="619920" y="3984480"/>
              <a:ext cx="210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יד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2289240" y="3851280"/>
            <a:ext cx="819000" cy="661320"/>
            <a:chOff x="2289240" y="3851280"/>
            <a:chExt cx="819000" cy="661320"/>
          </a:xfrm>
        </p:grpSpPr>
        <p:pic>
          <p:nvPicPr>
            <p:cNvPr id="477" name="bkcl1a" descr=""/>
            <p:cNvPicPr/>
            <p:nvPr/>
          </p:nvPicPr>
          <p:blipFill>
            <a:blip r:embed="rId97"/>
            <a:stretch/>
          </p:blipFill>
          <p:spPr>
            <a:xfrm>
              <a:off x="2409840" y="3988080"/>
              <a:ext cx="419040" cy="33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"/>
            <p:cNvSpPr/>
            <p:nvPr/>
          </p:nvSpPr>
          <p:spPr>
            <a:xfrm>
              <a:off x="2289240" y="3851280"/>
              <a:ext cx="8190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הסיפור שלא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נגמ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855520" y="4240440"/>
              <a:ext cx="19584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867760" y="4068720"/>
              <a:ext cx="214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ר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355120" y="428148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776160" y="4087800"/>
            <a:ext cx="930600" cy="546120"/>
            <a:chOff x="776160" y="4087800"/>
            <a:chExt cx="930600" cy="546120"/>
          </a:xfrm>
        </p:grpSpPr>
        <p:pic>
          <p:nvPicPr>
            <p:cNvPr id="483" name="accountant_raising_pencil_sm_CLR" descr=""/>
            <p:cNvPicPr/>
            <p:nvPr/>
          </p:nvPicPr>
          <p:blipFill>
            <a:blip r:embed="rId98"/>
            <a:stretch/>
          </p:blipFill>
          <p:spPr>
            <a:xfrm>
              <a:off x="776160" y="4087800"/>
              <a:ext cx="474840" cy="54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1392120" y="4286160"/>
              <a:ext cx="3146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יט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155240" y="424332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992160" y="4133520"/>
              <a:ext cx="4683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לש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107360" y="434808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3615120" y="4665600"/>
            <a:ext cx="635040" cy="509400"/>
            <a:chOff x="3615120" y="4665600"/>
            <a:chExt cx="635040" cy="509400"/>
          </a:xfrm>
        </p:grpSpPr>
        <p:sp>
          <p:nvSpPr>
            <p:cNvPr id="489" name=""/>
            <p:cNvSpPr/>
            <p:nvPr/>
          </p:nvSpPr>
          <p:spPr>
            <a:xfrm>
              <a:off x="3615120" y="4665600"/>
              <a:ext cx="5266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פורט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082760" y="4917960"/>
              <a:ext cx="96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1" name=""/>
            <p:cNvGrpSpPr/>
            <p:nvPr/>
          </p:nvGrpSpPr>
          <p:grpSpPr>
            <a:xfrm>
              <a:off x="3657240" y="4770360"/>
              <a:ext cx="401040" cy="404640"/>
              <a:chOff x="3657240" y="4770360"/>
              <a:chExt cx="401040" cy="404640"/>
            </a:xfrm>
          </p:grpSpPr>
          <p:pic>
            <p:nvPicPr>
              <p:cNvPr id="492" name="" descr=""/>
              <p:cNvPicPr/>
              <p:nvPr/>
            </p:nvPicPr>
            <p:blipFill>
              <a:blip r:embed="rId99"/>
              <a:stretch/>
            </p:blipFill>
            <p:spPr>
              <a:xfrm>
                <a:off x="3657240" y="4770360"/>
                <a:ext cx="401040" cy="404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3" name="" descr=""/>
              <p:cNvPicPr/>
              <p:nvPr/>
            </p:nvPicPr>
            <p:blipFill>
              <a:blip r:embed="rId100"/>
              <a:stretch/>
            </p:blipFill>
            <p:spPr>
              <a:xfrm>
                <a:off x="3657240" y="4770360"/>
                <a:ext cx="401040" cy="404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94" name=""/>
            <p:cNvSpPr/>
            <p:nvPr/>
          </p:nvSpPr>
          <p:spPr>
            <a:xfrm>
              <a:off x="4039200" y="4775040"/>
              <a:ext cx="210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יד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2269080" y="4641840"/>
            <a:ext cx="1019520" cy="556560"/>
            <a:chOff x="2269080" y="4641840"/>
            <a:chExt cx="1019520" cy="556560"/>
          </a:xfrm>
        </p:grpSpPr>
        <p:sp>
          <p:nvSpPr>
            <p:cNvPr id="496" name=""/>
            <p:cNvSpPr/>
            <p:nvPr/>
          </p:nvSpPr>
          <p:spPr>
            <a:xfrm>
              <a:off x="2269080" y="4641840"/>
              <a:ext cx="968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 כתיבה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876040" y="4759200"/>
              <a:ext cx="26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813400" y="4854240"/>
              <a:ext cx="40032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9" name="girl" descr=""/>
            <p:cNvPicPr/>
            <p:nvPr/>
          </p:nvPicPr>
          <p:blipFill>
            <a:blip r:embed="rId101"/>
            <a:stretch/>
          </p:blipFill>
          <p:spPr>
            <a:xfrm>
              <a:off x="2476080" y="4763880"/>
              <a:ext cx="34164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"/>
            <p:cNvSpPr/>
            <p:nvPr/>
          </p:nvSpPr>
          <p:spPr>
            <a:xfrm>
              <a:off x="2736000" y="496728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231840" y="4676760"/>
            <a:ext cx="1035000" cy="559800"/>
            <a:chOff x="231840" y="4676760"/>
            <a:chExt cx="1035000" cy="559800"/>
          </a:xfrm>
        </p:grpSpPr>
        <p:sp>
          <p:nvSpPr>
            <p:cNvPr id="502" name=""/>
            <p:cNvSpPr/>
            <p:nvPr/>
          </p:nvSpPr>
          <p:spPr>
            <a:xfrm>
              <a:off x="731160" y="489276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93560" y="4676760"/>
              <a:ext cx="74736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זרה בזמן – יוון העתיק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036080" y="4917960"/>
              <a:ext cx="2307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קרי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5" name="roman_speaker_sm_CLR" descr=""/>
            <p:cNvPicPr/>
            <p:nvPr/>
          </p:nvPicPr>
          <p:blipFill>
            <a:blip r:embed="rId102"/>
            <a:stretch/>
          </p:blipFill>
          <p:spPr>
            <a:xfrm>
              <a:off x="231840" y="4686480"/>
              <a:ext cx="474480" cy="51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"/>
            <p:cNvSpPr/>
            <p:nvPr/>
          </p:nvSpPr>
          <p:spPr>
            <a:xfrm>
              <a:off x="611640" y="50054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2898360" y="5010120"/>
            <a:ext cx="952920" cy="569160"/>
            <a:chOff x="2898360" y="5010120"/>
            <a:chExt cx="952920" cy="569160"/>
          </a:xfrm>
        </p:grpSpPr>
        <p:pic>
          <p:nvPicPr>
            <p:cNvPr id="508" name="accountant_raising_pencil_sm_CLR" descr=""/>
            <p:cNvPicPr/>
            <p:nvPr/>
          </p:nvPicPr>
          <p:blipFill>
            <a:blip r:embed="rId103"/>
            <a:stretch/>
          </p:blipFill>
          <p:spPr>
            <a:xfrm>
              <a:off x="3376440" y="5011560"/>
              <a:ext cx="474840" cy="54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3135240" y="5276520"/>
              <a:ext cx="3146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יט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898360" y="523368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992320" y="5010120"/>
              <a:ext cx="46836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לשון תגבו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012480" y="534816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3567240" y="5578560"/>
            <a:ext cx="695880" cy="667440"/>
            <a:chOff x="3567240" y="5578560"/>
            <a:chExt cx="695880" cy="667440"/>
          </a:xfrm>
        </p:grpSpPr>
        <p:sp>
          <p:nvSpPr>
            <p:cNvPr id="514" name=""/>
            <p:cNvSpPr/>
            <p:nvPr/>
          </p:nvSpPr>
          <p:spPr>
            <a:xfrm>
              <a:off x="4067280" y="5978160"/>
              <a:ext cx="195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011120" y="5697360"/>
              <a:ext cx="20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נ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716280" y="5578560"/>
              <a:ext cx="505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וריגמ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7" name="Origami-" descr=""/>
            <p:cNvPicPr/>
            <p:nvPr/>
          </p:nvPicPr>
          <p:blipFill>
            <a:blip r:embed="rId104"/>
            <a:stretch/>
          </p:blipFill>
          <p:spPr>
            <a:xfrm>
              <a:off x="3567240" y="5636880"/>
              <a:ext cx="634680" cy="48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8" name=""/>
            <p:cNvSpPr/>
            <p:nvPr/>
          </p:nvSpPr>
          <p:spPr>
            <a:xfrm>
              <a:off x="3611880" y="601488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1712880" y="5602320"/>
            <a:ext cx="1045440" cy="558000"/>
            <a:chOff x="1712880" y="5602320"/>
            <a:chExt cx="1045440" cy="558000"/>
          </a:xfrm>
        </p:grpSpPr>
        <p:sp>
          <p:nvSpPr>
            <p:cNvPr id="520" name=""/>
            <p:cNvSpPr/>
            <p:nvPr/>
          </p:nvSpPr>
          <p:spPr>
            <a:xfrm>
              <a:off x="2136600" y="5602320"/>
              <a:ext cx="6181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תולדות 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הקולנוע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514240" y="5813280"/>
              <a:ext cx="23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קרי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2" name="funny_men_hand_cart_ty_CLR" descr=""/>
            <p:cNvPicPr/>
            <p:nvPr/>
          </p:nvPicPr>
          <p:blipFill>
            <a:blip r:embed="rId105"/>
            <a:stretch/>
          </p:blipFill>
          <p:spPr>
            <a:xfrm>
              <a:off x="1712880" y="5602320"/>
              <a:ext cx="579240" cy="47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>
              <a:off x="2205720" y="592920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172600" y="5770440"/>
              <a:ext cx="4046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2717640" y="5896080"/>
            <a:ext cx="894960" cy="658800"/>
            <a:chOff x="2717640" y="5896080"/>
            <a:chExt cx="894960" cy="658800"/>
          </a:xfrm>
        </p:grpSpPr>
        <p:sp>
          <p:nvSpPr>
            <p:cNvPr id="526" name=""/>
            <p:cNvSpPr/>
            <p:nvPr/>
          </p:nvSpPr>
          <p:spPr>
            <a:xfrm>
              <a:off x="3247560" y="6095880"/>
              <a:ext cx="2566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פ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279600" y="620568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78000" y="5896080"/>
              <a:ext cx="4302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לס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9" name="heart_dancing_sm_CLR" descr=""/>
            <p:cNvPicPr/>
            <p:nvPr/>
          </p:nvPicPr>
          <p:blipFill>
            <a:blip r:embed="rId106"/>
            <a:stretch/>
          </p:blipFill>
          <p:spPr>
            <a:xfrm>
              <a:off x="2717640" y="5979960"/>
              <a:ext cx="638280" cy="5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0" name=""/>
            <p:cNvSpPr/>
            <p:nvPr/>
          </p:nvSpPr>
          <p:spPr>
            <a:xfrm>
              <a:off x="3060000" y="63104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176040" y="5697360"/>
            <a:ext cx="816840" cy="615600"/>
            <a:chOff x="176040" y="5697360"/>
            <a:chExt cx="816840" cy="615600"/>
          </a:xfrm>
        </p:grpSpPr>
        <p:pic>
          <p:nvPicPr>
            <p:cNvPr id="532" name="accountant_raising_pencil_sm_CLR" descr=""/>
            <p:cNvPicPr/>
            <p:nvPr/>
          </p:nvPicPr>
          <p:blipFill>
            <a:blip r:embed="rId107"/>
            <a:stretch/>
          </p:blipFill>
          <p:spPr>
            <a:xfrm>
              <a:off x="176040" y="5697360"/>
              <a:ext cx="474480" cy="54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3" name=""/>
            <p:cNvSpPr/>
            <p:nvPr/>
          </p:nvSpPr>
          <p:spPr>
            <a:xfrm>
              <a:off x="534600" y="5886360"/>
              <a:ext cx="3146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יט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00840" y="5977080"/>
              <a:ext cx="20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-י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91680" y="5743440"/>
              <a:ext cx="4683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לש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40280" y="60818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964440" y="6021360"/>
            <a:ext cx="752400" cy="510480"/>
            <a:chOff x="964440" y="6021360"/>
            <a:chExt cx="752400" cy="510480"/>
          </a:xfrm>
        </p:grpSpPr>
        <p:pic>
          <p:nvPicPr>
            <p:cNvPr id="538" name="" descr=""/>
            <p:cNvPicPr/>
            <p:nvPr/>
          </p:nvPicPr>
          <p:blipFill>
            <a:blip r:embed="rId108"/>
            <a:stretch/>
          </p:blipFill>
          <p:spPr>
            <a:xfrm>
              <a:off x="1085760" y="6145200"/>
              <a:ext cx="29520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" descr=""/>
            <p:cNvPicPr/>
            <p:nvPr/>
          </p:nvPicPr>
          <p:blipFill>
            <a:blip r:embed="rId109"/>
            <a:stretch/>
          </p:blipFill>
          <p:spPr>
            <a:xfrm>
              <a:off x="1000080" y="6202440"/>
              <a:ext cx="295200" cy="3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0" name=""/>
            <p:cNvSpPr/>
            <p:nvPr/>
          </p:nvSpPr>
          <p:spPr>
            <a:xfrm>
              <a:off x="1319760" y="616572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164240" y="63007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964440" y="6021360"/>
              <a:ext cx="738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וחק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792000" y="1046160"/>
            <a:ext cx="785520" cy="528840"/>
            <a:chOff x="792000" y="1046160"/>
            <a:chExt cx="785520" cy="528840"/>
          </a:xfrm>
        </p:grpSpPr>
        <p:pic>
          <p:nvPicPr>
            <p:cNvPr id="544" name="Professor_new_md_CLR" descr=""/>
            <p:cNvPicPr/>
            <p:nvPr/>
          </p:nvPicPr>
          <p:blipFill>
            <a:blip r:embed="rId110"/>
            <a:stretch/>
          </p:blipFill>
          <p:spPr>
            <a:xfrm>
              <a:off x="792000" y="1046160"/>
              <a:ext cx="399960" cy="39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"/>
            <p:cNvSpPr/>
            <p:nvPr/>
          </p:nvSpPr>
          <p:spPr>
            <a:xfrm>
              <a:off x="971280" y="1074960"/>
              <a:ext cx="5493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קדמיה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182600" y="1168560"/>
              <a:ext cx="177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ח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895320" y="1262160"/>
              <a:ext cx="6822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הקריה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אקדמית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2125800" y="2075040"/>
            <a:ext cx="861840" cy="500040"/>
            <a:chOff x="2125800" y="2075040"/>
            <a:chExt cx="861840" cy="500040"/>
          </a:xfrm>
        </p:grpSpPr>
        <p:pic>
          <p:nvPicPr>
            <p:cNvPr id="549" name="Professor_new_md_CLR" descr=""/>
            <p:cNvPicPr/>
            <p:nvPr/>
          </p:nvPicPr>
          <p:blipFill>
            <a:blip r:embed="rId111"/>
            <a:stretch/>
          </p:blipFill>
          <p:spPr>
            <a:xfrm>
              <a:off x="2125800" y="2103480"/>
              <a:ext cx="399960" cy="39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"/>
            <p:cNvSpPr/>
            <p:nvPr/>
          </p:nvSpPr>
          <p:spPr>
            <a:xfrm>
              <a:off x="2381400" y="2075040"/>
              <a:ext cx="5493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קדמיה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592720" y="2168640"/>
              <a:ext cx="177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ח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305440" y="2262240"/>
              <a:ext cx="6822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הקריה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אקדמית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1039680" y="2989440"/>
            <a:ext cx="785520" cy="528840"/>
            <a:chOff x="1039680" y="2989440"/>
            <a:chExt cx="785520" cy="528840"/>
          </a:xfrm>
        </p:grpSpPr>
        <p:pic>
          <p:nvPicPr>
            <p:cNvPr id="554" name="Professor_new_md_CLR" descr=""/>
            <p:cNvPicPr/>
            <p:nvPr/>
          </p:nvPicPr>
          <p:blipFill>
            <a:blip r:embed="rId112"/>
            <a:stretch/>
          </p:blipFill>
          <p:spPr>
            <a:xfrm>
              <a:off x="1039680" y="2989440"/>
              <a:ext cx="399960" cy="39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>
              <a:off x="1218960" y="3018240"/>
              <a:ext cx="5493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קדמיה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430280" y="3111840"/>
              <a:ext cx="177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ח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143000" y="3205440"/>
              <a:ext cx="6822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הקריה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אקדמית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1096920" y="3665520"/>
            <a:ext cx="785520" cy="528840"/>
            <a:chOff x="1096920" y="3665520"/>
            <a:chExt cx="785520" cy="528840"/>
          </a:xfrm>
        </p:grpSpPr>
        <p:pic>
          <p:nvPicPr>
            <p:cNvPr id="559" name="Professor_new_md_CLR" descr=""/>
            <p:cNvPicPr/>
            <p:nvPr/>
          </p:nvPicPr>
          <p:blipFill>
            <a:blip r:embed="rId113"/>
            <a:stretch/>
          </p:blipFill>
          <p:spPr>
            <a:xfrm>
              <a:off x="1096920" y="3665520"/>
              <a:ext cx="399960" cy="39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"/>
            <p:cNvSpPr/>
            <p:nvPr/>
          </p:nvSpPr>
          <p:spPr>
            <a:xfrm>
              <a:off x="1276200" y="3694320"/>
              <a:ext cx="5493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קדמיה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487520" y="3787920"/>
              <a:ext cx="177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ח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200240" y="3881520"/>
              <a:ext cx="6822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הקריה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אקדמית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1258920" y="4656240"/>
            <a:ext cx="785520" cy="528840"/>
            <a:chOff x="1258920" y="4656240"/>
            <a:chExt cx="785520" cy="528840"/>
          </a:xfrm>
        </p:grpSpPr>
        <p:pic>
          <p:nvPicPr>
            <p:cNvPr id="564" name="Professor_new_md_CLR" descr=""/>
            <p:cNvPicPr/>
            <p:nvPr/>
          </p:nvPicPr>
          <p:blipFill>
            <a:blip r:embed="rId114"/>
            <a:stretch/>
          </p:blipFill>
          <p:spPr>
            <a:xfrm>
              <a:off x="1258920" y="4656240"/>
              <a:ext cx="399960" cy="39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5" name=""/>
            <p:cNvSpPr/>
            <p:nvPr/>
          </p:nvSpPr>
          <p:spPr>
            <a:xfrm>
              <a:off x="1438200" y="4685040"/>
              <a:ext cx="5493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קדמיה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649520" y="4778640"/>
              <a:ext cx="177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ח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362240" y="4872240"/>
              <a:ext cx="6822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הקריה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אקדמית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8" name=""/>
          <p:cNvGrpSpPr/>
          <p:nvPr/>
        </p:nvGrpSpPr>
        <p:grpSpPr>
          <a:xfrm>
            <a:off x="2914560" y="2073240"/>
            <a:ext cx="806400" cy="477720"/>
            <a:chOff x="2914560" y="2073240"/>
            <a:chExt cx="806400" cy="477720"/>
          </a:xfrm>
        </p:grpSpPr>
        <p:sp>
          <p:nvSpPr>
            <p:cNvPr id="569" name=""/>
            <p:cNvSpPr/>
            <p:nvPr/>
          </p:nvSpPr>
          <p:spPr>
            <a:xfrm>
              <a:off x="3189240" y="2228760"/>
              <a:ext cx="96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373560" y="2203560"/>
              <a:ext cx="28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ג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078000" y="2120760"/>
              <a:ext cx="6429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תפיר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2" name="needle_thread_shimmer_sm_CLR" descr=""/>
            <p:cNvPicPr/>
            <p:nvPr/>
          </p:nvPicPr>
          <p:blipFill>
            <a:blip r:embed="rId115"/>
            <a:stretch/>
          </p:blipFill>
          <p:spPr>
            <a:xfrm>
              <a:off x="2914560" y="2073240"/>
              <a:ext cx="609840" cy="477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3" name=""/>
          <p:cNvGrpSpPr/>
          <p:nvPr/>
        </p:nvGrpSpPr>
        <p:grpSpPr>
          <a:xfrm>
            <a:off x="3002760" y="3670200"/>
            <a:ext cx="1210320" cy="518400"/>
            <a:chOff x="3002760" y="3670200"/>
            <a:chExt cx="1210320" cy="518400"/>
          </a:xfrm>
        </p:grpSpPr>
        <p:sp>
          <p:nvSpPr>
            <p:cNvPr id="574" name=""/>
            <p:cNvSpPr/>
            <p:nvPr/>
          </p:nvSpPr>
          <p:spPr>
            <a:xfrm>
              <a:off x="3353040" y="3816360"/>
              <a:ext cx="96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703680" y="3686040"/>
              <a:ext cx="509400" cy="50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שחקים עם אותי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128400" y="3718080"/>
              <a:ext cx="3344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ו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002760" y="39290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377160" y="3670200"/>
              <a:ext cx="61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3399ff"/>
                  </a:solidFill>
                  <a:latin typeface="Times New Roman"/>
                  <a:cs typeface="Arial"/>
                </a:rPr>
                <a:t>א</a:t>
              </a:r>
              <a:r>
                <a:rPr b="1" lang="he-IL" sz="1900" spc="-1" strike="noStrike">
                  <a:solidFill>
                    <a:srgbClr val="009900"/>
                  </a:solidFill>
                  <a:latin typeface="Times New Roman"/>
                  <a:cs typeface="Arial"/>
                </a:rPr>
                <a:t>ב</a:t>
              </a:r>
              <a:r>
                <a:rPr b="1" lang="he-IL" sz="2400" spc="-1" strike="noStrike">
                  <a:solidFill>
                    <a:srgbClr val="cc00ff"/>
                  </a:solidFill>
                  <a:latin typeface="Times New Roman"/>
                  <a:cs typeface="Arial"/>
                </a:rPr>
                <a:t>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7005600" y="1531800"/>
            <a:ext cx="1254960" cy="516240"/>
            <a:chOff x="7005600" y="1531800"/>
            <a:chExt cx="1254960" cy="516240"/>
          </a:xfrm>
        </p:grpSpPr>
        <p:pic>
          <p:nvPicPr>
            <p:cNvPr id="580" name="Plasticine_s_c" descr=""/>
            <p:cNvPicPr/>
            <p:nvPr/>
          </p:nvPicPr>
          <p:blipFill>
            <a:blip r:embed="rId116"/>
            <a:stretch/>
          </p:blipFill>
          <p:spPr>
            <a:xfrm>
              <a:off x="7005600" y="1619280"/>
              <a:ext cx="636480" cy="4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"/>
            <p:cNvSpPr/>
            <p:nvPr/>
          </p:nvSpPr>
          <p:spPr>
            <a:xfrm>
              <a:off x="7435080" y="1531800"/>
              <a:ext cx="825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לסטלי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780320" y="1665360"/>
              <a:ext cx="4762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מי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636320" y="1655640"/>
              <a:ext cx="2768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729560" y="1814400"/>
              <a:ext cx="33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5" name=""/>
          <p:cNvGrpSpPr/>
          <p:nvPr/>
        </p:nvGrpSpPr>
        <p:grpSpPr>
          <a:xfrm>
            <a:off x="2857680" y="4178160"/>
            <a:ext cx="849600" cy="538200"/>
            <a:chOff x="2857680" y="4178160"/>
            <a:chExt cx="849600" cy="538200"/>
          </a:xfrm>
        </p:grpSpPr>
        <p:sp>
          <p:nvSpPr>
            <p:cNvPr id="586" name=""/>
            <p:cNvSpPr/>
            <p:nvPr/>
          </p:nvSpPr>
          <p:spPr>
            <a:xfrm>
              <a:off x="3331800" y="4178160"/>
              <a:ext cx="270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ק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" descr=""/>
            <p:cNvPicPr/>
            <p:nvPr/>
          </p:nvPicPr>
          <p:blipFill>
            <a:blip r:embed="rId1"/>
            <a:stretch/>
          </p:blipFill>
          <p:spPr>
            <a:xfrm>
              <a:off x="2857680" y="4397400"/>
              <a:ext cx="29484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8" name="" descr=""/>
            <p:cNvPicPr/>
            <p:nvPr/>
          </p:nvPicPr>
          <p:blipFill>
            <a:blip r:embed="rId2"/>
            <a:stretch/>
          </p:blipFill>
          <p:spPr>
            <a:xfrm>
              <a:off x="3028680" y="4216320"/>
              <a:ext cx="295200" cy="3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9" name=""/>
            <p:cNvSpPr/>
            <p:nvPr/>
          </p:nvSpPr>
          <p:spPr>
            <a:xfrm>
              <a:off x="3400920" y="4322880"/>
              <a:ext cx="214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ר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154680" y="44384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4133880" y="2739960"/>
            <a:ext cx="850320" cy="538200"/>
            <a:chOff x="4133880" y="2739960"/>
            <a:chExt cx="850320" cy="538200"/>
          </a:xfrm>
        </p:grpSpPr>
        <p:sp>
          <p:nvSpPr>
            <p:cNvPr id="592" name=""/>
            <p:cNvSpPr/>
            <p:nvPr/>
          </p:nvSpPr>
          <p:spPr>
            <a:xfrm>
              <a:off x="4608360" y="2739960"/>
              <a:ext cx="270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ק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3" name="" descr=""/>
            <p:cNvPicPr/>
            <p:nvPr/>
          </p:nvPicPr>
          <p:blipFill>
            <a:blip r:embed="rId3"/>
            <a:stretch/>
          </p:blipFill>
          <p:spPr>
            <a:xfrm>
              <a:off x="4133880" y="2959200"/>
              <a:ext cx="29520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4" name="" descr=""/>
            <p:cNvPicPr/>
            <p:nvPr/>
          </p:nvPicPr>
          <p:blipFill>
            <a:blip r:embed="rId4"/>
            <a:stretch/>
          </p:blipFill>
          <p:spPr>
            <a:xfrm>
              <a:off x="4305240" y="2778120"/>
              <a:ext cx="295560" cy="3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"/>
            <p:cNvSpPr/>
            <p:nvPr/>
          </p:nvSpPr>
          <p:spPr>
            <a:xfrm>
              <a:off x="4637520" y="2884680"/>
              <a:ext cx="25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י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431600" y="30002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838080" y="2744640"/>
            <a:ext cx="726480" cy="462600"/>
            <a:chOff x="838080" y="2744640"/>
            <a:chExt cx="726480" cy="462600"/>
          </a:xfrm>
        </p:grpSpPr>
        <p:sp>
          <p:nvSpPr>
            <p:cNvPr id="598" name=""/>
            <p:cNvSpPr/>
            <p:nvPr/>
          </p:nvSpPr>
          <p:spPr>
            <a:xfrm>
              <a:off x="1188720" y="2744640"/>
              <a:ext cx="270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ק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9" name="" descr=""/>
            <p:cNvPicPr/>
            <p:nvPr/>
          </p:nvPicPr>
          <p:blipFill>
            <a:blip r:embed="rId5"/>
            <a:stretch/>
          </p:blipFill>
          <p:spPr>
            <a:xfrm>
              <a:off x="838080" y="2858760"/>
              <a:ext cx="29520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" descr=""/>
            <p:cNvPicPr/>
            <p:nvPr/>
          </p:nvPicPr>
          <p:blipFill>
            <a:blip r:embed="rId6"/>
            <a:stretch/>
          </p:blipFill>
          <p:spPr>
            <a:xfrm>
              <a:off x="904680" y="2792160"/>
              <a:ext cx="295200" cy="3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1199520" y="2879280"/>
              <a:ext cx="22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ו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011960" y="29761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4952880" y="1139760"/>
            <a:ext cx="850320" cy="538200"/>
            <a:chOff x="4952880" y="1139760"/>
            <a:chExt cx="850320" cy="538200"/>
          </a:xfrm>
        </p:grpSpPr>
        <p:sp>
          <p:nvSpPr>
            <p:cNvPr id="604" name=""/>
            <p:cNvSpPr/>
            <p:nvPr/>
          </p:nvSpPr>
          <p:spPr>
            <a:xfrm>
              <a:off x="5427360" y="1139760"/>
              <a:ext cx="270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ק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5" name="" descr=""/>
            <p:cNvPicPr/>
            <p:nvPr/>
          </p:nvPicPr>
          <p:blipFill>
            <a:blip r:embed="rId7"/>
            <a:stretch/>
          </p:blipFill>
          <p:spPr>
            <a:xfrm>
              <a:off x="4952880" y="1359000"/>
              <a:ext cx="29556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6" name="" descr=""/>
            <p:cNvPicPr/>
            <p:nvPr/>
          </p:nvPicPr>
          <p:blipFill>
            <a:blip r:embed="rId8"/>
            <a:stretch/>
          </p:blipFill>
          <p:spPr>
            <a:xfrm>
              <a:off x="5124600" y="1216080"/>
              <a:ext cx="295200" cy="3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7" name=""/>
            <p:cNvSpPr/>
            <p:nvPr/>
          </p:nvSpPr>
          <p:spPr>
            <a:xfrm>
              <a:off x="5456880" y="1284120"/>
              <a:ext cx="25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י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250600" y="14000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2132280" y="187200"/>
            <a:ext cx="343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רביעי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8186760" y="4044960"/>
            <a:ext cx="75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1:50-11:1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8196120" y="4987800"/>
            <a:ext cx="76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2:35-11:5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8196120" y="6622920"/>
            <a:ext cx="75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3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30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-13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4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8205840" y="958680"/>
            <a:ext cx="703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8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35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-9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8244000" y="1892160"/>
            <a:ext cx="703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9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-10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8205840" y="3089160"/>
            <a:ext cx="75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1:00-10:2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964120" y="6642000"/>
            <a:ext cx="575280" cy="1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חוק וסדר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887480" y="6642000"/>
            <a:ext cx="575280" cy="1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חוק וסדר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8196120" y="2530440"/>
            <a:ext cx="76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00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-10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999080" y="2455920"/>
            <a:ext cx="650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הפסקה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90440" y="171360"/>
            <a:ext cx="8772480" cy="6639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90440" y="37152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90440" y="63828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90440" y="157176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90440" y="252396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90440" y="273384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00160" y="3676680"/>
            <a:ext cx="876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90440" y="463860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90440" y="558180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8182080" y="162000"/>
            <a:ext cx="0" cy="663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257720" y="171360"/>
            <a:ext cx="0" cy="663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8224920" y="425520"/>
            <a:ext cx="703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8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3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930680" y="450720"/>
            <a:ext cx="718560" cy="1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מפגש בוקר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00160" y="6562800"/>
            <a:ext cx="876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8186760" y="6016680"/>
            <a:ext cx="76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3:20-12:4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801880" y="-38160"/>
            <a:ext cx="3510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500" spc="-1" strike="noStrike">
                <a:solidFill>
                  <a:srgbClr val="0000ff"/>
                </a:solidFill>
                <a:latin typeface="Arial"/>
                <a:cs typeface="Arial"/>
              </a:rPr>
              <a:t>מערכת שעות לבחירה – שליש ב' תשס“ח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2629440" y="1089000"/>
            <a:ext cx="935280" cy="471240"/>
            <a:chOff x="2629440" y="1089000"/>
            <a:chExt cx="935280" cy="471240"/>
          </a:xfrm>
        </p:grpSpPr>
        <p:pic>
          <p:nvPicPr>
            <p:cNvPr id="637" name="Research3" descr=""/>
            <p:cNvPicPr/>
            <p:nvPr/>
          </p:nvPicPr>
          <p:blipFill>
            <a:blip r:embed="rId9"/>
            <a:stretch/>
          </p:blipFill>
          <p:spPr>
            <a:xfrm>
              <a:off x="2674800" y="1203120"/>
              <a:ext cx="450720" cy="3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2629440" y="1089000"/>
              <a:ext cx="7977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צר לימוד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192120" y="1177560"/>
              <a:ext cx="22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ו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873880" y="1158840"/>
              <a:ext cx="35604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012120" y="126180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276120" y="662040"/>
            <a:ext cx="869400" cy="430920"/>
            <a:chOff x="276120" y="662040"/>
            <a:chExt cx="869400" cy="430920"/>
          </a:xfrm>
        </p:grpSpPr>
        <p:sp>
          <p:nvSpPr>
            <p:cNvPr id="643" name=""/>
            <p:cNvSpPr/>
            <p:nvPr/>
          </p:nvSpPr>
          <p:spPr>
            <a:xfrm>
              <a:off x="320760" y="662040"/>
              <a:ext cx="4885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4" name=""/>
            <p:cNvGrpSpPr/>
            <p:nvPr/>
          </p:nvGrpSpPr>
          <p:grpSpPr>
            <a:xfrm>
              <a:off x="487080" y="796680"/>
              <a:ext cx="192240" cy="226440"/>
              <a:chOff x="487080" y="796680"/>
              <a:chExt cx="192240" cy="226440"/>
            </a:xfrm>
          </p:grpSpPr>
          <p:pic>
            <p:nvPicPr>
              <p:cNvPr id="64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7080" y="796680"/>
                <a:ext cx="192240" cy="22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487080" y="796680"/>
                <a:ext cx="192240" cy="226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47" name=""/>
            <p:cNvGrpSpPr/>
            <p:nvPr/>
          </p:nvGrpSpPr>
          <p:grpSpPr>
            <a:xfrm>
              <a:off x="276120" y="785520"/>
              <a:ext cx="199800" cy="246960"/>
              <a:chOff x="276120" y="785520"/>
              <a:chExt cx="199800" cy="246960"/>
            </a:xfrm>
          </p:grpSpPr>
          <p:pic>
            <p:nvPicPr>
              <p:cNvPr id="648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276120" y="785520"/>
                <a:ext cx="199800" cy="246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9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276120" y="785520"/>
                <a:ext cx="199800" cy="246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50" name=""/>
            <p:cNvSpPr/>
            <p:nvPr/>
          </p:nvSpPr>
          <p:spPr>
            <a:xfrm>
              <a:off x="918000" y="731520"/>
              <a:ext cx="115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75360" y="731520"/>
              <a:ext cx="19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92920" y="8618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2124720" y="1574640"/>
            <a:ext cx="979200" cy="598680"/>
            <a:chOff x="2124720" y="1574640"/>
            <a:chExt cx="979200" cy="598680"/>
          </a:xfrm>
        </p:grpSpPr>
        <p:pic>
          <p:nvPicPr>
            <p:cNvPr id="654" name="child_finger_painting_sm_CLR" descr=""/>
            <p:cNvPicPr/>
            <p:nvPr/>
          </p:nvPicPr>
          <p:blipFill>
            <a:blip r:embed="rId14"/>
            <a:stretch/>
          </p:blipFill>
          <p:spPr>
            <a:xfrm>
              <a:off x="2160720" y="1655640"/>
              <a:ext cx="51696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2124720" y="1574640"/>
              <a:ext cx="9792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בובות ודמויות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604600" y="1703520"/>
              <a:ext cx="195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870280" y="1668600"/>
              <a:ext cx="194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קר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449800" y="17762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1036800" y="1981080"/>
            <a:ext cx="1036800" cy="588240"/>
            <a:chOff x="1036800" y="1981080"/>
            <a:chExt cx="1036800" cy="588240"/>
          </a:xfrm>
        </p:grpSpPr>
        <p:sp>
          <p:nvSpPr>
            <p:cNvPr id="660" name=""/>
            <p:cNvSpPr/>
            <p:nvPr/>
          </p:nvSpPr>
          <p:spPr>
            <a:xfrm>
              <a:off x="1036800" y="1981080"/>
              <a:ext cx="10238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לקראת תיכ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838160" y="2339640"/>
              <a:ext cx="17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810800" y="2260440"/>
              <a:ext cx="2628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סיג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3" name="addition_2_plus_2_ty_CLR" descr=""/>
            <p:cNvPicPr/>
            <p:nvPr/>
          </p:nvPicPr>
          <p:blipFill>
            <a:blip r:embed="rId15"/>
            <a:stretch/>
          </p:blipFill>
          <p:spPr>
            <a:xfrm>
              <a:off x="1228680" y="2076120"/>
              <a:ext cx="585360" cy="3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"/>
            <p:cNvSpPr/>
            <p:nvPr/>
          </p:nvSpPr>
          <p:spPr>
            <a:xfrm>
              <a:off x="1297440" y="233820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923760" y="1603440"/>
            <a:ext cx="907200" cy="403920"/>
            <a:chOff x="923760" y="1603440"/>
            <a:chExt cx="907200" cy="403920"/>
          </a:xfrm>
        </p:grpSpPr>
        <p:pic>
          <p:nvPicPr>
            <p:cNvPr id="666" name="bkcl1a" descr=""/>
            <p:cNvPicPr/>
            <p:nvPr/>
          </p:nvPicPr>
          <p:blipFill>
            <a:blip r:embed="rId16"/>
            <a:stretch/>
          </p:blipFill>
          <p:spPr>
            <a:xfrm>
              <a:off x="923760" y="1615680"/>
              <a:ext cx="419040" cy="33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7" name=""/>
            <p:cNvSpPr/>
            <p:nvPr/>
          </p:nvSpPr>
          <p:spPr>
            <a:xfrm>
              <a:off x="1308240" y="1603440"/>
              <a:ext cx="4136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פר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348560" y="1725120"/>
              <a:ext cx="20952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-י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591200" y="1687320"/>
              <a:ext cx="214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ר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278360" y="17762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2398680" y="2684520"/>
            <a:ext cx="985320" cy="593640"/>
            <a:chOff x="2398680" y="2684520"/>
            <a:chExt cx="985320" cy="593640"/>
          </a:xfrm>
        </p:grpSpPr>
        <p:sp>
          <p:nvSpPr>
            <p:cNvPr id="672" name=""/>
            <p:cNvSpPr/>
            <p:nvPr/>
          </p:nvSpPr>
          <p:spPr>
            <a:xfrm>
              <a:off x="2844720" y="2863800"/>
              <a:ext cx="22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636640" y="2714760"/>
              <a:ext cx="604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120840" y="2889360"/>
              <a:ext cx="203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נ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75" name="girl_holding_123_ty_CLR" descr=""/>
            <p:cNvPicPr/>
            <p:nvPr/>
          </p:nvPicPr>
          <p:blipFill>
            <a:blip r:embed="rId17"/>
            <a:stretch/>
          </p:blipFill>
          <p:spPr>
            <a:xfrm>
              <a:off x="2398680" y="2684520"/>
              <a:ext cx="59364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6" name=""/>
            <p:cNvSpPr/>
            <p:nvPr/>
          </p:nvSpPr>
          <p:spPr>
            <a:xfrm>
              <a:off x="2831400" y="29671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7" name=""/>
          <p:cNvGrpSpPr/>
          <p:nvPr/>
        </p:nvGrpSpPr>
        <p:grpSpPr>
          <a:xfrm>
            <a:off x="932040" y="1039680"/>
            <a:ext cx="833400" cy="567720"/>
            <a:chOff x="932040" y="1039680"/>
            <a:chExt cx="833400" cy="567720"/>
          </a:xfrm>
        </p:grpSpPr>
        <p:sp>
          <p:nvSpPr>
            <p:cNvPr id="678" name=""/>
            <p:cNvSpPr/>
            <p:nvPr/>
          </p:nvSpPr>
          <p:spPr>
            <a:xfrm>
              <a:off x="1502640" y="1268280"/>
              <a:ext cx="26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סיג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143000" y="1042920"/>
              <a:ext cx="56628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לאלגבר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263600" y="1303200"/>
              <a:ext cx="1760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1" name="walking_1_sm_CLR" descr=""/>
            <p:cNvPicPr/>
            <p:nvPr/>
          </p:nvPicPr>
          <p:blipFill>
            <a:blip r:embed="rId18"/>
            <a:stretch/>
          </p:blipFill>
          <p:spPr>
            <a:xfrm>
              <a:off x="932040" y="1039680"/>
              <a:ext cx="34272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2" name=""/>
            <p:cNvSpPr/>
            <p:nvPr/>
          </p:nvSpPr>
          <p:spPr>
            <a:xfrm>
              <a:off x="1192680" y="137628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1446120" y="3838680"/>
            <a:ext cx="1037160" cy="626400"/>
            <a:chOff x="1446120" y="3838680"/>
            <a:chExt cx="1037160" cy="626400"/>
          </a:xfrm>
        </p:grpSpPr>
        <p:sp>
          <p:nvSpPr>
            <p:cNvPr id="684" name=""/>
            <p:cNvSpPr/>
            <p:nvPr/>
          </p:nvSpPr>
          <p:spPr>
            <a:xfrm>
              <a:off x="1446120" y="3838680"/>
              <a:ext cx="10238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לקראת תיכ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247840" y="4235400"/>
              <a:ext cx="17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220480" y="4156200"/>
              <a:ext cx="2628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סיג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7" name="addition_2_plus_2_ty_CLR" descr=""/>
            <p:cNvPicPr/>
            <p:nvPr/>
          </p:nvPicPr>
          <p:blipFill>
            <a:blip r:embed="rId19"/>
            <a:stretch/>
          </p:blipFill>
          <p:spPr>
            <a:xfrm>
              <a:off x="1638000" y="3971880"/>
              <a:ext cx="586080" cy="3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"/>
            <p:cNvSpPr/>
            <p:nvPr/>
          </p:nvSpPr>
          <p:spPr>
            <a:xfrm>
              <a:off x="1707120" y="423396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4379760" y="3695760"/>
            <a:ext cx="823320" cy="807480"/>
            <a:chOff x="4379760" y="3695760"/>
            <a:chExt cx="823320" cy="807480"/>
          </a:xfrm>
        </p:grpSpPr>
        <p:sp>
          <p:nvSpPr>
            <p:cNvPr id="690" name=""/>
            <p:cNvSpPr/>
            <p:nvPr/>
          </p:nvSpPr>
          <p:spPr>
            <a:xfrm>
              <a:off x="4808160" y="414036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379760" y="3695760"/>
              <a:ext cx="6998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סעו של סיפו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892760" y="4022640"/>
              <a:ext cx="1152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3" name="boy" descr=""/>
            <p:cNvPicPr/>
            <p:nvPr/>
          </p:nvPicPr>
          <p:blipFill>
            <a:blip r:embed="rId20"/>
            <a:stretch/>
          </p:blipFill>
          <p:spPr>
            <a:xfrm>
              <a:off x="4438440" y="3852720"/>
              <a:ext cx="342720" cy="42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4" name=""/>
            <p:cNvSpPr/>
            <p:nvPr/>
          </p:nvSpPr>
          <p:spPr>
            <a:xfrm>
              <a:off x="4650480" y="42721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3398760" y="5079960"/>
            <a:ext cx="930240" cy="537480"/>
            <a:chOff x="3398760" y="5079960"/>
            <a:chExt cx="930240" cy="537480"/>
          </a:xfrm>
        </p:grpSpPr>
        <p:pic>
          <p:nvPicPr>
            <p:cNvPr id="696" name="child_finger_painting_sm_CLR" descr=""/>
            <p:cNvPicPr/>
            <p:nvPr/>
          </p:nvPicPr>
          <p:blipFill>
            <a:blip r:embed="rId21"/>
            <a:stretch/>
          </p:blipFill>
          <p:spPr>
            <a:xfrm>
              <a:off x="3398760" y="5085000"/>
              <a:ext cx="51732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7" name=""/>
            <p:cNvSpPr/>
            <p:nvPr/>
          </p:nvSpPr>
          <p:spPr>
            <a:xfrm>
              <a:off x="3697560" y="5079960"/>
              <a:ext cx="44568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דנ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ומנ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927960" y="5288040"/>
              <a:ext cx="194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קר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841920" y="5386320"/>
              <a:ext cx="487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בחוץ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0" name=""/>
          <p:cNvGrpSpPr/>
          <p:nvPr/>
        </p:nvGrpSpPr>
        <p:grpSpPr>
          <a:xfrm>
            <a:off x="5191560" y="5594400"/>
            <a:ext cx="1011600" cy="471600"/>
            <a:chOff x="5191560" y="5594400"/>
            <a:chExt cx="1011600" cy="471600"/>
          </a:xfrm>
        </p:grpSpPr>
        <p:pic>
          <p:nvPicPr>
            <p:cNvPr id="701" name="Research3" descr=""/>
            <p:cNvPicPr/>
            <p:nvPr/>
          </p:nvPicPr>
          <p:blipFill>
            <a:blip r:embed="rId22"/>
            <a:stretch/>
          </p:blipFill>
          <p:spPr>
            <a:xfrm>
              <a:off x="5236920" y="5708880"/>
              <a:ext cx="451080" cy="3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2" name=""/>
            <p:cNvSpPr/>
            <p:nvPr/>
          </p:nvSpPr>
          <p:spPr>
            <a:xfrm>
              <a:off x="5191560" y="5594400"/>
              <a:ext cx="7977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צר לימוד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906880" y="5683320"/>
              <a:ext cx="22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ו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471280" y="5664240"/>
              <a:ext cx="40032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650560" y="579600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6" name=""/>
          <p:cNvGrpSpPr/>
          <p:nvPr/>
        </p:nvGrpSpPr>
        <p:grpSpPr>
          <a:xfrm>
            <a:off x="3236760" y="5575320"/>
            <a:ext cx="1024920" cy="598320"/>
            <a:chOff x="3236760" y="5575320"/>
            <a:chExt cx="1024920" cy="598320"/>
          </a:xfrm>
        </p:grpSpPr>
        <p:pic>
          <p:nvPicPr>
            <p:cNvPr id="707" name="child_finger_painting_sm_CLR" descr=""/>
            <p:cNvPicPr/>
            <p:nvPr/>
          </p:nvPicPr>
          <p:blipFill>
            <a:blip r:embed="rId23"/>
            <a:stretch/>
          </p:blipFill>
          <p:spPr>
            <a:xfrm>
              <a:off x="3236760" y="5656320"/>
              <a:ext cx="51768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"/>
            <p:cNvSpPr/>
            <p:nvPr/>
          </p:nvSpPr>
          <p:spPr>
            <a:xfrm>
              <a:off x="3279240" y="5575320"/>
              <a:ext cx="8265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דנת אומנ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605760" y="5668920"/>
              <a:ext cx="655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בוגרים וקר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594240" y="5776920"/>
              <a:ext cx="487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בחוץ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7250760" y="650880"/>
            <a:ext cx="1000440" cy="565920"/>
            <a:chOff x="7250760" y="650880"/>
            <a:chExt cx="1000440" cy="565920"/>
          </a:xfrm>
        </p:grpSpPr>
        <p:sp>
          <p:nvSpPr>
            <p:cNvPr id="712" name=""/>
            <p:cNvSpPr/>
            <p:nvPr/>
          </p:nvSpPr>
          <p:spPr>
            <a:xfrm>
              <a:off x="7250760" y="650880"/>
              <a:ext cx="968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 כתיבה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857720" y="749160"/>
              <a:ext cx="26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795080" y="863280"/>
              <a:ext cx="40032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5" name="girl" descr=""/>
            <p:cNvPicPr/>
            <p:nvPr/>
          </p:nvPicPr>
          <p:blipFill>
            <a:blip r:embed="rId24"/>
            <a:stretch/>
          </p:blipFill>
          <p:spPr>
            <a:xfrm>
              <a:off x="7448400" y="772920"/>
              <a:ext cx="341280" cy="42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6" name=""/>
            <p:cNvSpPr/>
            <p:nvPr/>
          </p:nvSpPr>
          <p:spPr>
            <a:xfrm>
              <a:off x="7698600" y="98568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1821960" y="650880"/>
            <a:ext cx="942840" cy="775800"/>
            <a:chOff x="1821960" y="650880"/>
            <a:chExt cx="942840" cy="775800"/>
          </a:xfrm>
        </p:grpSpPr>
        <p:pic>
          <p:nvPicPr>
            <p:cNvPr id="718" name="child_finger_painting_sm_CLR" descr=""/>
            <p:cNvPicPr/>
            <p:nvPr/>
          </p:nvPicPr>
          <p:blipFill>
            <a:blip r:embed="rId25"/>
            <a:stretch/>
          </p:blipFill>
          <p:spPr>
            <a:xfrm>
              <a:off x="1836720" y="884160"/>
              <a:ext cx="51732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9" name=""/>
            <p:cNvSpPr/>
            <p:nvPr/>
          </p:nvSpPr>
          <p:spPr>
            <a:xfrm>
              <a:off x="1821960" y="650880"/>
              <a:ext cx="5738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בובו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ודמויות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204640" y="1046160"/>
              <a:ext cx="195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261160" y="878040"/>
              <a:ext cx="194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קר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212200" y="119556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6174720" y="177840"/>
            <a:ext cx="392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שלישי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017040" y="441360"/>
            <a:ext cx="718560" cy="1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מפגש בוקר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066360" y="2503440"/>
            <a:ext cx="650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הפסקה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7199280" y="1574640"/>
            <a:ext cx="1022400" cy="690120"/>
            <a:chOff x="7199280" y="1574640"/>
            <a:chExt cx="1022400" cy="690120"/>
          </a:xfrm>
        </p:grpSpPr>
        <p:pic>
          <p:nvPicPr>
            <p:cNvPr id="727" name="child_finger_painting_sm_CLR" descr=""/>
            <p:cNvPicPr/>
            <p:nvPr/>
          </p:nvPicPr>
          <p:blipFill>
            <a:blip r:embed="rId26"/>
            <a:stretch/>
          </p:blipFill>
          <p:spPr>
            <a:xfrm>
              <a:off x="7199280" y="1655640"/>
              <a:ext cx="51732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8" name=""/>
            <p:cNvSpPr/>
            <p:nvPr/>
          </p:nvSpPr>
          <p:spPr>
            <a:xfrm>
              <a:off x="7376760" y="1574640"/>
              <a:ext cx="8449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יצירה בשילו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ומר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728120" y="1950840"/>
              <a:ext cx="220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756920" y="1792080"/>
              <a:ext cx="194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קר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545960" y="20336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5513400" y="1590840"/>
            <a:ext cx="842400" cy="607320"/>
            <a:chOff x="5513400" y="1590840"/>
            <a:chExt cx="842400" cy="607320"/>
          </a:xfrm>
        </p:grpSpPr>
        <p:sp>
          <p:nvSpPr>
            <p:cNvPr id="733" name=""/>
            <p:cNvSpPr/>
            <p:nvPr/>
          </p:nvSpPr>
          <p:spPr>
            <a:xfrm>
              <a:off x="5989680" y="187344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513400" y="1590840"/>
              <a:ext cx="7002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יפורי עמ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931000" y="1756080"/>
              <a:ext cx="3146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יט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6" name="boy" descr=""/>
            <p:cNvPicPr/>
            <p:nvPr/>
          </p:nvPicPr>
          <p:blipFill>
            <a:blip r:embed="rId27"/>
            <a:stretch/>
          </p:blipFill>
          <p:spPr>
            <a:xfrm>
              <a:off x="5572440" y="1738440"/>
              <a:ext cx="34272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7" name=""/>
            <p:cNvSpPr/>
            <p:nvPr/>
          </p:nvSpPr>
          <p:spPr>
            <a:xfrm>
              <a:off x="5803200" y="19670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6342120" y="1771560"/>
            <a:ext cx="823320" cy="779040"/>
            <a:chOff x="6342120" y="1771560"/>
            <a:chExt cx="823320" cy="779040"/>
          </a:xfrm>
        </p:grpSpPr>
        <p:sp>
          <p:nvSpPr>
            <p:cNvPr id="739" name=""/>
            <p:cNvSpPr/>
            <p:nvPr/>
          </p:nvSpPr>
          <p:spPr>
            <a:xfrm>
              <a:off x="6791400" y="2187720"/>
              <a:ext cx="17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342120" y="1771560"/>
              <a:ext cx="7002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סעו של סיפו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855120" y="2070000"/>
              <a:ext cx="1152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2" name="boy" descr=""/>
            <p:cNvPicPr/>
            <p:nvPr/>
          </p:nvPicPr>
          <p:blipFill>
            <a:blip r:embed="rId28"/>
            <a:stretch/>
          </p:blipFill>
          <p:spPr>
            <a:xfrm>
              <a:off x="6391440" y="2004840"/>
              <a:ext cx="342720" cy="42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3" name=""/>
            <p:cNvSpPr/>
            <p:nvPr/>
          </p:nvSpPr>
          <p:spPr>
            <a:xfrm>
              <a:off x="6612840" y="231948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4179960" y="2028960"/>
            <a:ext cx="1137600" cy="550080"/>
            <a:chOff x="4179960" y="2028960"/>
            <a:chExt cx="1137600" cy="550080"/>
          </a:xfrm>
        </p:grpSpPr>
        <p:sp>
          <p:nvSpPr>
            <p:cNvPr id="745" name=""/>
            <p:cNvSpPr/>
            <p:nvPr/>
          </p:nvSpPr>
          <p:spPr>
            <a:xfrm>
              <a:off x="4892040" y="2254320"/>
              <a:ext cx="20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-י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179960" y="2028960"/>
              <a:ext cx="871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בוגר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799880" y="2174760"/>
              <a:ext cx="3816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8" name="addition_2_plus_2_ty_CLR" descr=""/>
            <p:cNvPicPr/>
            <p:nvPr/>
          </p:nvPicPr>
          <p:blipFill>
            <a:blip r:embed="rId29"/>
            <a:stretch/>
          </p:blipFill>
          <p:spPr>
            <a:xfrm>
              <a:off x="4276800" y="2143080"/>
              <a:ext cx="585720" cy="3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9" name=""/>
            <p:cNvSpPr/>
            <p:nvPr/>
          </p:nvSpPr>
          <p:spPr>
            <a:xfrm>
              <a:off x="4764960" y="23479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5989680" y="2955960"/>
            <a:ext cx="928080" cy="598320"/>
            <a:chOff x="5989680" y="2955960"/>
            <a:chExt cx="928080" cy="598320"/>
          </a:xfrm>
        </p:grpSpPr>
        <p:pic>
          <p:nvPicPr>
            <p:cNvPr id="751" name="child_finger_painting_sm_CLR" descr=""/>
            <p:cNvPicPr/>
            <p:nvPr/>
          </p:nvPicPr>
          <p:blipFill>
            <a:blip r:embed="rId30"/>
            <a:stretch/>
          </p:blipFill>
          <p:spPr>
            <a:xfrm>
              <a:off x="5989680" y="3036960"/>
              <a:ext cx="51768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2" name=""/>
            <p:cNvSpPr/>
            <p:nvPr/>
          </p:nvSpPr>
          <p:spPr>
            <a:xfrm>
              <a:off x="6024600" y="2955960"/>
              <a:ext cx="8449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יצירה בשילו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ומר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366240" y="3208320"/>
              <a:ext cx="220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642720" y="3182760"/>
              <a:ext cx="194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קר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365160" y="330048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6793560" y="3191040"/>
            <a:ext cx="1092600" cy="521640"/>
            <a:chOff x="6793560" y="3191040"/>
            <a:chExt cx="1092600" cy="521640"/>
          </a:xfrm>
        </p:grpSpPr>
        <p:sp>
          <p:nvSpPr>
            <p:cNvPr id="757" name=""/>
            <p:cNvSpPr/>
            <p:nvPr/>
          </p:nvSpPr>
          <p:spPr>
            <a:xfrm>
              <a:off x="7265520" y="351180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208640" y="3286440"/>
              <a:ext cx="6048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4-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504560" y="3537000"/>
              <a:ext cx="3816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60" name="addition_2_plus_2_ty_CLR" descr=""/>
            <p:cNvPicPr/>
            <p:nvPr/>
          </p:nvPicPr>
          <p:blipFill>
            <a:blip r:embed="rId31"/>
            <a:stretch/>
          </p:blipFill>
          <p:spPr>
            <a:xfrm>
              <a:off x="6886440" y="3191040"/>
              <a:ext cx="585720" cy="3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1" name=""/>
            <p:cNvSpPr/>
            <p:nvPr/>
          </p:nvSpPr>
          <p:spPr>
            <a:xfrm>
              <a:off x="6793560" y="348156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5172480" y="2746440"/>
            <a:ext cx="964080" cy="471600"/>
            <a:chOff x="5172480" y="2746440"/>
            <a:chExt cx="964080" cy="471600"/>
          </a:xfrm>
        </p:grpSpPr>
        <p:pic>
          <p:nvPicPr>
            <p:cNvPr id="763" name="Research3" descr=""/>
            <p:cNvPicPr/>
            <p:nvPr/>
          </p:nvPicPr>
          <p:blipFill>
            <a:blip r:embed="rId32"/>
            <a:stretch/>
          </p:blipFill>
          <p:spPr>
            <a:xfrm>
              <a:off x="5217840" y="2860920"/>
              <a:ext cx="450720" cy="3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4" name=""/>
            <p:cNvSpPr/>
            <p:nvPr/>
          </p:nvSpPr>
          <p:spPr>
            <a:xfrm>
              <a:off x="5172480" y="2746440"/>
              <a:ext cx="7977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צר לימוד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868360" y="2835360"/>
              <a:ext cx="22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ו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500800" y="2816280"/>
              <a:ext cx="37584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583960" y="29480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8" name=""/>
          <p:cNvGrpSpPr/>
          <p:nvPr/>
        </p:nvGrpSpPr>
        <p:grpSpPr>
          <a:xfrm>
            <a:off x="5117400" y="4044960"/>
            <a:ext cx="554760" cy="596160"/>
            <a:chOff x="5117400" y="4044960"/>
            <a:chExt cx="554760" cy="596160"/>
          </a:xfrm>
        </p:grpSpPr>
        <p:sp>
          <p:nvSpPr>
            <p:cNvPr id="769" name=""/>
            <p:cNvSpPr/>
            <p:nvPr/>
          </p:nvSpPr>
          <p:spPr>
            <a:xfrm>
              <a:off x="5311800" y="4044960"/>
              <a:ext cx="360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דרמ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0" name=""/>
            <p:cNvGrpSpPr/>
            <p:nvPr/>
          </p:nvGrpSpPr>
          <p:grpSpPr>
            <a:xfrm>
              <a:off x="5132520" y="4136760"/>
              <a:ext cx="304560" cy="330120"/>
              <a:chOff x="5132520" y="4136760"/>
              <a:chExt cx="304560" cy="330120"/>
            </a:xfrm>
          </p:grpSpPr>
          <p:pic>
            <p:nvPicPr>
              <p:cNvPr id="771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5132520" y="4136760"/>
                <a:ext cx="304560" cy="330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2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5132520" y="4136760"/>
                <a:ext cx="304560" cy="330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73" name=""/>
            <p:cNvSpPr/>
            <p:nvPr/>
          </p:nvSpPr>
          <p:spPr>
            <a:xfrm>
              <a:off x="5399280" y="4217760"/>
              <a:ext cx="2581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דס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385600" y="4317840"/>
              <a:ext cx="20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י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117400" y="441000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6" name=""/>
          <p:cNvGrpSpPr/>
          <p:nvPr/>
        </p:nvGrpSpPr>
        <p:grpSpPr>
          <a:xfrm>
            <a:off x="7246800" y="4627440"/>
            <a:ext cx="922680" cy="593640"/>
            <a:chOff x="7246800" y="4627440"/>
            <a:chExt cx="922680" cy="593640"/>
          </a:xfrm>
        </p:grpSpPr>
        <p:sp>
          <p:nvSpPr>
            <p:cNvPr id="777" name=""/>
            <p:cNvSpPr/>
            <p:nvPr/>
          </p:nvSpPr>
          <p:spPr>
            <a:xfrm>
              <a:off x="7937280" y="4883040"/>
              <a:ext cx="232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-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437240" y="4638600"/>
              <a:ext cx="604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714080" y="4794120"/>
              <a:ext cx="3816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80" name="girl_holding_123_ty_CLR" descr=""/>
            <p:cNvPicPr/>
            <p:nvPr/>
          </p:nvPicPr>
          <p:blipFill>
            <a:blip r:embed="rId35"/>
            <a:stretch/>
          </p:blipFill>
          <p:spPr>
            <a:xfrm>
              <a:off x="7246800" y="4627440"/>
              <a:ext cx="59364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1" name=""/>
            <p:cNvSpPr/>
            <p:nvPr/>
          </p:nvSpPr>
          <p:spPr>
            <a:xfrm>
              <a:off x="7646760" y="4862520"/>
              <a:ext cx="33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2" name=""/>
          <p:cNvGrpSpPr/>
          <p:nvPr/>
        </p:nvGrpSpPr>
        <p:grpSpPr>
          <a:xfrm>
            <a:off x="4287240" y="4670280"/>
            <a:ext cx="951840" cy="598680"/>
            <a:chOff x="4287240" y="4670280"/>
            <a:chExt cx="951840" cy="598680"/>
          </a:xfrm>
        </p:grpSpPr>
        <p:pic>
          <p:nvPicPr>
            <p:cNvPr id="783" name="child_finger_painting_sm_CLR" descr=""/>
            <p:cNvPicPr/>
            <p:nvPr/>
          </p:nvPicPr>
          <p:blipFill>
            <a:blip r:embed="rId36"/>
            <a:stretch/>
          </p:blipFill>
          <p:spPr>
            <a:xfrm>
              <a:off x="4313160" y="4751280"/>
              <a:ext cx="51732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4" name=""/>
            <p:cNvSpPr/>
            <p:nvPr/>
          </p:nvSpPr>
          <p:spPr>
            <a:xfrm>
              <a:off x="4287240" y="4670280"/>
              <a:ext cx="951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מנות פלסט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745880" y="4799160"/>
              <a:ext cx="2095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י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023440" y="4764240"/>
              <a:ext cx="194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קר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602960" y="487188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952880" y="5202360"/>
            <a:ext cx="933120" cy="396000"/>
            <a:chOff x="4952880" y="5202360"/>
            <a:chExt cx="933120" cy="396000"/>
          </a:xfrm>
        </p:grpSpPr>
        <p:sp>
          <p:nvSpPr>
            <p:cNvPr id="789" name=""/>
            <p:cNvSpPr/>
            <p:nvPr/>
          </p:nvSpPr>
          <p:spPr>
            <a:xfrm>
              <a:off x="5579640" y="5249880"/>
              <a:ext cx="270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ק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90" name="" descr=""/>
            <p:cNvPicPr/>
            <p:nvPr/>
          </p:nvPicPr>
          <p:blipFill>
            <a:blip r:embed="rId37"/>
            <a:stretch/>
          </p:blipFill>
          <p:spPr>
            <a:xfrm>
              <a:off x="4952880" y="5268960"/>
              <a:ext cx="29520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1" name="" descr=""/>
            <p:cNvPicPr/>
            <p:nvPr/>
          </p:nvPicPr>
          <p:blipFill>
            <a:blip r:embed="rId38"/>
            <a:stretch/>
          </p:blipFill>
          <p:spPr>
            <a:xfrm>
              <a:off x="5019480" y="5202360"/>
              <a:ext cx="295200" cy="3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2" name=""/>
            <p:cNvSpPr/>
            <p:nvPr/>
          </p:nvSpPr>
          <p:spPr>
            <a:xfrm>
              <a:off x="5340240" y="5286240"/>
              <a:ext cx="220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627880" y="5384880"/>
              <a:ext cx="25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י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126760" y="53672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6261120" y="608040"/>
            <a:ext cx="837720" cy="685080"/>
            <a:chOff x="6261120" y="608040"/>
            <a:chExt cx="837720" cy="685080"/>
          </a:xfrm>
        </p:grpSpPr>
        <p:sp>
          <p:nvSpPr>
            <p:cNvPr id="796" name=""/>
            <p:cNvSpPr/>
            <p:nvPr/>
          </p:nvSpPr>
          <p:spPr>
            <a:xfrm>
              <a:off x="6577200" y="608040"/>
              <a:ext cx="331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שיר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282000" y="642960"/>
              <a:ext cx="2581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דס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719760" y="95580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99" name="lb_mu_v" descr=""/>
            <p:cNvPicPr/>
            <p:nvPr/>
          </p:nvPicPr>
          <p:blipFill>
            <a:blip r:embed="rId39"/>
            <a:stretch/>
          </p:blipFill>
          <p:spPr>
            <a:xfrm>
              <a:off x="6261120" y="768240"/>
              <a:ext cx="633600" cy="2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0" name=""/>
            <p:cNvSpPr/>
            <p:nvPr/>
          </p:nvSpPr>
          <p:spPr>
            <a:xfrm>
              <a:off x="6546240" y="106200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1" name=""/>
          <p:cNvGrpSpPr/>
          <p:nvPr/>
        </p:nvGrpSpPr>
        <p:grpSpPr>
          <a:xfrm>
            <a:off x="4258800" y="5594400"/>
            <a:ext cx="951840" cy="597960"/>
            <a:chOff x="4258800" y="5594400"/>
            <a:chExt cx="951840" cy="597960"/>
          </a:xfrm>
        </p:grpSpPr>
        <p:pic>
          <p:nvPicPr>
            <p:cNvPr id="802" name="child_finger_painting_sm_CLR" descr=""/>
            <p:cNvPicPr/>
            <p:nvPr/>
          </p:nvPicPr>
          <p:blipFill>
            <a:blip r:embed="rId40"/>
            <a:stretch/>
          </p:blipFill>
          <p:spPr>
            <a:xfrm>
              <a:off x="4284720" y="5675040"/>
              <a:ext cx="51732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/>
            <p:cNvSpPr/>
            <p:nvPr/>
          </p:nvSpPr>
          <p:spPr>
            <a:xfrm>
              <a:off x="4258800" y="5594400"/>
              <a:ext cx="951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מנות פלסט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717440" y="5722920"/>
              <a:ext cx="2095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י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995000" y="5688000"/>
              <a:ext cx="194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קר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74520" y="57956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6867360" y="6095880"/>
            <a:ext cx="1314000" cy="502560"/>
            <a:chOff x="6867360" y="6095880"/>
            <a:chExt cx="1314000" cy="502560"/>
          </a:xfrm>
        </p:grpSpPr>
        <p:sp>
          <p:nvSpPr>
            <p:cNvPr id="808" name=""/>
            <p:cNvSpPr/>
            <p:nvPr/>
          </p:nvSpPr>
          <p:spPr>
            <a:xfrm>
              <a:off x="7494120" y="625464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304040" y="6095880"/>
              <a:ext cx="6048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5-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799760" y="6280200"/>
              <a:ext cx="3816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11" name="addition_2_plus_2_ty_CLR" descr=""/>
            <p:cNvPicPr/>
            <p:nvPr/>
          </p:nvPicPr>
          <p:blipFill>
            <a:blip r:embed="rId41"/>
            <a:stretch/>
          </p:blipFill>
          <p:spPr>
            <a:xfrm>
              <a:off x="6867360" y="6172200"/>
              <a:ext cx="585720" cy="3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2" name=""/>
            <p:cNvSpPr/>
            <p:nvPr/>
          </p:nvSpPr>
          <p:spPr>
            <a:xfrm>
              <a:off x="7508160" y="63673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3" name=""/>
          <p:cNvGrpSpPr/>
          <p:nvPr/>
        </p:nvGrpSpPr>
        <p:grpSpPr>
          <a:xfrm>
            <a:off x="7184160" y="3718080"/>
            <a:ext cx="1000440" cy="565920"/>
            <a:chOff x="7184160" y="3718080"/>
            <a:chExt cx="1000440" cy="565920"/>
          </a:xfrm>
        </p:grpSpPr>
        <p:sp>
          <p:nvSpPr>
            <p:cNvPr id="814" name=""/>
            <p:cNvSpPr/>
            <p:nvPr/>
          </p:nvSpPr>
          <p:spPr>
            <a:xfrm>
              <a:off x="7184160" y="3718080"/>
              <a:ext cx="968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 כתיבה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791120" y="3816360"/>
              <a:ext cx="26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728480" y="3930480"/>
              <a:ext cx="40032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17" name="girl" descr=""/>
            <p:cNvPicPr/>
            <p:nvPr/>
          </p:nvPicPr>
          <p:blipFill>
            <a:blip r:embed="rId42"/>
            <a:stretch/>
          </p:blipFill>
          <p:spPr>
            <a:xfrm>
              <a:off x="7381800" y="3840120"/>
              <a:ext cx="341280" cy="42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8" name=""/>
            <p:cNvSpPr/>
            <p:nvPr/>
          </p:nvSpPr>
          <p:spPr>
            <a:xfrm>
              <a:off x="7632000" y="405288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9" name=""/>
          <p:cNvGrpSpPr/>
          <p:nvPr/>
        </p:nvGrpSpPr>
        <p:grpSpPr>
          <a:xfrm>
            <a:off x="4184280" y="708120"/>
            <a:ext cx="696600" cy="861120"/>
            <a:chOff x="4184280" y="708120"/>
            <a:chExt cx="696600" cy="861120"/>
          </a:xfrm>
        </p:grpSpPr>
        <p:sp>
          <p:nvSpPr>
            <p:cNvPr id="820" name=""/>
            <p:cNvSpPr/>
            <p:nvPr/>
          </p:nvSpPr>
          <p:spPr>
            <a:xfrm>
              <a:off x="4588920" y="126504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ליס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184280" y="1217520"/>
              <a:ext cx="3895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י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ccj1a_small" descr=""/>
            <p:cNvPicPr/>
            <p:nvPr/>
          </p:nvPicPr>
          <p:blipFill>
            <a:blip r:embed="rId43"/>
            <a:stretch/>
          </p:blipFill>
          <p:spPr>
            <a:xfrm>
              <a:off x="4295880" y="956880"/>
              <a:ext cx="574560" cy="33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4264560" y="708120"/>
              <a:ext cx="53856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ועדון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דמוקרט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269600" y="13381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5" name=""/>
          <p:cNvGrpSpPr/>
          <p:nvPr/>
        </p:nvGrpSpPr>
        <p:grpSpPr>
          <a:xfrm>
            <a:off x="4629240" y="3105000"/>
            <a:ext cx="955440" cy="546120"/>
            <a:chOff x="4629240" y="3105000"/>
            <a:chExt cx="955440" cy="546120"/>
          </a:xfrm>
        </p:grpSpPr>
        <p:sp>
          <p:nvSpPr>
            <p:cNvPr id="826" name=""/>
            <p:cNvSpPr/>
            <p:nvPr/>
          </p:nvSpPr>
          <p:spPr>
            <a:xfrm>
              <a:off x="4987080" y="3254400"/>
              <a:ext cx="20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י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884840" y="3105000"/>
              <a:ext cx="6998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יפורי עמ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254560" y="3279600"/>
              <a:ext cx="3146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יט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9" name="boy" descr=""/>
            <p:cNvPicPr/>
            <p:nvPr/>
          </p:nvPicPr>
          <p:blipFill>
            <a:blip r:embed="rId44"/>
            <a:stretch/>
          </p:blipFill>
          <p:spPr>
            <a:xfrm>
              <a:off x="4629240" y="3224160"/>
              <a:ext cx="34272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0" name=""/>
            <p:cNvSpPr/>
            <p:nvPr/>
          </p:nvSpPr>
          <p:spPr>
            <a:xfrm>
              <a:off x="4955400" y="335736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1" name=""/>
          <p:cNvGrpSpPr/>
          <p:nvPr/>
        </p:nvGrpSpPr>
        <p:grpSpPr>
          <a:xfrm>
            <a:off x="6448320" y="5186520"/>
            <a:ext cx="1059480" cy="430920"/>
            <a:chOff x="6448320" y="5186520"/>
            <a:chExt cx="1059480" cy="430920"/>
          </a:xfrm>
        </p:grpSpPr>
        <p:sp>
          <p:nvSpPr>
            <p:cNvPr id="832" name=""/>
            <p:cNvSpPr/>
            <p:nvPr/>
          </p:nvSpPr>
          <p:spPr>
            <a:xfrm>
              <a:off x="6931800" y="5186520"/>
              <a:ext cx="4489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3" name=""/>
            <p:cNvGrpSpPr/>
            <p:nvPr/>
          </p:nvGrpSpPr>
          <p:grpSpPr>
            <a:xfrm>
              <a:off x="6678360" y="5263920"/>
              <a:ext cx="192240" cy="226440"/>
              <a:chOff x="6678360" y="5263920"/>
              <a:chExt cx="192240" cy="226440"/>
            </a:xfrm>
          </p:grpSpPr>
          <p:pic>
            <p:nvPicPr>
              <p:cNvPr id="834" name="" descr=""/>
              <p:cNvPicPr/>
              <p:nvPr/>
            </p:nvPicPr>
            <p:blipFill>
              <a:blip r:embed="rId45"/>
              <a:stretch/>
            </p:blipFill>
            <p:spPr>
              <a:xfrm>
                <a:off x="6678360" y="5263920"/>
                <a:ext cx="192240" cy="22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5" name="" descr=""/>
              <p:cNvPicPr/>
              <p:nvPr/>
            </p:nvPicPr>
            <p:blipFill>
              <a:blip r:embed="rId46"/>
              <a:stretch/>
            </p:blipFill>
            <p:spPr>
              <a:xfrm>
                <a:off x="6678360" y="5263920"/>
                <a:ext cx="192240" cy="226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36" name=""/>
            <p:cNvGrpSpPr/>
            <p:nvPr/>
          </p:nvGrpSpPr>
          <p:grpSpPr>
            <a:xfrm>
              <a:off x="6448320" y="5262480"/>
              <a:ext cx="199800" cy="246960"/>
              <a:chOff x="6448320" y="5262480"/>
              <a:chExt cx="199800" cy="246960"/>
            </a:xfrm>
          </p:grpSpPr>
          <p:pic>
            <p:nvPicPr>
              <p:cNvPr id="837" name="" descr=""/>
              <p:cNvPicPr/>
              <p:nvPr/>
            </p:nvPicPr>
            <p:blipFill>
              <a:blip r:embed="rId47"/>
              <a:stretch/>
            </p:blipFill>
            <p:spPr>
              <a:xfrm>
                <a:off x="6448320" y="5262480"/>
                <a:ext cx="199800" cy="246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8" name="" descr=""/>
              <p:cNvPicPr/>
              <p:nvPr/>
            </p:nvPicPr>
            <p:blipFill>
              <a:blip r:embed="rId48"/>
              <a:stretch/>
            </p:blipFill>
            <p:spPr>
              <a:xfrm>
                <a:off x="6448320" y="5262480"/>
                <a:ext cx="199800" cy="246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39" name=""/>
            <p:cNvSpPr/>
            <p:nvPr/>
          </p:nvSpPr>
          <p:spPr>
            <a:xfrm>
              <a:off x="7173360" y="5275080"/>
              <a:ext cx="334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ו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904080" y="5275080"/>
              <a:ext cx="22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936480" y="53863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2" name=""/>
          <p:cNvGrpSpPr/>
          <p:nvPr/>
        </p:nvGrpSpPr>
        <p:grpSpPr>
          <a:xfrm>
            <a:off x="4708440" y="6002280"/>
            <a:ext cx="1052280" cy="605880"/>
            <a:chOff x="4708440" y="6002280"/>
            <a:chExt cx="1052280" cy="605880"/>
          </a:xfrm>
        </p:grpSpPr>
        <p:sp>
          <p:nvSpPr>
            <p:cNvPr id="843" name=""/>
            <p:cNvSpPr/>
            <p:nvPr/>
          </p:nvSpPr>
          <p:spPr>
            <a:xfrm>
              <a:off x="5314680" y="6089760"/>
              <a:ext cx="4381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יפורי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התנ"ך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540400" y="6431040"/>
              <a:ext cx="22032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290920" y="629748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הו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46" name="noahs_ark_rocking_ty_CLR" descr=""/>
            <p:cNvPicPr/>
            <p:nvPr/>
          </p:nvPicPr>
          <p:blipFill>
            <a:blip r:embed="rId49"/>
            <a:stretch/>
          </p:blipFill>
          <p:spPr>
            <a:xfrm>
              <a:off x="4708440" y="6002280"/>
              <a:ext cx="6393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7" name=""/>
            <p:cNvSpPr/>
            <p:nvPr/>
          </p:nvSpPr>
          <p:spPr>
            <a:xfrm>
              <a:off x="5097600" y="63770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217440" y="4670280"/>
            <a:ext cx="756720" cy="510840"/>
            <a:chOff x="217440" y="4670280"/>
            <a:chExt cx="756720" cy="510840"/>
          </a:xfrm>
        </p:grpSpPr>
        <p:sp>
          <p:nvSpPr>
            <p:cNvPr id="849" name=""/>
            <p:cNvSpPr/>
            <p:nvPr/>
          </p:nvSpPr>
          <p:spPr>
            <a:xfrm>
              <a:off x="540720" y="4695840"/>
              <a:ext cx="3801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LAR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93360" y="4813200"/>
              <a:ext cx="2599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ת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51" name="dragon_blowing_fire_sm_CLR" descr=""/>
            <p:cNvPicPr/>
            <p:nvPr/>
          </p:nvPicPr>
          <p:blipFill>
            <a:blip r:embed="rId50"/>
            <a:stretch/>
          </p:blipFill>
          <p:spPr>
            <a:xfrm>
              <a:off x="217440" y="4670280"/>
              <a:ext cx="432000" cy="4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2" name=""/>
            <p:cNvSpPr/>
            <p:nvPr/>
          </p:nvSpPr>
          <p:spPr>
            <a:xfrm>
              <a:off x="522720" y="4889520"/>
              <a:ext cx="2278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21560" y="495000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219240" y="3724200"/>
            <a:ext cx="965520" cy="550080"/>
            <a:chOff x="219240" y="3724200"/>
            <a:chExt cx="965520" cy="550080"/>
          </a:xfrm>
        </p:grpSpPr>
        <p:pic>
          <p:nvPicPr>
            <p:cNvPr id="855" name="mh5l_b" descr=""/>
            <p:cNvPicPr/>
            <p:nvPr/>
          </p:nvPicPr>
          <p:blipFill>
            <a:blip r:embed="rId51"/>
            <a:stretch/>
          </p:blipFill>
          <p:spPr>
            <a:xfrm>
              <a:off x="244440" y="3846600"/>
              <a:ext cx="479520" cy="42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6" name=""/>
            <p:cNvSpPr/>
            <p:nvPr/>
          </p:nvSpPr>
          <p:spPr>
            <a:xfrm>
              <a:off x="954000" y="3971880"/>
              <a:ext cx="2307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קרי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24320" y="3938400"/>
              <a:ext cx="17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19240" y="3724200"/>
              <a:ext cx="9540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שים רעיונות ומהפכ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81760" y="404316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0" name=""/>
          <p:cNvGrpSpPr/>
          <p:nvPr/>
        </p:nvGrpSpPr>
        <p:grpSpPr>
          <a:xfrm>
            <a:off x="221040" y="6110280"/>
            <a:ext cx="1006560" cy="497880"/>
            <a:chOff x="221040" y="6110280"/>
            <a:chExt cx="1006560" cy="497880"/>
          </a:xfrm>
        </p:grpSpPr>
        <p:pic>
          <p:nvPicPr>
            <p:cNvPr id="861" name="ccj1a_small" descr=""/>
            <p:cNvPicPr/>
            <p:nvPr/>
          </p:nvPicPr>
          <p:blipFill>
            <a:blip r:embed="rId52"/>
            <a:stretch/>
          </p:blipFill>
          <p:spPr>
            <a:xfrm>
              <a:off x="230040" y="6110280"/>
              <a:ext cx="574920" cy="33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2" name=""/>
            <p:cNvSpPr/>
            <p:nvPr/>
          </p:nvSpPr>
          <p:spPr>
            <a:xfrm>
              <a:off x="775800" y="6194160"/>
              <a:ext cx="4518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ועדו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לומד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21040" y="6377040"/>
              <a:ext cx="487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בחוץ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4" name=""/>
          <p:cNvGrpSpPr/>
          <p:nvPr/>
        </p:nvGrpSpPr>
        <p:grpSpPr>
          <a:xfrm>
            <a:off x="2659680" y="5626080"/>
            <a:ext cx="610560" cy="896400"/>
            <a:chOff x="2659680" y="5626080"/>
            <a:chExt cx="610560" cy="896400"/>
          </a:xfrm>
        </p:grpSpPr>
        <p:sp>
          <p:nvSpPr>
            <p:cNvPr id="865" name=""/>
            <p:cNvSpPr/>
            <p:nvPr/>
          </p:nvSpPr>
          <p:spPr>
            <a:xfrm>
              <a:off x="2841480" y="6207120"/>
              <a:ext cx="2322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י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855520" y="6031080"/>
              <a:ext cx="22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ו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763720" y="5626080"/>
              <a:ext cx="506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וריגמ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8" name="Origami-" descr=""/>
            <p:cNvPicPr/>
            <p:nvPr/>
          </p:nvPicPr>
          <p:blipFill>
            <a:blip r:embed="rId53"/>
            <a:stretch/>
          </p:blipFill>
          <p:spPr>
            <a:xfrm>
              <a:off x="2700360" y="5713560"/>
              <a:ext cx="539640" cy="41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9" name=""/>
            <p:cNvSpPr/>
            <p:nvPr/>
          </p:nvSpPr>
          <p:spPr>
            <a:xfrm>
              <a:off x="2659680" y="629136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0" name=""/>
          <p:cNvGrpSpPr/>
          <p:nvPr/>
        </p:nvGrpSpPr>
        <p:grpSpPr>
          <a:xfrm>
            <a:off x="1905120" y="4632480"/>
            <a:ext cx="966960" cy="630000"/>
            <a:chOff x="1905120" y="4632480"/>
            <a:chExt cx="966960" cy="630000"/>
          </a:xfrm>
        </p:grpSpPr>
        <p:sp>
          <p:nvSpPr>
            <p:cNvPr id="871" name=""/>
            <p:cNvSpPr/>
            <p:nvPr/>
          </p:nvSpPr>
          <p:spPr>
            <a:xfrm>
              <a:off x="2238840" y="4659480"/>
              <a:ext cx="633240" cy="1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דמוקרטי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579760" y="4756320"/>
              <a:ext cx="26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ונת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300760" y="487188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260800" y="4713120"/>
              <a:ext cx="4122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י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5" name="guy_waving_vote_sign_sm_CLR" descr=""/>
            <p:cNvPicPr/>
            <p:nvPr/>
          </p:nvPicPr>
          <p:blipFill>
            <a:blip r:embed="rId54"/>
            <a:stretch/>
          </p:blipFill>
          <p:spPr>
            <a:xfrm>
              <a:off x="1905120" y="4632480"/>
              <a:ext cx="630000" cy="63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76" name=""/>
          <p:cNvGrpSpPr/>
          <p:nvPr/>
        </p:nvGrpSpPr>
        <p:grpSpPr>
          <a:xfrm>
            <a:off x="5783400" y="1001880"/>
            <a:ext cx="877680" cy="596160"/>
            <a:chOff x="5783400" y="1001880"/>
            <a:chExt cx="877680" cy="596160"/>
          </a:xfrm>
        </p:grpSpPr>
        <p:pic>
          <p:nvPicPr>
            <p:cNvPr id="877" name="accountant_raising_pencil_sm_CLR" descr=""/>
            <p:cNvPicPr/>
            <p:nvPr/>
          </p:nvPicPr>
          <p:blipFill>
            <a:blip r:embed="rId55"/>
            <a:stretch/>
          </p:blipFill>
          <p:spPr>
            <a:xfrm>
              <a:off x="6186600" y="1001880"/>
              <a:ext cx="474480" cy="54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8" name=""/>
            <p:cNvSpPr/>
            <p:nvPr/>
          </p:nvSpPr>
          <p:spPr>
            <a:xfrm>
              <a:off x="5925960" y="1181160"/>
              <a:ext cx="3146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יט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03720" y="125244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783400" y="1038240"/>
              <a:ext cx="4680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לש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803200" y="13669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4884840" y="647640"/>
            <a:ext cx="909000" cy="607320"/>
            <a:chOff x="4884840" y="647640"/>
            <a:chExt cx="909000" cy="607320"/>
          </a:xfrm>
        </p:grpSpPr>
        <p:pic>
          <p:nvPicPr>
            <p:cNvPr id="883" name="knight_shield_and_sword_lg_wht" descr=""/>
            <p:cNvPicPr/>
            <p:nvPr/>
          </p:nvPicPr>
          <p:blipFill>
            <a:blip r:embed="rId56"/>
            <a:stretch/>
          </p:blipFill>
          <p:spPr>
            <a:xfrm>
              <a:off x="4884840" y="647640"/>
              <a:ext cx="43128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4" name=""/>
            <p:cNvSpPr/>
            <p:nvPr/>
          </p:nvSpPr>
          <p:spPr>
            <a:xfrm>
              <a:off x="5200200" y="911160"/>
              <a:ext cx="17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046480" y="666720"/>
              <a:ext cx="74736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זרה בזמן – ימי הביני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484240" y="936720"/>
              <a:ext cx="2307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קרי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221440" y="10238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6877080" y="1162080"/>
            <a:ext cx="1260360" cy="455040"/>
            <a:chOff x="6877080" y="1162080"/>
            <a:chExt cx="1260360" cy="455040"/>
          </a:xfrm>
        </p:grpSpPr>
        <p:sp>
          <p:nvSpPr>
            <p:cNvPr id="889" name=""/>
            <p:cNvSpPr/>
            <p:nvPr/>
          </p:nvSpPr>
          <p:spPr>
            <a:xfrm>
              <a:off x="7825680" y="1406520"/>
              <a:ext cx="20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-י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266240" y="1162080"/>
              <a:ext cx="8712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 בוגר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495200" y="1308240"/>
              <a:ext cx="3816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2" name="addition_2_plus_2_ty_CLR" descr=""/>
            <p:cNvPicPr/>
            <p:nvPr/>
          </p:nvPicPr>
          <p:blipFill>
            <a:blip r:embed="rId57"/>
            <a:stretch/>
          </p:blipFill>
          <p:spPr>
            <a:xfrm>
              <a:off x="6877080" y="1209600"/>
              <a:ext cx="585720" cy="3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3" name=""/>
            <p:cNvSpPr/>
            <p:nvPr/>
          </p:nvSpPr>
          <p:spPr>
            <a:xfrm>
              <a:off x="7365240" y="138600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4" name=""/>
          <p:cNvGrpSpPr/>
          <p:nvPr/>
        </p:nvGrpSpPr>
        <p:grpSpPr>
          <a:xfrm>
            <a:off x="4562640" y="1606680"/>
            <a:ext cx="850320" cy="538200"/>
            <a:chOff x="4562640" y="1606680"/>
            <a:chExt cx="850320" cy="538200"/>
          </a:xfrm>
        </p:grpSpPr>
        <p:sp>
          <p:nvSpPr>
            <p:cNvPr id="895" name=""/>
            <p:cNvSpPr/>
            <p:nvPr/>
          </p:nvSpPr>
          <p:spPr>
            <a:xfrm>
              <a:off x="5037120" y="1606680"/>
              <a:ext cx="270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ק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6" name="" descr=""/>
            <p:cNvPicPr/>
            <p:nvPr/>
          </p:nvPicPr>
          <p:blipFill>
            <a:blip r:embed="rId58"/>
            <a:stretch/>
          </p:blipFill>
          <p:spPr>
            <a:xfrm>
              <a:off x="4562640" y="1825920"/>
              <a:ext cx="29520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7" name="" descr=""/>
            <p:cNvPicPr/>
            <p:nvPr/>
          </p:nvPicPr>
          <p:blipFill>
            <a:blip r:embed="rId59"/>
            <a:stretch/>
          </p:blipFill>
          <p:spPr>
            <a:xfrm>
              <a:off x="4734000" y="1644840"/>
              <a:ext cx="295560" cy="3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8" name=""/>
            <p:cNvSpPr/>
            <p:nvPr/>
          </p:nvSpPr>
          <p:spPr>
            <a:xfrm>
              <a:off x="5034240" y="175140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הו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860360" y="186696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"/>
          <p:cNvGrpSpPr/>
          <p:nvPr/>
        </p:nvGrpSpPr>
        <p:grpSpPr>
          <a:xfrm>
            <a:off x="5776920" y="3689280"/>
            <a:ext cx="797760" cy="582840"/>
            <a:chOff x="5776920" y="3689280"/>
            <a:chExt cx="797760" cy="582840"/>
          </a:xfrm>
        </p:grpSpPr>
        <p:sp>
          <p:nvSpPr>
            <p:cNvPr id="901" name=""/>
            <p:cNvSpPr/>
            <p:nvPr/>
          </p:nvSpPr>
          <p:spPr>
            <a:xfrm>
              <a:off x="6012360" y="3689280"/>
              <a:ext cx="5022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צרפת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022080" y="40244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115320" y="3808440"/>
              <a:ext cx="3816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280920" y="38973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ו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05" name="eiffel_tower_flag_waving_sm_CLR" descr=""/>
            <p:cNvPicPr/>
            <p:nvPr/>
          </p:nvPicPr>
          <p:blipFill>
            <a:blip r:embed="rId60"/>
            <a:stretch/>
          </p:blipFill>
          <p:spPr>
            <a:xfrm>
              <a:off x="5776920" y="3718080"/>
              <a:ext cx="369720" cy="554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6" name=""/>
          <p:cNvGrpSpPr/>
          <p:nvPr/>
        </p:nvGrpSpPr>
        <p:grpSpPr>
          <a:xfrm>
            <a:off x="6477120" y="4221000"/>
            <a:ext cx="937440" cy="396000"/>
            <a:chOff x="6477120" y="4221000"/>
            <a:chExt cx="937440" cy="396000"/>
          </a:xfrm>
        </p:grpSpPr>
        <p:sp>
          <p:nvSpPr>
            <p:cNvPr id="907" name=""/>
            <p:cNvSpPr/>
            <p:nvPr/>
          </p:nvSpPr>
          <p:spPr>
            <a:xfrm>
              <a:off x="7103880" y="4268520"/>
              <a:ext cx="270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ק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08" name="" descr=""/>
            <p:cNvPicPr/>
            <p:nvPr/>
          </p:nvPicPr>
          <p:blipFill>
            <a:blip r:embed="rId61"/>
            <a:stretch/>
          </p:blipFill>
          <p:spPr>
            <a:xfrm>
              <a:off x="6477120" y="4287600"/>
              <a:ext cx="29520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9" name="" descr=""/>
            <p:cNvPicPr/>
            <p:nvPr/>
          </p:nvPicPr>
          <p:blipFill>
            <a:blip r:embed="rId62"/>
            <a:stretch/>
          </p:blipFill>
          <p:spPr>
            <a:xfrm>
              <a:off x="6543720" y="4221000"/>
              <a:ext cx="295200" cy="3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0" name=""/>
            <p:cNvSpPr/>
            <p:nvPr/>
          </p:nvSpPr>
          <p:spPr>
            <a:xfrm>
              <a:off x="6864480" y="4304880"/>
              <a:ext cx="220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122600" y="440352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ליס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651000" y="438588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5754600" y="4657680"/>
            <a:ext cx="934560" cy="601560"/>
            <a:chOff x="5754600" y="4657680"/>
            <a:chExt cx="934560" cy="601560"/>
          </a:xfrm>
        </p:grpSpPr>
        <p:sp>
          <p:nvSpPr>
            <p:cNvPr id="914" name=""/>
            <p:cNvSpPr/>
            <p:nvPr/>
          </p:nvSpPr>
          <p:spPr>
            <a:xfrm>
              <a:off x="6323400" y="4800600"/>
              <a:ext cx="2581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דס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356160" y="491004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754600" y="4657680"/>
              <a:ext cx="8208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ריקוד ותנוע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17" name="heart_dancing_sm_CLR" descr=""/>
            <p:cNvPicPr/>
            <p:nvPr/>
          </p:nvPicPr>
          <p:blipFill>
            <a:blip r:embed="rId63"/>
            <a:stretch/>
          </p:blipFill>
          <p:spPr>
            <a:xfrm>
              <a:off x="5794200" y="4684680"/>
              <a:ext cx="638280" cy="57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>
              <a:off x="6136560" y="501480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9" name=""/>
          <p:cNvGrpSpPr/>
          <p:nvPr/>
        </p:nvGrpSpPr>
        <p:grpSpPr>
          <a:xfrm>
            <a:off x="7201080" y="5605560"/>
            <a:ext cx="982800" cy="430920"/>
            <a:chOff x="7201080" y="5605560"/>
            <a:chExt cx="982800" cy="430920"/>
          </a:xfrm>
        </p:grpSpPr>
        <p:sp>
          <p:nvSpPr>
            <p:cNvPr id="920" name=""/>
            <p:cNvSpPr/>
            <p:nvPr/>
          </p:nvSpPr>
          <p:spPr>
            <a:xfrm>
              <a:off x="7684200" y="5605560"/>
              <a:ext cx="4489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1" name=""/>
            <p:cNvGrpSpPr/>
            <p:nvPr/>
          </p:nvGrpSpPr>
          <p:grpSpPr>
            <a:xfrm>
              <a:off x="7431120" y="5682960"/>
              <a:ext cx="191520" cy="226440"/>
              <a:chOff x="7431120" y="5682960"/>
              <a:chExt cx="191520" cy="226440"/>
            </a:xfrm>
          </p:grpSpPr>
          <p:pic>
            <p:nvPicPr>
              <p:cNvPr id="922" name="" descr=""/>
              <p:cNvPicPr/>
              <p:nvPr/>
            </p:nvPicPr>
            <p:blipFill>
              <a:blip r:embed="rId64"/>
              <a:stretch/>
            </p:blipFill>
            <p:spPr>
              <a:xfrm>
                <a:off x="7431120" y="5682960"/>
                <a:ext cx="191520" cy="22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3" name="" descr=""/>
              <p:cNvPicPr/>
              <p:nvPr/>
            </p:nvPicPr>
            <p:blipFill>
              <a:blip r:embed="rId65"/>
              <a:stretch/>
            </p:blipFill>
            <p:spPr>
              <a:xfrm>
                <a:off x="7431120" y="5682960"/>
                <a:ext cx="191520" cy="226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24" name=""/>
            <p:cNvGrpSpPr/>
            <p:nvPr/>
          </p:nvGrpSpPr>
          <p:grpSpPr>
            <a:xfrm>
              <a:off x="7201080" y="5681520"/>
              <a:ext cx="199800" cy="246960"/>
              <a:chOff x="7201080" y="5681520"/>
              <a:chExt cx="199800" cy="246960"/>
            </a:xfrm>
          </p:grpSpPr>
          <p:pic>
            <p:nvPicPr>
              <p:cNvPr id="925" name="" descr=""/>
              <p:cNvPicPr/>
              <p:nvPr/>
            </p:nvPicPr>
            <p:blipFill>
              <a:blip r:embed="rId66"/>
              <a:stretch/>
            </p:blipFill>
            <p:spPr>
              <a:xfrm>
                <a:off x="7201080" y="5681520"/>
                <a:ext cx="199800" cy="246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6" name="" descr=""/>
              <p:cNvPicPr/>
              <p:nvPr/>
            </p:nvPicPr>
            <p:blipFill>
              <a:blip r:embed="rId67"/>
              <a:stretch/>
            </p:blipFill>
            <p:spPr>
              <a:xfrm>
                <a:off x="7201080" y="5681520"/>
                <a:ext cx="199800" cy="246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27" name=""/>
            <p:cNvSpPr/>
            <p:nvPr/>
          </p:nvSpPr>
          <p:spPr>
            <a:xfrm>
              <a:off x="7849440" y="5694120"/>
              <a:ext cx="334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ו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650000" y="5694120"/>
              <a:ext cx="96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694640" y="5805360"/>
              <a:ext cx="33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0" name=""/>
          <p:cNvGrpSpPr/>
          <p:nvPr/>
        </p:nvGrpSpPr>
        <p:grpSpPr>
          <a:xfrm>
            <a:off x="6281640" y="5583240"/>
            <a:ext cx="816840" cy="615240"/>
            <a:chOff x="6281640" y="5583240"/>
            <a:chExt cx="816840" cy="615240"/>
          </a:xfrm>
        </p:grpSpPr>
        <p:pic>
          <p:nvPicPr>
            <p:cNvPr id="931" name="accountant_raising_pencil_sm_CLR" descr=""/>
            <p:cNvPicPr/>
            <p:nvPr/>
          </p:nvPicPr>
          <p:blipFill>
            <a:blip r:embed="rId68"/>
            <a:stretch/>
          </p:blipFill>
          <p:spPr>
            <a:xfrm>
              <a:off x="6281640" y="5583240"/>
              <a:ext cx="474480" cy="54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2" name=""/>
            <p:cNvSpPr/>
            <p:nvPr/>
          </p:nvSpPr>
          <p:spPr>
            <a:xfrm>
              <a:off x="6640200" y="5771880"/>
              <a:ext cx="3146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יט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706440" y="5862600"/>
              <a:ext cx="20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-י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497280" y="5628960"/>
              <a:ext cx="4683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לש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545880" y="596736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6" name=""/>
          <p:cNvGrpSpPr/>
          <p:nvPr/>
        </p:nvGrpSpPr>
        <p:grpSpPr>
          <a:xfrm>
            <a:off x="5848200" y="6137280"/>
            <a:ext cx="933120" cy="396000"/>
            <a:chOff x="5848200" y="6137280"/>
            <a:chExt cx="933120" cy="396000"/>
          </a:xfrm>
        </p:grpSpPr>
        <p:sp>
          <p:nvSpPr>
            <p:cNvPr id="937" name=""/>
            <p:cNvSpPr/>
            <p:nvPr/>
          </p:nvSpPr>
          <p:spPr>
            <a:xfrm>
              <a:off x="6474960" y="6184800"/>
              <a:ext cx="270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ק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8" name="" descr=""/>
            <p:cNvPicPr/>
            <p:nvPr/>
          </p:nvPicPr>
          <p:blipFill>
            <a:blip r:embed="rId69"/>
            <a:stretch/>
          </p:blipFill>
          <p:spPr>
            <a:xfrm>
              <a:off x="5848200" y="6203880"/>
              <a:ext cx="29520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9" name="" descr=""/>
            <p:cNvPicPr/>
            <p:nvPr/>
          </p:nvPicPr>
          <p:blipFill>
            <a:blip r:embed="rId70"/>
            <a:stretch/>
          </p:blipFill>
          <p:spPr>
            <a:xfrm>
              <a:off x="5914800" y="6137280"/>
              <a:ext cx="295200" cy="3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0" name=""/>
            <p:cNvSpPr/>
            <p:nvPr/>
          </p:nvSpPr>
          <p:spPr>
            <a:xfrm>
              <a:off x="6235560" y="6221160"/>
              <a:ext cx="220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523200" y="6319800"/>
              <a:ext cx="25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י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022080" y="630216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3185280" y="641520"/>
            <a:ext cx="1121040" cy="519840"/>
            <a:chOff x="3185280" y="641520"/>
            <a:chExt cx="1121040" cy="519840"/>
          </a:xfrm>
        </p:grpSpPr>
        <p:pic>
          <p:nvPicPr>
            <p:cNvPr id="944" name="ccj1a_small" descr=""/>
            <p:cNvPicPr/>
            <p:nvPr/>
          </p:nvPicPr>
          <p:blipFill>
            <a:blip r:embed="rId71"/>
            <a:stretch/>
          </p:blipFill>
          <p:spPr>
            <a:xfrm>
              <a:off x="3249360" y="776160"/>
              <a:ext cx="574920" cy="3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5" name=""/>
            <p:cNvSpPr/>
            <p:nvPr/>
          </p:nvSpPr>
          <p:spPr>
            <a:xfrm>
              <a:off x="3185280" y="641520"/>
              <a:ext cx="11210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פגש בנים / בנ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842280" y="750960"/>
              <a:ext cx="4003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726720" y="9302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3318480" y="1584360"/>
            <a:ext cx="1000440" cy="565920"/>
            <a:chOff x="3318480" y="1584360"/>
            <a:chExt cx="1000440" cy="565920"/>
          </a:xfrm>
        </p:grpSpPr>
        <p:sp>
          <p:nvSpPr>
            <p:cNvPr id="949" name=""/>
            <p:cNvSpPr/>
            <p:nvPr/>
          </p:nvSpPr>
          <p:spPr>
            <a:xfrm>
              <a:off x="3318480" y="1584360"/>
              <a:ext cx="968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 כתיבה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925440" y="1682640"/>
              <a:ext cx="26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862800" y="1796760"/>
              <a:ext cx="40032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52" name="girl" descr=""/>
            <p:cNvPicPr/>
            <p:nvPr/>
          </p:nvPicPr>
          <p:blipFill>
            <a:blip r:embed="rId72"/>
            <a:stretch/>
          </p:blipFill>
          <p:spPr>
            <a:xfrm>
              <a:off x="3516120" y="1706400"/>
              <a:ext cx="341280" cy="42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3" name=""/>
            <p:cNvSpPr/>
            <p:nvPr/>
          </p:nvSpPr>
          <p:spPr>
            <a:xfrm>
              <a:off x="3766320" y="191916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4" name=""/>
          <p:cNvGrpSpPr/>
          <p:nvPr/>
        </p:nvGrpSpPr>
        <p:grpSpPr>
          <a:xfrm>
            <a:off x="117360" y="1631880"/>
            <a:ext cx="696240" cy="870840"/>
            <a:chOff x="117360" y="1631880"/>
            <a:chExt cx="696240" cy="870840"/>
          </a:xfrm>
        </p:grpSpPr>
        <p:sp>
          <p:nvSpPr>
            <p:cNvPr id="955" name=""/>
            <p:cNvSpPr/>
            <p:nvPr/>
          </p:nvSpPr>
          <p:spPr>
            <a:xfrm>
              <a:off x="521640" y="219852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ליס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17360" y="2151000"/>
              <a:ext cx="3895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י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57" name="ccj1a_small" descr=""/>
            <p:cNvPicPr/>
            <p:nvPr/>
          </p:nvPicPr>
          <p:blipFill>
            <a:blip r:embed="rId73"/>
            <a:stretch/>
          </p:blipFill>
          <p:spPr>
            <a:xfrm>
              <a:off x="228600" y="1890720"/>
              <a:ext cx="574560" cy="33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8" name=""/>
            <p:cNvSpPr/>
            <p:nvPr/>
          </p:nvSpPr>
          <p:spPr>
            <a:xfrm>
              <a:off x="226080" y="1631880"/>
              <a:ext cx="53856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ועדון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דמוקרט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02320" y="227160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0" name=""/>
          <p:cNvGrpSpPr/>
          <p:nvPr/>
        </p:nvGrpSpPr>
        <p:grpSpPr>
          <a:xfrm>
            <a:off x="2595600" y="2066760"/>
            <a:ext cx="978840" cy="459720"/>
            <a:chOff x="2595600" y="2066760"/>
            <a:chExt cx="978840" cy="459720"/>
          </a:xfrm>
        </p:grpSpPr>
        <p:sp>
          <p:nvSpPr>
            <p:cNvPr id="961" name=""/>
            <p:cNvSpPr/>
            <p:nvPr/>
          </p:nvSpPr>
          <p:spPr>
            <a:xfrm>
              <a:off x="2595600" y="2066760"/>
              <a:ext cx="5662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2896920" y="2211120"/>
              <a:ext cx="192240" cy="226800"/>
              <a:chOff x="2896920" y="2211120"/>
              <a:chExt cx="192240" cy="226800"/>
            </a:xfrm>
          </p:grpSpPr>
          <p:pic>
            <p:nvPicPr>
              <p:cNvPr id="963" name="" descr=""/>
              <p:cNvPicPr/>
              <p:nvPr/>
            </p:nvPicPr>
            <p:blipFill>
              <a:blip r:embed="rId74"/>
              <a:stretch/>
            </p:blipFill>
            <p:spPr>
              <a:xfrm>
                <a:off x="2896920" y="2211120"/>
                <a:ext cx="19224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64" name="" descr=""/>
              <p:cNvPicPr/>
              <p:nvPr/>
            </p:nvPicPr>
            <p:blipFill>
              <a:blip r:embed="rId75"/>
              <a:stretch/>
            </p:blipFill>
            <p:spPr>
              <a:xfrm>
                <a:off x="2896920" y="2211120"/>
                <a:ext cx="192240" cy="22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65" name=""/>
            <p:cNvGrpSpPr/>
            <p:nvPr/>
          </p:nvGrpSpPr>
          <p:grpSpPr>
            <a:xfrm>
              <a:off x="2685960" y="2200320"/>
              <a:ext cx="199800" cy="247320"/>
              <a:chOff x="2685960" y="2200320"/>
              <a:chExt cx="199800" cy="247320"/>
            </a:xfrm>
          </p:grpSpPr>
          <p:pic>
            <p:nvPicPr>
              <p:cNvPr id="966" name="" descr=""/>
              <p:cNvPicPr/>
              <p:nvPr/>
            </p:nvPicPr>
            <p:blipFill>
              <a:blip r:embed="rId76"/>
              <a:stretch/>
            </p:blipFill>
            <p:spPr>
              <a:xfrm>
                <a:off x="2685960" y="220032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67" name="" descr=""/>
              <p:cNvPicPr/>
              <p:nvPr/>
            </p:nvPicPr>
            <p:blipFill>
              <a:blip r:embed="rId77"/>
              <a:stretch/>
            </p:blipFill>
            <p:spPr>
              <a:xfrm>
                <a:off x="2685960" y="220032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68" name=""/>
            <p:cNvSpPr/>
            <p:nvPr/>
          </p:nvSpPr>
          <p:spPr>
            <a:xfrm>
              <a:off x="3114720" y="2098440"/>
              <a:ext cx="36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ת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247560" y="219384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021840" y="229536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1" name=""/>
          <p:cNvGrpSpPr/>
          <p:nvPr/>
        </p:nvGrpSpPr>
        <p:grpSpPr>
          <a:xfrm>
            <a:off x="94320" y="2979720"/>
            <a:ext cx="1540800" cy="718560"/>
            <a:chOff x="94320" y="2979720"/>
            <a:chExt cx="1540800" cy="718560"/>
          </a:xfrm>
        </p:grpSpPr>
        <p:sp>
          <p:nvSpPr>
            <p:cNvPr id="972" name=""/>
            <p:cNvSpPr/>
            <p:nvPr/>
          </p:nvSpPr>
          <p:spPr>
            <a:xfrm>
              <a:off x="94320" y="2979720"/>
              <a:ext cx="8877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פגש בנ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73" name="grlcl1q_" descr=""/>
            <p:cNvPicPr/>
            <p:nvPr/>
          </p:nvPicPr>
          <p:blipFill>
            <a:blip r:embed="rId78"/>
            <a:stretch/>
          </p:blipFill>
          <p:spPr>
            <a:xfrm>
              <a:off x="281160" y="3193920"/>
              <a:ext cx="684000" cy="46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4" name=""/>
            <p:cNvSpPr/>
            <p:nvPr/>
          </p:nvSpPr>
          <p:spPr>
            <a:xfrm>
              <a:off x="1259280" y="3436920"/>
              <a:ext cx="3758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835560" y="3197160"/>
              <a:ext cx="74160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ליסה קרי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שר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840600" y="346248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7" name=""/>
          <p:cNvGrpSpPr/>
          <p:nvPr/>
        </p:nvGrpSpPr>
        <p:grpSpPr>
          <a:xfrm>
            <a:off x="3191040" y="3086280"/>
            <a:ext cx="1078920" cy="464400"/>
            <a:chOff x="3191040" y="3086280"/>
            <a:chExt cx="1078920" cy="464400"/>
          </a:xfrm>
        </p:grpSpPr>
        <p:sp>
          <p:nvSpPr>
            <p:cNvPr id="978" name=""/>
            <p:cNvSpPr/>
            <p:nvPr/>
          </p:nvSpPr>
          <p:spPr>
            <a:xfrm>
              <a:off x="3744000" y="3225960"/>
              <a:ext cx="17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608640" y="3086280"/>
              <a:ext cx="604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983040" y="3251520"/>
              <a:ext cx="2628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סיג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1" name="addition_2_plus_2_ty_CLR" descr=""/>
            <p:cNvPicPr/>
            <p:nvPr/>
          </p:nvPicPr>
          <p:blipFill>
            <a:blip r:embed="rId79"/>
            <a:stretch/>
          </p:blipFill>
          <p:spPr>
            <a:xfrm>
              <a:off x="3191040" y="3095640"/>
              <a:ext cx="585720" cy="3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2" name=""/>
            <p:cNvSpPr/>
            <p:nvPr/>
          </p:nvSpPr>
          <p:spPr>
            <a:xfrm>
              <a:off x="3717360" y="331956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3" name=""/>
          <p:cNvGrpSpPr/>
          <p:nvPr/>
        </p:nvGrpSpPr>
        <p:grpSpPr>
          <a:xfrm>
            <a:off x="2181240" y="3243240"/>
            <a:ext cx="1023840" cy="421560"/>
            <a:chOff x="2181240" y="3243240"/>
            <a:chExt cx="1023840" cy="421560"/>
          </a:xfrm>
        </p:grpSpPr>
        <p:sp>
          <p:nvSpPr>
            <p:cNvPr id="984" name=""/>
            <p:cNvSpPr/>
            <p:nvPr/>
          </p:nvSpPr>
          <p:spPr>
            <a:xfrm>
              <a:off x="2413800" y="3243240"/>
              <a:ext cx="6058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5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5" name=""/>
            <p:cNvGrpSpPr/>
            <p:nvPr/>
          </p:nvGrpSpPr>
          <p:grpSpPr>
            <a:xfrm>
              <a:off x="2411280" y="3368520"/>
              <a:ext cx="191880" cy="226800"/>
              <a:chOff x="2411280" y="3368520"/>
              <a:chExt cx="191880" cy="226800"/>
            </a:xfrm>
          </p:grpSpPr>
          <p:pic>
            <p:nvPicPr>
              <p:cNvPr id="986" name="" descr=""/>
              <p:cNvPicPr/>
              <p:nvPr/>
            </p:nvPicPr>
            <p:blipFill>
              <a:blip r:embed="rId80"/>
              <a:stretch/>
            </p:blipFill>
            <p:spPr>
              <a:xfrm>
                <a:off x="2411280" y="3368520"/>
                <a:ext cx="19188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7" name="" descr=""/>
              <p:cNvPicPr/>
              <p:nvPr/>
            </p:nvPicPr>
            <p:blipFill>
              <a:blip r:embed="rId81"/>
              <a:stretch/>
            </p:blipFill>
            <p:spPr>
              <a:xfrm>
                <a:off x="2411280" y="3368520"/>
                <a:ext cx="191880" cy="22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88" name=""/>
            <p:cNvGrpSpPr/>
            <p:nvPr/>
          </p:nvGrpSpPr>
          <p:grpSpPr>
            <a:xfrm>
              <a:off x="2181240" y="3357360"/>
              <a:ext cx="199800" cy="247320"/>
              <a:chOff x="2181240" y="3357360"/>
              <a:chExt cx="199800" cy="247320"/>
            </a:xfrm>
          </p:grpSpPr>
          <p:pic>
            <p:nvPicPr>
              <p:cNvPr id="989" name="" descr=""/>
              <p:cNvPicPr/>
              <p:nvPr/>
            </p:nvPicPr>
            <p:blipFill>
              <a:blip r:embed="rId82"/>
              <a:stretch/>
            </p:blipFill>
            <p:spPr>
              <a:xfrm>
                <a:off x="2181240" y="335736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0" name="" descr=""/>
              <p:cNvPicPr/>
              <p:nvPr/>
            </p:nvPicPr>
            <p:blipFill>
              <a:blip r:embed="rId83"/>
              <a:stretch/>
            </p:blipFill>
            <p:spPr>
              <a:xfrm>
                <a:off x="2181240" y="335736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91" name=""/>
            <p:cNvSpPr/>
            <p:nvPr/>
          </p:nvSpPr>
          <p:spPr>
            <a:xfrm>
              <a:off x="2838600" y="3322440"/>
              <a:ext cx="36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ת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630520" y="3322440"/>
              <a:ext cx="17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593080" y="343368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4" name=""/>
          <p:cNvGrpSpPr/>
          <p:nvPr/>
        </p:nvGrpSpPr>
        <p:grpSpPr>
          <a:xfrm>
            <a:off x="1508040" y="2738520"/>
            <a:ext cx="884160" cy="735840"/>
            <a:chOff x="1508040" y="2738520"/>
            <a:chExt cx="884160" cy="735840"/>
          </a:xfrm>
        </p:grpSpPr>
        <p:sp>
          <p:nvSpPr>
            <p:cNvPr id="995" name=""/>
            <p:cNvSpPr/>
            <p:nvPr/>
          </p:nvSpPr>
          <p:spPr>
            <a:xfrm>
              <a:off x="1667880" y="3149640"/>
              <a:ext cx="14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ו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522440" y="3019320"/>
              <a:ext cx="604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תקשור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1882080" y="3174840"/>
              <a:ext cx="2462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וה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612080" y="32432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99" name="computer_to_computer_email_sm_CLR" descr=""/>
            <p:cNvPicPr/>
            <p:nvPr/>
          </p:nvPicPr>
          <p:blipFill>
            <a:blip r:embed="rId84"/>
            <a:stretch/>
          </p:blipFill>
          <p:spPr>
            <a:xfrm>
              <a:off x="1508040" y="2738520"/>
              <a:ext cx="884160" cy="37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0" name=""/>
          <p:cNvGrpSpPr/>
          <p:nvPr/>
        </p:nvGrpSpPr>
        <p:grpSpPr>
          <a:xfrm>
            <a:off x="3303720" y="3656160"/>
            <a:ext cx="975600" cy="593640"/>
            <a:chOff x="3303720" y="3656160"/>
            <a:chExt cx="975600" cy="593640"/>
          </a:xfrm>
        </p:grpSpPr>
        <p:sp>
          <p:nvSpPr>
            <p:cNvPr id="1001" name=""/>
            <p:cNvSpPr/>
            <p:nvPr/>
          </p:nvSpPr>
          <p:spPr>
            <a:xfrm>
              <a:off x="3816720" y="3911760"/>
              <a:ext cx="22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542040" y="3686400"/>
              <a:ext cx="604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969000" y="3832200"/>
              <a:ext cx="203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נ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4" name="girl_holding_123_ty_CLR" descr=""/>
            <p:cNvPicPr/>
            <p:nvPr/>
          </p:nvPicPr>
          <p:blipFill>
            <a:blip r:embed="rId85"/>
            <a:stretch/>
          </p:blipFill>
          <p:spPr>
            <a:xfrm>
              <a:off x="3303720" y="3656160"/>
              <a:ext cx="59364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5" name=""/>
            <p:cNvSpPr/>
            <p:nvPr/>
          </p:nvSpPr>
          <p:spPr>
            <a:xfrm>
              <a:off x="3726720" y="400536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6" name=""/>
          <p:cNvGrpSpPr/>
          <p:nvPr/>
        </p:nvGrpSpPr>
        <p:grpSpPr>
          <a:xfrm>
            <a:off x="2526480" y="3654360"/>
            <a:ext cx="554760" cy="596160"/>
            <a:chOff x="2526480" y="3654360"/>
            <a:chExt cx="554760" cy="596160"/>
          </a:xfrm>
        </p:grpSpPr>
        <p:sp>
          <p:nvSpPr>
            <p:cNvPr id="1007" name=""/>
            <p:cNvSpPr/>
            <p:nvPr/>
          </p:nvSpPr>
          <p:spPr>
            <a:xfrm>
              <a:off x="2720880" y="3654360"/>
              <a:ext cx="360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דרמ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8" name=""/>
            <p:cNvGrpSpPr/>
            <p:nvPr/>
          </p:nvGrpSpPr>
          <p:grpSpPr>
            <a:xfrm>
              <a:off x="2541600" y="3746160"/>
              <a:ext cx="304200" cy="330120"/>
              <a:chOff x="2541600" y="3746160"/>
              <a:chExt cx="304200" cy="330120"/>
            </a:xfrm>
          </p:grpSpPr>
          <p:pic>
            <p:nvPicPr>
              <p:cNvPr id="1009" name="" descr=""/>
              <p:cNvPicPr/>
              <p:nvPr/>
            </p:nvPicPr>
            <p:blipFill>
              <a:blip r:embed="rId86"/>
              <a:stretch/>
            </p:blipFill>
            <p:spPr>
              <a:xfrm>
                <a:off x="2541600" y="3746160"/>
                <a:ext cx="304200" cy="330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0" name="" descr=""/>
              <p:cNvPicPr/>
              <p:nvPr/>
            </p:nvPicPr>
            <p:blipFill>
              <a:blip r:embed="rId87"/>
              <a:stretch/>
            </p:blipFill>
            <p:spPr>
              <a:xfrm>
                <a:off x="2541600" y="3746160"/>
                <a:ext cx="304200" cy="330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11" name=""/>
            <p:cNvSpPr/>
            <p:nvPr/>
          </p:nvSpPr>
          <p:spPr>
            <a:xfrm>
              <a:off x="2808360" y="3827160"/>
              <a:ext cx="2581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דס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806200" y="392724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526480" y="401940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4" name=""/>
          <p:cNvGrpSpPr/>
          <p:nvPr/>
        </p:nvGrpSpPr>
        <p:grpSpPr>
          <a:xfrm>
            <a:off x="781200" y="4233960"/>
            <a:ext cx="998640" cy="421560"/>
            <a:chOff x="781200" y="4233960"/>
            <a:chExt cx="998640" cy="421560"/>
          </a:xfrm>
        </p:grpSpPr>
        <p:sp>
          <p:nvSpPr>
            <p:cNvPr id="1015" name=""/>
            <p:cNvSpPr/>
            <p:nvPr/>
          </p:nvSpPr>
          <p:spPr>
            <a:xfrm>
              <a:off x="932400" y="4233960"/>
              <a:ext cx="666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 </a:t>
              </a: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4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6" name=""/>
            <p:cNvGrpSpPr/>
            <p:nvPr/>
          </p:nvGrpSpPr>
          <p:grpSpPr>
            <a:xfrm>
              <a:off x="1011240" y="4359600"/>
              <a:ext cx="191520" cy="226440"/>
              <a:chOff x="1011240" y="4359600"/>
              <a:chExt cx="191520" cy="226440"/>
            </a:xfrm>
          </p:grpSpPr>
          <p:pic>
            <p:nvPicPr>
              <p:cNvPr id="1017" name="" descr=""/>
              <p:cNvPicPr/>
              <p:nvPr/>
            </p:nvPicPr>
            <p:blipFill>
              <a:blip r:embed="rId88"/>
              <a:stretch/>
            </p:blipFill>
            <p:spPr>
              <a:xfrm>
                <a:off x="1011240" y="4359600"/>
                <a:ext cx="191520" cy="22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8" name="" descr=""/>
              <p:cNvPicPr/>
              <p:nvPr/>
            </p:nvPicPr>
            <p:blipFill>
              <a:blip r:embed="rId89"/>
              <a:stretch/>
            </p:blipFill>
            <p:spPr>
              <a:xfrm>
                <a:off x="1011240" y="4359600"/>
                <a:ext cx="191520" cy="226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19" name=""/>
            <p:cNvGrpSpPr/>
            <p:nvPr/>
          </p:nvGrpSpPr>
          <p:grpSpPr>
            <a:xfrm>
              <a:off x="781200" y="4348440"/>
              <a:ext cx="199800" cy="247320"/>
              <a:chOff x="781200" y="4348440"/>
              <a:chExt cx="199800" cy="247320"/>
            </a:xfrm>
          </p:grpSpPr>
          <p:pic>
            <p:nvPicPr>
              <p:cNvPr id="1020" name="" descr=""/>
              <p:cNvPicPr/>
              <p:nvPr/>
            </p:nvPicPr>
            <p:blipFill>
              <a:blip r:embed="rId90"/>
              <a:stretch/>
            </p:blipFill>
            <p:spPr>
              <a:xfrm>
                <a:off x="781200" y="434844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1" name="" descr=""/>
              <p:cNvPicPr/>
              <p:nvPr/>
            </p:nvPicPr>
            <p:blipFill>
              <a:blip r:embed="rId91"/>
              <a:stretch/>
            </p:blipFill>
            <p:spPr>
              <a:xfrm>
                <a:off x="781200" y="434844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22" name=""/>
            <p:cNvSpPr/>
            <p:nvPr/>
          </p:nvSpPr>
          <p:spPr>
            <a:xfrm>
              <a:off x="1295280" y="4313520"/>
              <a:ext cx="36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ת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597680" y="4446720"/>
              <a:ext cx="182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ז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107000" y="442440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5" name=""/>
          <p:cNvGrpSpPr/>
          <p:nvPr/>
        </p:nvGrpSpPr>
        <p:grpSpPr>
          <a:xfrm>
            <a:off x="2232000" y="5022720"/>
            <a:ext cx="1095120" cy="609120"/>
            <a:chOff x="2232000" y="5022720"/>
            <a:chExt cx="1095120" cy="609120"/>
          </a:xfrm>
        </p:grpSpPr>
        <p:sp>
          <p:nvSpPr>
            <p:cNvPr id="1026" name=""/>
            <p:cNvSpPr/>
            <p:nvPr/>
          </p:nvSpPr>
          <p:spPr>
            <a:xfrm>
              <a:off x="2728800" y="5070600"/>
              <a:ext cx="50076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תרבוי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העול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807640" y="5278320"/>
              <a:ext cx="39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עי א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914920" y="5370480"/>
              <a:ext cx="4122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י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29" name="volunteers_holding_hands_around_earth_sm_CLR" descr=""/>
            <p:cNvPicPr/>
            <p:nvPr/>
          </p:nvPicPr>
          <p:blipFill>
            <a:blip r:embed="rId92"/>
            <a:stretch/>
          </p:blipFill>
          <p:spPr>
            <a:xfrm>
              <a:off x="2232000" y="5022720"/>
              <a:ext cx="582480" cy="58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0" name=""/>
            <p:cNvSpPr/>
            <p:nvPr/>
          </p:nvSpPr>
          <p:spPr>
            <a:xfrm>
              <a:off x="2603880" y="5376960"/>
              <a:ext cx="487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בחוץ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1" name=""/>
          <p:cNvGrpSpPr/>
          <p:nvPr/>
        </p:nvGrpSpPr>
        <p:grpSpPr>
          <a:xfrm>
            <a:off x="1515960" y="4879800"/>
            <a:ext cx="782280" cy="718560"/>
            <a:chOff x="1515960" y="4879800"/>
            <a:chExt cx="782280" cy="718560"/>
          </a:xfrm>
        </p:grpSpPr>
        <p:sp>
          <p:nvSpPr>
            <p:cNvPr id="1032" name=""/>
            <p:cNvSpPr/>
            <p:nvPr/>
          </p:nvSpPr>
          <p:spPr>
            <a:xfrm>
              <a:off x="1697760" y="4984920"/>
              <a:ext cx="4305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גיטר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679400" y="5097600"/>
              <a:ext cx="464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ן והדס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746000" y="5180040"/>
              <a:ext cx="3895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י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745640" y="53672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6" name="acoustic_guitar_notes_sm_CLR" descr=""/>
            <p:cNvPicPr/>
            <p:nvPr/>
          </p:nvPicPr>
          <p:blipFill>
            <a:blip r:embed="rId93"/>
            <a:stretch/>
          </p:blipFill>
          <p:spPr>
            <a:xfrm>
              <a:off x="1515960" y="4879800"/>
              <a:ext cx="378000" cy="69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7" name=""/>
          <p:cNvGrpSpPr/>
          <p:nvPr/>
        </p:nvGrpSpPr>
        <p:grpSpPr>
          <a:xfrm>
            <a:off x="455760" y="5068800"/>
            <a:ext cx="1026360" cy="558360"/>
            <a:chOff x="455760" y="5068800"/>
            <a:chExt cx="1026360" cy="558360"/>
          </a:xfrm>
        </p:grpSpPr>
        <p:sp>
          <p:nvSpPr>
            <p:cNvPr id="1038" name=""/>
            <p:cNvSpPr/>
            <p:nvPr/>
          </p:nvSpPr>
          <p:spPr>
            <a:xfrm>
              <a:off x="860400" y="5068800"/>
              <a:ext cx="6181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תולדות 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הקולנוע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238040" y="5280120"/>
              <a:ext cx="23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קרי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40" name="funny_men_hand_cart_ty_CLR" descr=""/>
            <p:cNvPicPr/>
            <p:nvPr/>
          </p:nvPicPr>
          <p:blipFill>
            <a:blip r:embed="rId94"/>
            <a:stretch/>
          </p:blipFill>
          <p:spPr>
            <a:xfrm>
              <a:off x="455760" y="5116680"/>
              <a:ext cx="579240" cy="47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1" name=""/>
            <p:cNvSpPr/>
            <p:nvPr/>
          </p:nvSpPr>
          <p:spPr>
            <a:xfrm>
              <a:off x="929520" y="53960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860400" y="5237280"/>
              <a:ext cx="4413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י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3" name=""/>
          <p:cNvGrpSpPr/>
          <p:nvPr/>
        </p:nvGrpSpPr>
        <p:grpSpPr>
          <a:xfrm>
            <a:off x="915480" y="4640400"/>
            <a:ext cx="982080" cy="462600"/>
            <a:chOff x="915480" y="4640400"/>
            <a:chExt cx="982080" cy="462600"/>
          </a:xfrm>
        </p:grpSpPr>
        <p:sp>
          <p:nvSpPr>
            <p:cNvPr id="1044" name=""/>
            <p:cNvSpPr/>
            <p:nvPr/>
          </p:nvSpPr>
          <p:spPr>
            <a:xfrm>
              <a:off x="915480" y="4640400"/>
              <a:ext cx="982080" cy="1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רכז מתמטיק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346040" y="4746240"/>
              <a:ext cx="26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סיג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224720" y="487188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47" name="mark1" descr=""/>
            <p:cNvPicPr/>
            <p:nvPr/>
          </p:nvPicPr>
          <p:blipFill>
            <a:blip r:embed="rId95"/>
            <a:stretch/>
          </p:blipFill>
          <p:spPr>
            <a:xfrm>
              <a:off x="1008000" y="4760640"/>
              <a:ext cx="308160" cy="307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48" name=""/>
          <p:cNvGrpSpPr/>
          <p:nvPr/>
        </p:nvGrpSpPr>
        <p:grpSpPr>
          <a:xfrm>
            <a:off x="1020240" y="5592600"/>
            <a:ext cx="982080" cy="462960"/>
            <a:chOff x="1020240" y="5592600"/>
            <a:chExt cx="982080" cy="462960"/>
          </a:xfrm>
        </p:grpSpPr>
        <p:sp>
          <p:nvSpPr>
            <p:cNvPr id="1049" name=""/>
            <p:cNvSpPr/>
            <p:nvPr/>
          </p:nvSpPr>
          <p:spPr>
            <a:xfrm>
              <a:off x="1020240" y="5592600"/>
              <a:ext cx="982080" cy="1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רכז מתמטיק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450800" y="5698800"/>
              <a:ext cx="26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סיג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329480" y="58244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52" name="mark1" descr=""/>
            <p:cNvPicPr/>
            <p:nvPr/>
          </p:nvPicPr>
          <p:blipFill>
            <a:blip r:embed="rId96"/>
            <a:stretch/>
          </p:blipFill>
          <p:spPr>
            <a:xfrm>
              <a:off x="1112760" y="5713200"/>
              <a:ext cx="308160" cy="307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3" name=""/>
          <p:cNvGrpSpPr/>
          <p:nvPr/>
        </p:nvGrpSpPr>
        <p:grpSpPr>
          <a:xfrm>
            <a:off x="217440" y="5613480"/>
            <a:ext cx="766080" cy="510480"/>
            <a:chOff x="217440" y="5613480"/>
            <a:chExt cx="766080" cy="510480"/>
          </a:xfrm>
        </p:grpSpPr>
        <p:sp>
          <p:nvSpPr>
            <p:cNvPr id="1054" name=""/>
            <p:cNvSpPr/>
            <p:nvPr/>
          </p:nvSpPr>
          <p:spPr>
            <a:xfrm>
              <a:off x="540720" y="5638680"/>
              <a:ext cx="3801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LAR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93360" y="5756400"/>
              <a:ext cx="2599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ת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56" name="dragon_blowing_fire_sm_CLR" descr=""/>
            <p:cNvPicPr/>
            <p:nvPr/>
          </p:nvPicPr>
          <p:blipFill>
            <a:blip r:embed="rId97"/>
            <a:stretch/>
          </p:blipFill>
          <p:spPr>
            <a:xfrm>
              <a:off x="217440" y="5613480"/>
              <a:ext cx="432000" cy="48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7" name=""/>
            <p:cNvSpPr/>
            <p:nvPr/>
          </p:nvSpPr>
          <p:spPr>
            <a:xfrm>
              <a:off x="522720" y="5832360"/>
              <a:ext cx="2278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30920" y="58928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9" name=""/>
          <p:cNvGrpSpPr/>
          <p:nvPr/>
        </p:nvGrpSpPr>
        <p:grpSpPr>
          <a:xfrm>
            <a:off x="2021040" y="5527800"/>
            <a:ext cx="781560" cy="718200"/>
            <a:chOff x="2021040" y="5527800"/>
            <a:chExt cx="781560" cy="718200"/>
          </a:xfrm>
        </p:grpSpPr>
        <p:sp>
          <p:nvSpPr>
            <p:cNvPr id="1060" name=""/>
            <p:cNvSpPr/>
            <p:nvPr/>
          </p:nvSpPr>
          <p:spPr>
            <a:xfrm>
              <a:off x="2202480" y="5632560"/>
              <a:ext cx="4305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גיטר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184120" y="5745240"/>
              <a:ext cx="464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ן והדס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250720" y="5827680"/>
              <a:ext cx="3895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י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250000" y="601488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64" name="acoustic_guitar_notes_sm_CLR" descr=""/>
            <p:cNvPicPr/>
            <p:nvPr/>
          </p:nvPicPr>
          <p:blipFill>
            <a:blip r:embed="rId98"/>
            <a:stretch/>
          </p:blipFill>
          <p:spPr>
            <a:xfrm>
              <a:off x="2021040" y="5527800"/>
              <a:ext cx="377640" cy="696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5" name=""/>
          <p:cNvGrpSpPr/>
          <p:nvPr/>
        </p:nvGrpSpPr>
        <p:grpSpPr>
          <a:xfrm>
            <a:off x="3363840" y="5999040"/>
            <a:ext cx="934200" cy="601560"/>
            <a:chOff x="3363840" y="5999040"/>
            <a:chExt cx="934200" cy="601560"/>
          </a:xfrm>
        </p:grpSpPr>
        <p:sp>
          <p:nvSpPr>
            <p:cNvPr id="1066" name=""/>
            <p:cNvSpPr/>
            <p:nvPr/>
          </p:nvSpPr>
          <p:spPr>
            <a:xfrm>
              <a:off x="3873960" y="6141960"/>
              <a:ext cx="387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נועה פ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965040" y="625140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363840" y="5999040"/>
              <a:ext cx="8204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ריקו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69" name="heart_dancing_sm_CLR" descr=""/>
            <p:cNvPicPr/>
            <p:nvPr/>
          </p:nvPicPr>
          <p:blipFill>
            <a:blip r:embed="rId99"/>
            <a:stretch/>
          </p:blipFill>
          <p:spPr>
            <a:xfrm>
              <a:off x="3403440" y="6026040"/>
              <a:ext cx="638280" cy="57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0" name=""/>
            <p:cNvSpPr/>
            <p:nvPr/>
          </p:nvSpPr>
          <p:spPr>
            <a:xfrm>
              <a:off x="3745440" y="635616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1" name=""/>
          <p:cNvGrpSpPr/>
          <p:nvPr/>
        </p:nvGrpSpPr>
        <p:grpSpPr>
          <a:xfrm>
            <a:off x="1176480" y="6060960"/>
            <a:ext cx="656640" cy="654120"/>
            <a:chOff x="1176480" y="6060960"/>
            <a:chExt cx="656640" cy="654120"/>
          </a:xfrm>
        </p:grpSpPr>
        <p:sp>
          <p:nvSpPr>
            <p:cNvPr id="1072" name=""/>
            <p:cNvSpPr/>
            <p:nvPr/>
          </p:nvSpPr>
          <p:spPr>
            <a:xfrm>
              <a:off x="1186560" y="6060960"/>
              <a:ext cx="5187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תבלינ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1408680" y="615456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ליס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386000" y="6227640"/>
              <a:ext cx="3758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346040" y="6357960"/>
              <a:ext cx="487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בחוץ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76" name="pepper_shaker_shaking_sm_CLR" descr=""/>
            <p:cNvPicPr/>
            <p:nvPr/>
          </p:nvPicPr>
          <p:blipFill>
            <a:blip r:embed="rId100"/>
            <a:stretch/>
          </p:blipFill>
          <p:spPr>
            <a:xfrm>
              <a:off x="1176480" y="6164280"/>
              <a:ext cx="420480" cy="550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7" name=""/>
          <p:cNvGrpSpPr/>
          <p:nvPr/>
        </p:nvGrpSpPr>
        <p:grpSpPr>
          <a:xfrm>
            <a:off x="1771560" y="5935680"/>
            <a:ext cx="942480" cy="617400"/>
            <a:chOff x="1771560" y="5935680"/>
            <a:chExt cx="942480" cy="617400"/>
          </a:xfrm>
        </p:grpSpPr>
        <p:sp>
          <p:nvSpPr>
            <p:cNvPr id="1078" name=""/>
            <p:cNvSpPr/>
            <p:nvPr/>
          </p:nvSpPr>
          <p:spPr>
            <a:xfrm>
              <a:off x="2198160" y="6257880"/>
              <a:ext cx="51588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בוגר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בגן ו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79" name="brooke_babysitting_little_sister_sm_CLR" descr=""/>
            <p:cNvPicPr/>
            <p:nvPr/>
          </p:nvPicPr>
          <p:blipFill>
            <a:blip r:embed="rId101"/>
            <a:stretch/>
          </p:blipFill>
          <p:spPr>
            <a:xfrm>
              <a:off x="1771560" y="5935680"/>
              <a:ext cx="500040" cy="617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0" name=""/>
          <p:cNvGrpSpPr/>
          <p:nvPr/>
        </p:nvGrpSpPr>
        <p:grpSpPr>
          <a:xfrm>
            <a:off x="3127320" y="4670280"/>
            <a:ext cx="1154520" cy="524160"/>
            <a:chOff x="3127320" y="4670280"/>
            <a:chExt cx="1154520" cy="524160"/>
          </a:xfrm>
        </p:grpSpPr>
        <p:sp>
          <p:nvSpPr>
            <p:cNvPr id="1081" name=""/>
            <p:cNvSpPr/>
            <p:nvPr/>
          </p:nvSpPr>
          <p:spPr>
            <a:xfrm>
              <a:off x="3331800" y="4670280"/>
              <a:ext cx="9500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טיולים בס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692520" y="4773600"/>
              <a:ext cx="54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ני ותמ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432960" y="4799160"/>
              <a:ext cx="4003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4" name="tourist_map_confusion_sm_CLR" descr=""/>
            <p:cNvPicPr/>
            <p:nvPr/>
          </p:nvPicPr>
          <p:blipFill>
            <a:blip r:embed="rId102"/>
            <a:stretch/>
          </p:blipFill>
          <p:spPr>
            <a:xfrm>
              <a:off x="3127320" y="4670280"/>
              <a:ext cx="411120" cy="52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5" name=""/>
            <p:cNvSpPr/>
            <p:nvPr/>
          </p:nvSpPr>
          <p:spPr>
            <a:xfrm>
              <a:off x="3660120" y="490068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6" name=""/>
          <p:cNvGrpSpPr/>
          <p:nvPr/>
        </p:nvGrpSpPr>
        <p:grpSpPr>
          <a:xfrm>
            <a:off x="7134120" y="2766960"/>
            <a:ext cx="1119240" cy="583560"/>
            <a:chOff x="7134120" y="2766960"/>
            <a:chExt cx="1119240" cy="583560"/>
          </a:xfrm>
        </p:grpSpPr>
        <p:sp>
          <p:nvSpPr>
            <p:cNvPr id="1087" name=""/>
            <p:cNvSpPr/>
            <p:nvPr/>
          </p:nvSpPr>
          <p:spPr>
            <a:xfrm>
              <a:off x="7675560" y="3027240"/>
              <a:ext cx="96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7829280" y="2992320"/>
              <a:ext cx="26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7543800" y="2766960"/>
              <a:ext cx="70956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צלילים מספר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612920" y="311940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91" name="music_staff_md_CLR" descr=""/>
            <p:cNvPicPr/>
            <p:nvPr/>
          </p:nvPicPr>
          <p:blipFill>
            <a:blip r:embed="rId103"/>
            <a:stretch/>
          </p:blipFill>
          <p:spPr>
            <a:xfrm>
              <a:off x="7134120" y="2838240"/>
              <a:ext cx="524160" cy="419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"/>
          <p:cNvGrpSpPr/>
          <p:nvPr/>
        </p:nvGrpSpPr>
        <p:grpSpPr>
          <a:xfrm>
            <a:off x="5759280" y="3832200"/>
            <a:ext cx="728640" cy="499320"/>
            <a:chOff x="5759280" y="3832200"/>
            <a:chExt cx="728640" cy="499320"/>
          </a:xfrm>
        </p:grpSpPr>
        <p:pic>
          <p:nvPicPr>
            <p:cNvPr id="1093" name="Picture" descr=""/>
            <p:cNvPicPr/>
            <p:nvPr/>
          </p:nvPicPr>
          <p:blipFill>
            <a:blip r:embed="rId1"/>
            <a:stretch/>
          </p:blipFill>
          <p:spPr>
            <a:xfrm>
              <a:off x="5759280" y="3848040"/>
              <a:ext cx="387360" cy="4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4" name=""/>
            <p:cNvSpPr/>
            <p:nvPr/>
          </p:nvSpPr>
          <p:spPr>
            <a:xfrm>
              <a:off x="6078960" y="3832200"/>
              <a:ext cx="3528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צילו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6137280" y="4049640"/>
              <a:ext cx="22320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ב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125400" y="3906720"/>
              <a:ext cx="307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פ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6000840" y="4100400"/>
              <a:ext cx="487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בחוץ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8" name=""/>
          <p:cNvGrpSpPr/>
          <p:nvPr/>
        </p:nvGrpSpPr>
        <p:grpSpPr>
          <a:xfrm>
            <a:off x="7164360" y="1600200"/>
            <a:ext cx="972360" cy="789120"/>
            <a:chOff x="7164360" y="1600200"/>
            <a:chExt cx="972360" cy="789120"/>
          </a:xfrm>
        </p:grpSpPr>
        <p:pic>
          <p:nvPicPr>
            <p:cNvPr id="1099" name="feather_quill_sm_CLR" descr=""/>
            <p:cNvPicPr/>
            <p:nvPr/>
          </p:nvPicPr>
          <p:blipFill>
            <a:blip r:embed="rId2"/>
            <a:stretch/>
          </p:blipFill>
          <p:spPr>
            <a:xfrm>
              <a:off x="7324560" y="1670040"/>
              <a:ext cx="4111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0" name=""/>
            <p:cNvSpPr/>
            <p:nvPr/>
          </p:nvSpPr>
          <p:spPr>
            <a:xfrm>
              <a:off x="7860240" y="1857240"/>
              <a:ext cx="235440" cy="13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ענ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653240" y="1824120"/>
              <a:ext cx="96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7164360" y="1600200"/>
              <a:ext cx="9349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כתיבה וציור בכיף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7584120" y="192888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4" name=""/>
          <p:cNvGrpSpPr/>
          <p:nvPr/>
        </p:nvGrpSpPr>
        <p:grpSpPr>
          <a:xfrm>
            <a:off x="4896000" y="2763720"/>
            <a:ext cx="726480" cy="501120"/>
            <a:chOff x="4896000" y="2763720"/>
            <a:chExt cx="726480" cy="501120"/>
          </a:xfrm>
        </p:grpSpPr>
        <p:sp>
          <p:nvSpPr>
            <p:cNvPr id="1105" name=""/>
            <p:cNvSpPr/>
            <p:nvPr/>
          </p:nvSpPr>
          <p:spPr>
            <a:xfrm>
              <a:off x="5265720" y="2763720"/>
              <a:ext cx="270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ק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06" name="" descr=""/>
            <p:cNvPicPr/>
            <p:nvPr/>
          </p:nvPicPr>
          <p:blipFill>
            <a:blip r:embed="rId3"/>
            <a:stretch/>
          </p:blipFill>
          <p:spPr>
            <a:xfrm>
              <a:off x="4896000" y="2935440"/>
              <a:ext cx="29520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7" name="" descr=""/>
            <p:cNvPicPr/>
            <p:nvPr/>
          </p:nvPicPr>
          <p:blipFill>
            <a:blip r:embed="rId4"/>
            <a:stretch/>
          </p:blipFill>
          <p:spPr>
            <a:xfrm>
              <a:off x="4962600" y="2868480"/>
              <a:ext cx="295200" cy="3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8" name=""/>
            <p:cNvSpPr/>
            <p:nvPr/>
          </p:nvSpPr>
          <p:spPr>
            <a:xfrm>
              <a:off x="5288760" y="2908440"/>
              <a:ext cx="194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קר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069880" y="30337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0" name=""/>
          <p:cNvSpPr/>
          <p:nvPr/>
        </p:nvSpPr>
        <p:spPr>
          <a:xfrm>
            <a:off x="6036480" y="177840"/>
            <a:ext cx="398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חמישי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122200" y="17784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שישי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8196120" y="6622920"/>
            <a:ext cx="75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3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30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-13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4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964120" y="6642000"/>
            <a:ext cx="575280" cy="1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חוק וסדר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5961600" y="2494080"/>
            <a:ext cx="650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הפסקה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190440" y="171360"/>
            <a:ext cx="8772480" cy="6639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90440" y="37152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90440" y="63828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90440" y="157176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190440" y="252396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190440" y="273384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00160" y="3676680"/>
            <a:ext cx="876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190440" y="463860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190440" y="558180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8182080" y="162000"/>
            <a:ext cx="0" cy="663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257720" y="171360"/>
            <a:ext cx="0" cy="663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8224920" y="425520"/>
            <a:ext cx="703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8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3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5883480" y="441360"/>
            <a:ext cx="718560" cy="1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מפגש בוקר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200160" y="6562800"/>
            <a:ext cx="876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2801880" y="-38160"/>
            <a:ext cx="3510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500" spc="-1" strike="noStrike">
                <a:solidFill>
                  <a:srgbClr val="0000ff"/>
                </a:solidFill>
                <a:latin typeface="Arial"/>
                <a:cs typeface="Arial"/>
              </a:rPr>
              <a:t>מערכת שעות לבחירה – שליש ב' תשס“ח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0" name=""/>
          <p:cNvGrpSpPr/>
          <p:nvPr/>
        </p:nvGrpSpPr>
        <p:grpSpPr>
          <a:xfrm>
            <a:off x="4164120" y="654120"/>
            <a:ext cx="811080" cy="762840"/>
            <a:chOff x="4164120" y="654120"/>
            <a:chExt cx="811080" cy="762840"/>
          </a:xfrm>
        </p:grpSpPr>
        <p:sp>
          <p:nvSpPr>
            <p:cNvPr id="1131" name=""/>
            <p:cNvSpPr/>
            <p:nvPr/>
          </p:nvSpPr>
          <p:spPr>
            <a:xfrm>
              <a:off x="4635000" y="877680"/>
              <a:ext cx="284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לו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164120" y="654120"/>
              <a:ext cx="8110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רכז מדע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33" name="atomic_energy_sm_CLR" descr=""/>
            <p:cNvPicPr/>
            <p:nvPr/>
          </p:nvPicPr>
          <p:blipFill>
            <a:blip r:embed="rId5"/>
            <a:stretch/>
          </p:blipFill>
          <p:spPr>
            <a:xfrm>
              <a:off x="4195800" y="738000"/>
              <a:ext cx="588960" cy="58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4" name=""/>
            <p:cNvSpPr/>
            <p:nvPr/>
          </p:nvSpPr>
          <p:spPr>
            <a:xfrm>
              <a:off x="4345920" y="11858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5" name=""/>
          <p:cNvGrpSpPr/>
          <p:nvPr/>
        </p:nvGrpSpPr>
        <p:grpSpPr>
          <a:xfrm>
            <a:off x="7000920" y="1114560"/>
            <a:ext cx="1069920" cy="521640"/>
            <a:chOff x="7000920" y="1114560"/>
            <a:chExt cx="1069920" cy="521640"/>
          </a:xfrm>
        </p:grpSpPr>
        <p:sp>
          <p:nvSpPr>
            <p:cNvPr id="1136" name=""/>
            <p:cNvSpPr/>
            <p:nvPr/>
          </p:nvSpPr>
          <p:spPr>
            <a:xfrm>
              <a:off x="7665840" y="141624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466040" y="1114560"/>
              <a:ext cx="6048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5-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7580880" y="1289160"/>
              <a:ext cx="3816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39" name="addition_2_plus_2_ty_CLR" descr=""/>
            <p:cNvPicPr/>
            <p:nvPr/>
          </p:nvPicPr>
          <p:blipFill>
            <a:blip r:embed="rId6"/>
            <a:stretch/>
          </p:blipFill>
          <p:spPr>
            <a:xfrm>
              <a:off x="7000920" y="1133640"/>
              <a:ext cx="585720" cy="3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0" name=""/>
            <p:cNvSpPr/>
            <p:nvPr/>
          </p:nvSpPr>
          <p:spPr>
            <a:xfrm>
              <a:off x="7041240" y="140508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1" name=""/>
          <p:cNvGrpSpPr/>
          <p:nvPr/>
        </p:nvGrpSpPr>
        <p:grpSpPr>
          <a:xfrm>
            <a:off x="5256360" y="569880"/>
            <a:ext cx="1148760" cy="593640"/>
            <a:chOff x="5256360" y="569880"/>
            <a:chExt cx="1148760" cy="593640"/>
          </a:xfrm>
        </p:grpSpPr>
        <p:sp>
          <p:nvSpPr>
            <p:cNvPr id="1142" name=""/>
            <p:cNvSpPr/>
            <p:nvPr/>
          </p:nvSpPr>
          <p:spPr>
            <a:xfrm>
              <a:off x="5816520" y="769680"/>
              <a:ext cx="1760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108840" y="734760"/>
              <a:ext cx="115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695920" y="642600"/>
              <a:ext cx="7092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זואולוגי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45" name="germ_squishing_around_ty_CLR" descr=""/>
            <p:cNvPicPr/>
            <p:nvPr/>
          </p:nvPicPr>
          <p:blipFill>
            <a:blip r:embed="rId7"/>
            <a:stretch/>
          </p:blipFill>
          <p:spPr>
            <a:xfrm>
              <a:off x="5256360" y="569880"/>
              <a:ext cx="59328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6" name=""/>
            <p:cNvSpPr/>
            <p:nvPr/>
          </p:nvSpPr>
          <p:spPr>
            <a:xfrm>
              <a:off x="5593320" y="8521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7" name=""/>
          <p:cNvGrpSpPr/>
          <p:nvPr/>
        </p:nvGrpSpPr>
        <p:grpSpPr>
          <a:xfrm>
            <a:off x="4857840" y="1012680"/>
            <a:ext cx="764640" cy="594720"/>
            <a:chOff x="4857840" y="1012680"/>
            <a:chExt cx="764640" cy="594720"/>
          </a:xfrm>
        </p:grpSpPr>
        <p:pic>
          <p:nvPicPr>
            <p:cNvPr id="1148" name="bkcl1a" descr=""/>
            <p:cNvPicPr/>
            <p:nvPr/>
          </p:nvPicPr>
          <p:blipFill>
            <a:blip r:embed="rId8"/>
            <a:stretch/>
          </p:blipFill>
          <p:spPr>
            <a:xfrm>
              <a:off x="4857840" y="1101600"/>
              <a:ext cx="419400" cy="3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9" name=""/>
            <p:cNvSpPr/>
            <p:nvPr/>
          </p:nvSpPr>
          <p:spPr>
            <a:xfrm>
              <a:off x="5128200" y="1012680"/>
              <a:ext cx="4136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פר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301720" y="1287360"/>
              <a:ext cx="20952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-י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325480" y="1116000"/>
              <a:ext cx="214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ר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069880" y="137628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3" name=""/>
          <p:cNvGrpSpPr/>
          <p:nvPr/>
        </p:nvGrpSpPr>
        <p:grpSpPr>
          <a:xfrm>
            <a:off x="7304040" y="598320"/>
            <a:ext cx="975600" cy="593640"/>
            <a:chOff x="7304040" y="598320"/>
            <a:chExt cx="975600" cy="593640"/>
          </a:xfrm>
        </p:grpSpPr>
        <p:sp>
          <p:nvSpPr>
            <p:cNvPr id="1154" name=""/>
            <p:cNvSpPr/>
            <p:nvPr/>
          </p:nvSpPr>
          <p:spPr>
            <a:xfrm>
              <a:off x="7817040" y="853920"/>
              <a:ext cx="22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7542360" y="628560"/>
              <a:ext cx="604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7969320" y="774360"/>
              <a:ext cx="203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נ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57" name="girl_holding_123_ty_CLR" descr=""/>
            <p:cNvPicPr/>
            <p:nvPr/>
          </p:nvPicPr>
          <p:blipFill>
            <a:blip r:embed="rId9"/>
            <a:stretch/>
          </p:blipFill>
          <p:spPr>
            <a:xfrm>
              <a:off x="7304040" y="598320"/>
              <a:ext cx="59364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8" name=""/>
            <p:cNvSpPr/>
            <p:nvPr/>
          </p:nvSpPr>
          <p:spPr>
            <a:xfrm>
              <a:off x="7727040" y="9475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9" name=""/>
          <p:cNvGrpSpPr/>
          <p:nvPr/>
        </p:nvGrpSpPr>
        <p:grpSpPr>
          <a:xfrm>
            <a:off x="5772240" y="1943280"/>
            <a:ext cx="961560" cy="635760"/>
            <a:chOff x="5772240" y="1943280"/>
            <a:chExt cx="961560" cy="635760"/>
          </a:xfrm>
        </p:grpSpPr>
        <p:sp>
          <p:nvSpPr>
            <p:cNvPr id="1160" name=""/>
            <p:cNvSpPr/>
            <p:nvPr/>
          </p:nvSpPr>
          <p:spPr>
            <a:xfrm>
              <a:off x="6437160" y="235908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780160" y="1943280"/>
              <a:ext cx="6048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4-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6352200" y="2232000"/>
              <a:ext cx="3816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63" name="addition_2_plus_2_ty_CLR" descr=""/>
            <p:cNvPicPr/>
            <p:nvPr/>
          </p:nvPicPr>
          <p:blipFill>
            <a:blip r:embed="rId10"/>
            <a:stretch/>
          </p:blipFill>
          <p:spPr>
            <a:xfrm>
              <a:off x="5772240" y="2076480"/>
              <a:ext cx="585720" cy="3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4" name=""/>
            <p:cNvSpPr/>
            <p:nvPr/>
          </p:nvSpPr>
          <p:spPr>
            <a:xfrm>
              <a:off x="5812560" y="23479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5" name=""/>
          <p:cNvGrpSpPr/>
          <p:nvPr/>
        </p:nvGrpSpPr>
        <p:grpSpPr>
          <a:xfrm>
            <a:off x="6246720" y="1512720"/>
            <a:ext cx="1149480" cy="593640"/>
            <a:chOff x="6246720" y="1512720"/>
            <a:chExt cx="1149480" cy="593640"/>
          </a:xfrm>
        </p:grpSpPr>
        <p:sp>
          <p:nvSpPr>
            <p:cNvPr id="1166" name=""/>
            <p:cNvSpPr/>
            <p:nvPr/>
          </p:nvSpPr>
          <p:spPr>
            <a:xfrm>
              <a:off x="6807240" y="1712520"/>
              <a:ext cx="1760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7099560" y="1677600"/>
              <a:ext cx="115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686640" y="1585440"/>
              <a:ext cx="7095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זואולוגי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69" name="germ_squishing_around_ty_CLR" descr=""/>
            <p:cNvPicPr/>
            <p:nvPr/>
          </p:nvPicPr>
          <p:blipFill>
            <a:blip r:embed="rId11"/>
            <a:stretch/>
          </p:blipFill>
          <p:spPr>
            <a:xfrm>
              <a:off x="6246720" y="1512720"/>
              <a:ext cx="59364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0" name=""/>
            <p:cNvSpPr/>
            <p:nvPr/>
          </p:nvSpPr>
          <p:spPr>
            <a:xfrm>
              <a:off x="6584040" y="179496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1" name=""/>
          <p:cNvGrpSpPr/>
          <p:nvPr/>
        </p:nvGrpSpPr>
        <p:grpSpPr>
          <a:xfrm>
            <a:off x="6265800" y="2703600"/>
            <a:ext cx="1149480" cy="593640"/>
            <a:chOff x="6265800" y="2703600"/>
            <a:chExt cx="1149480" cy="593640"/>
          </a:xfrm>
        </p:grpSpPr>
        <p:sp>
          <p:nvSpPr>
            <p:cNvPr id="1172" name=""/>
            <p:cNvSpPr/>
            <p:nvPr/>
          </p:nvSpPr>
          <p:spPr>
            <a:xfrm>
              <a:off x="6804000" y="2903400"/>
              <a:ext cx="220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118640" y="2868480"/>
              <a:ext cx="115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6705720" y="2776320"/>
              <a:ext cx="7095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בעלי חי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75" name="germ_squishing_around_ty_CLR" descr=""/>
            <p:cNvPicPr/>
            <p:nvPr/>
          </p:nvPicPr>
          <p:blipFill>
            <a:blip r:embed="rId12"/>
            <a:stretch/>
          </p:blipFill>
          <p:spPr>
            <a:xfrm>
              <a:off x="6265800" y="2703600"/>
              <a:ext cx="59364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6" name=""/>
            <p:cNvSpPr/>
            <p:nvPr/>
          </p:nvSpPr>
          <p:spPr>
            <a:xfrm>
              <a:off x="6603120" y="29858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7" name=""/>
          <p:cNvGrpSpPr/>
          <p:nvPr/>
        </p:nvGrpSpPr>
        <p:grpSpPr>
          <a:xfrm>
            <a:off x="6117120" y="3200400"/>
            <a:ext cx="1092600" cy="521640"/>
            <a:chOff x="6117120" y="3200400"/>
            <a:chExt cx="1092600" cy="521640"/>
          </a:xfrm>
        </p:grpSpPr>
        <p:sp>
          <p:nvSpPr>
            <p:cNvPr id="1178" name=""/>
            <p:cNvSpPr/>
            <p:nvPr/>
          </p:nvSpPr>
          <p:spPr>
            <a:xfrm>
              <a:off x="6577560" y="3521160"/>
              <a:ext cx="20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-י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6551280" y="3210120"/>
              <a:ext cx="6048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בוגר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6828120" y="3546720"/>
              <a:ext cx="3816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81" name="addition_2_plus_2_ty_CLR" descr=""/>
            <p:cNvPicPr/>
            <p:nvPr/>
          </p:nvPicPr>
          <p:blipFill>
            <a:blip r:embed="rId13"/>
            <a:stretch/>
          </p:blipFill>
          <p:spPr>
            <a:xfrm>
              <a:off x="6190920" y="3200400"/>
              <a:ext cx="586080" cy="3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2" name=""/>
            <p:cNvSpPr/>
            <p:nvPr/>
          </p:nvSpPr>
          <p:spPr>
            <a:xfrm>
              <a:off x="6117120" y="34909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3" name=""/>
          <p:cNvGrpSpPr/>
          <p:nvPr/>
        </p:nvGrpSpPr>
        <p:grpSpPr>
          <a:xfrm>
            <a:off x="7047000" y="3627360"/>
            <a:ext cx="1148760" cy="593640"/>
            <a:chOff x="7047000" y="3627360"/>
            <a:chExt cx="1148760" cy="593640"/>
          </a:xfrm>
        </p:grpSpPr>
        <p:sp>
          <p:nvSpPr>
            <p:cNvPr id="1184" name=""/>
            <p:cNvSpPr/>
            <p:nvPr/>
          </p:nvSpPr>
          <p:spPr>
            <a:xfrm>
              <a:off x="7646760" y="3827160"/>
              <a:ext cx="96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7899480" y="3792240"/>
              <a:ext cx="115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7486560" y="3700080"/>
              <a:ext cx="7092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בעלי חי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87" name="germ_squishing_around_ty_CLR" descr=""/>
            <p:cNvPicPr/>
            <p:nvPr/>
          </p:nvPicPr>
          <p:blipFill>
            <a:blip r:embed="rId14"/>
            <a:stretch/>
          </p:blipFill>
          <p:spPr>
            <a:xfrm>
              <a:off x="7047000" y="3627360"/>
              <a:ext cx="59328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8" name=""/>
            <p:cNvSpPr/>
            <p:nvPr/>
          </p:nvSpPr>
          <p:spPr>
            <a:xfrm>
              <a:off x="7383960" y="390960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9" name=""/>
          <p:cNvGrpSpPr/>
          <p:nvPr/>
        </p:nvGrpSpPr>
        <p:grpSpPr>
          <a:xfrm>
            <a:off x="6336720" y="641520"/>
            <a:ext cx="1057320" cy="594360"/>
            <a:chOff x="6336720" y="641520"/>
            <a:chExt cx="1057320" cy="594360"/>
          </a:xfrm>
        </p:grpSpPr>
        <p:sp>
          <p:nvSpPr>
            <p:cNvPr id="1190" name=""/>
            <p:cNvSpPr/>
            <p:nvPr/>
          </p:nvSpPr>
          <p:spPr>
            <a:xfrm>
              <a:off x="6336720" y="641520"/>
              <a:ext cx="968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 כתיבה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6943680" y="758880"/>
              <a:ext cx="26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6881040" y="873000"/>
              <a:ext cx="40032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93" name="girl" descr=""/>
            <p:cNvPicPr/>
            <p:nvPr/>
          </p:nvPicPr>
          <p:blipFill>
            <a:blip r:embed="rId15"/>
            <a:stretch/>
          </p:blipFill>
          <p:spPr>
            <a:xfrm>
              <a:off x="6581880" y="763560"/>
              <a:ext cx="34128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4" name=""/>
            <p:cNvSpPr/>
            <p:nvPr/>
          </p:nvSpPr>
          <p:spPr>
            <a:xfrm>
              <a:off x="6841440" y="100476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5" name=""/>
          <p:cNvGrpSpPr/>
          <p:nvPr/>
        </p:nvGrpSpPr>
        <p:grpSpPr>
          <a:xfrm>
            <a:off x="5884920" y="4570560"/>
            <a:ext cx="1148760" cy="593640"/>
            <a:chOff x="5884920" y="4570560"/>
            <a:chExt cx="1148760" cy="593640"/>
          </a:xfrm>
        </p:grpSpPr>
        <p:sp>
          <p:nvSpPr>
            <p:cNvPr id="1196" name=""/>
            <p:cNvSpPr/>
            <p:nvPr/>
          </p:nvSpPr>
          <p:spPr>
            <a:xfrm>
              <a:off x="6436800" y="4770360"/>
              <a:ext cx="195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6737400" y="4735440"/>
              <a:ext cx="115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6324480" y="4643280"/>
              <a:ext cx="7092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בעלי חי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99" name="germ_squishing_around_ty_CLR" descr=""/>
            <p:cNvPicPr/>
            <p:nvPr/>
          </p:nvPicPr>
          <p:blipFill>
            <a:blip r:embed="rId16"/>
            <a:stretch/>
          </p:blipFill>
          <p:spPr>
            <a:xfrm>
              <a:off x="5884920" y="4570560"/>
              <a:ext cx="59328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0" name=""/>
            <p:cNvSpPr/>
            <p:nvPr/>
          </p:nvSpPr>
          <p:spPr>
            <a:xfrm>
              <a:off x="6221880" y="485280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1" name=""/>
          <p:cNvGrpSpPr/>
          <p:nvPr/>
        </p:nvGrpSpPr>
        <p:grpSpPr>
          <a:xfrm>
            <a:off x="6367320" y="5021280"/>
            <a:ext cx="816840" cy="615240"/>
            <a:chOff x="6367320" y="5021280"/>
            <a:chExt cx="816840" cy="615240"/>
          </a:xfrm>
        </p:grpSpPr>
        <p:pic>
          <p:nvPicPr>
            <p:cNvPr id="1202" name="accountant_raising_pencil_sm_CLR" descr=""/>
            <p:cNvPicPr/>
            <p:nvPr/>
          </p:nvPicPr>
          <p:blipFill>
            <a:blip r:embed="rId17"/>
            <a:stretch/>
          </p:blipFill>
          <p:spPr>
            <a:xfrm>
              <a:off x="6367320" y="5021280"/>
              <a:ext cx="474480" cy="54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3" name=""/>
            <p:cNvSpPr/>
            <p:nvPr/>
          </p:nvSpPr>
          <p:spPr>
            <a:xfrm>
              <a:off x="6725880" y="5209920"/>
              <a:ext cx="3146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יט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6792840" y="5300640"/>
              <a:ext cx="17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6582960" y="5067000"/>
              <a:ext cx="4683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לש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6631560" y="540540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7" name=""/>
          <p:cNvGrpSpPr/>
          <p:nvPr/>
        </p:nvGrpSpPr>
        <p:grpSpPr>
          <a:xfrm>
            <a:off x="5679360" y="5583240"/>
            <a:ext cx="1195560" cy="961920"/>
            <a:chOff x="5679360" y="5583240"/>
            <a:chExt cx="1195560" cy="961920"/>
          </a:xfrm>
        </p:grpSpPr>
        <p:pic>
          <p:nvPicPr>
            <p:cNvPr id="1208" name="" descr=""/>
            <p:cNvPicPr/>
            <p:nvPr/>
          </p:nvPicPr>
          <p:blipFill>
            <a:blip r:embed="rId18"/>
            <a:stretch/>
          </p:blipFill>
          <p:spPr>
            <a:xfrm>
              <a:off x="5730840" y="5937120"/>
              <a:ext cx="1030320" cy="6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9" name=""/>
            <p:cNvSpPr/>
            <p:nvPr/>
          </p:nvSpPr>
          <p:spPr>
            <a:xfrm>
              <a:off x="5679360" y="5583240"/>
              <a:ext cx="11955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רלמנט  - ב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פגש לסוף השבוע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0" name=""/>
          <p:cNvGrpSpPr/>
          <p:nvPr/>
        </p:nvGrpSpPr>
        <p:grpSpPr>
          <a:xfrm>
            <a:off x="4213440" y="3689280"/>
            <a:ext cx="1027800" cy="528120"/>
            <a:chOff x="4213440" y="3689280"/>
            <a:chExt cx="1027800" cy="528120"/>
          </a:xfrm>
        </p:grpSpPr>
        <p:pic>
          <p:nvPicPr>
            <p:cNvPr id="1211" name="bkcl1a" descr=""/>
            <p:cNvPicPr/>
            <p:nvPr/>
          </p:nvPicPr>
          <p:blipFill>
            <a:blip r:embed="rId19"/>
            <a:stretch/>
          </p:blipFill>
          <p:spPr>
            <a:xfrm>
              <a:off x="4333680" y="3825720"/>
              <a:ext cx="419040" cy="3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2" name=""/>
            <p:cNvSpPr/>
            <p:nvPr/>
          </p:nvSpPr>
          <p:spPr>
            <a:xfrm>
              <a:off x="4213440" y="3689280"/>
              <a:ext cx="8190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הסיפור שלא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נגמ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734000" y="3944880"/>
              <a:ext cx="17604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963320" y="3906720"/>
              <a:ext cx="214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ר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688640" y="398628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6" name=""/>
          <p:cNvGrpSpPr/>
          <p:nvPr/>
        </p:nvGrpSpPr>
        <p:grpSpPr>
          <a:xfrm>
            <a:off x="5467320" y="5045040"/>
            <a:ext cx="707400" cy="582120"/>
            <a:chOff x="5467320" y="5045040"/>
            <a:chExt cx="707400" cy="582120"/>
          </a:xfrm>
        </p:grpSpPr>
        <p:pic>
          <p:nvPicPr>
            <p:cNvPr id="1217" name="" descr=""/>
            <p:cNvPicPr/>
            <p:nvPr/>
          </p:nvPicPr>
          <p:blipFill>
            <a:blip r:embed="rId20"/>
            <a:stretch/>
          </p:blipFill>
          <p:spPr>
            <a:xfrm>
              <a:off x="5518080" y="5099040"/>
              <a:ext cx="390600" cy="4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8" name=""/>
            <p:cNvSpPr/>
            <p:nvPr/>
          </p:nvSpPr>
          <p:spPr>
            <a:xfrm>
              <a:off x="5806080" y="5321520"/>
              <a:ext cx="2095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י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769000" y="517356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הו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545080" y="5045040"/>
              <a:ext cx="554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חז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21" name="boy_reading_sm_CLR" descr=""/>
            <p:cNvPicPr/>
            <p:nvPr/>
          </p:nvPicPr>
          <p:blipFill>
            <a:blip r:embed="rId21"/>
            <a:stretch/>
          </p:blipFill>
          <p:spPr>
            <a:xfrm>
              <a:off x="5467320" y="5062680"/>
              <a:ext cx="3045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2" name=""/>
            <p:cNvSpPr/>
            <p:nvPr/>
          </p:nvSpPr>
          <p:spPr>
            <a:xfrm>
              <a:off x="5622120" y="53960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3" name=""/>
          <p:cNvSpPr/>
          <p:nvPr/>
        </p:nvSpPr>
        <p:spPr>
          <a:xfrm>
            <a:off x="8186760" y="4044960"/>
            <a:ext cx="75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1:50-11:1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8196120" y="4987800"/>
            <a:ext cx="76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2:35-11:5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8205840" y="958680"/>
            <a:ext cx="703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8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35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-9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8244000" y="1892160"/>
            <a:ext cx="703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9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-10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8205840" y="3089160"/>
            <a:ext cx="75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1:00-10:2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8196120" y="2530440"/>
            <a:ext cx="76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00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-10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8186760" y="6016680"/>
            <a:ext cx="76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3:20-12:4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0" name=""/>
          <p:cNvGrpSpPr/>
          <p:nvPr/>
        </p:nvGrpSpPr>
        <p:grpSpPr>
          <a:xfrm>
            <a:off x="7267680" y="2994120"/>
            <a:ext cx="831600" cy="727920"/>
            <a:chOff x="7267680" y="2994120"/>
            <a:chExt cx="831600" cy="727920"/>
          </a:xfrm>
        </p:grpSpPr>
        <p:pic>
          <p:nvPicPr>
            <p:cNvPr id="1231" name="feather_quill_sm_CLR" descr=""/>
            <p:cNvPicPr/>
            <p:nvPr/>
          </p:nvPicPr>
          <p:blipFill>
            <a:blip r:embed="rId22"/>
            <a:stretch/>
          </p:blipFill>
          <p:spPr>
            <a:xfrm>
              <a:off x="7267680" y="2994120"/>
              <a:ext cx="4111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2" name=""/>
            <p:cNvSpPr/>
            <p:nvPr/>
          </p:nvSpPr>
          <p:spPr>
            <a:xfrm>
              <a:off x="7524000" y="3295800"/>
              <a:ext cx="214200" cy="13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ר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537320" y="338616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678800" y="3333600"/>
              <a:ext cx="42048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כת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 בכיף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7288920" y="34909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6" name=""/>
          <p:cNvGrpSpPr/>
          <p:nvPr/>
        </p:nvGrpSpPr>
        <p:grpSpPr>
          <a:xfrm>
            <a:off x="5915160" y="1036800"/>
            <a:ext cx="666000" cy="508680"/>
            <a:chOff x="5915160" y="1036800"/>
            <a:chExt cx="666000" cy="508680"/>
          </a:xfrm>
        </p:grpSpPr>
        <p:sp>
          <p:nvSpPr>
            <p:cNvPr id="1237" name=""/>
            <p:cNvSpPr/>
            <p:nvPr/>
          </p:nvSpPr>
          <p:spPr>
            <a:xfrm>
              <a:off x="6014880" y="1036800"/>
              <a:ext cx="5662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פורט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3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310440" y="129852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9" name=""/>
            <p:cNvGrpSpPr/>
            <p:nvPr/>
          </p:nvGrpSpPr>
          <p:grpSpPr>
            <a:xfrm>
              <a:off x="5915160" y="1141200"/>
              <a:ext cx="401400" cy="404280"/>
              <a:chOff x="5915160" y="1141200"/>
              <a:chExt cx="401400" cy="404280"/>
            </a:xfrm>
          </p:grpSpPr>
          <p:pic>
            <p:nvPicPr>
              <p:cNvPr id="1240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5915160" y="1141200"/>
                <a:ext cx="401400" cy="404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1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5915160" y="1141200"/>
                <a:ext cx="401400" cy="404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42" name=""/>
            <p:cNvSpPr/>
            <p:nvPr/>
          </p:nvSpPr>
          <p:spPr>
            <a:xfrm>
              <a:off x="6278400" y="1145880"/>
              <a:ext cx="210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יד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3" name=""/>
          <p:cNvGrpSpPr/>
          <p:nvPr/>
        </p:nvGrpSpPr>
        <p:grpSpPr>
          <a:xfrm>
            <a:off x="4173480" y="1587600"/>
            <a:ext cx="811080" cy="762840"/>
            <a:chOff x="4173480" y="1587600"/>
            <a:chExt cx="811080" cy="762840"/>
          </a:xfrm>
        </p:grpSpPr>
        <p:sp>
          <p:nvSpPr>
            <p:cNvPr id="1244" name=""/>
            <p:cNvSpPr/>
            <p:nvPr/>
          </p:nvSpPr>
          <p:spPr>
            <a:xfrm>
              <a:off x="4644360" y="1811160"/>
              <a:ext cx="284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לו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173480" y="1587600"/>
              <a:ext cx="8110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רכז מדע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46" name="atomic_energy_sm_CLR" descr=""/>
            <p:cNvPicPr/>
            <p:nvPr/>
          </p:nvPicPr>
          <p:blipFill>
            <a:blip r:embed="rId25"/>
            <a:stretch/>
          </p:blipFill>
          <p:spPr>
            <a:xfrm>
              <a:off x="4205160" y="1671480"/>
              <a:ext cx="588960" cy="58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7" name=""/>
            <p:cNvSpPr/>
            <p:nvPr/>
          </p:nvSpPr>
          <p:spPr>
            <a:xfrm>
              <a:off x="4355280" y="21193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8" name=""/>
          <p:cNvGrpSpPr/>
          <p:nvPr/>
        </p:nvGrpSpPr>
        <p:grpSpPr>
          <a:xfrm>
            <a:off x="7448400" y="2075040"/>
            <a:ext cx="750240" cy="457920"/>
            <a:chOff x="7448400" y="2075040"/>
            <a:chExt cx="750240" cy="457920"/>
          </a:xfrm>
        </p:grpSpPr>
        <p:sp>
          <p:nvSpPr>
            <p:cNvPr id="1249" name=""/>
            <p:cNvSpPr/>
            <p:nvPr/>
          </p:nvSpPr>
          <p:spPr>
            <a:xfrm>
              <a:off x="7789320" y="2075040"/>
              <a:ext cx="40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פור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7766280" y="2365200"/>
              <a:ext cx="22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1" name=""/>
            <p:cNvGrpSpPr/>
            <p:nvPr/>
          </p:nvGrpSpPr>
          <p:grpSpPr>
            <a:xfrm>
              <a:off x="7448400" y="2093760"/>
              <a:ext cx="401400" cy="404280"/>
              <a:chOff x="7448400" y="2093760"/>
              <a:chExt cx="401400" cy="404280"/>
            </a:xfrm>
          </p:grpSpPr>
          <p:pic>
            <p:nvPicPr>
              <p:cNvPr id="1252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7448400" y="2093760"/>
                <a:ext cx="401400" cy="404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3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7448400" y="2093760"/>
                <a:ext cx="401400" cy="404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54" name=""/>
            <p:cNvSpPr/>
            <p:nvPr/>
          </p:nvSpPr>
          <p:spPr>
            <a:xfrm>
              <a:off x="7821000" y="2232000"/>
              <a:ext cx="210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יד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5" name=""/>
          <p:cNvGrpSpPr/>
          <p:nvPr/>
        </p:nvGrpSpPr>
        <p:grpSpPr>
          <a:xfrm>
            <a:off x="4917960" y="1581120"/>
            <a:ext cx="1035360" cy="571680"/>
            <a:chOff x="4917960" y="1581120"/>
            <a:chExt cx="1035360" cy="571680"/>
          </a:xfrm>
        </p:grpSpPr>
        <p:sp>
          <p:nvSpPr>
            <p:cNvPr id="1256" name=""/>
            <p:cNvSpPr/>
            <p:nvPr/>
          </p:nvSpPr>
          <p:spPr>
            <a:xfrm>
              <a:off x="5417640" y="178740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036760" y="1581120"/>
              <a:ext cx="8906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זרה בזמ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 – יוון העתיק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722560" y="1812960"/>
              <a:ext cx="2307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קרי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59" name="roman_speaker_sm_CLR" descr=""/>
            <p:cNvPicPr/>
            <p:nvPr/>
          </p:nvPicPr>
          <p:blipFill>
            <a:blip r:embed="rId28"/>
            <a:stretch/>
          </p:blipFill>
          <p:spPr>
            <a:xfrm>
              <a:off x="4917960" y="1638360"/>
              <a:ext cx="47448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0" name=""/>
            <p:cNvSpPr/>
            <p:nvPr/>
          </p:nvSpPr>
          <p:spPr>
            <a:xfrm>
              <a:off x="5279040" y="18907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1" name=""/>
          <p:cNvGrpSpPr/>
          <p:nvPr/>
        </p:nvGrpSpPr>
        <p:grpSpPr>
          <a:xfrm>
            <a:off x="6529680" y="2023920"/>
            <a:ext cx="977400" cy="507600"/>
            <a:chOff x="6529680" y="2023920"/>
            <a:chExt cx="977400" cy="507600"/>
          </a:xfrm>
        </p:grpSpPr>
        <p:sp>
          <p:nvSpPr>
            <p:cNvPr id="1262" name=""/>
            <p:cNvSpPr/>
            <p:nvPr/>
          </p:nvSpPr>
          <p:spPr>
            <a:xfrm>
              <a:off x="6529680" y="2023920"/>
              <a:ext cx="9122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 בוגר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3" name=""/>
            <p:cNvGrpSpPr/>
            <p:nvPr/>
          </p:nvGrpSpPr>
          <p:grpSpPr>
            <a:xfrm>
              <a:off x="6878520" y="2254320"/>
              <a:ext cx="191880" cy="226440"/>
              <a:chOff x="6878520" y="2254320"/>
              <a:chExt cx="191880" cy="226440"/>
            </a:xfrm>
          </p:grpSpPr>
          <p:pic>
            <p:nvPicPr>
              <p:cNvPr id="1264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6878520" y="2254320"/>
                <a:ext cx="191880" cy="22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5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6878520" y="2254320"/>
                <a:ext cx="191880" cy="226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66" name=""/>
            <p:cNvGrpSpPr/>
            <p:nvPr/>
          </p:nvGrpSpPr>
          <p:grpSpPr>
            <a:xfrm>
              <a:off x="6648120" y="2243160"/>
              <a:ext cx="199800" cy="247320"/>
              <a:chOff x="6648120" y="2243160"/>
              <a:chExt cx="199800" cy="247320"/>
            </a:xfrm>
          </p:grpSpPr>
          <p:pic>
            <p:nvPicPr>
              <p:cNvPr id="1267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6648120" y="224316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8" name="" descr=""/>
              <p:cNvPicPr/>
              <p:nvPr/>
            </p:nvPicPr>
            <p:blipFill>
              <a:blip r:embed="rId32"/>
              <a:stretch/>
            </p:blipFill>
            <p:spPr>
              <a:xfrm>
                <a:off x="6648120" y="224316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69" name=""/>
            <p:cNvSpPr/>
            <p:nvPr/>
          </p:nvSpPr>
          <p:spPr>
            <a:xfrm>
              <a:off x="7020000" y="2093760"/>
              <a:ext cx="36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ת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7061400" y="2208240"/>
              <a:ext cx="264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ט-י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7020000" y="2300400"/>
              <a:ext cx="487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בחוץ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2" name=""/>
          <p:cNvGrpSpPr/>
          <p:nvPr/>
        </p:nvGrpSpPr>
        <p:grpSpPr>
          <a:xfrm>
            <a:off x="4164120" y="2749680"/>
            <a:ext cx="811080" cy="762840"/>
            <a:chOff x="4164120" y="2749680"/>
            <a:chExt cx="811080" cy="762840"/>
          </a:xfrm>
        </p:grpSpPr>
        <p:sp>
          <p:nvSpPr>
            <p:cNvPr id="1273" name=""/>
            <p:cNvSpPr/>
            <p:nvPr/>
          </p:nvSpPr>
          <p:spPr>
            <a:xfrm>
              <a:off x="4635000" y="2973240"/>
              <a:ext cx="284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לו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4164120" y="2749680"/>
              <a:ext cx="8110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רכז מדע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75" name="atomic_energy_sm_CLR" descr=""/>
            <p:cNvPicPr/>
            <p:nvPr/>
          </p:nvPicPr>
          <p:blipFill>
            <a:blip r:embed="rId33"/>
            <a:stretch/>
          </p:blipFill>
          <p:spPr>
            <a:xfrm>
              <a:off x="4195800" y="2833560"/>
              <a:ext cx="588960" cy="58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6" name=""/>
            <p:cNvSpPr/>
            <p:nvPr/>
          </p:nvSpPr>
          <p:spPr>
            <a:xfrm>
              <a:off x="4345920" y="328140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7" name=""/>
          <p:cNvGrpSpPr/>
          <p:nvPr/>
        </p:nvGrpSpPr>
        <p:grpSpPr>
          <a:xfrm>
            <a:off x="4746240" y="3224160"/>
            <a:ext cx="1087920" cy="431280"/>
            <a:chOff x="4746240" y="3224160"/>
            <a:chExt cx="1087920" cy="431280"/>
          </a:xfrm>
        </p:grpSpPr>
        <p:sp>
          <p:nvSpPr>
            <p:cNvPr id="1278" name=""/>
            <p:cNvSpPr/>
            <p:nvPr/>
          </p:nvSpPr>
          <p:spPr>
            <a:xfrm>
              <a:off x="4746240" y="3224160"/>
              <a:ext cx="7675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 </a:t>
              </a: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4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A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9" name=""/>
            <p:cNvGrpSpPr/>
            <p:nvPr/>
          </p:nvGrpSpPr>
          <p:grpSpPr>
            <a:xfrm>
              <a:off x="5002200" y="3359160"/>
              <a:ext cx="192240" cy="226800"/>
              <a:chOff x="5002200" y="3359160"/>
              <a:chExt cx="192240" cy="226800"/>
            </a:xfrm>
          </p:grpSpPr>
          <p:pic>
            <p:nvPicPr>
              <p:cNvPr id="1280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5002200" y="3359160"/>
                <a:ext cx="19224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1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5002200" y="3359160"/>
                <a:ext cx="192240" cy="22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82" name=""/>
            <p:cNvGrpSpPr/>
            <p:nvPr/>
          </p:nvGrpSpPr>
          <p:grpSpPr>
            <a:xfrm>
              <a:off x="4772160" y="3357720"/>
              <a:ext cx="199800" cy="247320"/>
              <a:chOff x="4772160" y="3357720"/>
              <a:chExt cx="199800" cy="247320"/>
            </a:xfrm>
          </p:grpSpPr>
          <p:pic>
            <p:nvPicPr>
              <p:cNvPr id="1283" name="" descr=""/>
              <p:cNvPicPr/>
              <p:nvPr/>
            </p:nvPicPr>
            <p:blipFill>
              <a:blip r:embed="rId36"/>
              <a:stretch/>
            </p:blipFill>
            <p:spPr>
              <a:xfrm>
                <a:off x="4772160" y="335772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4" name="" descr=""/>
              <p:cNvPicPr/>
              <p:nvPr/>
            </p:nvPicPr>
            <p:blipFill>
              <a:blip r:embed="rId37"/>
              <a:stretch/>
            </p:blipFill>
            <p:spPr>
              <a:xfrm>
                <a:off x="4772160" y="335772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85" name=""/>
            <p:cNvSpPr/>
            <p:nvPr/>
          </p:nvSpPr>
          <p:spPr>
            <a:xfrm>
              <a:off x="5467680" y="3313080"/>
              <a:ext cx="36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ת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208120" y="3313080"/>
              <a:ext cx="182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ז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155560" y="34243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8" name=""/>
          <p:cNvGrpSpPr/>
          <p:nvPr/>
        </p:nvGrpSpPr>
        <p:grpSpPr>
          <a:xfrm>
            <a:off x="7601040" y="2760840"/>
            <a:ext cx="564480" cy="499680"/>
            <a:chOff x="7601040" y="2760840"/>
            <a:chExt cx="564480" cy="499680"/>
          </a:xfrm>
        </p:grpSpPr>
        <p:sp>
          <p:nvSpPr>
            <p:cNvPr id="1289" name=""/>
            <p:cNvSpPr/>
            <p:nvPr/>
          </p:nvSpPr>
          <p:spPr>
            <a:xfrm>
              <a:off x="7634520" y="2760840"/>
              <a:ext cx="5266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פורט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7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7956000" y="3089520"/>
              <a:ext cx="20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י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1" name=""/>
            <p:cNvGrpSpPr/>
            <p:nvPr/>
          </p:nvGrpSpPr>
          <p:grpSpPr>
            <a:xfrm>
              <a:off x="7601040" y="2855880"/>
              <a:ext cx="401040" cy="404640"/>
              <a:chOff x="7601040" y="2855880"/>
              <a:chExt cx="401040" cy="404640"/>
            </a:xfrm>
          </p:grpSpPr>
          <p:pic>
            <p:nvPicPr>
              <p:cNvPr id="1292" name="" descr=""/>
              <p:cNvPicPr/>
              <p:nvPr/>
            </p:nvPicPr>
            <p:blipFill>
              <a:blip r:embed="rId38"/>
              <a:stretch/>
            </p:blipFill>
            <p:spPr>
              <a:xfrm>
                <a:off x="7601040" y="2855880"/>
                <a:ext cx="401040" cy="404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3" name="" descr=""/>
              <p:cNvPicPr/>
              <p:nvPr/>
            </p:nvPicPr>
            <p:blipFill>
              <a:blip r:embed="rId39"/>
              <a:stretch/>
            </p:blipFill>
            <p:spPr>
              <a:xfrm>
                <a:off x="7601040" y="2855880"/>
                <a:ext cx="401040" cy="404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94" name=""/>
            <p:cNvSpPr/>
            <p:nvPr/>
          </p:nvSpPr>
          <p:spPr>
            <a:xfrm>
              <a:off x="7954560" y="2889360"/>
              <a:ext cx="210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יד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5" name=""/>
          <p:cNvGrpSpPr/>
          <p:nvPr/>
        </p:nvGrpSpPr>
        <p:grpSpPr>
          <a:xfrm>
            <a:off x="6231600" y="3670200"/>
            <a:ext cx="1000440" cy="566280"/>
            <a:chOff x="6231600" y="3670200"/>
            <a:chExt cx="1000440" cy="566280"/>
          </a:xfrm>
        </p:grpSpPr>
        <p:sp>
          <p:nvSpPr>
            <p:cNvPr id="1296" name=""/>
            <p:cNvSpPr/>
            <p:nvPr/>
          </p:nvSpPr>
          <p:spPr>
            <a:xfrm>
              <a:off x="6231600" y="3670200"/>
              <a:ext cx="968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 כתיבה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838560" y="3768840"/>
              <a:ext cx="26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775920" y="3882960"/>
              <a:ext cx="40032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99" name="girl" descr=""/>
            <p:cNvPicPr/>
            <p:nvPr/>
          </p:nvPicPr>
          <p:blipFill>
            <a:blip r:embed="rId40"/>
            <a:stretch/>
          </p:blipFill>
          <p:spPr>
            <a:xfrm>
              <a:off x="6429240" y="3792600"/>
              <a:ext cx="34128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0" name=""/>
            <p:cNvSpPr/>
            <p:nvPr/>
          </p:nvSpPr>
          <p:spPr>
            <a:xfrm>
              <a:off x="6679440" y="400536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1" name=""/>
          <p:cNvGrpSpPr/>
          <p:nvPr/>
        </p:nvGrpSpPr>
        <p:grpSpPr>
          <a:xfrm>
            <a:off x="4334040" y="4233960"/>
            <a:ext cx="1071000" cy="430920"/>
            <a:chOff x="4334040" y="4233960"/>
            <a:chExt cx="1071000" cy="430920"/>
          </a:xfrm>
        </p:grpSpPr>
        <p:sp>
          <p:nvSpPr>
            <p:cNvPr id="1302" name=""/>
            <p:cNvSpPr/>
            <p:nvPr/>
          </p:nvSpPr>
          <p:spPr>
            <a:xfrm>
              <a:off x="4785480" y="4233960"/>
              <a:ext cx="6058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5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3" name=""/>
            <p:cNvGrpSpPr/>
            <p:nvPr/>
          </p:nvGrpSpPr>
          <p:grpSpPr>
            <a:xfrm>
              <a:off x="4563720" y="4282920"/>
              <a:ext cx="191880" cy="226800"/>
              <a:chOff x="4563720" y="4282920"/>
              <a:chExt cx="191880" cy="226800"/>
            </a:xfrm>
          </p:grpSpPr>
          <p:pic>
            <p:nvPicPr>
              <p:cNvPr id="1304" name="" descr=""/>
              <p:cNvPicPr/>
              <p:nvPr/>
            </p:nvPicPr>
            <p:blipFill>
              <a:blip r:embed="rId41"/>
              <a:stretch/>
            </p:blipFill>
            <p:spPr>
              <a:xfrm>
                <a:off x="4563720" y="4282920"/>
                <a:ext cx="19188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5" name="" descr=""/>
              <p:cNvPicPr/>
              <p:nvPr/>
            </p:nvPicPr>
            <p:blipFill>
              <a:blip r:embed="rId42"/>
              <a:stretch/>
            </p:blipFill>
            <p:spPr>
              <a:xfrm>
                <a:off x="4563720" y="4282920"/>
                <a:ext cx="191880" cy="22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06" name=""/>
            <p:cNvGrpSpPr/>
            <p:nvPr/>
          </p:nvGrpSpPr>
          <p:grpSpPr>
            <a:xfrm>
              <a:off x="4334040" y="4271760"/>
              <a:ext cx="199800" cy="247320"/>
              <a:chOff x="4334040" y="4271760"/>
              <a:chExt cx="199800" cy="247320"/>
            </a:xfrm>
          </p:grpSpPr>
          <p:pic>
            <p:nvPicPr>
              <p:cNvPr id="1307" name="" descr=""/>
              <p:cNvPicPr/>
              <p:nvPr/>
            </p:nvPicPr>
            <p:blipFill>
              <a:blip r:embed="rId43"/>
              <a:stretch/>
            </p:blipFill>
            <p:spPr>
              <a:xfrm>
                <a:off x="4334040" y="427176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8" name="" descr=""/>
              <p:cNvPicPr/>
              <p:nvPr/>
            </p:nvPicPr>
            <p:blipFill>
              <a:blip r:embed="rId44"/>
              <a:stretch/>
            </p:blipFill>
            <p:spPr>
              <a:xfrm>
                <a:off x="4334040" y="427176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09" name=""/>
            <p:cNvSpPr/>
            <p:nvPr/>
          </p:nvSpPr>
          <p:spPr>
            <a:xfrm>
              <a:off x="5038560" y="4322880"/>
              <a:ext cx="36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ת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4811400" y="4322880"/>
              <a:ext cx="17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688280" y="443376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2" name=""/>
          <p:cNvGrpSpPr/>
          <p:nvPr/>
        </p:nvGrpSpPr>
        <p:grpSpPr>
          <a:xfrm>
            <a:off x="7543800" y="4103640"/>
            <a:ext cx="564480" cy="499680"/>
            <a:chOff x="7543800" y="4103640"/>
            <a:chExt cx="564480" cy="499680"/>
          </a:xfrm>
        </p:grpSpPr>
        <p:sp>
          <p:nvSpPr>
            <p:cNvPr id="1313" name=""/>
            <p:cNvSpPr/>
            <p:nvPr/>
          </p:nvSpPr>
          <p:spPr>
            <a:xfrm>
              <a:off x="7577280" y="4103640"/>
              <a:ext cx="5266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פורט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7898760" y="4432320"/>
              <a:ext cx="20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י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5" name=""/>
            <p:cNvGrpSpPr/>
            <p:nvPr/>
          </p:nvGrpSpPr>
          <p:grpSpPr>
            <a:xfrm>
              <a:off x="7543800" y="4198680"/>
              <a:ext cx="401040" cy="404640"/>
              <a:chOff x="7543800" y="4198680"/>
              <a:chExt cx="401040" cy="404640"/>
            </a:xfrm>
          </p:grpSpPr>
          <p:pic>
            <p:nvPicPr>
              <p:cNvPr id="1316" name="" descr=""/>
              <p:cNvPicPr/>
              <p:nvPr/>
            </p:nvPicPr>
            <p:blipFill>
              <a:blip r:embed="rId45"/>
              <a:stretch/>
            </p:blipFill>
            <p:spPr>
              <a:xfrm>
                <a:off x="7543800" y="4198680"/>
                <a:ext cx="401040" cy="404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7" name="" descr=""/>
              <p:cNvPicPr/>
              <p:nvPr/>
            </p:nvPicPr>
            <p:blipFill>
              <a:blip r:embed="rId46"/>
              <a:stretch/>
            </p:blipFill>
            <p:spPr>
              <a:xfrm>
                <a:off x="7543800" y="4198680"/>
                <a:ext cx="401040" cy="404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18" name=""/>
            <p:cNvSpPr/>
            <p:nvPr/>
          </p:nvSpPr>
          <p:spPr>
            <a:xfrm>
              <a:off x="7897320" y="4232160"/>
              <a:ext cx="210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יד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9" name=""/>
          <p:cNvGrpSpPr/>
          <p:nvPr/>
        </p:nvGrpSpPr>
        <p:grpSpPr>
          <a:xfrm>
            <a:off x="6460200" y="4162320"/>
            <a:ext cx="1092240" cy="521640"/>
            <a:chOff x="6460200" y="4162320"/>
            <a:chExt cx="1092240" cy="521640"/>
          </a:xfrm>
        </p:grpSpPr>
        <p:sp>
          <p:nvSpPr>
            <p:cNvPr id="1320" name=""/>
            <p:cNvSpPr/>
            <p:nvPr/>
          </p:nvSpPr>
          <p:spPr>
            <a:xfrm>
              <a:off x="6920640" y="4483080"/>
              <a:ext cx="20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-י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885000" y="4248000"/>
              <a:ext cx="6044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בוגר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7170840" y="4508280"/>
              <a:ext cx="3816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23" name="addition_2_plus_2_ty_CLR" descr=""/>
            <p:cNvPicPr/>
            <p:nvPr/>
          </p:nvPicPr>
          <p:blipFill>
            <a:blip r:embed="rId47"/>
            <a:stretch/>
          </p:blipFill>
          <p:spPr>
            <a:xfrm>
              <a:off x="6534000" y="4162320"/>
              <a:ext cx="585360" cy="3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4" name=""/>
            <p:cNvSpPr/>
            <p:nvPr/>
          </p:nvSpPr>
          <p:spPr>
            <a:xfrm>
              <a:off x="6460200" y="44528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5" name=""/>
          <p:cNvGrpSpPr/>
          <p:nvPr/>
        </p:nvGrpSpPr>
        <p:grpSpPr>
          <a:xfrm>
            <a:off x="5118120" y="3670200"/>
            <a:ext cx="799920" cy="499680"/>
            <a:chOff x="5118120" y="3670200"/>
            <a:chExt cx="799920" cy="499680"/>
          </a:xfrm>
        </p:grpSpPr>
        <p:pic>
          <p:nvPicPr>
            <p:cNvPr id="1326" name="pcandlestick1" descr=""/>
            <p:cNvPicPr/>
            <p:nvPr/>
          </p:nvPicPr>
          <p:blipFill>
            <a:blip r:embed="rId48"/>
            <a:stretch/>
          </p:blipFill>
          <p:spPr>
            <a:xfrm>
              <a:off x="5118120" y="3670200"/>
              <a:ext cx="27468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7" name=""/>
            <p:cNvSpPr/>
            <p:nvPr/>
          </p:nvSpPr>
          <p:spPr>
            <a:xfrm>
              <a:off x="5632200" y="3892680"/>
              <a:ext cx="2307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קרי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403600" y="385920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240160" y="3683160"/>
              <a:ext cx="6778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ג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   וחוגג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335920" y="4032360"/>
              <a:ext cx="37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1" name=""/>
          <p:cNvGrpSpPr/>
          <p:nvPr/>
        </p:nvGrpSpPr>
        <p:grpSpPr>
          <a:xfrm>
            <a:off x="7155000" y="4584600"/>
            <a:ext cx="1057680" cy="606600"/>
            <a:chOff x="7155000" y="4584600"/>
            <a:chExt cx="1057680" cy="606600"/>
          </a:xfrm>
        </p:grpSpPr>
        <p:sp>
          <p:nvSpPr>
            <p:cNvPr id="1332" name=""/>
            <p:cNvSpPr/>
            <p:nvPr/>
          </p:nvSpPr>
          <p:spPr>
            <a:xfrm>
              <a:off x="7916400" y="4886280"/>
              <a:ext cx="2689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696440" y="485316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7726320" y="4638600"/>
              <a:ext cx="4676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שירים ואיור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35" name="colored_pencils_writing_sm_CLR" descr=""/>
            <p:cNvPicPr/>
            <p:nvPr/>
          </p:nvPicPr>
          <p:blipFill>
            <a:blip r:embed="rId49"/>
            <a:stretch/>
          </p:blipFill>
          <p:spPr>
            <a:xfrm>
              <a:off x="7155000" y="4584600"/>
              <a:ext cx="653760" cy="60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6" name=""/>
            <p:cNvSpPr/>
            <p:nvPr/>
          </p:nvSpPr>
          <p:spPr>
            <a:xfrm>
              <a:off x="7660080" y="494820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7" name=""/>
          <p:cNvGrpSpPr/>
          <p:nvPr/>
        </p:nvGrpSpPr>
        <p:grpSpPr>
          <a:xfrm>
            <a:off x="4838760" y="4608360"/>
            <a:ext cx="859680" cy="458280"/>
            <a:chOff x="4838760" y="4608360"/>
            <a:chExt cx="859680" cy="458280"/>
          </a:xfrm>
        </p:grpSpPr>
        <p:sp>
          <p:nvSpPr>
            <p:cNvPr id="1338" name=""/>
            <p:cNvSpPr/>
            <p:nvPr/>
          </p:nvSpPr>
          <p:spPr>
            <a:xfrm>
              <a:off x="4910400" y="4608360"/>
              <a:ext cx="7142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שחקי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כדו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5151240" y="4898880"/>
              <a:ext cx="21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י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0" name=""/>
            <p:cNvGrpSpPr/>
            <p:nvPr/>
          </p:nvGrpSpPr>
          <p:grpSpPr>
            <a:xfrm>
              <a:off x="4838760" y="4627440"/>
              <a:ext cx="401400" cy="404280"/>
              <a:chOff x="4838760" y="4627440"/>
              <a:chExt cx="401400" cy="404280"/>
            </a:xfrm>
          </p:grpSpPr>
          <p:pic>
            <p:nvPicPr>
              <p:cNvPr id="1341" name="" descr=""/>
              <p:cNvPicPr/>
              <p:nvPr/>
            </p:nvPicPr>
            <p:blipFill>
              <a:blip r:embed="rId50"/>
              <a:stretch/>
            </p:blipFill>
            <p:spPr>
              <a:xfrm>
                <a:off x="4838760" y="4627440"/>
                <a:ext cx="401400" cy="404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2" name="" descr=""/>
              <p:cNvPicPr/>
              <p:nvPr/>
            </p:nvPicPr>
            <p:blipFill>
              <a:blip r:embed="rId51"/>
              <a:stretch/>
            </p:blipFill>
            <p:spPr>
              <a:xfrm>
                <a:off x="4838760" y="4627440"/>
                <a:ext cx="401400" cy="404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43" name=""/>
            <p:cNvSpPr/>
            <p:nvPr/>
          </p:nvSpPr>
          <p:spPr>
            <a:xfrm>
              <a:off x="5487480" y="4898880"/>
              <a:ext cx="210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יד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4" name=""/>
          <p:cNvGrpSpPr/>
          <p:nvPr/>
        </p:nvGrpSpPr>
        <p:grpSpPr>
          <a:xfrm>
            <a:off x="4743360" y="2100240"/>
            <a:ext cx="926640" cy="450000"/>
            <a:chOff x="4743360" y="2100240"/>
            <a:chExt cx="926640" cy="450000"/>
          </a:xfrm>
        </p:grpSpPr>
        <p:sp>
          <p:nvSpPr>
            <p:cNvPr id="1345" name=""/>
            <p:cNvSpPr/>
            <p:nvPr/>
          </p:nvSpPr>
          <p:spPr>
            <a:xfrm>
              <a:off x="4793760" y="2100240"/>
              <a:ext cx="801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רכז אנגל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6" name=""/>
            <p:cNvGrpSpPr/>
            <p:nvPr/>
          </p:nvGrpSpPr>
          <p:grpSpPr>
            <a:xfrm>
              <a:off x="4964040" y="2263680"/>
              <a:ext cx="192240" cy="226800"/>
              <a:chOff x="4964040" y="2263680"/>
              <a:chExt cx="192240" cy="226800"/>
            </a:xfrm>
          </p:grpSpPr>
          <p:pic>
            <p:nvPicPr>
              <p:cNvPr id="1347" name="" descr=""/>
              <p:cNvPicPr/>
              <p:nvPr/>
            </p:nvPicPr>
            <p:blipFill>
              <a:blip r:embed="rId52"/>
              <a:stretch/>
            </p:blipFill>
            <p:spPr>
              <a:xfrm>
                <a:off x="4964040" y="2263680"/>
                <a:ext cx="19224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8" name="" descr=""/>
              <p:cNvPicPr/>
              <p:nvPr/>
            </p:nvPicPr>
            <p:blipFill>
              <a:blip r:embed="rId53"/>
              <a:stretch/>
            </p:blipFill>
            <p:spPr>
              <a:xfrm>
                <a:off x="4964040" y="2263680"/>
                <a:ext cx="192240" cy="22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49" name=""/>
            <p:cNvGrpSpPr/>
            <p:nvPr/>
          </p:nvGrpSpPr>
          <p:grpSpPr>
            <a:xfrm>
              <a:off x="4743360" y="2252520"/>
              <a:ext cx="199800" cy="247320"/>
              <a:chOff x="4743360" y="2252520"/>
              <a:chExt cx="199800" cy="247320"/>
            </a:xfrm>
          </p:grpSpPr>
          <p:pic>
            <p:nvPicPr>
              <p:cNvPr id="1350" name="" descr=""/>
              <p:cNvPicPr/>
              <p:nvPr/>
            </p:nvPicPr>
            <p:blipFill>
              <a:blip r:embed="rId54"/>
              <a:stretch/>
            </p:blipFill>
            <p:spPr>
              <a:xfrm>
                <a:off x="4743360" y="225252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1" name="" descr=""/>
              <p:cNvPicPr/>
              <p:nvPr/>
            </p:nvPicPr>
            <p:blipFill>
              <a:blip r:embed="rId55"/>
              <a:stretch/>
            </p:blipFill>
            <p:spPr>
              <a:xfrm>
                <a:off x="4743360" y="225252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52" name=""/>
            <p:cNvSpPr/>
            <p:nvPr/>
          </p:nvSpPr>
          <p:spPr>
            <a:xfrm>
              <a:off x="5401080" y="2217600"/>
              <a:ext cx="25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דס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171400" y="2217600"/>
              <a:ext cx="19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117400" y="23191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5" name=""/>
          <p:cNvGrpSpPr/>
          <p:nvPr/>
        </p:nvGrpSpPr>
        <p:grpSpPr>
          <a:xfrm>
            <a:off x="5688000" y="2717640"/>
            <a:ext cx="744120" cy="696960"/>
            <a:chOff x="5688000" y="2717640"/>
            <a:chExt cx="744120" cy="696960"/>
          </a:xfrm>
        </p:grpSpPr>
        <p:sp>
          <p:nvSpPr>
            <p:cNvPr id="1356" name=""/>
            <p:cNvSpPr/>
            <p:nvPr/>
          </p:nvSpPr>
          <p:spPr>
            <a:xfrm>
              <a:off x="5898240" y="2755800"/>
              <a:ext cx="4305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גיטר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918040" y="2922480"/>
              <a:ext cx="3895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י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879520" y="30812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59" name="acoustic_guitar_notes_sm_CLR" descr=""/>
            <p:cNvPicPr/>
            <p:nvPr/>
          </p:nvPicPr>
          <p:blipFill>
            <a:blip r:embed="rId56"/>
            <a:stretch/>
          </p:blipFill>
          <p:spPr>
            <a:xfrm>
              <a:off x="5688000" y="2717640"/>
              <a:ext cx="378000" cy="6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0" name=""/>
            <p:cNvSpPr/>
            <p:nvPr/>
          </p:nvSpPr>
          <p:spPr>
            <a:xfrm>
              <a:off x="5851440" y="2859120"/>
              <a:ext cx="4640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ן והדס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1" name=""/>
          <p:cNvGrpSpPr/>
          <p:nvPr/>
        </p:nvGrpSpPr>
        <p:grpSpPr>
          <a:xfrm>
            <a:off x="5467320" y="4210200"/>
            <a:ext cx="980280" cy="464400"/>
            <a:chOff x="5467320" y="4210200"/>
            <a:chExt cx="980280" cy="464400"/>
          </a:xfrm>
        </p:grpSpPr>
        <p:sp>
          <p:nvSpPr>
            <p:cNvPr id="1362" name=""/>
            <p:cNvSpPr/>
            <p:nvPr/>
          </p:nvSpPr>
          <p:spPr>
            <a:xfrm>
              <a:off x="5812920" y="4260960"/>
              <a:ext cx="6346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תכשיטנ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897160" y="4392720"/>
              <a:ext cx="14400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ו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6096600" y="4354560"/>
              <a:ext cx="302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יר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688720" y="444348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66" name="emerald_lg_CLR" descr=""/>
            <p:cNvPicPr/>
            <p:nvPr/>
          </p:nvPicPr>
          <p:blipFill>
            <a:blip r:embed="rId57"/>
            <a:stretch/>
          </p:blipFill>
          <p:spPr>
            <a:xfrm>
              <a:off x="5467320" y="4210200"/>
              <a:ext cx="419040" cy="419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67" name=""/>
          <p:cNvGrpSpPr/>
          <p:nvPr/>
        </p:nvGrpSpPr>
        <p:grpSpPr>
          <a:xfrm>
            <a:off x="4322880" y="5060880"/>
            <a:ext cx="977400" cy="565920"/>
            <a:chOff x="4322880" y="5060880"/>
            <a:chExt cx="977400" cy="565920"/>
          </a:xfrm>
        </p:grpSpPr>
        <p:sp>
          <p:nvSpPr>
            <p:cNvPr id="1368" name=""/>
            <p:cNvSpPr/>
            <p:nvPr/>
          </p:nvSpPr>
          <p:spPr>
            <a:xfrm>
              <a:off x="4679280" y="5060880"/>
              <a:ext cx="6210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על ספר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וקשר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4748400" y="5335560"/>
              <a:ext cx="25056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-י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035320" y="5297400"/>
              <a:ext cx="22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688640" y="539568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72" name="ccschoolread2" descr=""/>
            <p:cNvPicPr/>
            <p:nvPr/>
          </p:nvPicPr>
          <p:blipFill>
            <a:blip r:embed="rId58"/>
            <a:stretch/>
          </p:blipFill>
          <p:spPr>
            <a:xfrm>
              <a:off x="4322880" y="5100480"/>
              <a:ext cx="460440" cy="45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3" name=""/>
          <p:cNvGrpSpPr/>
          <p:nvPr/>
        </p:nvGrpSpPr>
        <p:grpSpPr>
          <a:xfrm>
            <a:off x="7346880" y="5137200"/>
            <a:ext cx="833040" cy="489960"/>
            <a:chOff x="7346880" y="5137200"/>
            <a:chExt cx="833040" cy="489960"/>
          </a:xfrm>
        </p:grpSpPr>
        <p:pic>
          <p:nvPicPr>
            <p:cNvPr id="1374" name="computer2" descr=""/>
            <p:cNvPicPr/>
            <p:nvPr/>
          </p:nvPicPr>
          <p:blipFill>
            <a:blip r:embed="rId59"/>
            <a:stretch/>
          </p:blipFill>
          <p:spPr>
            <a:xfrm>
              <a:off x="7346880" y="5137200"/>
              <a:ext cx="352440" cy="4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5" name=""/>
            <p:cNvSpPr/>
            <p:nvPr/>
          </p:nvSpPr>
          <p:spPr>
            <a:xfrm>
              <a:off x="7675200" y="5184720"/>
              <a:ext cx="383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תכנ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7945920" y="530244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עידו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7601760" y="5273640"/>
              <a:ext cx="40320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ב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7622280" y="53960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3:36:17Z</dcterms:created>
  <dc:creator>--</dc:creator>
  <dc:description/>
  <dc:language>en-US</dc:language>
  <cp:lastModifiedBy> -</cp:lastModifiedBy>
  <dcterms:modified xsi:type="dcterms:W3CDTF">2008-02-29T06:02:43Z</dcterms:modified>
  <cp:revision>1318</cp:revision>
  <dc:subject/>
  <dc:title>מצגת של PowerPoint</dc:title>
</cp:coreProperties>
</file>