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40.wmf" ContentType="image/x-wmf"/>
  <Override PartName="/ppt/media/image32.png" ContentType="image/png"/>
  <Override PartName="/ppt/media/image35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5.wmf" ContentType="image/x-wmf"/>
  <Override PartName="/ppt/media/image34.png" ContentType="image/png"/>
  <Override PartName="/ppt/media/image46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8.wmf" ContentType="image/x-wmf"/>
  <Override PartName="/ppt/media/image30.png" ContentType="image/png"/>
  <Override PartName="/ppt/media/image4.wmf" ContentType="image/x-wmf"/>
  <Override PartName="/ppt/media/image27.wmf" ContentType="image/x-wmf"/>
  <Override PartName="/ppt/media/image13.jpeg" ContentType="image/jpeg"/>
  <Override PartName="/ppt/media/image4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F5D-05EC-471B-9948-7D04E093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3E1-28FC-417D-9D21-C3A87958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829-42A7-4932-B861-A0538B43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361-D9D0-42D5-86D3-7F3C2A50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BD5-1506-49F5-8078-220475F5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87C-69C1-4521-89C0-E89E8430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2EE-C236-4F62-AE60-1A9E8138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8CE-3492-4C07-8DC6-1503C07D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474-B4B2-4466-AA01-9DAB316C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F81-0393-4D23-9C5E-B2A8F0D7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05C-57AD-4105-999F-57B2A0E7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A21-7AD0-49D9-B838-7BFFD23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CBD5-7182-4278-BCF1-BC9FB5FF4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image" Target="../media/image16.png"/><Relationship Id="rId18" Type="http://schemas.openxmlformats.org/officeDocument/2006/relationships/image" Target="../media/image14.wmf"/><Relationship Id="rId19" Type="http://schemas.openxmlformats.org/officeDocument/2006/relationships/image" Target="../media/image15.wmf"/><Relationship Id="rId20" Type="http://schemas.openxmlformats.org/officeDocument/2006/relationships/image" Target="../media/image14.wmf"/><Relationship Id="rId21" Type="http://schemas.openxmlformats.org/officeDocument/2006/relationships/image" Target="../media/image15.wmf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image" Target="../media/image21.wmf"/><Relationship Id="rId27" Type="http://schemas.openxmlformats.org/officeDocument/2006/relationships/image" Target="../media/image2.wmf"/><Relationship Id="rId28" Type="http://schemas.openxmlformats.org/officeDocument/2006/relationships/image" Target="../media/image22.wmf"/><Relationship Id="rId29" Type="http://schemas.openxmlformats.org/officeDocument/2006/relationships/image" Target="../media/image23.wmf"/><Relationship Id="rId30" Type="http://schemas.openxmlformats.org/officeDocument/2006/relationships/image" Target="../media/image19.png"/><Relationship Id="rId31" Type="http://schemas.openxmlformats.org/officeDocument/2006/relationships/image" Target="../media/image20.png"/><Relationship Id="rId32" Type="http://schemas.openxmlformats.org/officeDocument/2006/relationships/image" Target="../media/image16.png"/><Relationship Id="rId33" Type="http://schemas.openxmlformats.org/officeDocument/2006/relationships/image" Target="../media/image24.gif"/><Relationship Id="rId34" Type="http://schemas.openxmlformats.org/officeDocument/2006/relationships/image" Target="../media/image21.wmf"/><Relationship Id="rId35" Type="http://schemas.openxmlformats.org/officeDocument/2006/relationships/image" Target="../media/image2.wmf"/><Relationship Id="rId36" Type="http://schemas.openxmlformats.org/officeDocument/2006/relationships/image" Target="../media/image22.wmf"/><Relationship Id="rId37" Type="http://schemas.openxmlformats.org/officeDocument/2006/relationships/image" Target="../media/image23.wmf"/><Relationship Id="rId38" Type="http://schemas.openxmlformats.org/officeDocument/2006/relationships/image" Target="../media/image25.wmf"/><Relationship Id="rId39" Type="http://schemas.openxmlformats.org/officeDocument/2006/relationships/image" Target="../media/image26.wmf"/><Relationship Id="rId40" Type="http://schemas.openxmlformats.org/officeDocument/2006/relationships/image" Target="../media/image27.wmf"/><Relationship Id="rId41" Type="http://schemas.openxmlformats.org/officeDocument/2006/relationships/image" Target="../media/image28.wmf"/><Relationship Id="rId42" Type="http://schemas.openxmlformats.org/officeDocument/2006/relationships/image" Target="../media/image29.wmf"/><Relationship Id="rId43" Type="http://schemas.openxmlformats.org/officeDocument/2006/relationships/image" Target="../media/image30.png"/><Relationship Id="rId44" Type="http://schemas.openxmlformats.org/officeDocument/2006/relationships/image" Target="../media/image31.png"/><Relationship Id="rId45" Type="http://schemas.openxmlformats.org/officeDocument/2006/relationships/image" Target="../media/image32.png"/><Relationship Id="rId46" Type="http://schemas.openxmlformats.org/officeDocument/2006/relationships/image" Target="../media/image33.png"/><Relationship Id="rId47" Type="http://schemas.openxmlformats.org/officeDocument/2006/relationships/image" Target="../media/image33.png"/><Relationship Id="rId48" Type="http://schemas.openxmlformats.org/officeDocument/2006/relationships/image" Target="../media/image34.png"/><Relationship Id="rId49" Type="http://schemas.openxmlformats.org/officeDocument/2006/relationships/image" Target="../media/image35.png"/><Relationship Id="rId50" Type="http://schemas.openxmlformats.org/officeDocument/2006/relationships/image" Target="../media/image7.wmf"/><Relationship Id="rId51" Type="http://schemas.openxmlformats.org/officeDocument/2006/relationships/image" Target="../media/image8.wmf"/><Relationship Id="rId52" Type="http://schemas.openxmlformats.org/officeDocument/2006/relationships/image" Target="../media/image17.png"/><Relationship Id="rId53" Type="http://schemas.openxmlformats.org/officeDocument/2006/relationships/image" Target="../media/image18.png"/><Relationship Id="rId54" Type="http://schemas.openxmlformats.org/officeDocument/2006/relationships/image" Target="../media/image17.png"/><Relationship Id="rId55" Type="http://schemas.openxmlformats.org/officeDocument/2006/relationships/image" Target="../media/image18.png"/><Relationship Id="rId56" Type="http://schemas.openxmlformats.org/officeDocument/2006/relationships/image" Target="../media/image36.wmf"/><Relationship Id="rId57" Type="http://schemas.openxmlformats.org/officeDocument/2006/relationships/image" Target="../media/image27.wmf"/><Relationship Id="rId58" Type="http://schemas.openxmlformats.org/officeDocument/2006/relationships/image" Target="../media/image37.wmf"/><Relationship Id="rId59" Type="http://schemas.openxmlformats.org/officeDocument/2006/relationships/image" Target="../media/image38.wmf"/><Relationship Id="rId60" Type="http://schemas.openxmlformats.org/officeDocument/2006/relationships/image" Target="../media/image39.wmf"/><Relationship Id="rId61" Type="http://schemas.openxmlformats.org/officeDocument/2006/relationships/image" Target="../media/image40.wmf"/><Relationship Id="rId62" Type="http://schemas.openxmlformats.org/officeDocument/2006/relationships/image" Target="../media/image41.png"/><Relationship Id="rId63" Type="http://schemas.openxmlformats.org/officeDocument/2006/relationships/image" Target="../media/image41.png"/><Relationship Id="rId64" Type="http://schemas.openxmlformats.org/officeDocument/2006/relationships/image" Target="../media/image41.png"/><Relationship Id="rId65" Type="http://schemas.openxmlformats.org/officeDocument/2006/relationships/image" Target="../media/image41.png"/><Relationship Id="rId66" Type="http://schemas.openxmlformats.org/officeDocument/2006/relationships/image" Target="../media/image21.wmf"/><Relationship Id="rId67" Type="http://schemas.openxmlformats.org/officeDocument/2006/relationships/image" Target="../media/image2.wmf"/><Relationship Id="rId68" Type="http://schemas.openxmlformats.org/officeDocument/2006/relationships/image" Target="../media/image22.wmf"/><Relationship Id="rId69" Type="http://schemas.openxmlformats.org/officeDocument/2006/relationships/image" Target="../media/image23.wmf"/><Relationship Id="rId70" Type="http://schemas.openxmlformats.org/officeDocument/2006/relationships/image" Target="../media/image21.wmf"/><Relationship Id="rId71" Type="http://schemas.openxmlformats.org/officeDocument/2006/relationships/image" Target="../media/image2.wmf"/><Relationship Id="rId72" Type="http://schemas.openxmlformats.org/officeDocument/2006/relationships/image" Target="../media/image22.wmf"/><Relationship Id="rId73" Type="http://schemas.openxmlformats.org/officeDocument/2006/relationships/image" Target="../media/image23.wmf"/><Relationship Id="rId74" Type="http://schemas.openxmlformats.org/officeDocument/2006/relationships/image" Target="../media/image25.wmf"/><Relationship Id="rId75" Type="http://schemas.openxmlformats.org/officeDocument/2006/relationships/image" Target="../media/image26.wmf"/><Relationship Id="rId76" Type="http://schemas.openxmlformats.org/officeDocument/2006/relationships/image" Target="../media/image21.wmf"/><Relationship Id="rId77" Type="http://schemas.openxmlformats.org/officeDocument/2006/relationships/image" Target="../media/image2.wmf"/><Relationship Id="rId78" Type="http://schemas.openxmlformats.org/officeDocument/2006/relationships/image" Target="../media/image22.wmf"/><Relationship Id="rId79" Type="http://schemas.openxmlformats.org/officeDocument/2006/relationships/image" Target="../media/image23.wmf"/><Relationship Id="rId80" Type="http://schemas.openxmlformats.org/officeDocument/2006/relationships/image" Target="../media/image30.png"/><Relationship Id="rId81" Type="http://schemas.openxmlformats.org/officeDocument/2006/relationships/image" Target="../media/image17.png"/><Relationship Id="rId82" Type="http://schemas.openxmlformats.org/officeDocument/2006/relationships/image" Target="../media/image18.png"/><Relationship Id="rId83" Type="http://schemas.openxmlformats.org/officeDocument/2006/relationships/image" Target="../media/image42.png"/><Relationship Id="rId84" Type="http://schemas.openxmlformats.org/officeDocument/2006/relationships/image" Target="../media/image43.png"/><Relationship Id="rId85" Type="http://schemas.openxmlformats.org/officeDocument/2006/relationships/image" Target="../media/image17.png"/><Relationship Id="rId86" Type="http://schemas.openxmlformats.org/officeDocument/2006/relationships/image" Target="../media/image18.png"/><Relationship Id="rId87" Type="http://schemas.openxmlformats.org/officeDocument/2006/relationships/image" Target="../media/image42.png"/><Relationship Id="rId88" Type="http://schemas.openxmlformats.org/officeDocument/2006/relationships/image" Target="../media/image43.png"/><Relationship Id="rId89" Type="http://schemas.openxmlformats.org/officeDocument/2006/relationships/image" Target="../media/image14.wmf"/><Relationship Id="rId90" Type="http://schemas.openxmlformats.org/officeDocument/2006/relationships/image" Target="../media/image15.wmf"/><Relationship Id="rId91" Type="http://schemas.openxmlformats.org/officeDocument/2006/relationships/image" Target="../media/image17.png"/><Relationship Id="rId92" Type="http://schemas.openxmlformats.org/officeDocument/2006/relationships/image" Target="../media/image18.png"/><Relationship Id="rId93" Type="http://schemas.openxmlformats.org/officeDocument/2006/relationships/image" Target="../media/image44.png"/><Relationship Id="rId94" Type="http://schemas.openxmlformats.org/officeDocument/2006/relationships/image" Target="../media/image21.wmf"/><Relationship Id="rId95" Type="http://schemas.openxmlformats.org/officeDocument/2006/relationships/image" Target="../media/image2.wmf"/><Relationship Id="rId96" Type="http://schemas.openxmlformats.org/officeDocument/2006/relationships/image" Target="../media/image22.wmf"/><Relationship Id="rId97" Type="http://schemas.openxmlformats.org/officeDocument/2006/relationships/image" Target="../media/image23.wmf"/><Relationship Id="rId98" Type="http://schemas.openxmlformats.org/officeDocument/2006/relationships/image" Target="../media/image44.png"/><Relationship Id="rId99" Type="http://schemas.openxmlformats.org/officeDocument/2006/relationships/image" Target="../media/image11.wmf"/><Relationship Id="rId100" Type="http://schemas.openxmlformats.org/officeDocument/2006/relationships/image" Target="../media/image12.wmf"/><Relationship Id="rId101" Type="http://schemas.openxmlformats.org/officeDocument/2006/relationships/image" Target="../media/image21.wmf"/><Relationship Id="rId102" Type="http://schemas.openxmlformats.org/officeDocument/2006/relationships/image" Target="../media/image2.wmf"/><Relationship Id="rId103" Type="http://schemas.openxmlformats.org/officeDocument/2006/relationships/image" Target="../media/image22.wmf"/><Relationship Id="rId104" Type="http://schemas.openxmlformats.org/officeDocument/2006/relationships/image" Target="../media/image23.wmf"/><Relationship Id="rId105" Type="http://schemas.openxmlformats.org/officeDocument/2006/relationships/image" Target="../media/image44.png"/><Relationship Id="rId106" Type="http://schemas.openxmlformats.org/officeDocument/2006/relationships/image" Target="../media/image45.png"/><Relationship Id="rId107" Type="http://schemas.openxmlformats.org/officeDocument/2006/relationships/image" Target="../media/image45.png"/><Relationship Id="rId108" Type="http://schemas.openxmlformats.org/officeDocument/2006/relationships/image" Target="../media/image44.png"/><Relationship Id="rId109" Type="http://schemas.openxmlformats.org/officeDocument/2006/relationships/image" Target="../media/image46.png"/><Relationship Id="rId110" Type="http://schemas.openxmlformats.org/officeDocument/2006/relationships/image" Target="../media/image46.png"/><Relationship Id="rId1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08920" y="141120"/>
            <a:ext cx="343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ג' תשס"ג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6200" y="2714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0680" y="492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6160" y="4921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112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1640" y="49212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62480" y="49212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99480" y="49212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492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128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7960" y="444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444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4440" y="444600"/>
            <a:ext cx="857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4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6280" y="444600"/>
            <a:ext cx="860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3160" y="444600"/>
            <a:ext cx="855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98880" y="444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05000" y="444600"/>
            <a:ext cx="858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3960" y="444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70440" y="444600"/>
            <a:ext cx="857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34080" y="444600"/>
            <a:ext cx="801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5800" y="44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5800" y="44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449280"/>
            <a:ext cx="46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98880" y="449280"/>
            <a:ext cx="612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888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960" y="449280"/>
            <a:ext cx="64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396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27600" y="449280"/>
            <a:ext cx="64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2760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5800" y="449280"/>
            <a:ext cx="46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5800" y="4492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02800" y="1187280"/>
            <a:ext cx="11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122720" y="2936880"/>
            <a:ext cx="507600" cy="911880"/>
            <a:chOff x="4122720" y="2936880"/>
            <a:chExt cx="507600" cy="911880"/>
          </a:xfrm>
        </p:grpSpPr>
        <p:sp>
          <p:nvSpPr>
            <p:cNvPr id="76" name=""/>
            <p:cNvSpPr/>
            <p:nvPr/>
          </p:nvSpPr>
          <p:spPr>
            <a:xfrm>
              <a:off x="4142880" y="293688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438440" y="3206520"/>
              <a:ext cx="191880" cy="226440"/>
              <a:chOff x="4438440" y="3206520"/>
              <a:chExt cx="191880" cy="22644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38440" y="32065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38440" y="32065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4122720" y="3186000"/>
              <a:ext cx="201600" cy="246960"/>
              <a:chOff x="4122720" y="3186000"/>
              <a:chExt cx="201600" cy="246960"/>
            </a:xfrm>
          </p:grpSpPr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122720" y="3186000"/>
                <a:ext cx="2016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22720" y="3186000"/>
                <a:ext cx="2016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"/>
            <p:cNvSpPr/>
            <p:nvPr/>
          </p:nvSpPr>
          <p:spPr>
            <a:xfrm>
              <a:off x="4157640" y="350568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09480" y="36810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14440" y="723960"/>
            <a:ext cx="8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4440" y="72396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6280" y="723960"/>
            <a:ext cx="860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6280" y="72396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43160" y="723960"/>
            <a:ext cx="855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3160" y="723960"/>
            <a:ext cx="85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5000" y="723960"/>
            <a:ext cx="858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5000" y="723960"/>
            <a:ext cx="85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70440" y="723960"/>
            <a:ext cx="857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70440" y="72396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34080" y="723960"/>
            <a:ext cx="801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34080" y="723960"/>
            <a:ext cx="8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5800" y="723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480" y="723960"/>
            <a:ext cx="874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723960"/>
            <a:ext cx="87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73008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73008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98880" y="730080"/>
            <a:ext cx="612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3960" y="73008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27600" y="73008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0" y="73008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5800" y="73008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5800" y="73008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18160" y="73008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18160" y="730080"/>
            <a:ext cx="180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0280" y="1946160"/>
            <a:ext cx="825480" cy="747360"/>
            <a:chOff x="530280" y="1946160"/>
            <a:chExt cx="825480" cy="747360"/>
          </a:xfrm>
        </p:grpSpPr>
        <p:sp>
          <p:nvSpPr>
            <p:cNvPr id="111" name=""/>
            <p:cNvSpPr/>
            <p:nvPr/>
          </p:nvSpPr>
          <p:spPr>
            <a:xfrm>
              <a:off x="878040" y="194616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5600" y="2082600"/>
              <a:ext cx="47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וי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530280" y="2038320"/>
              <a:ext cx="323640" cy="391680"/>
              <a:chOff x="530280" y="2038320"/>
              <a:chExt cx="323640" cy="391680"/>
            </a:xfrm>
          </p:grpSpPr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0280" y="203832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0280" y="203832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625680" y="238896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520" y="252576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774760" y="1739880"/>
            <a:ext cx="59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:30-9: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1851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98880" y="1803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3960" y="1803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5800" y="18032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18160" y="1803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80972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8880" y="1809720"/>
            <a:ext cx="612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888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80972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396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7600" y="180972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2760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5800" y="180972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5800" y="180972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18160" y="180972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18160" y="1809720"/>
            <a:ext cx="180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4440" y="2882880"/>
            <a:ext cx="8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440" y="288288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6280" y="2882880"/>
            <a:ext cx="860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6280" y="288288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43160" y="2882880"/>
            <a:ext cx="855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43160" y="2882880"/>
            <a:ext cx="85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5000" y="2882880"/>
            <a:ext cx="858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5000" y="2882880"/>
            <a:ext cx="85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70440" y="2882880"/>
            <a:ext cx="857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70440" y="288288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34080" y="2882880"/>
            <a:ext cx="801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34080" y="2882880"/>
            <a:ext cx="8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5800" y="2882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40480" y="2882880"/>
            <a:ext cx="877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0480" y="2882880"/>
            <a:ext cx="877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889360"/>
            <a:ext cx="46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98880" y="2889360"/>
            <a:ext cx="612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888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3960" y="2889360"/>
            <a:ext cx="64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27600" y="2889360"/>
            <a:ext cx="64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2760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5800" y="2889360"/>
            <a:ext cx="4680" cy="106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5800" y="2889360"/>
            <a:ext cx="1440" cy="106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40080" y="2925720"/>
            <a:ext cx="599760" cy="1022040"/>
            <a:chOff x="640080" y="2925720"/>
            <a:chExt cx="599760" cy="1022040"/>
          </a:xfrm>
        </p:grpSpPr>
        <p:sp>
          <p:nvSpPr>
            <p:cNvPr id="162" name=""/>
            <p:cNvSpPr/>
            <p:nvPr/>
          </p:nvSpPr>
          <p:spPr>
            <a:xfrm>
              <a:off x="700920" y="2925720"/>
              <a:ext cx="50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60320" y="3198960"/>
              <a:ext cx="304560" cy="329760"/>
              <a:chOff x="760320" y="3198960"/>
              <a:chExt cx="304560" cy="329760"/>
            </a:xfrm>
          </p:grpSpPr>
          <p:pic>
            <p:nvPicPr>
              <p:cNvPr id="16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0320" y="319896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0320" y="319896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" name=""/>
            <p:cNvSpPr/>
            <p:nvPr/>
          </p:nvSpPr>
          <p:spPr>
            <a:xfrm>
              <a:off x="640080" y="360360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9400" y="378000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727240" y="3908520"/>
            <a:ext cx="671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796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3959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3668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98880" y="39592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760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3959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18160" y="3959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396540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98880" y="3965400"/>
            <a:ext cx="612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9888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960" y="396540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396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27600" y="396540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2760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5800" y="3965400"/>
            <a:ext cx="46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5800" y="3965400"/>
            <a:ext cx="1440" cy="1073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18160" y="3965400"/>
            <a:ext cx="6480" cy="10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8160" y="2898720"/>
            <a:ext cx="1800" cy="213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80960" y="9237600"/>
            <a:ext cx="5121360" cy="451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86720" y="9402840"/>
            <a:ext cx="48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ועדות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74040" y="926460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10000"/>
                </a:solidFill>
                <a:latin typeface="Arial"/>
                <a:ea typeface="Arial"/>
              </a:rPr>
              <a:t>12:45-13: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5800" y="5038560"/>
            <a:ext cx="468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5800" y="5046840"/>
            <a:ext cx="46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440" y="5051520"/>
            <a:ext cx="85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6280" y="505152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43160" y="5051520"/>
            <a:ext cx="85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05000" y="5051520"/>
            <a:ext cx="85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0720" y="5051520"/>
            <a:ext cx="86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34080" y="5051520"/>
            <a:ext cx="80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5800" y="5280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0480" y="5051520"/>
            <a:ext cx="877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5057640"/>
            <a:ext cx="46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98880" y="5057640"/>
            <a:ext cx="612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9888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96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2760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5800" y="5286240"/>
            <a:ext cx="46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5800" y="5057640"/>
            <a:ext cx="1440" cy="10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18160" y="5057640"/>
            <a:ext cx="6480" cy="106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18160" y="5057640"/>
            <a:ext cx="1800" cy="208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5800" y="63532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9888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3960" y="6130800"/>
            <a:ext cx="64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396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27600" y="6130800"/>
            <a:ext cx="64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5800" y="6359400"/>
            <a:ext cx="4680" cy="5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6130800"/>
            <a:ext cx="1440" cy="5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4120" y="522612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0240" y="5773680"/>
            <a:ext cx="51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פרלמנ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30280" y="6107040"/>
            <a:ext cx="810720" cy="456840"/>
            <a:chOff x="530280" y="6107040"/>
            <a:chExt cx="810720" cy="456840"/>
          </a:xfrm>
        </p:grpSpPr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530280" y="6107040"/>
              <a:ext cx="8107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0"/>
            <a:stretch/>
          </p:blipFill>
          <p:spPr>
            <a:xfrm>
              <a:off x="530280" y="6107040"/>
              <a:ext cx="81072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4846680" y="5745240"/>
            <a:ext cx="744120" cy="824760"/>
            <a:chOff x="4846680" y="5745240"/>
            <a:chExt cx="744120" cy="824760"/>
          </a:xfrm>
        </p:grpSpPr>
        <p:grpSp>
          <p:nvGrpSpPr>
            <p:cNvPr id="227" name=""/>
            <p:cNvGrpSpPr/>
            <p:nvPr/>
          </p:nvGrpSpPr>
          <p:grpSpPr>
            <a:xfrm>
              <a:off x="4846680" y="5905440"/>
              <a:ext cx="371520" cy="417240"/>
              <a:chOff x="4846680" y="5905440"/>
              <a:chExt cx="371520" cy="417240"/>
            </a:xfrm>
          </p:grpSpPr>
          <p:pic>
            <p:nvPicPr>
              <p:cNvPr id="22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46680" y="5905440"/>
                <a:ext cx="371520" cy="41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46680" y="5905440"/>
                <a:ext cx="371520" cy="41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" name=""/>
            <p:cNvGrpSpPr/>
            <p:nvPr/>
          </p:nvGrpSpPr>
          <p:grpSpPr>
            <a:xfrm>
              <a:off x="5117400" y="5745240"/>
              <a:ext cx="473400" cy="475200"/>
              <a:chOff x="5117400" y="5745240"/>
              <a:chExt cx="473400" cy="475200"/>
            </a:xfrm>
          </p:grpSpPr>
          <p:sp>
            <p:nvSpPr>
              <p:cNvPr id="231" name=""/>
              <p:cNvSpPr/>
              <p:nvPr/>
            </p:nvSpPr>
            <p:spPr>
              <a:xfrm>
                <a:off x="5117400" y="5745240"/>
                <a:ext cx="47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ראשית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45120" y="5900040"/>
                <a:ext cx="445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קריאה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38640" y="6052680"/>
                <a:ext cx="448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וכתיבה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954320" y="627552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13440" y="64022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719320" y="614052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:45-11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5800" y="688032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98880" y="6659640"/>
            <a:ext cx="612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9888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6659640"/>
            <a:ext cx="6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7600" y="6659640"/>
            <a:ext cx="6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2760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5800" y="6888240"/>
            <a:ext cx="46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5800" y="6659640"/>
            <a:ext cx="1440" cy="47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70880" y="78375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4720" y="7365960"/>
            <a:ext cx="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360" y="7137360"/>
            <a:ext cx="876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6280" y="7137360"/>
            <a:ext cx="860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43160" y="7137360"/>
            <a:ext cx="85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05000" y="7137360"/>
            <a:ext cx="85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0440" y="7137360"/>
            <a:ext cx="85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34080" y="7137360"/>
            <a:ext cx="801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5800" y="73659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40480" y="7137360"/>
            <a:ext cx="87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7143840"/>
            <a:ext cx="46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98880" y="7143840"/>
            <a:ext cx="612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9888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3960" y="7143840"/>
            <a:ext cx="64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396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27600" y="7143840"/>
            <a:ext cx="64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2760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5800" y="7372440"/>
            <a:ext cx="46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5800" y="7143840"/>
            <a:ext cx="144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18160" y="7143840"/>
            <a:ext cx="648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18160" y="7143840"/>
            <a:ext cx="1800" cy="1066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5800" y="84391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9888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396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27600" y="8217000"/>
            <a:ext cx="64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2760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5800" y="8445600"/>
            <a:ext cx="46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5800" y="8217000"/>
            <a:ext cx="144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18160" y="8217000"/>
            <a:ext cx="648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18160" y="8217000"/>
            <a:ext cx="1800" cy="522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09600" y="812340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45-12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5800" y="8967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8745480"/>
            <a:ext cx="468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8745480"/>
            <a:ext cx="1440" cy="9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98880" y="87454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3960" y="87454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379520" y="9226440"/>
            <a:ext cx="51246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87454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5800" y="8974080"/>
            <a:ext cx="468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5800" y="87454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5800" y="94536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18160" y="8745480"/>
            <a:ext cx="6480" cy="47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18160" y="874548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827600" y="1440000"/>
            <a:ext cx="823680" cy="437400"/>
            <a:chOff x="4827600" y="1440000"/>
            <a:chExt cx="823680" cy="437400"/>
          </a:xfrm>
        </p:grpSpPr>
        <p:sp>
          <p:nvSpPr>
            <p:cNvPr id="293" name=""/>
            <p:cNvSpPr/>
            <p:nvPr/>
          </p:nvSpPr>
          <p:spPr>
            <a:xfrm>
              <a:off x="4827600" y="18032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40360" y="144000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51520" y="156204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71760" y="170964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GreekVase_small" descr=""/>
            <p:cNvPicPr/>
            <p:nvPr/>
          </p:nvPicPr>
          <p:blipFill>
            <a:blip r:embed="rId13"/>
            <a:stretch/>
          </p:blipFill>
          <p:spPr>
            <a:xfrm>
              <a:off x="4844880" y="1490760"/>
              <a:ext cx="21456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"/>
          <p:cNvSpPr/>
          <p:nvPr/>
        </p:nvSpPr>
        <p:spPr>
          <a:xfrm>
            <a:off x="4819680" y="146520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230280" y="6197760"/>
            <a:ext cx="610200" cy="816480"/>
            <a:chOff x="3230280" y="6197760"/>
            <a:chExt cx="610200" cy="816480"/>
          </a:xfrm>
        </p:grpSpPr>
        <p:sp>
          <p:nvSpPr>
            <p:cNvPr id="300" name=""/>
            <p:cNvSpPr/>
            <p:nvPr/>
          </p:nvSpPr>
          <p:spPr>
            <a:xfrm>
              <a:off x="3230640" y="61977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30280" y="668124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81120" y="684648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GreekVase_small" descr=""/>
            <p:cNvPicPr/>
            <p:nvPr/>
          </p:nvPicPr>
          <p:blipFill>
            <a:blip r:embed="rId14"/>
            <a:stretch/>
          </p:blipFill>
          <p:spPr>
            <a:xfrm>
              <a:off x="3416400" y="6369840"/>
              <a:ext cx="214200" cy="36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/>
          <p:cNvSpPr/>
          <p:nvPr/>
        </p:nvSpPr>
        <p:spPr>
          <a:xfrm>
            <a:off x="4829040" y="335592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80960" y="1487520"/>
            <a:ext cx="857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400068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75920" y="175428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371600" y="2241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29040" y="570240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371600" y="60768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43340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86280" y="398772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98600" y="1542960"/>
            <a:ext cx="754200" cy="640800"/>
            <a:chOff x="2298600" y="1542960"/>
            <a:chExt cx="754200" cy="640800"/>
          </a:xfrm>
        </p:grpSpPr>
        <p:sp>
          <p:nvSpPr>
            <p:cNvPr id="314" name=""/>
            <p:cNvSpPr/>
            <p:nvPr/>
          </p:nvSpPr>
          <p:spPr>
            <a:xfrm>
              <a:off x="2654280" y="154296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298600" y="1609560"/>
              <a:ext cx="496800" cy="312840"/>
              <a:chOff x="2298600" y="1609560"/>
              <a:chExt cx="496800" cy="31284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298600" y="160956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298600" y="160956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8" name=""/>
            <p:cNvSpPr/>
            <p:nvPr/>
          </p:nvSpPr>
          <p:spPr>
            <a:xfrm>
              <a:off x="2403720" y="1901520"/>
              <a:ext cx="52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א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68520" y="201600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H="1">
            <a:off x="3095640" y="17510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95640" y="60768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95640" y="79246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27960" y="8453520"/>
            <a:ext cx="992880" cy="827640"/>
            <a:chOff x="3027960" y="8453520"/>
            <a:chExt cx="992880" cy="827640"/>
          </a:xfrm>
        </p:grpSpPr>
        <p:sp>
          <p:nvSpPr>
            <p:cNvPr id="324" name=""/>
            <p:cNvSpPr/>
            <p:nvPr/>
          </p:nvSpPr>
          <p:spPr>
            <a:xfrm>
              <a:off x="3133440" y="8913600"/>
              <a:ext cx="79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27960" y="8453520"/>
              <a:ext cx="992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פלקס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27320" y="9019800"/>
              <a:ext cx="775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יה וג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foot" descr=""/>
            <p:cNvPicPr/>
            <p:nvPr/>
          </p:nvPicPr>
          <p:blipFill>
            <a:blip r:embed="rId17"/>
            <a:stretch/>
          </p:blipFill>
          <p:spPr>
            <a:xfrm>
              <a:off x="3219480" y="8643600"/>
              <a:ext cx="59040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>
            <a:off x="485640" y="447840"/>
            <a:ext cx="0" cy="668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5640" y="447840"/>
            <a:ext cx="51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238480" y="447840"/>
            <a:ext cx="0" cy="45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38480" y="5048280"/>
            <a:ext cx="0" cy="41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24360" y="398952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98600" y="3666960"/>
            <a:ext cx="754200" cy="640800"/>
            <a:chOff x="2298600" y="3666960"/>
            <a:chExt cx="754200" cy="640800"/>
          </a:xfrm>
        </p:grpSpPr>
        <p:sp>
          <p:nvSpPr>
            <p:cNvPr id="334" name=""/>
            <p:cNvSpPr/>
            <p:nvPr/>
          </p:nvSpPr>
          <p:spPr>
            <a:xfrm>
              <a:off x="2654280" y="366696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2298600" y="3733560"/>
              <a:ext cx="496800" cy="312840"/>
              <a:chOff x="2298600" y="3733560"/>
              <a:chExt cx="496800" cy="312840"/>
            </a:xfrm>
          </p:grpSpPr>
          <p:pic>
            <p:nvPicPr>
              <p:cNvPr id="33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298600" y="373356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298600" y="373356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8" name=""/>
            <p:cNvSpPr/>
            <p:nvPr/>
          </p:nvSpPr>
          <p:spPr>
            <a:xfrm>
              <a:off x="2407680" y="4025520"/>
              <a:ext cx="51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ב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8520" y="414000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301840" y="7905600"/>
            <a:ext cx="754200" cy="640800"/>
            <a:chOff x="2301840" y="7905600"/>
            <a:chExt cx="754200" cy="640800"/>
          </a:xfrm>
        </p:grpSpPr>
        <p:sp>
          <p:nvSpPr>
            <p:cNvPr id="341" name=""/>
            <p:cNvSpPr/>
            <p:nvPr/>
          </p:nvSpPr>
          <p:spPr>
            <a:xfrm>
              <a:off x="2657520" y="790560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301840" y="7972200"/>
              <a:ext cx="497160" cy="312840"/>
              <a:chOff x="2301840" y="7972200"/>
              <a:chExt cx="497160" cy="312840"/>
            </a:xfrm>
          </p:grpSpPr>
          <p:pic>
            <p:nvPicPr>
              <p:cNvPr id="34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301840" y="7972200"/>
                <a:ext cx="49716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301840" y="7972200"/>
                <a:ext cx="49716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5" name=""/>
            <p:cNvSpPr/>
            <p:nvPr/>
          </p:nvSpPr>
          <p:spPr>
            <a:xfrm>
              <a:off x="2416320" y="826452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ד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71760" y="837864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30640" y="747720"/>
            <a:ext cx="585000" cy="994680"/>
            <a:chOff x="4130640" y="747720"/>
            <a:chExt cx="585000" cy="994680"/>
          </a:xfrm>
        </p:grpSpPr>
        <p:sp>
          <p:nvSpPr>
            <p:cNvPr id="348" name=""/>
            <p:cNvSpPr/>
            <p:nvPr/>
          </p:nvSpPr>
          <p:spPr>
            <a:xfrm>
              <a:off x="4199040" y="7477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22"/>
            <a:stretch/>
          </p:blipFill>
          <p:spPr>
            <a:xfrm>
              <a:off x="4425480" y="1038240"/>
              <a:ext cx="287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23"/>
            <a:stretch/>
          </p:blipFill>
          <p:spPr>
            <a:xfrm>
              <a:off x="4130640" y="1038240"/>
              <a:ext cx="29484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4151160" y="1401840"/>
              <a:ext cx="56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ות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35120" y="157464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211560" y="1890720"/>
            <a:ext cx="654120" cy="904320"/>
            <a:chOff x="3211560" y="1890720"/>
            <a:chExt cx="654120" cy="904320"/>
          </a:xfrm>
        </p:grpSpPr>
        <p:sp>
          <p:nvSpPr>
            <p:cNvPr id="354" name=""/>
            <p:cNvSpPr/>
            <p:nvPr/>
          </p:nvSpPr>
          <p:spPr>
            <a:xfrm>
              <a:off x="3224160" y="247176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12280" y="1890720"/>
              <a:ext cx="64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בע וצ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02000" y="26272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colors_v" descr=""/>
            <p:cNvPicPr/>
            <p:nvPr/>
          </p:nvPicPr>
          <p:blipFill>
            <a:blip r:embed="rId24"/>
            <a:stretch/>
          </p:blipFill>
          <p:spPr>
            <a:xfrm>
              <a:off x="3211560" y="2077920"/>
              <a:ext cx="27144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colors_p" descr=""/>
            <p:cNvPicPr/>
            <p:nvPr/>
          </p:nvPicPr>
          <p:blipFill>
            <a:blip r:embed="rId25"/>
            <a:stretch/>
          </p:blipFill>
          <p:spPr>
            <a:xfrm>
              <a:off x="3592440" y="2075040"/>
              <a:ext cx="27324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"/>
          <p:cNvGrpSpPr/>
          <p:nvPr/>
        </p:nvGrpSpPr>
        <p:grpSpPr>
          <a:xfrm>
            <a:off x="1517760" y="3005280"/>
            <a:ext cx="507960" cy="904320"/>
            <a:chOff x="1517760" y="3005280"/>
            <a:chExt cx="507960" cy="904320"/>
          </a:xfrm>
        </p:grpSpPr>
        <p:sp>
          <p:nvSpPr>
            <p:cNvPr id="360" name=""/>
            <p:cNvSpPr/>
            <p:nvPr/>
          </p:nvSpPr>
          <p:spPr>
            <a:xfrm>
              <a:off x="1626840" y="358596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3480" y="300528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833840" y="3263760"/>
              <a:ext cx="191880" cy="226440"/>
              <a:chOff x="1833840" y="3263760"/>
              <a:chExt cx="191880" cy="226440"/>
            </a:xfrm>
          </p:grpSpPr>
          <p:pic>
            <p:nvPicPr>
              <p:cNvPr id="36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833840" y="32637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833840" y="32637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"/>
            <p:cNvGrpSpPr/>
            <p:nvPr/>
          </p:nvGrpSpPr>
          <p:grpSpPr>
            <a:xfrm>
              <a:off x="1517760" y="3243240"/>
              <a:ext cx="199800" cy="246960"/>
              <a:chOff x="1517760" y="3243240"/>
              <a:chExt cx="199800" cy="246960"/>
            </a:xfrm>
          </p:grpSpPr>
          <p:pic>
            <p:nvPicPr>
              <p:cNvPr id="36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517760" y="324324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517760" y="324324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8" name=""/>
            <p:cNvSpPr/>
            <p:nvPr/>
          </p:nvSpPr>
          <p:spPr>
            <a:xfrm>
              <a:off x="1671480" y="37418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2233440" y="2241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183120" y="2995560"/>
            <a:ext cx="663480" cy="904320"/>
            <a:chOff x="3183120" y="2995560"/>
            <a:chExt cx="663480" cy="904320"/>
          </a:xfrm>
        </p:grpSpPr>
        <p:sp>
          <p:nvSpPr>
            <p:cNvPr id="371" name=""/>
            <p:cNvSpPr/>
            <p:nvPr/>
          </p:nvSpPr>
          <p:spPr>
            <a:xfrm>
              <a:off x="3183120" y="357660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93200" y="2995560"/>
              <a:ext cx="64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בע וצ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82920" y="37321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colors_v" descr=""/>
            <p:cNvPicPr/>
            <p:nvPr/>
          </p:nvPicPr>
          <p:blipFill>
            <a:blip r:embed="rId30"/>
            <a:stretch/>
          </p:blipFill>
          <p:spPr>
            <a:xfrm>
              <a:off x="3192480" y="3182760"/>
              <a:ext cx="27144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colors_p" descr=""/>
            <p:cNvPicPr/>
            <p:nvPr/>
          </p:nvPicPr>
          <p:blipFill>
            <a:blip r:embed="rId31"/>
            <a:stretch/>
          </p:blipFill>
          <p:spPr>
            <a:xfrm>
              <a:off x="3573360" y="3179520"/>
              <a:ext cx="273240" cy="41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2989800" y="9169560"/>
            <a:ext cx="1048680" cy="552240"/>
            <a:chOff x="2989800" y="9169560"/>
            <a:chExt cx="1048680" cy="552240"/>
          </a:xfrm>
        </p:grpSpPr>
        <p:sp>
          <p:nvSpPr>
            <p:cNvPr id="377" name=""/>
            <p:cNvSpPr/>
            <p:nvPr/>
          </p:nvSpPr>
          <p:spPr>
            <a:xfrm>
              <a:off x="2989800" y="9169560"/>
              <a:ext cx="992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פלקס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80520" y="9380520"/>
              <a:ext cx="476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ג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foot" descr=""/>
            <p:cNvPicPr/>
            <p:nvPr/>
          </p:nvPicPr>
          <p:blipFill>
            <a:blip r:embed="rId32"/>
            <a:stretch/>
          </p:blipFill>
          <p:spPr>
            <a:xfrm>
              <a:off x="3448080" y="9350280"/>
              <a:ext cx="59040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"/>
          <p:cNvGrpSpPr/>
          <p:nvPr/>
        </p:nvGrpSpPr>
        <p:grpSpPr>
          <a:xfrm>
            <a:off x="2251800" y="709560"/>
            <a:ext cx="849600" cy="798120"/>
            <a:chOff x="2251800" y="709560"/>
            <a:chExt cx="849600" cy="798120"/>
          </a:xfrm>
        </p:grpSpPr>
        <p:sp>
          <p:nvSpPr>
            <p:cNvPr id="381" name=""/>
            <p:cNvSpPr/>
            <p:nvPr/>
          </p:nvSpPr>
          <p:spPr>
            <a:xfrm>
              <a:off x="2251800" y="709560"/>
              <a:ext cx="84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לשנות ו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84640" y="133992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43760" y="12412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debusum5" descr=""/>
            <p:cNvPicPr/>
            <p:nvPr/>
          </p:nvPicPr>
          <p:blipFill>
            <a:blip r:embed="rId33"/>
            <a:stretch/>
          </p:blipFill>
          <p:spPr>
            <a:xfrm>
              <a:off x="2517840" y="865080"/>
              <a:ext cx="29664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"/>
          <p:cNvSpPr/>
          <p:nvPr/>
        </p:nvSpPr>
        <p:spPr>
          <a:xfrm>
            <a:off x="2238480" y="148752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971960" y="3338640"/>
            <a:ext cx="507960" cy="656280"/>
            <a:chOff x="4971960" y="3338640"/>
            <a:chExt cx="507960" cy="656280"/>
          </a:xfrm>
        </p:grpSpPr>
        <p:sp>
          <p:nvSpPr>
            <p:cNvPr id="387" name=""/>
            <p:cNvSpPr/>
            <p:nvPr/>
          </p:nvSpPr>
          <p:spPr>
            <a:xfrm>
              <a:off x="5025960" y="370980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88880" y="333864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5287680" y="3511440"/>
              <a:ext cx="192240" cy="226440"/>
              <a:chOff x="5287680" y="3511440"/>
              <a:chExt cx="192240" cy="226440"/>
            </a:xfrm>
          </p:grpSpPr>
          <p:pic>
            <p:nvPicPr>
              <p:cNvPr id="39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287680" y="35114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287680" y="35114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2" name=""/>
            <p:cNvGrpSpPr/>
            <p:nvPr/>
          </p:nvGrpSpPr>
          <p:grpSpPr>
            <a:xfrm>
              <a:off x="4971960" y="3490920"/>
              <a:ext cx="199800" cy="246960"/>
              <a:chOff x="4971960" y="3490920"/>
              <a:chExt cx="199800" cy="246960"/>
            </a:xfrm>
          </p:grpSpPr>
          <p:pic>
            <p:nvPicPr>
              <p:cNvPr id="39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971960" y="34909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4971960" y="349092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5" name=""/>
            <p:cNvSpPr/>
            <p:nvPr/>
          </p:nvSpPr>
          <p:spPr>
            <a:xfrm>
              <a:off x="5058720" y="38271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367000" y="2879640"/>
            <a:ext cx="586080" cy="794880"/>
            <a:chOff x="2367000" y="2879640"/>
            <a:chExt cx="586080" cy="794880"/>
          </a:xfrm>
        </p:grpSpPr>
        <p:sp>
          <p:nvSpPr>
            <p:cNvPr id="397" name=""/>
            <p:cNvSpPr/>
            <p:nvPr/>
          </p:nvSpPr>
          <p:spPr>
            <a:xfrm>
              <a:off x="2565360" y="287964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367000" y="2995560"/>
              <a:ext cx="533160" cy="429840"/>
              <a:chOff x="2367000" y="2995560"/>
              <a:chExt cx="533160" cy="429840"/>
            </a:xfrm>
          </p:grpSpPr>
          <p:pic>
            <p:nvPicPr>
              <p:cNvPr id="399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2367000" y="2995560"/>
                <a:ext cx="53316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2367000" y="2995560"/>
                <a:ext cx="533160" cy="4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1" name=""/>
            <p:cNvSpPr/>
            <p:nvPr/>
          </p:nvSpPr>
          <p:spPr>
            <a:xfrm>
              <a:off x="2376360" y="339264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42320" y="350676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128840" y="6159600"/>
            <a:ext cx="576720" cy="934560"/>
            <a:chOff x="4128840" y="6159600"/>
            <a:chExt cx="576720" cy="934560"/>
          </a:xfrm>
        </p:grpSpPr>
        <p:sp>
          <p:nvSpPr>
            <p:cNvPr id="404" name=""/>
            <p:cNvSpPr/>
            <p:nvPr/>
          </p:nvSpPr>
          <p:spPr>
            <a:xfrm>
              <a:off x="4229640" y="6159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0"/>
            <a:stretch/>
          </p:blipFill>
          <p:spPr>
            <a:xfrm>
              <a:off x="4213080" y="63374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128840" y="679752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45120" y="69264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257560" y="5662440"/>
            <a:ext cx="812880" cy="717120"/>
            <a:chOff x="2257560" y="5662440"/>
            <a:chExt cx="812880" cy="717120"/>
          </a:xfrm>
        </p:grpSpPr>
        <p:sp>
          <p:nvSpPr>
            <p:cNvPr id="409" name=""/>
            <p:cNvSpPr/>
            <p:nvPr/>
          </p:nvSpPr>
          <p:spPr>
            <a:xfrm>
              <a:off x="2257560" y="5662440"/>
              <a:ext cx="81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ימות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2514600" y="5811840"/>
              <a:ext cx="295200" cy="318600"/>
              <a:chOff x="2514600" y="5811840"/>
              <a:chExt cx="295200" cy="318600"/>
            </a:xfrm>
          </p:grpSpPr>
          <p:pic>
            <p:nvPicPr>
              <p:cNvPr id="411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2514600" y="5811840"/>
                <a:ext cx="295200" cy="31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514600" y="5811840"/>
                <a:ext cx="295200" cy="31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3" name=""/>
            <p:cNvSpPr/>
            <p:nvPr/>
          </p:nvSpPr>
          <p:spPr>
            <a:xfrm>
              <a:off x="2393640" y="6103800"/>
              <a:ext cx="55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70760" y="62118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461960" y="2222640"/>
            <a:ext cx="646200" cy="669240"/>
            <a:chOff x="1461960" y="2222640"/>
            <a:chExt cx="646200" cy="669240"/>
          </a:xfrm>
        </p:grpSpPr>
        <p:pic>
          <p:nvPicPr>
            <p:cNvPr id="416" name="ktcl1w" descr=""/>
            <p:cNvPicPr/>
            <p:nvPr/>
          </p:nvPicPr>
          <p:blipFill>
            <a:blip r:embed="rId43"/>
            <a:stretch/>
          </p:blipFill>
          <p:spPr>
            <a:xfrm>
              <a:off x="1461960" y="2279520"/>
              <a:ext cx="646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599840" y="222264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שו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06240" y="259236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8840" y="2724120"/>
              <a:ext cx="35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516320" y="6119640"/>
            <a:ext cx="599760" cy="955440"/>
            <a:chOff x="1516320" y="6119640"/>
            <a:chExt cx="599760" cy="955440"/>
          </a:xfrm>
        </p:grpSpPr>
        <p:pic>
          <p:nvPicPr>
            <p:cNvPr id="421" name="m301" descr=""/>
            <p:cNvPicPr/>
            <p:nvPr/>
          </p:nvPicPr>
          <p:blipFill>
            <a:blip r:embed="rId44"/>
            <a:stretch/>
          </p:blipFill>
          <p:spPr>
            <a:xfrm>
              <a:off x="1608120" y="63421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585800" y="6119640"/>
              <a:ext cx="39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דג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16320" y="673272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52320" y="690732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י 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>
            <a:off x="1361880" y="8182080"/>
            <a:ext cx="86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498320" y="8244000"/>
            <a:ext cx="606960" cy="926280"/>
            <a:chOff x="1498320" y="8244000"/>
            <a:chExt cx="606960" cy="926280"/>
          </a:xfrm>
        </p:grpSpPr>
        <p:pic>
          <p:nvPicPr>
            <p:cNvPr id="427" name="acs1" descr=""/>
            <p:cNvPicPr/>
            <p:nvPr/>
          </p:nvPicPr>
          <p:blipFill>
            <a:blip r:embed="rId45"/>
            <a:stretch/>
          </p:blipFill>
          <p:spPr>
            <a:xfrm>
              <a:off x="1611360" y="8505720"/>
              <a:ext cx="3664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594800" y="824400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אי צ'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98320" y="8862840"/>
              <a:ext cx="58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09200" y="900252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י 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485640" y="558180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380960" y="9696600"/>
            <a:ext cx="51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853160" y="2862360"/>
            <a:ext cx="773280" cy="471240"/>
            <a:chOff x="4853160" y="2862360"/>
            <a:chExt cx="773280" cy="471240"/>
          </a:xfrm>
        </p:grpSpPr>
        <p:sp>
          <p:nvSpPr>
            <p:cNvPr id="434" name=""/>
            <p:cNvSpPr/>
            <p:nvPr/>
          </p:nvSpPr>
          <p:spPr>
            <a:xfrm>
              <a:off x="4913640" y="2862360"/>
              <a:ext cx="68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סיכ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6240" y="299232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67080" y="312408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mh2l_p" descr=""/>
            <p:cNvPicPr/>
            <p:nvPr/>
          </p:nvPicPr>
          <p:blipFill>
            <a:blip r:embed="rId46"/>
            <a:stretch/>
          </p:blipFill>
          <p:spPr>
            <a:xfrm>
              <a:off x="4853160" y="3110040"/>
              <a:ext cx="257040" cy="2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"/>
          <p:cNvGrpSpPr/>
          <p:nvPr/>
        </p:nvGrpSpPr>
        <p:grpSpPr>
          <a:xfrm>
            <a:off x="3187440" y="824040"/>
            <a:ext cx="711360" cy="829440"/>
            <a:chOff x="3187440" y="824040"/>
            <a:chExt cx="711360" cy="829440"/>
          </a:xfrm>
        </p:grpSpPr>
        <p:sp>
          <p:nvSpPr>
            <p:cNvPr id="439" name=""/>
            <p:cNvSpPr/>
            <p:nvPr/>
          </p:nvSpPr>
          <p:spPr>
            <a:xfrm>
              <a:off x="3218400" y="824040"/>
              <a:ext cx="68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סיכ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87440" y="1344600"/>
              <a:ext cx="61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90760" y="1485720"/>
              <a:ext cx="37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ה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mh2l_p" descr=""/>
            <p:cNvPicPr/>
            <p:nvPr/>
          </p:nvPicPr>
          <p:blipFill>
            <a:blip r:embed="rId47"/>
            <a:stretch/>
          </p:blipFill>
          <p:spPr>
            <a:xfrm>
              <a:off x="3291120" y="976320"/>
              <a:ext cx="446040" cy="38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3" name=""/>
          <p:cNvGrpSpPr/>
          <p:nvPr/>
        </p:nvGrpSpPr>
        <p:grpSpPr>
          <a:xfrm>
            <a:off x="1400040" y="1488960"/>
            <a:ext cx="824040" cy="745560"/>
            <a:chOff x="1400040" y="1488960"/>
            <a:chExt cx="824040" cy="745560"/>
          </a:xfrm>
        </p:grpSpPr>
        <p:sp>
          <p:nvSpPr>
            <p:cNvPr id="444" name=""/>
            <p:cNvSpPr/>
            <p:nvPr/>
          </p:nvSpPr>
          <p:spPr>
            <a:xfrm>
              <a:off x="1757880" y="148896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03520" y="1620720"/>
              <a:ext cx="52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וחש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58440" y="194436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תחיל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20080" y="2066760"/>
              <a:ext cx="19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8" name="triangle1" descr=""/>
            <p:cNvPicPr/>
            <p:nvPr/>
          </p:nvPicPr>
          <p:blipFill>
            <a:blip r:embed="rId48"/>
            <a:stretch/>
          </p:blipFill>
          <p:spPr>
            <a:xfrm>
              <a:off x="1400040" y="1687320"/>
              <a:ext cx="53496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"/>
          <p:cNvSpPr/>
          <p:nvPr/>
        </p:nvSpPr>
        <p:spPr>
          <a:xfrm flipH="1">
            <a:off x="2238120" y="6391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281320" y="6453360"/>
            <a:ext cx="681120" cy="688320"/>
            <a:chOff x="2281320" y="6453360"/>
            <a:chExt cx="681120" cy="688320"/>
          </a:xfrm>
        </p:grpSpPr>
        <p:sp>
          <p:nvSpPr>
            <p:cNvPr id="451" name=""/>
            <p:cNvSpPr/>
            <p:nvPr/>
          </p:nvSpPr>
          <p:spPr>
            <a:xfrm>
              <a:off x="2682720" y="6453360"/>
              <a:ext cx="24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81040" y="6818400"/>
              <a:ext cx="58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49520" y="69739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4" name="yoga" descr=""/>
            <p:cNvPicPr/>
            <p:nvPr/>
          </p:nvPicPr>
          <p:blipFill>
            <a:blip r:embed="rId49"/>
            <a:stretch/>
          </p:blipFill>
          <p:spPr>
            <a:xfrm>
              <a:off x="2281320" y="6458040"/>
              <a:ext cx="4618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2225880" y="8526600"/>
            <a:ext cx="895320" cy="707400"/>
            <a:chOff x="2225880" y="8526600"/>
            <a:chExt cx="895320" cy="707400"/>
          </a:xfrm>
        </p:grpSpPr>
        <p:sp>
          <p:nvSpPr>
            <p:cNvPr id="456" name=""/>
            <p:cNvSpPr/>
            <p:nvPr/>
          </p:nvSpPr>
          <p:spPr>
            <a:xfrm>
              <a:off x="2225880" y="8526600"/>
              <a:ext cx="89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 יציר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498760" y="8675640"/>
              <a:ext cx="304560" cy="329760"/>
              <a:chOff x="2498760" y="8675640"/>
              <a:chExt cx="304560" cy="329760"/>
            </a:xfrm>
          </p:grpSpPr>
          <p:pic>
            <p:nvPicPr>
              <p:cNvPr id="458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498760" y="867564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2498760" y="867564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0" name=""/>
            <p:cNvSpPr/>
            <p:nvPr/>
          </p:nvSpPr>
          <p:spPr>
            <a:xfrm>
              <a:off x="2371680" y="896616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94080" y="906624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228760" y="792468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130640" y="4062240"/>
            <a:ext cx="582120" cy="947160"/>
            <a:chOff x="4130640" y="4062240"/>
            <a:chExt cx="582120" cy="947160"/>
          </a:xfrm>
        </p:grpSpPr>
        <p:sp>
          <p:nvSpPr>
            <p:cNvPr id="464" name=""/>
            <p:cNvSpPr/>
            <p:nvPr/>
          </p:nvSpPr>
          <p:spPr>
            <a:xfrm>
              <a:off x="4199040" y="406224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5" name="" descr=""/>
            <p:cNvPicPr/>
            <p:nvPr/>
          </p:nvPicPr>
          <p:blipFill>
            <a:blip r:embed="rId52"/>
            <a:stretch/>
          </p:blipFill>
          <p:spPr>
            <a:xfrm>
              <a:off x="4425840" y="4343040"/>
              <a:ext cx="28692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53"/>
            <a:stretch/>
          </p:blipFill>
          <p:spPr>
            <a:xfrm>
              <a:off x="4130640" y="4343040"/>
              <a:ext cx="29520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4223880" y="4678200"/>
              <a:ext cx="38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06680" y="484164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33800" y="3967200"/>
            <a:ext cx="582840" cy="709200"/>
            <a:chOff x="4933800" y="3967200"/>
            <a:chExt cx="582840" cy="709200"/>
          </a:xfrm>
        </p:grpSpPr>
        <p:sp>
          <p:nvSpPr>
            <p:cNvPr id="470" name=""/>
            <p:cNvSpPr/>
            <p:nvPr/>
          </p:nvSpPr>
          <p:spPr>
            <a:xfrm>
              <a:off x="5002920" y="396720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1" name="" descr=""/>
            <p:cNvPicPr/>
            <p:nvPr/>
          </p:nvPicPr>
          <p:blipFill>
            <a:blip r:embed="rId54"/>
            <a:stretch/>
          </p:blipFill>
          <p:spPr>
            <a:xfrm>
              <a:off x="5229360" y="4133880"/>
              <a:ext cx="287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5"/>
            <a:stretch/>
          </p:blipFill>
          <p:spPr>
            <a:xfrm>
              <a:off x="4933800" y="4133880"/>
              <a:ext cx="29556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038920" y="440208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39000" y="450864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262240" y="367200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55480" y="787320"/>
            <a:ext cx="771480" cy="725040"/>
            <a:chOff x="555480" y="787320"/>
            <a:chExt cx="771480" cy="725040"/>
          </a:xfrm>
        </p:grpSpPr>
        <p:pic>
          <p:nvPicPr>
            <p:cNvPr id="477" name="" descr=""/>
            <p:cNvPicPr/>
            <p:nvPr/>
          </p:nvPicPr>
          <p:blipFill>
            <a:blip r:embed="rId56"/>
            <a:stretch/>
          </p:blipFill>
          <p:spPr>
            <a:xfrm>
              <a:off x="774720" y="80316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57"/>
            <a:stretch/>
          </p:blipFill>
          <p:spPr>
            <a:xfrm>
              <a:off x="555480" y="81252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658800" y="121608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7040" y="13446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15840" y="787320"/>
              <a:ext cx="411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48560" y="7245360"/>
            <a:ext cx="906120" cy="1017360"/>
            <a:chOff x="448560" y="7245360"/>
            <a:chExt cx="906120" cy="1017360"/>
          </a:xfrm>
        </p:grpSpPr>
        <p:sp>
          <p:nvSpPr>
            <p:cNvPr id="483" name=""/>
            <p:cNvSpPr/>
            <p:nvPr/>
          </p:nvSpPr>
          <p:spPr>
            <a:xfrm>
              <a:off x="787680" y="793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8640" y="724536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גרש 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949320" y="7972560"/>
              <a:ext cx="268200" cy="290160"/>
              <a:chOff x="949320" y="7972560"/>
              <a:chExt cx="268200" cy="290160"/>
            </a:xfrm>
          </p:grpSpPr>
          <p:pic>
            <p:nvPicPr>
              <p:cNvPr id="486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949320" y="797256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949320" y="797256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8" name=""/>
            <p:cNvGrpSpPr/>
            <p:nvPr/>
          </p:nvGrpSpPr>
          <p:grpSpPr>
            <a:xfrm>
              <a:off x="604800" y="7972560"/>
              <a:ext cx="268200" cy="290160"/>
              <a:chOff x="604800" y="7972560"/>
              <a:chExt cx="268200" cy="290160"/>
            </a:xfrm>
          </p:grpSpPr>
          <p:pic>
            <p:nvPicPr>
              <p:cNvPr id="489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604800" y="797256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604800" y="7972560"/>
                <a:ext cx="268200" cy="290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1" name=""/>
            <p:cNvSpPr/>
            <p:nvPr/>
          </p:nvSpPr>
          <p:spPr>
            <a:xfrm>
              <a:off x="448560" y="7370640"/>
              <a:ext cx="9061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מי השבוע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תאום ע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משתתפ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097160" y="5145120"/>
            <a:ext cx="581400" cy="902520"/>
            <a:chOff x="4097160" y="5145120"/>
            <a:chExt cx="581400" cy="902520"/>
          </a:xfrm>
        </p:grpSpPr>
        <p:sp>
          <p:nvSpPr>
            <p:cNvPr id="493" name=""/>
            <p:cNvSpPr/>
            <p:nvPr/>
          </p:nvSpPr>
          <p:spPr>
            <a:xfrm>
              <a:off x="4209480" y="514512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97160" y="5715000"/>
              <a:ext cx="58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31800" y="58798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6" name="palette1" descr=""/>
            <p:cNvPicPr/>
            <p:nvPr/>
          </p:nvPicPr>
          <p:blipFill>
            <a:blip r:embed="rId62"/>
            <a:stretch/>
          </p:blipFill>
          <p:spPr>
            <a:xfrm>
              <a:off x="4179960" y="5303880"/>
              <a:ext cx="41256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"/>
          <p:cNvGrpSpPr/>
          <p:nvPr/>
        </p:nvGrpSpPr>
        <p:grpSpPr>
          <a:xfrm>
            <a:off x="4106520" y="7221600"/>
            <a:ext cx="581400" cy="902520"/>
            <a:chOff x="4106520" y="7221600"/>
            <a:chExt cx="581400" cy="902520"/>
          </a:xfrm>
        </p:grpSpPr>
        <p:sp>
          <p:nvSpPr>
            <p:cNvPr id="498" name=""/>
            <p:cNvSpPr/>
            <p:nvPr/>
          </p:nvSpPr>
          <p:spPr>
            <a:xfrm>
              <a:off x="4218840" y="722160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06520" y="7791480"/>
              <a:ext cx="58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ג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41160" y="79563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1" name="palette1" descr=""/>
            <p:cNvPicPr/>
            <p:nvPr/>
          </p:nvPicPr>
          <p:blipFill>
            <a:blip r:embed="rId63"/>
            <a:stretch/>
          </p:blipFill>
          <p:spPr>
            <a:xfrm>
              <a:off x="4189320" y="7380360"/>
              <a:ext cx="41256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"/>
          <p:cNvGrpSpPr/>
          <p:nvPr/>
        </p:nvGrpSpPr>
        <p:grpSpPr>
          <a:xfrm>
            <a:off x="3254040" y="5145120"/>
            <a:ext cx="576720" cy="902520"/>
            <a:chOff x="3254040" y="5145120"/>
            <a:chExt cx="576720" cy="902520"/>
          </a:xfrm>
        </p:grpSpPr>
        <p:sp>
          <p:nvSpPr>
            <p:cNvPr id="503" name=""/>
            <p:cNvSpPr/>
            <p:nvPr/>
          </p:nvSpPr>
          <p:spPr>
            <a:xfrm>
              <a:off x="3361680" y="514512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54040" y="571500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84000" y="58798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6" name="palette1" descr=""/>
            <p:cNvPicPr/>
            <p:nvPr/>
          </p:nvPicPr>
          <p:blipFill>
            <a:blip r:embed="rId64"/>
            <a:stretch/>
          </p:blipFill>
          <p:spPr>
            <a:xfrm>
              <a:off x="3332160" y="5303880"/>
              <a:ext cx="41256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"/>
          <p:cNvGrpSpPr/>
          <p:nvPr/>
        </p:nvGrpSpPr>
        <p:grpSpPr>
          <a:xfrm>
            <a:off x="3160800" y="7170840"/>
            <a:ext cx="747000" cy="715680"/>
            <a:chOff x="3160800" y="7170840"/>
            <a:chExt cx="747000" cy="715680"/>
          </a:xfrm>
        </p:grpSpPr>
        <p:sp>
          <p:nvSpPr>
            <p:cNvPr id="508" name=""/>
            <p:cNvSpPr/>
            <p:nvPr/>
          </p:nvSpPr>
          <p:spPr>
            <a:xfrm>
              <a:off x="3504600" y="7326360"/>
              <a:ext cx="40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92200" y="75916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22160" y="77187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palette1" descr=""/>
            <p:cNvPicPr/>
            <p:nvPr/>
          </p:nvPicPr>
          <p:blipFill>
            <a:blip r:embed="rId65"/>
            <a:stretch/>
          </p:blipFill>
          <p:spPr>
            <a:xfrm>
              <a:off x="3160800" y="7170840"/>
              <a:ext cx="41292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2" name=""/>
          <p:cNvGrpSpPr/>
          <p:nvPr/>
        </p:nvGrpSpPr>
        <p:grpSpPr>
          <a:xfrm>
            <a:off x="2400480" y="2233440"/>
            <a:ext cx="507960" cy="656640"/>
            <a:chOff x="2400480" y="2233440"/>
            <a:chExt cx="507960" cy="656640"/>
          </a:xfrm>
        </p:grpSpPr>
        <p:sp>
          <p:nvSpPr>
            <p:cNvPr id="513" name=""/>
            <p:cNvSpPr/>
            <p:nvPr/>
          </p:nvSpPr>
          <p:spPr>
            <a:xfrm>
              <a:off x="2454480" y="2604960"/>
              <a:ext cx="42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17400" y="223344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2716200" y="2406600"/>
              <a:ext cx="192240" cy="226800"/>
              <a:chOff x="2716200" y="2406600"/>
              <a:chExt cx="192240" cy="226800"/>
            </a:xfrm>
          </p:grpSpPr>
          <p:pic>
            <p:nvPicPr>
              <p:cNvPr id="516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2716200" y="24066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2716200" y="24066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8" name=""/>
            <p:cNvGrpSpPr/>
            <p:nvPr/>
          </p:nvGrpSpPr>
          <p:grpSpPr>
            <a:xfrm>
              <a:off x="2400480" y="2386080"/>
              <a:ext cx="199800" cy="247320"/>
              <a:chOff x="2400480" y="2386080"/>
              <a:chExt cx="199800" cy="247320"/>
            </a:xfrm>
          </p:grpSpPr>
          <p:pic>
            <p:nvPicPr>
              <p:cNvPr id="51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2400480" y="23860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2400480" y="23860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1" name=""/>
            <p:cNvSpPr/>
            <p:nvPr/>
          </p:nvSpPr>
          <p:spPr>
            <a:xfrm>
              <a:off x="2487240" y="27223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400480" y="4357800"/>
            <a:ext cx="507960" cy="656280"/>
            <a:chOff x="2400480" y="4357800"/>
            <a:chExt cx="507960" cy="656280"/>
          </a:xfrm>
        </p:grpSpPr>
        <p:sp>
          <p:nvSpPr>
            <p:cNvPr id="523" name=""/>
            <p:cNvSpPr/>
            <p:nvPr/>
          </p:nvSpPr>
          <p:spPr>
            <a:xfrm>
              <a:off x="2496960" y="472896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17400" y="435780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716200" y="4530600"/>
              <a:ext cx="192240" cy="226440"/>
              <a:chOff x="2716200" y="4530600"/>
              <a:chExt cx="192240" cy="226440"/>
            </a:xfrm>
          </p:grpSpPr>
          <p:pic>
            <p:nvPicPr>
              <p:cNvPr id="526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2716200" y="45306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2716200" y="45306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8" name=""/>
            <p:cNvGrpSpPr/>
            <p:nvPr/>
          </p:nvGrpSpPr>
          <p:grpSpPr>
            <a:xfrm>
              <a:off x="2400480" y="4510080"/>
              <a:ext cx="199800" cy="246960"/>
              <a:chOff x="2400480" y="4510080"/>
              <a:chExt cx="199800" cy="246960"/>
            </a:xfrm>
          </p:grpSpPr>
          <p:pic>
            <p:nvPicPr>
              <p:cNvPr id="529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2400480" y="45100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2400480" y="45100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1" name=""/>
            <p:cNvSpPr/>
            <p:nvPr/>
          </p:nvSpPr>
          <p:spPr>
            <a:xfrm>
              <a:off x="2487240" y="48463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H="1">
            <a:off x="2247480" y="566748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962160" y="607680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363760" y="7137360"/>
            <a:ext cx="599760" cy="794520"/>
            <a:chOff x="2363760" y="7137360"/>
            <a:chExt cx="599760" cy="794520"/>
          </a:xfrm>
        </p:grpSpPr>
        <p:sp>
          <p:nvSpPr>
            <p:cNvPr id="535" name=""/>
            <p:cNvSpPr/>
            <p:nvPr/>
          </p:nvSpPr>
          <p:spPr>
            <a:xfrm>
              <a:off x="2574720" y="71373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376360" y="7252920"/>
              <a:ext cx="533160" cy="429480"/>
              <a:chOff x="2376360" y="7252920"/>
              <a:chExt cx="533160" cy="429480"/>
            </a:xfrm>
          </p:grpSpPr>
          <p:pic>
            <p:nvPicPr>
              <p:cNvPr id="537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2376360" y="7252920"/>
                <a:ext cx="533160" cy="42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2376360" y="7252920"/>
                <a:ext cx="533160" cy="429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9" name=""/>
            <p:cNvSpPr/>
            <p:nvPr/>
          </p:nvSpPr>
          <p:spPr>
            <a:xfrm>
              <a:off x="2363760" y="765000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51680" y="776412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28760" y="853452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562040" y="766800"/>
            <a:ext cx="507960" cy="656640"/>
            <a:chOff x="1562040" y="766800"/>
            <a:chExt cx="507960" cy="656640"/>
          </a:xfrm>
        </p:grpSpPr>
        <p:sp>
          <p:nvSpPr>
            <p:cNvPr id="543" name=""/>
            <p:cNvSpPr/>
            <p:nvPr/>
          </p:nvSpPr>
          <p:spPr>
            <a:xfrm>
              <a:off x="1619640" y="11383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78960" y="76680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1877760" y="939960"/>
              <a:ext cx="192240" cy="226800"/>
              <a:chOff x="1877760" y="939960"/>
              <a:chExt cx="192240" cy="226800"/>
            </a:xfrm>
          </p:grpSpPr>
          <p:pic>
            <p:nvPicPr>
              <p:cNvPr id="546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1877760" y="9399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1877760" y="9399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8" name=""/>
            <p:cNvGrpSpPr/>
            <p:nvPr/>
          </p:nvGrpSpPr>
          <p:grpSpPr>
            <a:xfrm>
              <a:off x="1562040" y="919440"/>
              <a:ext cx="199800" cy="247320"/>
              <a:chOff x="1562040" y="919440"/>
              <a:chExt cx="199800" cy="2473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1562040" y="919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1562040" y="919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1" name=""/>
            <p:cNvSpPr/>
            <p:nvPr/>
          </p:nvSpPr>
          <p:spPr>
            <a:xfrm>
              <a:off x="1648800" y="12556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481040" y="4175280"/>
            <a:ext cx="646200" cy="668880"/>
            <a:chOff x="1481040" y="4175280"/>
            <a:chExt cx="646200" cy="668880"/>
          </a:xfrm>
        </p:grpSpPr>
        <p:pic>
          <p:nvPicPr>
            <p:cNvPr id="553" name="ktcl1w" descr=""/>
            <p:cNvPicPr/>
            <p:nvPr/>
          </p:nvPicPr>
          <p:blipFill>
            <a:blip r:embed="rId80"/>
            <a:stretch/>
          </p:blipFill>
          <p:spPr>
            <a:xfrm>
              <a:off x="1481040" y="4231800"/>
              <a:ext cx="646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1618920" y="417528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שו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25320" y="454464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27920" y="4676400"/>
              <a:ext cx="35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432800" y="5081760"/>
            <a:ext cx="738360" cy="956520"/>
            <a:chOff x="1432800" y="5081760"/>
            <a:chExt cx="738360" cy="956520"/>
          </a:xfrm>
        </p:grpSpPr>
        <p:sp>
          <p:nvSpPr>
            <p:cNvPr id="558" name=""/>
            <p:cNvSpPr/>
            <p:nvPr/>
          </p:nvSpPr>
          <p:spPr>
            <a:xfrm>
              <a:off x="1432800" y="508176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9" name="" descr=""/>
            <p:cNvPicPr/>
            <p:nvPr/>
          </p:nvPicPr>
          <p:blipFill>
            <a:blip r:embed="rId81"/>
            <a:stretch/>
          </p:blipFill>
          <p:spPr>
            <a:xfrm>
              <a:off x="1806480" y="5267160"/>
              <a:ext cx="287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82"/>
            <a:stretch/>
          </p:blipFill>
          <p:spPr>
            <a:xfrm>
              <a:off x="1511280" y="5267160"/>
              <a:ext cx="29520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1716480" y="587052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mark3" descr=""/>
            <p:cNvPicPr/>
            <p:nvPr/>
          </p:nvPicPr>
          <p:blipFill>
            <a:blip r:embed="rId83"/>
            <a:stretch/>
          </p:blipFill>
          <p:spPr>
            <a:xfrm>
              <a:off x="1512720" y="5580000"/>
              <a:ext cx="30816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mark4" descr=""/>
            <p:cNvPicPr/>
            <p:nvPr/>
          </p:nvPicPr>
          <p:blipFill>
            <a:blip r:embed="rId84"/>
            <a:stretch/>
          </p:blipFill>
          <p:spPr>
            <a:xfrm>
              <a:off x="1808280" y="5580000"/>
              <a:ext cx="288720" cy="29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4" name=""/>
          <p:cNvGrpSpPr/>
          <p:nvPr/>
        </p:nvGrpSpPr>
        <p:grpSpPr>
          <a:xfrm>
            <a:off x="1432800" y="7196040"/>
            <a:ext cx="738360" cy="956880"/>
            <a:chOff x="1432800" y="7196040"/>
            <a:chExt cx="738360" cy="956880"/>
          </a:xfrm>
        </p:grpSpPr>
        <p:sp>
          <p:nvSpPr>
            <p:cNvPr id="565" name=""/>
            <p:cNvSpPr/>
            <p:nvPr/>
          </p:nvSpPr>
          <p:spPr>
            <a:xfrm>
              <a:off x="1432800" y="7196040"/>
              <a:ext cx="738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85"/>
            <a:stretch/>
          </p:blipFill>
          <p:spPr>
            <a:xfrm>
              <a:off x="1797120" y="7381800"/>
              <a:ext cx="287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86"/>
            <a:stretch/>
          </p:blipFill>
          <p:spPr>
            <a:xfrm>
              <a:off x="1501920" y="7381800"/>
              <a:ext cx="29520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706760" y="798516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mark3" descr=""/>
            <p:cNvPicPr/>
            <p:nvPr/>
          </p:nvPicPr>
          <p:blipFill>
            <a:blip r:embed="rId87"/>
            <a:stretch/>
          </p:blipFill>
          <p:spPr>
            <a:xfrm>
              <a:off x="1503360" y="7694640"/>
              <a:ext cx="30780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mark4" descr=""/>
            <p:cNvPicPr/>
            <p:nvPr/>
          </p:nvPicPr>
          <p:blipFill>
            <a:blip r:embed="rId88"/>
            <a:stretch/>
          </p:blipFill>
          <p:spPr>
            <a:xfrm>
              <a:off x="1798560" y="7694640"/>
              <a:ext cx="289080" cy="29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"/>
          <p:cNvGrpSpPr/>
          <p:nvPr/>
        </p:nvGrpSpPr>
        <p:grpSpPr>
          <a:xfrm>
            <a:off x="2298600" y="5019840"/>
            <a:ext cx="754200" cy="640800"/>
            <a:chOff x="2298600" y="5019840"/>
            <a:chExt cx="754200" cy="640800"/>
          </a:xfrm>
        </p:grpSpPr>
        <p:sp>
          <p:nvSpPr>
            <p:cNvPr id="572" name=""/>
            <p:cNvSpPr/>
            <p:nvPr/>
          </p:nvSpPr>
          <p:spPr>
            <a:xfrm>
              <a:off x="2654280" y="501984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ד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2298600" y="5086440"/>
              <a:ext cx="496800" cy="312840"/>
              <a:chOff x="2298600" y="5086440"/>
              <a:chExt cx="496800" cy="312840"/>
            </a:xfrm>
          </p:grpSpPr>
          <p:pic>
            <p:nvPicPr>
              <p:cNvPr id="574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2298600" y="508644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5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2298600" y="5086440"/>
                <a:ext cx="49680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6" name=""/>
            <p:cNvSpPr/>
            <p:nvPr/>
          </p:nvSpPr>
          <p:spPr>
            <a:xfrm>
              <a:off x="2430000" y="537840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בוצה ג'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68520" y="549288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ו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952880" y="709560"/>
            <a:ext cx="582840" cy="747360"/>
            <a:chOff x="4952880" y="709560"/>
            <a:chExt cx="582840" cy="747360"/>
          </a:xfrm>
        </p:grpSpPr>
        <p:sp>
          <p:nvSpPr>
            <p:cNvPr id="579" name=""/>
            <p:cNvSpPr/>
            <p:nvPr/>
          </p:nvSpPr>
          <p:spPr>
            <a:xfrm>
              <a:off x="5022000" y="70956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0" name="" descr=""/>
            <p:cNvPicPr/>
            <p:nvPr/>
          </p:nvPicPr>
          <p:blipFill>
            <a:blip r:embed="rId91"/>
            <a:stretch/>
          </p:blipFill>
          <p:spPr>
            <a:xfrm>
              <a:off x="5248440" y="895320"/>
              <a:ext cx="287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92"/>
            <a:stretch/>
          </p:blipFill>
          <p:spPr>
            <a:xfrm>
              <a:off x="4952880" y="895320"/>
              <a:ext cx="29556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058000" y="11732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58080" y="1289160"/>
              <a:ext cx="21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829040" y="24652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816800" y="4659480"/>
            <a:ext cx="840960" cy="398160"/>
            <a:chOff x="4816800" y="4659480"/>
            <a:chExt cx="840960" cy="398160"/>
          </a:xfrm>
        </p:grpSpPr>
        <p:sp>
          <p:nvSpPr>
            <p:cNvPr id="586" name=""/>
            <p:cNvSpPr/>
            <p:nvPr/>
          </p:nvSpPr>
          <p:spPr>
            <a:xfrm>
              <a:off x="4816800" y="466236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.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64040" y="4763880"/>
              <a:ext cx="23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78080" y="487980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9" name="woman_at_pottery_wheel_ty_CLR" descr=""/>
            <p:cNvPicPr/>
            <p:nvPr/>
          </p:nvPicPr>
          <p:blipFill>
            <a:blip r:embed="rId93"/>
            <a:stretch/>
          </p:blipFill>
          <p:spPr>
            <a:xfrm>
              <a:off x="5307120" y="4659480"/>
              <a:ext cx="350640" cy="39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"/>
          <p:cNvSpPr/>
          <p:nvPr/>
        </p:nvSpPr>
        <p:spPr>
          <a:xfrm>
            <a:off x="4824360" y="465624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4962600" y="5033880"/>
            <a:ext cx="507960" cy="656640"/>
            <a:chOff x="4962600" y="5033880"/>
            <a:chExt cx="507960" cy="656640"/>
          </a:xfrm>
        </p:grpSpPr>
        <p:sp>
          <p:nvSpPr>
            <p:cNvPr id="592" name=""/>
            <p:cNvSpPr/>
            <p:nvPr/>
          </p:nvSpPr>
          <p:spPr>
            <a:xfrm>
              <a:off x="5020200" y="540540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79520" y="503388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5278320" y="5207040"/>
              <a:ext cx="192240" cy="226800"/>
              <a:chOff x="5278320" y="5207040"/>
              <a:chExt cx="192240" cy="226800"/>
            </a:xfrm>
          </p:grpSpPr>
          <p:pic>
            <p:nvPicPr>
              <p:cNvPr id="595" name="" descr=""/>
              <p:cNvPicPr/>
              <p:nvPr/>
            </p:nvPicPr>
            <p:blipFill>
              <a:blip r:embed="rId94"/>
              <a:stretch/>
            </p:blipFill>
            <p:spPr>
              <a:xfrm>
                <a:off x="5278320" y="52070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" descr=""/>
              <p:cNvPicPr/>
              <p:nvPr/>
            </p:nvPicPr>
            <p:blipFill>
              <a:blip r:embed="rId95"/>
              <a:stretch/>
            </p:blipFill>
            <p:spPr>
              <a:xfrm>
                <a:off x="5278320" y="52070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"/>
            <p:cNvGrpSpPr/>
            <p:nvPr/>
          </p:nvGrpSpPr>
          <p:grpSpPr>
            <a:xfrm>
              <a:off x="4962600" y="5186520"/>
              <a:ext cx="199800" cy="247320"/>
              <a:chOff x="4962600" y="5186520"/>
              <a:chExt cx="199800" cy="247320"/>
            </a:xfrm>
          </p:grpSpPr>
          <p:pic>
            <p:nvPicPr>
              <p:cNvPr id="598" name="" descr=""/>
              <p:cNvPicPr/>
              <p:nvPr/>
            </p:nvPicPr>
            <p:blipFill>
              <a:blip r:embed="rId96"/>
              <a:stretch/>
            </p:blipFill>
            <p:spPr>
              <a:xfrm>
                <a:off x="4962600" y="5186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" descr=""/>
              <p:cNvPicPr/>
              <p:nvPr/>
            </p:nvPicPr>
            <p:blipFill>
              <a:blip r:embed="rId97"/>
              <a:stretch/>
            </p:blipFill>
            <p:spPr>
              <a:xfrm>
                <a:off x="4962600" y="5186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"/>
            <p:cNvSpPr/>
            <p:nvPr/>
          </p:nvSpPr>
          <p:spPr>
            <a:xfrm>
              <a:off x="5049360" y="55227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794480" y="6539040"/>
            <a:ext cx="855720" cy="603000"/>
            <a:chOff x="4794480" y="6539040"/>
            <a:chExt cx="855720" cy="603000"/>
          </a:xfrm>
        </p:grpSpPr>
        <p:sp>
          <p:nvSpPr>
            <p:cNvPr id="602" name=""/>
            <p:cNvSpPr/>
            <p:nvPr/>
          </p:nvSpPr>
          <p:spPr>
            <a:xfrm>
              <a:off x="4794480" y="653904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83120" y="6726240"/>
              <a:ext cx="23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78080" y="689940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woman_at_pottery_wheel_ty_CLR" descr=""/>
            <p:cNvPicPr/>
            <p:nvPr/>
          </p:nvPicPr>
          <p:blipFill>
            <a:blip r:embed="rId98"/>
            <a:stretch/>
          </p:blipFill>
          <p:spPr>
            <a:xfrm>
              <a:off x="5221440" y="6678720"/>
              <a:ext cx="407880" cy="46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"/>
          <p:cNvSpPr/>
          <p:nvPr/>
        </p:nvSpPr>
        <p:spPr>
          <a:xfrm>
            <a:off x="4829040" y="655020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856040" y="7859880"/>
            <a:ext cx="744120" cy="824760"/>
            <a:chOff x="4856040" y="7859880"/>
            <a:chExt cx="744120" cy="824760"/>
          </a:xfrm>
        </p:grpSpPr>
        <p:grpSp>
          <p:nvGrpSpPr>
            <p:cNvPr id="608" name=""/>
            <p:cNvGrpSpPr/>
            <p:nvPr/>
          </p:nvGrpSpPr>
          <p:grpSpPr>
            <a:xfrm>
              <a:off x="4856040" y="8020080"/>
              <a:ext cx="371520" cy="417240"/>
              <a:chOff x="4856040" y="8020080"/>
              <a:chExt cx="371520" cy="417240"/>
            </a:xfrm>
          </p:grpSpPr>
          <p:pic>
            <p:nvPicPr>
              <p:cNvPr id="609" name="" descr=""/>
              <p:cNvPicPr/>
              <p:nvPr/>
            </p:nvPicPr>
            <p:blipFill>
              <a:blip r:embed="rId99"/>
              <a:stretch/>
            </p:blipFill>
            <p:spPr>
              <a:xfrm>
                <a:off x="4856040" y="8020080"/>
                <a:ext cx="371520" cy="41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" name="" descr=""/>
              <p:cNvPicPr/>
              <p:nvPr/>
            </p:nvPicPr>
            <p:blipFill>
              <a:blip r:embed="rId100"/>
              <a:stretch/>
            </p:blipFill>
            <p:spPr>
              <a:xfrm>
                <a:off x="4856040" y="8020080"/>
                <a:ext cx="371520" cy="41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1" name=""/>
            <p:cNvGrpSpPr/>
            <p:nvPr/>
          </p:nvGrpSpPr>
          <p:grpSpPr>
            <a:xfrm>
              <a:off x="5126760" y="7859880"/>
              <a:ext cx="473400" cy="475200"/>
              <a:chOff x="5126760" y="7859880"/>
              <a:chExt cx="473400" cy="475200"/>
            </a:xfrm>
          </p:grpSpPr>
          <p:sp>
            <p:nvSpPr>
              <p:cNvPr id="612" name=""/>
              <p:cNvSpPr/>
              <p:nvPr/>
            </p:nvSpPr>
            <p:spPr>
              <a:xfrm>
                <a:off x="5126760" y="7859880"/>
                <a:ext cx="473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ראשית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154480" y="8014680"/>
                <a:ext cx="445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קריאה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148000" y="8167320"/>
                <a:ext cx="448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וכתיבה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963680" y="839016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22800" y="85168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4838760" y="78166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971960" y="7148520"/>
            <a:ext cx="507960" cy="656640"/>
            <a:chOff x="4971960" y="7148520"/>
            <a:chExt cx="507960" cy="656640"/>
          </a:xfrm>
        </p:grpSpPr>
        <p:sp>
          <p:nvSpPr>
            <p:cNvPr id="619" name=""/>
            <p:cNvSpPr/>
            <p:nvPr/>
          </p:nvSpPr>
          <p:spPr>
            <a:xfrm>
              <a:off x="5052240" y="752004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מה  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88880" y="714852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5287680" y="7321680"/>
              <a:ext cx="192240" cy="226800"/>
              <a:chOff x="5287680" y="7321680"/>
              <a:chExt cx="192240" cy="226800"/>
            </a:xfrm>
          </p:grpSpPr>
          <p:pic>
            <p:nvPicPr>
              <p:cNvPr id="622" name="" descr=""/>
              <p:cNvPicPr/>
              <p:nvPr/>
            </p:nvPicPr>
            <p:blipFill>
              <a:blip r:embed="rId101"/>
              <a:stretch/>
            </p:blipFill>
            <p:spPr>
              <a:xfrm>
                <a:off x="5287680" y="7321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" descr=""/>
              <p:cNvPicPr/>
              <p:nvPr/>
            </p:nvPicPr>
            <p:blipFill>
              <a:blip r:embed="rId102"/>
              <a:stretch/>
            </p:blipFill>
            <p:spPr>
              <a:xfrm>
                <a:off x="5287680" y="7321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4" name=""/>
            <p:cNvGrpSpPr/>
            <p:nvPr/>
          </p:nvGrpSpPr>
          <p:grpSpPr>
            <a:xfrm>
              <a:off x="4971960" y="7301160"/>
              <a:ext cx="199800" cy="247320"/>
              <a:chOff x="4971960" y="7301160"/>
              <a:chExt cx="199800" cy="247320"/>
            </a:xfrm>
          </p:grpSpPr>
          <p:pic>
            <p:nvPicPr>
              <p:cNvPr id="625" name="" descr=""/>
              <p:cNvPicPr/>
              <p:nvPr/>
            </p:nvPicPr>
            <p:blipFill>
              <a:blip r:embed="rId103"/>
              <a:stretch/>
            </p:blipFill>
            <p:spPr>
              <a:xfrm>
                <a:off x="4971960" y="7301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" descr=""/>
              <p:cNvPicPr/>
              <p:nvPr/>
            </p:nvPicPr>
            <p:blipFill>
              <a:blip r:embed="rId104"/>
              <a:stretch/>
            </p:blipFill>
            <p:spPr>
              <a:xfrm>
                <a:off x="4971960" y="73011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7" name=""/>
            <p:cNvSpPr/>
            <p:nvPr/>
          </p:nvSpPr>
          <p:spPr>
            <a:xfrm>
              <a:off x="5058720" y="76374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803840" y="8653320"/>
            <a:ext cx="855720" cy="603000"/>
            <a:chOff x="4803840" y="8653320"/>
            <a:chExt cx="855720" cy="603000"/>
          </a:xfrm>
        </p:grpSpPr>
        <p:sp>
          <p:nvSpPr>
            <p:cNvPr id="629" name=""/>
            <p:cNvSpPr/>
            <p:nvPr/>
          </p:nvSpPr>
          <p:spPr>
            <a:xfrm>
              <a:off x="4803840" y="865332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92480" y="8840520"/>
              <a:ext cx="23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87440" y="901368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2" name="woman_at_pottery_wheel_ty_CLR" descr=""/>
            <p:cNvPicPr/>
            <p:nvPr/>
          </p:nvPicPr>
          <p:blipFill>
            <a:blip r:embed="rId105"/>
            <a:stretch/>
          </p:blipFill>
          <p:spPr>
            <a:xfrm>
              <a:off x="5230800" y="8793000"/>
              <a:ext cx="407880" cy="46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"/>
          <p:cNvSpPr/>
          <p:nvPr/>
        </p:nvSpPr>
        <p:spPr>
          <a:xfrm>
            <a:off x="4838760" y="86644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3196800" y="4052880"/>
            <a:ext cx="616320" cy="980640"/>
            <a:chOff x="3196800" y="4052880"/>
            <a:chExt cx="616320" cy="980640"/>
          </a:xfrm>
        </p:grpSpPr>
        <p:sp>
          <p:nvSpPr>
            <p:cNvPr id="635" name=""/>
            <p:cNvSpPr/>
            <p:nvPr/>
          </p:nvSpPr>
          <p:spPr>
            <a:xfrm>
              <a:off x="3196800" y="471024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99040" y="405288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ילת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20000" y="4865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musicians_grooving_sm_CLR" descr=""/>
            <p:cNvPicPr/>
            <p:nvPr/>
          </p:nvPicPr>
          <p:blipFill>
            <a:blip r:embed="rId106"/>
            <a:stretch/>
          </p:blipFill>
          <p:spPr>
            <a:xfrm>
              <a:off x="3224160" y="4205160"/>
              <a:ext cx="58896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"/>
          <p:cNvSpPr/>
          <p:nvPr/>
        </p:nvSpPr>
        <p:spPr>
          <a:xfrm>
            <a:off x="3095640" y="399096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86800" y="4071960"/>
            <a:ext cx="616320" cy="980640"/>
            <a:chOff x="586800" y="4071960"/>
            <a:chExt cx="616320" cy="980640"/>
          </a:xfrm>
        </p:grpSpPr>
        <p:sp>
          <p:nvSpPr>
            <p:cNvPr id="641" name=""/>
            <p:cNvSpPr/>
            <p:nvPr/>
          </p:nvSpPr>
          <p:spPr>
            <a:xfrm>
              <a:off x="586800" y="472932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ב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9040" y="407196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ילת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0000" y="48848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4" name="musicians_grooving_sm_CLR" descr=""/>
            <p:cNvPicPr/>
            <p:nvPr/>
          </p:nvPicPr>
          <p:blipFill>
            <a:blip r:embed="rId107"/>
            <a:stretch/>
          </p:blipFill>
          <p:spPr>
            <a:xfrm>
              <a:off x="614160" y="4224240"/>
              <a:ext cx="58896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/>
          <p:cNvSpPr/>
          <p:nvPr/>
        </p:nvSpPr>
        <p:spPr>
          <a:xfrm flipH="1">
            <a:off x="485280" y="4002120"/>
            <a:ext cx="88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29040" y="187488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816800" y="2487600"/>
            <a:ext cx="840960" cy="398520"/>
            <a:chOff x="4816800" y="2487600"/>
            <a:chExt cx="840960" cy="398520"/>
          </a:xfrm>
        </p:grpSpPr>
        <p:sp>
          <p:nvSpPr>
            <p:cNvPr id="648" name=""/>
            <p:cNvSpPr/>
            <p:nvPr/>
          </p:nvSpPr>
          <p:spPr>
            <a:xfrm>
              <a:off x="4816800" y="249084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. קרמ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64040" y="2592360"/>
              <a:ext cx="23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78080" y="270828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1" name="woman_at_pottery_wheel_ty_CLR" descr=""/>
            <p:cNvPicPr/>
            <p:nvPr/>
          </p:nvPicPr>
          <p:blipFill>
            <a:blip r:embed="rId108"/>
            <a:stretch/>
          </p:blipFill>
          <p:spPr>
            <a:xfrm>
              <a:off x="5307120" y="2487600"/>
              <a:ext cx="350640" cy="39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"/>
          <p:cNvGrpSpPr/>
          <p:nvPr/>
        </p:nvGrpSpPr>
        <p:grpSpPr>
          <a:xfrm>
            <a:off x="4787280" y="1890720"/>
            <a:ext cx="855720" cy="549360"/>
            <a:chOff x="4787280" y="1890720"/>
            <a:chExt cx="855720" cy="549360"/>
          </a:xfrm>
        </p:grpSpPr>
        <p:sp>
          <p:nvSpPr>
            <p:cNvPr id="653" name=""/>
            <p:cNvSpPr/>
            <p:nvPr/>
          </p:nvSpPr>
          <p:spPr>
            <a:xfrm>
              <a:off x="4787280" y="189072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זיקה - הא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34760" y="205884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5" name="professor_atomic_energy_sm_CLR" descr=""/>
            <p:cNvPicPr/>
            <p:nvPr/>
          </p:nvPicPr>
          <p:blipFill>
            <a:blip r:embed="rId109"/>
            <a:stretch/>
          </p:blipFill>
          <p:spPr>
            <a:xfrm>
              <a:off x="4800600" y="2031840"/>
              <a:ext cx="55728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5163120" y="2260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091680" y="7939080"/>
            <a:ext cx="855720" cy="549360"/>
            <a:chOff x="3091680" y="7939080"/>
            <a:chExt cx="855720" cy="549360"/>
          </a:xfrm>
        </p:grpSpPr>
        <p:sp>
          <p:nvSpPr>
            <p:cNvPr id="658" name=""/>
            <p:cNvSpPr/>
            <p:nvPr/>
          </p:nvSpPr>
          <p:spPr>
            <a:xfrm>
              <a:off x="3091680" y="793908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זיקה - הא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39160" y="810720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0" name="professor_atomic_energy_sm_CLR" descr=""/>
            <p:cNvPicPr/>
            <p:nvPr/>
          </p:nvPicPr>
          <p:blipFill>
            <a:blip r:embed="rId110"/>
            <a:stretch/>
          </p:blipFill>
          <p:spPr>
            <a:xfrm>
              <a:off x="3105000" y="8080200"/>
              <a:ext cx="55728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3467520" y="830880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3095640" y="853452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5:04:02Z</dcterms:created>
  <dc:creator>--</dc:creator>
  <dc:description/>
  <dc:language>en-US</dc:language>
  <cp:lastModifiedBy>--</cp:lastModifiedBy>
  <dcterms:modified xsi:type="dcterms:W3CDTF">2003-05-23T04:49:39Z</dcterms:modified>
  <cp:revision>225</cp:revision>
  <dc:subject/>
  <dc:title>מערכת שעות</dc:title>
</cp:coreProperties>
</file>