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2.wmf" ContentType="image/x-wmf"/>
  <Override PartName="/ppt/media/image36.gif" ContentType="image/gif"/>
  <Override PartName="/ppt/media/image28.wmf" ContentType="image/x-wmf"/>
  <Override PartName="/ppt/media/image27.gif" ContentType="image/gif"/>
  <Override PartName="/ppt/media/image26.png" ContentType="image/png"/>
  <Override PartName="/ppt/media/image23.gif" ContentType="image/gif"/>
  <Override PartName="/ppt/media/image11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9.wmf" ContentType="image/x-wmf"/>
  <Override PartName="/ppt/media/image25.gif" ContentType="image/gif"/>
  <Override PartName="/ppt/media/image21.wmf" ContentType="image/x-wmf"/>
  <Override PartName="/ppt/media/image13.gif" ContentType="image/gif"/>
  <Override PartName="/ppt/media/image9.gif" ContentType="image/gif"/>
  <Override PartName="/ppt/media/image30.gif" ContentType="image/gif"/>
  <Override PartName="/ppt/media/image14.png" ContentType="image/png"/>
  <Override PartName="/ppt/media/image10.wmf" ContentType="image/x-wmf"/>
  <Override PartName="/ppt/media/image35.png" ContentType="image/png"/>
  <Override PartName="/ppt/media/image18.wmf" ContentType="image/x-wmf"/>
  <Override PartName="/ppt/media/image8.gif" ContentType="image/gi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31.wmf" ContentType="image/x-wmf"/>
  <Override PartName="/ppt/media/image5.gif" ContentType="image/gif"/>
  <Override PartName="/ppt/media/image1.wmf" ContentType="image/x-wmf"/>
  <Override PartName="/ppt/media/image24.wmf" ContentType="image/x-wmf"/>
  <Override PartName="/ppt/media/image15.png" ContentType="image/png"/>
  <Override PartName="/ppt/media/image16.gif" ContentType="image/gif"/>
  <Override PartName="/ppt/media/image20.wmf" ContentType="image/x-wmf"/>
  <Override PartName="/ppt/media/image17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34EF-48C0-43DE-8D56-3B62D4D4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B68-0D8C-43F9-A80D-0C9ED7F5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35B-1E89-4F88-9B23-A52901E5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A4F-C970-4484-8F6F-E2A620A1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AD9-1FA8-41B1-8B02-E2A384BF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AE3-A9B1-4A4A-BCAC-81CC8BC5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6C4-2242-4EA3-A2C3-A03EB02D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BE9A-4BEA-4FA1-B841-12044B52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317-3411-47C4-BF9C-971671FD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847-7661-47CA-B6F2-D63EB0F9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FEE-0BC2-4A53-9A25-5723BEC4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FAB-639C-4A37-B042-F1E004BA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1119-305C-40B1-B94E-53994D47F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5.gi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5.gif"/><Relationship Id="rId13" Type="http://schemas.openxmlformats.org/officeDocument/2006/relationships/image" Target="../media/image8.gif"/><Relationship Id="rId14" Type="http://schemas.openxmlformats.org/officeDocument/2006/relationships/image" Target="../media/image9.gif"/><Relationship Id="rId15" Type="http://schemas.openxmlformats.org/officeDocument/2006/relationships/image" Target="../media/image10.wmf"/><Relationship Id="rId16" Type="http://schemas.openxmlformats.org/officeDocument/2006/relationships/image" Target="../media/image11.wmf"/><Relationship Id="rId17" Type="http://schemas.openxmlformats.org/officeDocument/2006/relationships/image" Target="../media/image12.png"/><Relationship Id="rId18" Type="http://schemas.openxmlformats.org/officeDocument/2006/relationships/image" Target="../media/image9.gif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3.wmf"/><Relationship Id="rId22" Type="http://schemas.openxmlformats.org/officeDocument/2006/relationships/image" Target="../media/image4.wmf"/><Relationship Id="rId23" Type="http://schemas.openxmlformats.org/officeDocument/2006/relationships/image" Target="../media/image13.gif"/><Relationship Id="rId24" Type="http://schemas.openxmlformats.org/officeDocument/2006/relationships/image" Target="../media/image1.wmf"/><Relationship Id="rId25" Type="http://schemas.openxmlformats.org/officeDocument/2006/relationships/image" Target="../media/image2.wmf"/><Relationship Id="rId26" Type="http://schemas.openxmlformats.org/officeDocument/2006/relationships/image" Target="../media/image3.wmf"/><Relationship Id="rId27" Type="http://schemas.openxmlformats.org/officeDocument/2006/relationships/image" Target="../media/image4.wmf"/><Relationship Id="rId28" Type="http://schemas.openxmlformats.org/officeDocument/2006/relationships/image" Target="../media/image14.png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image" Target="../media/image3.wmf"/><Relationship Id="rId32" Type="http://schemas.openxmlformats.org/officeDocument/2006/relationships/image" Target="../media/image4.wmf"/><Relationship Id="rId33" Type="http://schemas.openxmlformats.org/officeDocument/2006/relationships/image" Target="../media/image15.png"/><Relationship Id="rId34" Type="http://schemas.openxmlformats.org/officeDocument/2006/relationships/image" Target="../media/image16.gif"/><Relationship Id="rId35" Type="http://schemas.openxmlformats.org/officeDocument/2006/relationships/image" Target="../media/image1.wmf"/><Relationship Id="rId36" Type="http://schemas.openxmlformats.org/officeDocument/2006/relationships/image" Target="../media/image2.wmf"/><Relationship Id="rId37" Type="http://schemas.openxmlformats.org/officeDocument/2006/relationships/image" Target="../media/image3.wmf"/><Relationship Id="rId38" Type="http://schemas.openxmlformats.org/officeDocument/2006/relationships/image" Target="../media/image4.wmf"/><Relationship Id="rId39" Type="http://schemas.openxmlformats.org/officeDocument/2006/relationships/image" Target="../media/image17.png"/><Relationship Id="rId40" Type="http://schemas.openxmlformats.org/officeDocument/2006/relationships/image" Target="../media/image17.png"/><Relationship Id="rId41" Type="http://schemas.openxmlformats.org/officeDocument/2006/relationships/image" Target="../media/image17.png"/><Relationship Id="rId42" Type="http://schemas.openxmlformats.org/officeDocument/2006/relationships/image" Target="../media/image1.wmf"/><Relationship Id="rId43" Type="http://schemas.openxmlformats.org/officeDocument/2006/relationships/image" Target="../media/image2.wmf"/><Relationship Id="rId44" Type="http://schemas.openxmlformats.org/officeDocument/2006/relationships/image" Target="../media/image3.wmf"/><Relationship Id="rId45" Type="http://schemas.openxmlformats.org/officeDocument/2006/relationships/image" Target="../media/image4.wmf"/><Relationship Id="rId46" Type="http://schemas.openxmlformats.org/officeDocument/2006/relationships/image" Target="../media/image14.png"/><Relationship Id="rId47" Type="http://schemas.openxmlformats.org/officeDocument/2006/relationships/image" Target="../media/image18.wmf"/><Relationship Id="rId48" Type="http://schemas.openxmlformats.org/officeDocument/2006/relationships/image" Target="../media/image19.wmf"/><Relationship Id="rId49" Type="http://schemas.openxmlformats.org/officeDocument/2006/relationships/image" Target="../media/image20.wmf"/><Relationship Id="rId50" Type="http://schemas.openxmlformats.org/officeDocument/2006/relationships/image" Target="../media/image21.wmf"/><Relationship Id="rId51" Type="http://schemas.openxmlformats.org/officeDocument/2006/relationships/image" Target="../media/image12.png"/><Relationship Id="rId52" Type="http://schemas.openxmlformats.org/officeDocument/2006/relationships/image" Target="../media/image17.png"/><Relationship Id="rId53" Type="http://schemas.openxmlformats.org/officeDocument/2006/relationships/image" Target="../media/image12.png"/><Relationship Id="rId54" Type="http://schemas.openxmlformats.org/officeDocument/2006/relationships/image" Target="../media/image22.png"/><Relationship Id="rId55" Type="http://schemas.openxmlformats.org/officeDocument/2006/relationships/image" Target="../media/image18.wmf"/><Relationship Id="rId56" Type="http://schemas.openxmlformats.org/officeDocument/2006/relationships/image" Target="../media/image19.wmf"/><Relationship Id="rId57" Type="http://schemas.openxmlformats.org/officeDocument/2006/relationships/image" Target="../media/image10.wmf"/><Relationship Id="rId58" Type="http://schemas.openxmlformats.org/officeDocument/2006/relationships/image" Target="../media/image11.wmf"/><Relationship Id="rId59" Type="http://schemas.openxmlformats.org/officeDocument/2006/relationships/image" Target="../media/image23.gif"/><Relationship Id="rId60" Type="http://schemas.openxmlformats.org/officeDocument/2006/relationships/image" Target="../media/image23.gif"/><Relationship Id="rId61" Type="http://schemas.openxmlformats.org/officeDocument/2006/relationships/image" Target="../media/image24.wmf"/><Relationship Id="rId62" Type="http://schemas.openxmlformats.org/officeDocument/2006/relationships/image" Target="../media/image24.wmf"/><Relationship Id="rId63" Type="http://schemas.openxmlformats.org/officeDocument/2006/relationships/image" Target="../media/image14.png"/><Relationship Id="rId64" Type="http://schemas.openxmlformats.org/officeDocument/2006/relationships/image" Target="../media/image14.png"/><Relationship Id="rId65" Type="http://schemas.openxmlformats.org/officeDocument/2006/relationships/image" Target="../media/image25.gif"/><Relationship Id="rId66" Type="http://schemas.openxmlformats.org/officeDocument/2006/relationships/image" Target="../media/image25.gif"/><Relationship Id="rId67" Type="http://schemas.openxmlformats.org/officeDocument/2006/relationships/image" Target="../media/image14.png"/><Relationship Id="rId68" Type="http://schemas.openxmlformats.org/officeDocument/2006/relationships/image" Target="../media/image26.png"/><Relationship Id="rId69" Type="http://schemas.openxmlformats.org/officeDocument/2006/relationships/image" Target="../media/image26.png"/><Relationship Id="rId70" Type="http://schemas.openxmlformats.org/officeDocument/2006/relationships/image" Target="../media/image12.png"/><Relationship Id="rId71" Type="http://schemas.openxmlformats.org/officeDocument/2006/relationships/image" Target="../media/image20.wmf"/><Relationship Id="rId72" Type="http://schemas.openxmlformats.org/officeDocument/2006/relationships/image" Target="../media/image21.wmf"/><Relationship Id="rId73" Type="http://schemas.openxmlformats.org/officeDocument/2006/relationships/image" Target="../media/image26.png"/><Relationship Id="rId74" Type="http://schemas.openxmlformats.org/officeDocument/2006/relationships/image" Target="../media/image26.png"/><Relationship Id="rId75" Type="http://schemas.openxmlformats.org/officeDocument/2006/relationships/image" Target="../media/image26.png"/><Relationship Id="rId76" Type="http://schemas.openxmlformats.org/officeDocument/2006/relationships/image" Target="../media/image26.png"/><Relationship Id="rId7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28.wmf"/><Relationship Id="rId9" Type="http://schemas.openxmlformats.org/officeDocument/2006/relationships/image" Target="../media/image24.wmf"/><Relationship Id="rId10" Type="http://schemas.openxmlformats.org/officeDocument/2006/relationships/image" Target="../media/image1.wmf"/><Relationship Id="rId11" Type="http://schemas.openxmlformats.org/officeDocument/2006/relationships/image" Target="../media/image2.wmf"/><Relationship Id="rId12" Type="http://schemas.openxmlformats.org/officeDocument/2006/relationships/image" Target="../media/image3.wmf"/><Relationship Id="rId13" Type="http://schemas.openxmlformats.org/officeDocument/2006/relationships/image" Target="../media/image4.wmf"/><Relationship Id="rId14" Type="http://schemas.openxmlformats.org/officeDocument/2006/relationships/image" Target="../media/image28.wmf"/><Relationship Id="rId15" Type="http://schemas.openxmlformats.org/officeDocument/2006/relationships/image" Target="../media/image24.wmf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29.png"/><Relationship Id="rId19" Type="http://schemas.openxmlformats.org/officeDocument/2006/relationships/image" Target="../media/image28.wmf"/><Relationship Id="rId20" Type="http://schemas.openxmlformats.org/officeDocument/2006/relationships/image" Target="../media/image24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3.wmf"/><Relationship Id="rId24" Type="http://schemas.openxmlformats.org/officeDocument/2006/relationships/image" Target="../media/image4.wmf"/><Relationship Id="rId25" Type="http://schemas.openxmlformats.org/officeDocument/2006/relationships/image" Target="../media/image14.png"/><Relationship Id="rId26" Type="http://schemas.openxmlformats.org/officeDocument/2006/relationships/image" Target="../media/image29.png"/><Relationship Id="rId27" Type="http://schemas.openxmlformats.org/officeDocument/2006/relationships/image" Target="../media/image30.gif"/><Relationship Id="rId28" Type="http://schemas.openxmlformats.org/officeDocument/2006/relationships/image" Target="../media/image28.wmf"/><Relationship Id="rId29" Type="http://schemas.openxmlformats.org/officeDocument/2006/relationships/image" Target="../media/image24.wmf"/><Relationship Id="rId30" Type="http://schemas.openxmlformats.org/officeDocument/2006/relationships/image" Target="../media/image31.wmf"/><Relationship Id="rId31" Type="http://schemas.openxmlformats.org/officeDocument/2006/relationships/image" Target="../media/image32.wmf"/><Relationship Id="rId32" Type="http://schemas.openxmlformats.org/officeDocument/2006/relationships/image" Target="../media/image33.wmf"/><Relationship Id="rId33" Type="http://schemas.openxmlformats.org/officeDocument/2006/relationships/image" Target="../media/image34.wmf"/><Relationship Id="rId34" Type="http://schemas.openxmlformats.org/officeDocument/2006/relationships/image" Target="../media/image28.wmf"/><Relationship Id="rId35" Type="http://schemas.openxmlformats.org/officeDocument/2006/relationships/image" Target="../media/image24.wmf"/><Relationship Id="rId36" Type="http://schemas.openxmlformats.org/officeDocument/2006/relationships/image" Target="../media/image30.gif"/><Relationship Id="rId37" Type="http://schemas.openxmlformats.org/officeDocument/2006/relationships/image" Target="../media/image33.wmf"/><Relationship Id="rId38" Type="http://schemas.openxmlformats.org/officeDocument/2006/relationships/image" Target="../media/image34.wmf"/><Relationship Id="rId39" Type="http://schemas.openxmlformats.org/officeDocument/2006/relationships/image" Target="../media/image28.wmf"/><Relationship Id="rId40" Type="http://schemas.openxmlformats.org/officeDocument/2006/relationships/image" Target="../media/image24.wmf"/><Relationship Id="rId41" Type="http://schemas.openxmlformats.org/officeDocument/2006/relationships/image" Target="../media/image30.gif"/><Relationship Id="rId42" Type="http://schemas.openxmlformats.org/officeDocument/2006/relationships/image" Target="../media/image15.png"/><Relationship Id="rId43" Type="http://schemas.openxmlformats.org/officeDocument/2006/relationships/image" Target="../media/image35.png"/><Relationship Id="rId44" Type="http://schemas.openxmlformats.org/officeDocument/2006/relationships/image" Target="../media/image36.gif"/><Relationship Id="rId45" Type="http://schemas.openxmlformats.org/officeDocument/2006/relationships/image" Target="../media/image35.png"/><Relationship Id="rId46" Type="http://schemas.openxmlformats.org/officeDocument/2006/relationships/image" Target="../media/image27.gif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7360" y="289080"/>
          <a:ext cx="8388360" cy="6222960"/>
        </p:xfrm>
        <a:graphic>
          <a:graphicData uri="http://schemas.openxmlformats.org/drawingml/2006/table">
            <a:tbl>
              <a:tblPr/>
              <a:tblGrid>
                <a:gridCol w="2298600"/>
                <a:gridCol w="2276640"/>
                <a:gridCol w="2282760"/>
                <a:gridCol w="153036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" name=""/>
          <p:cNvGrpSpPr/>
          <p:nvPr/>
        </p:nvGrpSpPr>
        <p:grpSpPr>
          <a:xfrm>
            <a:off x="6220080" y="3637080"/>
            <a:ext cx="901440" cy="754920"/>
            <a:chOff x="6220080" y="3637080"/>
            <a:chExt cx="901440" cy="754920"/>
          </a:xfrm>
        </p:grpSpPr>
        <p:sp>
          <p:nvSpPr>
            <p:cNvPr id="43" name=""/>
            <p:cNvSpPr/>
            <p:nvPr/>
          </p:nvSpPr>
          <p:spPr>
            <a:xfrm>
              <a:off x="6789240" y="383688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20080" y="363708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6546960" y="3838320"/>
              <a:ext cx="191880" cy="226440"/>
              <a:chOff x="6546960" y="3838320"/>
              <a:chExt cx="191880" cy="226440"/>
            </a:xfrm>
          </p:grpSpPr>
          <p:pic>
            <p:nvPicPr>
              <p:cNvPr id="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546960" y="383832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546960" y="383832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" name=""/>
            <p:cNvGrpSpPr/>
            <p:nvPr/>
          </p:nvGrpSpPr>
          <p:grpSpPr>
            <a:xfrm>
              <a:off x="6297480" y="3827520"/>
              <a:ext cx="199800" cy="246600"/>
              <a:chOff x="6297480" y="3827520"/>
              <a:chExt cx="199800" cy="246600"/>
            </a:xfrm>
          </p:grpSpPr>
          <p:pic>
            <p:nvPicPr>
              <p:cNvPr id="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297480" y="382752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297480" y="382752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"/>
            <p:cNvSpPr/>
            <p:nvPr/>
          </p:nvSpPr>
          <p:spPr>
            <a:xfrm>
              <a:off x="6527160" y="40590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79840" y="41608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5210280" y="4334040"/>
            <a:ext cx="792000" cy="21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חני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05600" y="4334040"/>
            <a:ext cx="792000" cy="21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114800" y="3633840"/>
            <a:ext cx="877680" cy="592920"/>
            <a:chOff x="4114800" y="3633840"/>
            <a:chExt cx="877680" cy="592920"/>
          </a:xfrm>
        </p:grpSpPr>
        <p:grpSp>
          <p:nvGrpSpPr>
            <p:cNvPr id="56" name=""/>
            <p:cNvGrpSpPr/>
            <p:nvPr/>
          </p:nvGrpSpPr>
          <p:grpSpPr>
            <a:xfrm>
              <a:off x="4114800" y="3724200"/>
              <a:ext cx="361440" cy="332640"/>
              <a:chOff x="4114800" y="3724200"/>
              <a:chExt cx="361440" cy="332640"/>
            </a:xfrm>
          </p:grpSpPr>
          <p:sp>
            <p:nvSpPr>
              <p:cNvPr id="57" name=""/>
              <p:cNvSpPr/>
              <p:nvPr/>
            </p:nvSpPr>
            <p:spPr>
              <a:xfrm>
                <a:off x="4114800" y="37242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295520" y="37242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114800" y="38905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295520" y="38905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4528080" y="377028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85320" y="389700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86320" y="363384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53560" y="399564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791080" y="3665520"/>
            <a:ext cx="926640" cy="612000"/>
            <a:chOff x="2791080" y="3665520"/>
            <a:chExt cx="926640" cy="612000"/>
          </a:xfrm>
        </p:grpSpPr>
        <p:sp>
          <p:nvSpPr>
            <p:cNvPr id="66" name=""/>
            <p:cNvSpPr/>
            <p:nvPr/>
          </p:nvSpPr>
          <p:spPr>
            <a:xfrm>
              <a:off x="3340440" y="3855960"/>
              <a:ext cx="37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91080" y="366552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117960" y="3886200"/>
              <a:ext cx="192240" cy="226440"/>
              <a:chOff x="3117960" y="3886200"/>
              <a:chExt cx="192240" cy="226440"/>
            </a:xfrm>
          </p:grpSpPr>
          <p:pic>
            <p:nvPicPr>
              <p:cNvPr id="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17960" y="388620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117960" y="388620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" name=""/>
            <p:cNvGrpSpPr/>
            <p:nvPr/>
          </p:nvGrpSpPr>
          <p:grpSpPr>
            <a:xfrm>
              <a:off x="2868840" y="3875040"/>
              <a:ext cx="199800" cy="247320"/>
              <a:chOff x="2868840" y="3875040"/>
              <a:chExt cx="199800" cy="247320"/>
            </a:xfrm>
          </p:grpSpPr>
          <p:pic>
            <p:nvPicPr>
              <p:cNvPr id="7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868840" y="38750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868840" y="38750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" name=""/>
            <p:cNvSpPr/>
            <p:nvPr/>
          </p:nvSpPr>
          <p:spPr>
            <a:xfrm>
              <a:off x="3384000" y="39542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89360" y="40464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733840" y="4324320"/>
            <a:ext cx="79200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1040" y="4305240"/>
            <a:ext cx="79200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חני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60600" y="4297320"/>
            <a:ext cx="79200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דורית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24160" y="434880"/>
            <a:ext cx="37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אשון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78480" y="43488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נ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75480" y="453960"/>
            <a:ext cx="39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ל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19080"/>
            <a:ext cx="339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ג' תשס"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43880" y="400680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40-11: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82040" y="4950000"/>
            <a:ext cx="76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30-11: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33960" y="5267160"/>
            <a:ext cx="79200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חני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914640" y="4871880"/>
            <a:ext cx="1056600" cy="478800"/>
            <a:chOff x="3914640" y="4871880"/>
            <a:chExt cx="1056600" cy="478800"/>
          </a:xfrm>
        </p:grpSpPr>
        <p:grpSp>
          <p:nvGrpSpPr>
            <p:cNvPr id="87" name=""/>
            <p:cNvGrpSpPr/>
            <p:nvPr/>
          </p:nvGrpSpPr>
          <p:grpSpPr>
            <a:xfrm>
              <a:off x="3914640" y="4905360"/>
              <a:ext cx="361440" cy="332640"/>
              <a:chOff x="3914640" y="4905360"/>
              <a:chExt cx="361440" cy="332640"/>
            </a:xfrm>
          </p:grpSpPr>
          <p:sp>
            <p:nvSpPr>
              <p:cNvPr id="88" name=""/>
              <p:cNvSpPr/>
              <p:nvPr/>
            </p:nvSpPr>
            <p:spPr>
              <a:xfrm>
                <a:off x="3914640" y="49053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95360" y="49053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914640" y="50716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95360" y="50716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4442040" y="499896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61280" y="513540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81200" y="487188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96160" y="511956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590840" y="4754520"/>
            <a:ext cx="944640" cy="704880"/>
            <a:chOff x="1590840" y="4754520"/>
            <a:chExt cx="944640" cy="704880"/>
          </a:xfrm>
        </p:grpSpPr>
        <p:sp>
          <p:nvSpPr>
            <p:cNvPr id="97" name=""/>
            <p:cNvSpPr/>
            <p:nvPr/>
          </p:nvSpPr>
          <p:spPr>
            <a:xfrm>
              <a:off x="1679760" y="4754520"/>
              <a:ext cx="855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קרמ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20040" y="49323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53800" y="513396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30400" y="529596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woman_at_pottery_wheel_ty_CLR_Horiz" descr=""/>
            <p:cNvPicPr/>
            <p:nvPr/>
          </p:nvPicPr>
          <p:blipFill>
            <a:blip r:embed="rId9"/>
            <a:stretch/>
          </p:blipFill>
          <p:spPr>
            <a:xfrm>
              <a:off x="1590840" y="4900680"/>
              <a:ext cx="493560" cy="55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7662960" y="59180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3:20-12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067280" y="5657760"/>
            <a:ext cx="809640" cy="707400"/>
            <a:chOff x="4067280" y="5657760"/>
            <a:chExt cx="809640" cy="707400"/>
          </a:xfrm>
        </p:grpSpPr>
        <p:grpSp>
          <p:nvGrpSpPr>
            <p:cNvPr id="104" name=""/>
            <p:cNvGrpSpPr/>
            <p:nvPr/>
          </p:nvGrpSpPr>
          <p:grpSpPr>
            <a:xfrm>
              <a:off x="4067280" y="5748480"/>
              <a:ext cx="361440" cy="332640"/>
              <a:chOff x="4067280" y="5748480"/>
              <a:chExt cx="361440" cy="332640"/>
            </a:xfrm>
          </p:grpSpPr>
          <p:sp>
            <p:nvSpPr>
              <p:cNvPr id="105" name=""/>
              <p:cNvSpPr/>
              <p:nvPr/>
            </p:nvSpPr>
            <p:spPr>
              <a:xfrm>
                <a:off x="4067280" y="57484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48000" y="57484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067280" y="59148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48000" y="59148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4507200" y="5851440"/>
              <a:ext cx="36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47360" y="604512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57520" y="565776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960" y="613404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760400" y="5568840"/>
            <a:ext cx="931680" cy="558360"/>
            <a:chOff x="1760400" y="5568840"/>
            <a:chExt cx="931680" cy="558360"/>
          </a:xfrm>
        </p:grpSpPr>
        <p:sp>
          <p:nvSpPr>
            <p:cNvPr id="114" name=""/>
            <p:cNvSpPr/>
            <p:nvPr/>
          </p:nvSpPr>
          <p:spPr>
            <a:xfrm>
              <a:off x="2139120" y="5568840"/>
              <a:ext cx="50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יאטר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760400" y="5622840"/>
              <a:ext cx="304560" cy="329760"/>
              <a:chOff x="1760400" y="5622840"/>
              <a:chExt cx="304560" cy="329760"/>
            </a:xfrm>
          </p:grpSpPr>
          <p:pic>
            <p:nvPicPr>
              <p:cNvPr id="11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760400" y="562284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760400" y="562284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2044800" y="5675400"/>
              <a:ext cx="59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05200" y="5794200"/>
              <a:ext cx="441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עמי ס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67600" y="5896080"/>
              <a:ext cx="924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כריות בגן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84120" y="5540400"/>
            <a:ext cx="944640" cy="704880"/>
            <a:chOff x="384120" y="5540400"/>
            <a:chExt cx="944640" cy="704880"/>
          </a:xfrm>
        </p:grpSpPr>
        <p:sp>
          <p:nvSpPr>
            <p:cNvPr id="122" name=""/>
            <p:cNvSpPr/>
            <p:nvPr/>
          </p:nvSpPr>
          <p:spPr>
            <a:xfrm>
              <a:off x="473040" y="5540400"/>
              <a:ext cx="855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קרמ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13320" y="571824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7080" y="591984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3680" y="60818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woman_at_pottery_wheel_ty_CLR_Horiz" descr=""/>
            <p:cNvPicPr/>
            <p:nvPr/>
          </p:nvPicPr>
          <p:blipFill>
            <a:blip r:embed="rId12"/>
            <a:stretch/>
          </p:blipFill>
          <p:spPr>
            <a:xfrm>
              <a:off x="384120" y="5686560"/>
              <a:ext cx="493560" cy="55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>
            <a:off x="7682040" y="115884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929120" y="782640"/>
            <a:ext cx="952560" cy="805680"/>
            <a:chOff x="4929120" y="782640"/>
            <a:chExt cx="952560" cy="805680"/>
          </a:xfrm>
        </p:grpSpPr>
        <p:pic>
          <p:nvPicPr>
            <p:cNvPr id="129" name="girl_playing_ukulele_ty_CLR" descr=""/>
            <p:cNvPicPr/>
            <p:nvPr/>
          </p:nvPicPr>
          <p:blipFill>
            <a:blip r:embed="rId13"/>
            <a:stretch/>
          </p:blipFill>
          <p:spPr>
            <a:xfrm>
              <a:off x="4929120" y="817200"/>
              <a:ext cx="38880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249880" y="782640"/>
              <a:ext cx="631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 ע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וס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2120" y="1112760"/>
              <a:ext cx="60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ב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17200" y="12682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11560" y="13572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646360" y="760320"/>
            <a:ext cx="924120" cy="705600"/>
            <a:chOff x="2646360" y="760320"/>
            <a:chExt cx="924120" cy="705600"/>
          </a:xfrm>
        </p:grpSpPr>
        <p:sp>
          <p:nvSpPr>
            <p:cNvPr id="135" name=""/>
            <p:cNvSpPr/>
            <p:nvPr/>
          </p:nvSpPr>
          <p:spPr>
            <a:xfrm>
              <a:off x="3183480" y="96984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0920" y="114444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ז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52880" y="776160"/>
              <a:ext cx="4046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יא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germ_squishing_around_ty_CLR" descr=""/>
            <p:cNvPicPr/>
            <p:nvPr/>
          </p:nvPicPr>
          <p:blipFill>
            <a:blip r:embed="rId14"/>
            <a:stretch/>
          </p:blipFill>
          <p:spPr>
            <a:xfrm>
              <a:off x="2646360" y="76032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763360" y="12348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682040" y="209232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00-9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070600" y="3654360"/>
            <a:ext cx="923040" cy="620280"/>
            <a:chOff x="5070600" y="3654360"/>
            <a:chExt cx="923040" cy="620280"/>
          </a:xfrm>
        </p:grpSpPr>
        <p:pic>
          <p:nvPicPr>
            <p:cNvPr id="142" name="" descr=""/>
            <p:cNvPicPr/>
            <p:nvPr/>
          </p:nvPicPr>
          <p:blipFill>
            <a:blip r:embed="rId15"/>
            <a:stretch/>
          </p:blipFill>
          <p:spPr>
            <a:xfrm>
              <a:off x="5508720" y="370836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16"/>
            <a:stretch/>
          </p:blipFill>
          <p:spPr>
            <a:xfrm>
              <a:off x="5070600" y="3765600"/>
              <a:ext cx="39024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392440" y="382572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59480" y="39546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59400" y="3654360"/>
              <a:ext cx="411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80720" y="4137120"/>
              <a:ext cx="26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???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186080" y="1728720"/>
            <a:ext cx="873000" cy="650160"/>
            <a:chOff x="4186080" y="1728720"/>
            <a:chExt cx="873000" cy="650160"/>
          </a:xfrm>
        </p:grpSpPr>
        <p:sp>
          <p:nvSpPr>
            <p:cNvPr id="149" name=""/>
            <p:cNvSpPr/>
            <p:nvPr/>
          </p:nvSpPr>
          <p:spPr>
            <a:xfrm>
              <a:off x="4616280" y="1728720"/>
              <a:ext cx="247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ג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55080" y="1874880"/>
              <a:ext cx="38160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26000" y="205884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yoga" descr=""/>
            <p:cNvPicPr/>
            <p:nvPr/>
          </p:nvPicPr>
          <p:blipFill>
            <a:blip r:embed="rId17"/>
            <a:stretch/>
          </p:blipFill>
          <p:spPr>
            <a:xfrm>
              <a:off x="4186080" y="1790640"/>
              <a:ext cx="4618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20160" y="214776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637000" y="1703520"/>
            <a:ext cx="1219320" cy="593640"/>
            <a:chOff x="2637000" y="1703520"/>
            <a:chExt cx="1219320" cy="593640"/>
          </a:xfrm>
        </p:grpSpPr>
        <p:sp>
          <p:nvSpPr>
            <p:cNvPr id="155" name=""/>
            <p:cNvSpPr/>
            <p:nvPr/>
          </p:nvSpPr>
          <p:spPr>
            <a:xfrm>
              <a:off x="3137040" y="1874880"/>
              <a:ext cx="597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68960" y="196380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ז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14520" y="1719360"/>
              <a:ext cx="4046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יא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germ_squishing_around_ty_CLR" descr=""/>
            <p:cNvPicPr/>
            <p:nvPr/>
          </p:nvPicPr>
          <p:blipFill>
            <a:blip r:embed="rId18"/>
            <a:stretch/>
          </p:blipFill>
          <p:spPr>
            <a:xfrm>
              <a:off x="2637000" y="1703520"/>
              <a:ext cx="59328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049200" y="20541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843200" y="1747800"/>
            <a:ext cx="896400" cy="612000"/>
            <a:chOff x="1843200" y="1747800"/>
            <a:chExt cx="896400" cy="612000"/>
          </a:xfrm>
        </p:grpSpPr>
        <p:sp>
          <p:nvSpPr>
            <p:cNvPr id="161" name=""/>
            <p:cNvSpPr/>
            <p:nvPr/>
          </p:nvSpPr>
          <p:spPr>
            <a:xfrm>
              <a:off x="2295720" y="1928520"/>
              <a:ext cx="37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72000" y="174780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092320" y="1958760"/>
              <a:ext cx="192240" cy="226800"/>
              <a:chOff x="2092320" y="1958760"/>
              <a:chExt cx="192240" cy="226800"/>
            </a:xfrm>
          </p:grpSpPr>
          <p:pic>
            <p:nvPicPr>
              <p:cNvPr id="16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2092320" y="195876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2092320" y="195876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" name=""/>
            <p:cNvGrpSpPr/>
            <p:nvPr/>
          </p:nvGrpSpPr>
          <p:grpSpPr>
            <a:xfrm>
              <a:off x="1843200" y="1947600"/>
              <a:ext cx="199800" cy="247320"/>
              <a:chOff x="1843200" y="1947600"/>
              <a:chExt cx="199800" cy="247320"/>
            </a:xfrm>
          </p:grpSpPr>
          <p:pic>
            <p:nvPicPr>
              <p:cNvPr id="16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843200" y="19476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1843200" y="19476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" name=""/>
            <p:cNvSpPr/>
            <p:nvPr/>
          </p:nvSpPr>
          <p:spPr>
            <a:xfrm>
              <a:off x="2358360" y="20271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00680" y="212868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76200" y="2062080"/>
            <a:ext cx="1084680" cy="678960"/>
            <a:chOff x="376200" y="2062080"/>
            <a:chExt cx="1084680" cy="678960"/>
          </a:xfrm>
        </p:grpSpPr>
        <p:sp>
          <p:nvSpPr>
            <p:cNvPr id="172" name=""/>
            <p:cNvSpPr/>
            <p:nvPr/>
          </p:nvSpPr>
          <p:spPr>
            <a:xfrm>
              <a:off x="742320" y="2328840"/>
              <a:ext cx="574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9240" y="2062080"/>
              <a:ext cx="825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 ש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מי הבינ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94240" y="240804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נת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3760" y="25099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damsel_rescuing_knight_ty_CLR" descr=""/>
            <p:cNvPicPr/>
            <p:nvPr/>
          </p:nvPicPr>
          <p:blipFill>
            <a:blip r:embed="rId23"/>
            <a:stretch/>
          </p:blipFill>
          <p:spPr>
            <a:xfrm>
              <a:off x="376200" y="2146320"/>
              <a:ext cx="436680" cy="55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7634160" y="305100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50-10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027760" y="2684520"/>
            <a:ext cx="901440" cy="754920"/>
            <a:chOff x="5027760" y="2684520"/>
            <a:chExt cx="901440" cy="754920"/>
          </a:xfrm>
        </p:grpSpPr>
        <p:sp>
          <p:nvSpPr>
            <p:cNvPr id="179" name=""/>
            <p:cNvSpPr/>
            <p:nvPr/>
          </p:nvSpPr>
          <p:spPr>
            <a:xfrm>
              <a:off x="5596920" y="288432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27760" y="268452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54640" y="2885760"/>
              <a:ext cx="191880" cy="226440"/>
              <a:chOff x="5354640" y="2885760"/>
              <a:chExt cx="191880" cy="226440"/>
            </a:xfrm>
          </p:grpSpPr>
          <p:pic>
            <p:nvPicPr>
              <p:cNvPr id="182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354640" y="28857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354640" y="28857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4" name=""/>
            <p:cNvGrpSpPr/>
            <p:nvPr/>
          </p:nvGrpSpPr>
          <p:grpSpPr>
            <a:xfrm>
              <a:off x="5105160" y="2874960"/>
              <a:ext cx="199800" cy="246600"/>
              <a:chOff x="5105160" y="2874960"/>
              <a:chExt cx="199800" cy="246600"/>
            </a:xfrm>
          </p:grpSpPr>
          <p:pic>
            <p:nvPicPr>
              <p:cNvPr id="185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5105160" y="287496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5105160" y="287496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7" name=""/>
            <p:cNvSpPr/>
            <p:nvPr/>
          </p:nvSpPr>
          <p:spPr>
            <a:xfrm>
              <a:off x="5334840" y="31064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87520" y="32083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329520" y="2693880"/>
            <a:ext cx="833040" cy="717120"/>
            <a:chOff x="6329520" y="2693880"/>
            <a:chExt cx="833040" cy="717120"/>
          </a:xfrm>
        </p:grpSpPr>
        <p:sp>
          <p:nvSpPr>
            <p:cNvPr id="190" name=""/>
            <p:cNvSpPr/>
            <p:nvPr/>
          </p:nvSpPr>
          <p:spPr>
            <a:xfrm>
              <a:off x="6334200" y="269388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80960" y="29001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33800" y="312732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" name="mh2l_p" descr=""/>
            <p:cNvPicPr/>
            <p:nvPr/>
          </p:nvPicPr>
          <p:blipFill>
            <a:blip r:embed="rId28"/>
            <a:stretch/>
          </p:blipFill>
          <p:spPr>
            <a:xfrm>
              <a:off x="6329520" y="283680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6669360" y="32734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714760" y="2676600"/>
            <a:ext cx="1225440" cy="469080"/>
            <a:chOff x="2714760" y="2676600"/>
            <a:chExt cx="1225440" cy="469080"/>
          </a:xfrm>
        </p:grpSpPr>
        <p:sp>
          <p:nvSpPr>
            <p:cNvPr id="196" name=""/>
            <p:cNvSpPr/>
            <p:nvPr/>
          </p:nvSpPr>
          <p:spPr>
            <a:xfrm>
              <a:off x="3570480" y="2867040"/>
              <a:ext cx="36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24280" y="267660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2963880" y="2840040"/>
              <a:ext cx="191880" cy="226080"/>
              <a:chOff x="2963880" y="2840040"/>
              <a:chExt cx="191880" cy="226080"/>
            </a:xfrm>
          </p:grpSpPr>
          <p:pic>
            <p:nvPicPr>
              <p:cNvPr id="199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963880" y="2840040"/>
                <a:ext cx="19188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2963880" y="2840040"/>
                <a:ext cx="191880" cy="226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1" name=""/>
            <p:cNvGrpSpPr/>
            <p:nvPr/>
          </p:nvGrpSpPr>
          <p:grpSpPr>
            <a:xfrm>
              <a:off x="2714760" y="2828880"/>
              <a:ext cx="199800" cy="246960"/>
              <a:chOff x="2714760" y="2828880"/>
              <a:chExt cx="199800" cy="246960"/>
            </a:xfrm>
          </p:grpSpPr>
          <p:pic>
            <p:nvPicPr>
              <p:cNvPr id="202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2714760" y="282888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2714760" y="282888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4" name=""/>
            <p:cNvSpPr/>
            <p:nvPr/>
          </p:nvSpPr>
          <p:spPr>
            <a:xfrm>
              <a:off x="3144240" y="2822400"/>
              <a:ext cx="41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9200" y="29145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722680" y="3089160"/>
            <a:ext cx="787680" cy="536760"/>
            <a:chOff x="2722680" y="3089160"/>
            <a:chExt cx="787680" cy="536760"/>
          </a:xfrm>
        </p:grpSpPr>
        <p:sp>
          <p:nvSpPr>
            <p:cNvPr id="207" name=""/>
            <p:cNvSpPr/>
            <p:nvPr/>
          </p:nvSpPr>
          <p:spPr>
            <a:xfrm>
              <a:off x="3168360" y="3210120"/>
              <a:ext cx="342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06440" y="3095640"/>
              <a:ext cx="302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&amp;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70800" y="341316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נת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0" name="dragon_blowing_fire_sm_CLR" descr=""/>
            <p:cNvPicPr/>
            <p:nvPr/>
          </p:nvPicPr>
          <p:blipFill>
            <a:blip r:embed="rId33"/>
            <a:stretch/>
          </p:blipFill>
          <p:spPr>
            <a:xfrm>
              <a:off x="2722680" y="3089160"/>
              <a:ext cx="479160" cy="53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"/>
          <p:cNvGrpSpPr/>
          <p:nvPr/>
        </p:nvGrpSpPr>
        <p:grpSpPr>
          <a:xfrm>
            <a:off x="4067280" y="2671920"/>
            <a:ext cx="896760" cy="583560"/>
            <a:chOff x="4067280" y="2671920"/>
            <a:chExt cx="896760" cy="583560"/>
          </a:xfrm>
        </p:grpSpPr>
        <p:grpSp>
          <p:nvGrpSpPr>
            <p:cNvPr id="212" name=""/>
            <p:cNvGrpSpPr/>
            <p:nvPr/>
          </p:nvGrpSpPr>
          <p:grpSpPr>
            <a:xfrm>
              <a:off x="4067280" y="2781360"/>
              <a:ext cx="361440" cy="332640"/>
              <a:chOff x="4067280" y="2781360"/>
              <a:chExt cx="361440" cy="332640"/>
            </a:xfrm>
          </p:grpSpPr>
          <p:sp>
            <p:nvSpPr>
              <p:cNvPr id="213" name=""/>
              <p:cNvSpPr/>
              <p:nvPr/>
            </p:nvSpPr>
            <p:spPr>
              <a:xfrm>
                <a:off x="4067280" y="27813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248000" y="27813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067280" y="29476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48000" y="29476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461120" y="279864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47160" y="292572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00640" y="267192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25120" y="302436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38120" y="3346560"/>
            <a:ext cx="792360" cy="21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חני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623600" y="2719440"/>
            <a:ext cx="946800" cy="872280"/>
            <a:chOff x="1623600" y="2719440"/>
            <a:chExt cx="946800" cy="872280"/>
          </a:xfrm>
        </p:grpSpPr>
        <p:sp>
          <p:nvSpPr>
            <p:cNvPr id="223" name=""/>
            <p:cNvSpPr/>
            <p:nvPr/>
          </p:nvSpPr>
          <p:spPr>
            <a:xfrm>
              <a:off x="1623600" y="2719440"/>
              <a:ext cx="92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ת מוס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400" y="2896920"/>
              <a:ext cx="342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30760" y="32716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91080" y="336060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7" name="music_staff_md_CLR" descr=""/>
            <p:cNvPicPr/>
            <p:nvPr/>
          </p:nvPicPr>
          <p:blipFill>
            <a:blip r:embed="rId34"/>
            <a:stretch/>
          </p:blipFill>
          <p:spPr>
            <a:xfrm>
              <a:off x="1676160" y="2879640"/>
              <a:ext cx="514440" cy="41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"/>
          <p:cNvGrpSpPr/>
          <p:nvPr/>
        </p:nvGrpSpPr>
        <p:grpSpPr>
          <a:xfrm>
            <a:off x="557280" y="2724120"/>
            <a:ext cx="1027800" cy="602640"/>
            <a:chOff x="557280" y="2724120"/>
            <a:chExt cx="1027800" cy="602640"/>
          </a:xfrm>
        </p:grpSpPr>
        <p:sp>
          <p:nvSpPr>
            <p:cNvPr id="229" name=""/>
            <p:cNvSpPr/>
            <p:nvPr/>
          </p:nvSpPr>
          <p:spPr>
            <a:xfrm>
              <a:off x="1003680" y="2905200"/>
              <a:ext cx="36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5800" y="272412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806760" y="2906640"/>
              <a:ext cx="191880" cy="226800"/>
              <a:chOff x="806760" y="2906640"/>
              <a:chExt cx="191880" cy="226800"/>
            </a:xfrm>
          </p:grpSpPr>
          <p:pic>
            <p:nvPicPr>
              <p:cNvPr id="23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806760" y="290664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806760" y="290664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" name=""/>
            <p:cNvGrpSpPr/>
            <p:nvPr/>
          </p:nvGrpSpPr>
          <p:grpSpPr>
            <a:xfrm>
              <a:off x="557280" y="2895480"/>
              <a:ext cx="199800" cy="247320"/>
              <a:chOff x="557280" y="2895480"/>
              <a:chExt cx="199800" cy="247320"/>
            </a:xfrm>
          </p:grpSpPr>
          <p:pic>
            <p:nvPicPr>
              <p:cNvPr id="235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557280" y="28954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557280" y="28954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7" name=""/>
            <p:cNvSpPr/>
            <p:nvPr/>
          </p:nvSpPr>
          <p:spPr>
            <a:xfrm>
              <a:off x="1053720" y="29941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7960" y="30956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796000" y="3255840"/>
            <a:ext cx="777600" cy="369360"/>
            <a:chOff x="5796000" y="3255840"/>
            <a:chExt cx="777600" cy="369360"/>
          </a:xfrm>
        </p:grpSpPr>
        <p:pic>
          <p:nvPicPr>
            <p:cNvPr id="240" name="piano_short" descr=""/>
            <p:cNvPicPr/>
            <p:nvPr/>
          </p:nvPicPr>
          <p:blipFill>
            <a:blip r:embed="rId39"/>
            <a:srcRect l="50084" t="0" r="0" b="0"/>
            <a:stretch/>
          </p:blipFill>
          <p:spPr>
            <a:xfrm>
              <a:off x="5848200" y="3255840"/>
              <a:ext cx="64008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082200" y="345600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ג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6000" y="3457440"/>
              <a:ext cx="282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148360" y="5803920"/>
            <a:ext cx="777240" cy="412200"/>
            <a:chOff x="5148360" y="5803920"/>
            <a:chExt cx="777240" cy="412200"/>
          </a:xfrm>
        </p:grpSpPr>
        <p:pic>
          <p:nvPicPr>
            <p:cNvPr id="244" name="piano_short" descr=""/>
            <p:cNvPicPr/>
            <p:nvPr/>
          </p:nvPicPr>
          <p:blipFill>
            <a:blip r:embed="rId40"/>
            <a:srcRect l="50084" t="0" r="0" b="0"/>
            <a:stretch/>
          </p:blipFill>
          <p:spPr>
            <a:xfrm>
              <a:off x="5200560" y="5803920"/>
              <a:ext cx="639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434200" y="604692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ג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48360" y="6048360"/>
              <a:ext cx="282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443600" y="2341440"/>
            <a:ext cx="1139400" cy="321840"/>
            <a:chOff x="1443600" y="2341440"/>
            <a:chExt cx="1139400" cy="321840"/>
          </a:xfrm>
        </p:grpSpPr>
        <p:pic>
          <p:nvPicPr>
            <p:cNvPr id="248" name="piano_short" descr=""/>
            <p:cNvPicPr/>
            <p:nvPr/>
          </p:nvPicPr>
          <p:blipFill>
            <a:blip r:embed="rId41"/>
            <a:srcRect l="50084" t="0" r="0" b="0"/>
            <a:stretch/>
          </p:blipFill>
          <p:spPr>
            <a:xfrm>
              <a:off x="1943280" y="2394000"/>
              <a:ext cx="63972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443600" y="234144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ג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20000" y="24955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200640" y="2228760"/>
            <a:ext cx="1082520" cy="545400"/>
            <a:chOff x="6200640" y="2228760"/>
            <a:chExt cx="1082520" cy="545400"/>
          </a:xfrm>
        </p:grpSpPr>
        <p:sp>
          <p:nvSpPr>
            <p:cNvPr id="252" name=""/>
            <p:cNvSpPr/>
            <p:nvPr/>
          </p:nvSpPr>
          <p:spPr>
            <a:xfrm>
              <a:off x="6599160" y="2390760"/>
              <a:ext cx="659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וחצ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48680" y="222876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6450120" y="2382840"/>
              <a:ext cx="191880" cy="226800"/>
              <a:chOff x="6450120" y="2382840"/>
              <a:chExt cx="191880" cy="226800"/>
            </a:xfrm>
          </p:grpSpPr>
          <p:pic>
            <p:nvPicPr>
              <p:cNvPr id="255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450120" y="238284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6450120" y="238284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"/>
            <p:cNvGrpSpPr/>
            <p:nvPr/>
          </p:nvGrpSpPr>
          <p:grpSpPr>
            <a:xfrm>
              <a:off x="6200640" y="2371680"/>
              <a:ext cx="199800" cy="247320"/>
              <a:chOff x="6200640" y="2371680"/>
              <a:chExt cx="199800" cy="247320"/>
            </a:xfrm>
          </p:grpSpPr>
          <p:pic>
            <p:nvPicPr>
              <p:cNvPr id="258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6200640" y="23716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6200640" y="23716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0" name=""/>
            <p:cNvSpPr/>
            <p:nvPr/>
          </p:nvSpPr>
          <p:spPr>
            <a:xfrm>
              <a:off x="6906600" y="24987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77400" y="254304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. א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005440" y="1757520"/>
            <a:ext cx="1114560" cy="459720"/>
            <a:chOff x="5005440" y="1757520"/>
            <a:chExt cx="1114560" cy="459720"/>
          </a:xfrm>
        </p:grpSpPr>
        <p:sp>
          <p:nvSpPr>
            <p:cNvPr id="263" name=""/>
            <p:cNvSpPr/>
            <p:nvPr/>
          </p:nvSpPr>
          <p:spPr>
            <a:xfrm>
              <a:off x="5381640" y="175752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39600" y="195408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71880" y="204804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6" name="mh2l_p" descr=""/>
            <p:cNvPicPr/>
            <p:nvPr/>
          </p:nvPicPr>
          <p:blipFill>
            <a:blip r:embed="rId46"/>
            <a:stretch/>
          </p:blipFill>
          <p:spPr>
            <a:xfrm>
              <a:off x="5005440" y="1795320"/>
              <a:ext cx="4460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411880" y="207972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966200" y="2185920"/>
            <a:ext cx="643680" cy="516960"/>
            <a:chOff x="4966200" y="2185920"/>
            <a:chExt cx="643680" cy="516960"/>
          </a:xfrm>
        </p:grpSpPr>
        <p:sp>
          <p:nvSpPr>
            <p:cNvPr id="269" name=""/>
            <p:cNvSpPr/>
            <p:nvPr/>
          </p:nvSpPr>
          <p:spPr>
            <a:xfrm>
              <a:off x="5198400" y="2185920"/>
              <a:ext cx="40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28280" y="2373480"/>
              <a:ext cx="38160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48880" y="25336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66200" y="256536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גרש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010120" y="2300400"/>
              <a:ext cx="268200" cy="290160"/>
              <a:chOff x="5010120" y="2300400"/>
              <a:chExt cx="268200" cy="290160"/>
            </a:xfrm>
          </p:grpSpPr>
          <p:pic>
            <p:nvPicPr>
              <p:cNvPr id="274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5010120" y="230040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5010120" y="230040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76" name=""/>
          <p:cNvGrpSpPr/>
          <p:nvPr/>
        </p:nvGrpSpPr>
        <p:grpSpPr>
          <a:xfrm>
            <a:off x="3131280" y="2214720"/>
            <a:ext cx="970920" cy="423360"/>
            <a:chOff x="3131280" y="2214720"/>
            <a:chExt cx="970920" cy="423360"/>
          </a:xfrm>
        </p:grpSpPr>
        <p:sp>
          <p:nvSpPr>
            <p:cNvPr id="277" name=""/>
            <p:cNvSpPr/>
            <p:nvPr/>
          </p:nvSpPr>
          <p:spPr>
            <a:xfrm>
              <a:off x="3131280" y="2214720"/>
              <a:ext cx="89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י 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25480" y="237348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08080" y="246708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23240" y="249876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גרש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182760" y="2347920"/>
              <a:ext cx="268200" cy="290160"/>
              <a:chOff x="3182760" y="2347920"/>
              <a:chExt cx="268200" cy="290160"/>
            </a:xfrm>
          </p:grpSpPr>
          <p:pic>
            <p:nvPicPr>
              <p:cNvPr id="282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3182760" y="234792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3182760" y="234792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4" name=""/>
          <p:cNvSpPr/>
          <p:nvPr/>
        </p:nvSpPr>
        <p:spPr>
          <a:xfrm>
            <a:off x="2724120" y="2247840"/>
            <a:ext cx="401760" cy="378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 -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157640" y="3166920"/>
            <a:ext cx="812160" cy="488520"/>
            <a:chOff x="4157640" y="3166920"/>
            <a:chExt cx="812160" cy="488520"/>
          </a:xfrm>
        </p:grpSpPr>
        <p:sp>
          <p:nvSpPr>
            <p:cNvPr id="286" name=""/>
            <p:cNvSpPr/>
            <p:nvPr/>
          </p:nvSpPr>
          <p:spPr>
            <a:xfrm>
              <a:off x="4492080" y="3166920"/>
              <a:ext cx="47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גה ל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16640" y="329724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8" name="yoga" descr=""/>
            <p:cNvPicPr/>
            <p:nvPr/>
          </p:nvPicPr>
          <p:blipFill>
            <a:blip r:embed="rId51"/>
            <a:stretch/>
          </p:blipFill>
          <p:spPr>
            <a:xfrm>
              <a:off x="4157640" y="3210120"/>
              <a:ext cx="46188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481640" y="342432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גן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443400" y="3184560"/>
            <a:ext cx="758520" cy="412200"/>
            <a:chOff x="3443400" y="3184560"/>
            <a:chExt cx="758520" cy="412200"/>
          </a:xfrm>
        </p:grpSpPr>
        <p:pic>
          <p:nvPicPr>
            <p:cNvPr id="291" name="piano_short" descr=""/>
            <p:cNvPicPr/>
            <p:nvPr/>
          </p:nvPicPr>
          <p:blipFill>
            <a:blip r:embed="rId52"/>
            <a:srcRect l="50084" t="0" r="0" b="0"/>
            <a:stretch/>
          </p:blipFill>
          <p:spPr>
            <a:xfrm>
              <a:off x="3514680" y="3184560"/>
              <a:ext cx="63972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3710520" y="342756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ג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43400" y="3429000"/>
              <a:ext cx="282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614760" y="4138560"/>
            <a:ext cx="1180800" cy="488520"/>
            <a:chOff x="3614760" y="4138560"/>
            <a:chExt cx="1180800" cy="488520"/>
          </a:xfrm>
        </p:grpSpPr>
        <p:sp>
          <p:nvSpPr>
            <p:cNvPr id="295" name=""/>
            <p:cNvSpPr/>
            <p:nvPr/>
          </p:nvSpPr>
          <p:spPr>
            <a:xfrm>
              <a:off x="3994560" y="4138560"/>
              <a:ext cx="801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Yoga D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47480" y="4313160"/>
              <a:ext cx="659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מתקדמ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35560" y="44118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8" name="yoga" descr=""/>
            <p:cNvPicPr/>
            <p:nvPr/>
          </p:nvPicPr>
          <p:blipFill>
            <a:blip r:embed="rId53"/>
            <a:stretch/>
          </p:blipFill>
          <p:spPr>
            <a:xfrm>
              <a:off x="3614760" y="4143240"/>
              <a:ext cx="4618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967920" y="439596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761080" y="1042920"/>
            <a:ext cx="762840" cy="725760"/>
            <a:chOff x="5761080" y="1042920"/>
            <a:chExt cx="762840" cy="725760"/>
          </a:xfrm>
        </p:grpSpPr>
        <p:sp>
          <p:nvSpPr>
            <p:cNvPr id="301" name=""/>
            <p:cNvSpPr/>
            <p:nvPr/>
          </p:nvSpPr>
          <p:spPr>
            <a:xfrm>
              <a:off x="5928480" y="1042920"/>
              <a:ext cx="32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n.l.p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42320" y="12495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???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14600" y="1467000"/>
              <a:ext cx="316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ליל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80160" y="1622520"/>
              <a:ext cx="26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???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5" name="mh4l_l" descr=""/>
            <p:cNvPicPr/>
            <p:nvPr/>
          </p:nvPicPr>
          <p:blipFill>
            <a:blip r:embed="rId54"/>
            <a:stretch/>
          </p:blipFill>
          <p:spPr>
            <a:xfrm>
              <a:off x="5761080" y="1208160"/>
              <a:ext cx="47916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"/>
          <p:cNvGrpSpPr/>
          <p:nvPr/>
        </p:nvGrpSpPr>
        <p:grpSpPr>
          <a:xfrm>
            <a:off x="552600" y="919080"/>
            <a:ext cx="874440" cy="478800"/>
            <a:chOff x="552600" y="919080"/>
            <a:chExt cx="874440" cy="478800"/>
          </a:xfrm>
        </p:grpSpPr>
        <p:sp>
          <p:nvSpPr>
            <p:cNvPr id="307" name=""/>
            <p:cNvSpPr/>
            <p:nvPr/>
          </p:nvSpPr>
          <p:spPr>
            <a:xfrm>
              <a:off x="912240" y="919080"/>
              <a:ext cx="40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9080" y="1106280"/>
              <a:ext cx="597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29680" y="12283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7000" y="126036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גרש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2600" y="995040"/>
              <a:ext cx="268200" cy="290160"/>
              <a:chOff x="552600" y="995040"/>
              <a:chExt cx="268200" cy="290160"/>
            </a:xfrm>
          </p:grpSpPr>
          <p:pic>
            <p:nvPicPr>
              <p:cNvPr id="312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552600" y="99504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552600" y="99504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14" name=""/>
          <p:cNvGrpSpPr/>
          <p:nvPr/>
        </p:nvGrpSpPr>
        <p:grpSpPr>
          <a:xfrm>
            <a:off x="6165720" y="1739880"/>
            <a:ext cx="1024920" cy="505800"/>
            <a:chOff x="6165720" y="1739880"/>
            <a:chExt cx="1024920" cy="505800"/>
          </a:xfrm>
        </p:grpSpPr>
        <p:pic>
          <p:nvPicPr>
            <p:cNvPr id="315" name="" descr=""/>
            <p:cNvPicPr/>
            <p:nvPr/>
          </p:nvPicPr>
          <p:blipFill>
            <a:blip r:embed="rId57"/>
            <a:stretch/>
          </p:blipFill>
          <p:spPr>
            <a:xfrm>
              <a:off x="6708600" y="179388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58"/>
            <a:stretch/>
          </p:blipFill>
          <p:spPr>
            <a:xfrm>
              <a:off x="6165720" y="180324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624360" y="189216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59720" y="19638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59640" y="1739880"/>
              <a:ext cx="411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49120" y="2108160"/>
              <a:ext cx="62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מסריט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045120" y="4700520"/>
            <a:ext cx="1181520" cy="700200"/>
            <a:chOff x="6045120" y="4700520"/>
            <a:chExt cx="1181520" cy="700200"/>
          </a:xfrm>
        </p:grpSpPr>
        <p:sp>
          <p:nvSpPr>
            <p:cNvPr id="322" name=""/>
            <p:cNvSpPr/>
            <p:nvPr/>
          </p:nvSpPr>
          <p:spPr>
            <a:xfrm>
              <a:off x="6481440" y="4700520"/>
              <a:ext cx="50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52000" y="4888080"/>
              <a:ext cx="60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93480" y="504360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19520" y="51656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6" name="dna_looking_through_magnifying_glass_ty_CLR" descr=""/>
            <p:cNvPicPr/>
            <p:nvPr/>
          </p:nvPicPr>
          <p:blipFill>
            <a:blip r:embed="rId59"/>
            <a:stretch/>
          </p:blipFill>
          <p:spPr>
            <a:xfrm>
              <a:off x="6045120" y="480708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"/>
          <p:cNvGrpSpPr/>
          <p:nvPr/>
        </p:nvGrpSpPr>
        <p:grpSpPr>
          <a:xfrm>
            <a:off x="6026040" y="5605560"/>
            <a:ext cx="1181520" cy="699480"/>
            <a:chOff x="6026040" y="5605560"/>
            <a:chExt cx="1181520" cy="699480"/>
          </a:xfrm>
        </p:grpSpPr>
        <p:sp>
          <p:nvSpPr>
            <p:cNvPr id="328" name=""/>
            <p:cNvSpPr/>
            <p:nvPr/>
          </p:nvSpPr>
          <p:spPr>
            <a:xfrm>
              <a:off x="6462360" y="5605560"/>
              <a:ext cx="50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32920" y="5792400"/>
              <a:ext cx="60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74040" y="594828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00440" y="60703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2" name="dna_looking_through_magnifying_glass_ty_CLR" descr=""/>
            <p:cNvPicPr/>
            <p:nvPr/>
          </p:nvPicPr>
          <p:blipFill>
            <a:blip r:embed="rId60"/>
            <a:stretch/>
          </p:blipFill>
          <p:spPr>
            <a:xfrm>
              <a:off x="6026040" y="5711760"/>
              <a:ext cx="593640" cy="59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"/>
          <p:cNvGrpSpPr/>
          <p:nvPr/>
        </p:nvGrpSpPr>
        <p:grpSpPr>
          <a:xfrm>
            <a:off x="5086440" y="4668840"/>
            <a:ext cx="978480" cy="483840"/>
            <a:chOff x="5086440" y="4668840"/>
            <a:chExt cx="978480" cy="483840"/>
          </a:xfrm>
        </p:grpSpPr>
        <p:sp>
          <p:nvSpPr>
            <p:cNvPr id="334" name=""/>
            <p:cNvSpPr/>
            <p:nvPr/>
          </p:nvSpPr>
          <p:spPr>
            <a:xfrm>
              <a:off x="5309640" y="466884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61"/>
            <a:stretch/>
          </p:blipFill>
          <p:spPr>
            <a:xfrm>
              <a:off x="5086440" y="47926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395680" y="4857840"/>
              <a:ext cx="614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r>
                <a:rPr b="0" lang="hi-IN" sz="12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35000" y="49849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19400" y="2268360"/>
            <a:ext cx="978840" cy="435960"/>
            <a:chOff x="4019400" y="2268360"/>
            <a:chExt cx="978840" cy="435960"/>
          </a:xfrm>
        </p:grpSpPr>
        <p:sp>
          <p:nvSpPr>
            <p:cNvPr id="339" name=""/>
            <p:cNvSpPr/>
            <p:nvPr/>
          </p:nvSpPr>
          <p:spPr>
            <a:xfrm>
              <a:off x="4242960" y="226836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62"/>
            <a:stretch/>
          </p:blipFill>
          <p:spPr>
            <a:xfrm>
              <a:off x="4019400" y="2344320"/>
              <a:ext cx="295560" cy="3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329000" y="2438280"/>
              <a:ext cx="614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r>
                <a:rPr b="0" lang="hi-IN" sz="12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68320" y="25365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28480" y="4713120"/>
            <a:ext cx="833040" cy="717120"/>
            <a:chOff x="528480" y="4713120"/>
            <a:chExt cx="833040" cy="717120"/>
          </a:xfrm>
        </p:grpSpPr>
        <p:sp>
          <p:nvSpPr>
            <p:cNvPr id="344" name=""/>
            <p:cNvSpPr/>
            <p:nvPr/>
          </p:nvSpPr>
          <p:spPr>
            <a:xfrm>
              <a:off x="533160" y="471312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79920" y="491940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32760" y="514656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7" name="mh2l_p" descr=""/>
            <p:cNvPicPr/>
            <p:nvPr/>
          </p:nvPicPr>
          <p:blipFill>
            <a:blip r:embed="rId63"/>
            <a:stretch/>
          </p:blipFill>
          <p:spPr>
            <a:xfrm>
              <a:off x="528480" y="485604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868320" y="529272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119240" y="6024600"/>
            <a:ext cx="1114560" cy="459720"/>
            <a:chOff x="1119240" y="6024600"/>
            <a:chExt cx="1114560" cy="459720"/>
          </a:xfrm>
        </p:grpSpPr>
        <p:sp>
          <p:nvSpPr>
            <p:cNvPr id="350" name=""/>
            <p:cNvSpPr/>
            <p:nvPr/>
          </p:nvSpPr>
          <p:spPr>
            <a:xfrm>
              <a:off x="1495440" y="602460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53400" y="622116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85680" y="631512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3" name="mh2l_p" descr=""/>
            <p:cNvPicPr/>
            <p:nvPr/>
          </p:nvPicPr>
          <p:blipFill>
            <a:blip r:embed="rId64"/>
            <a:stretch/>
          </p:blipFill>
          <p:spPr>
            <a:xfrm>
              <a:off x="1119240" y="6062400"/>
              <a:ext cx="4460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525680" y="634680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889360" y="4649760"/>
            <a:ext cx="913680" cy="872640"/>
            <a:chOff x="2889360" y="4649760"/>
            <a:chExt cx="913680" cy="872640"/>
          </a:xfrm>
        </p:grpSpPr>
        <p:sp>
          <p:nvSpPr>
            <p:cNvPr id="356" name=""/>
            <p:cNvSpPr/>
            <p:nvPr/>
          </p:nvSpPr>
          <p:spPr>
            <a:xfrm>
              <a:off x="3290760" y="4929120"/>
              <a:ext cx="342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45320" y="4653000"/>
              <a:ext cx="657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וץ, חמצן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קצת עש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28960" y="5160960"/>
              <a:ext cx="851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שראל שמואל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15280" y="5291280"/>
              <a:ext cx="887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הא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0" name="chimney_brick_smoking_ty_CLR" descr=""/>
            <p:cNvPicPr/>
            <p:nvPr/>
          </p:nvPicPr>
          <p:blipFill>
            <a:blip r:embed="rId65"/>
            <a:stretch/>
          </p:blipFill>
          <p:spPr>
            <a:xfrm>
              <a:off x="2889360" y="4649760"/>
              <a:ext cx="4111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"/>
          <p:cNvGrpSpPr/>
          <p:nvPr/>
        </p:nvGrpSpPr>
        <p:grpSpPr>
          <a:xfrm>
            <a:off x="2898720" y="5630760"/>
            <a:ext cx="913680" cy="872640"/>
            <a:chOff x="2898720" y="5630760"/>
            <a:chExt cx="913680" cy="872640"/>
          </a:xfrm>
        </p:grpSpPr>
        <p:sp>
          <p:nvSpPr>
            <p:cNvPr id="362" name=""/>
            <p:cNvSpPr/>
            <p:nvPr/>
          </p:nvSpPr>
          <p:spPr>
            <a:xfrm>
              <a:off x="3300120" y="5910120"/>
              <a:ext cx="342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154680" y="5634000"/>
              <a:ext cx="657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וץ, חמצן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קצת עש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38320" y="6141960"/>
              <a:ext cx="851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שראל שמואל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24640" y="6272280"/>
              <a:ext cx="887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הא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6" name="chimney_brick_smoking_ty_CLR" descr=""/>
            <p:cNvPicPr/>
            <p:nvPr/>
          </p:nvPicPr>
          <p:blipFill>
            <a:blip r:embed="rId66"/>
            <a:stretch/>
          </p:blipFill>
          <p:spPr>
            <a:xfrm>
              <a:off x="2898720" y="5630760"/>
              <a:ext cx="4111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"/>
          <p:cNvGrpSpPr/>
          <p:nvPr/>
        </p:nvGrpSpPr>
        <p:grpSpPr>
          <a:xfrm>
            <a:off x="6129360" y="779400"/>
            <a:ext cx="1143000" cy="450360"/>
            <a:chOff x="6129360" y="779400"/>
            <a:chExt cx="1143000" cy="450360"/>
          </a:xfrm>
        </p:grpSpPr>
        <p:sp>
          <p:nvSpPr>
            <p:cNvPr id="368" name=""/>
            <p:cNvSpPr/>
            <p:nvPr/>
          </p:nvSpPr>
          <p:spPr>
            <a:xfrm>
              <a:off x="6534000" y="77940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601320" y="94752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33960" y="106020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1" name="mh2l_p" descr=""/>
            <p:cNvPicPr/>
            <p:nvPr/>
          </p:nvPicPr>
          <p:blipFill>
            <a:blip r:embed="rId67"/>
            <a:stretch/>
          </p:blipFill>
          <p:spPr>
            <a:xfrm>
              <a:off x="6129360" y="81756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6583320" y="10922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545160" y="1293840"/>
            <a:ext cx="693000" cy="460440"/>
            <a:chOff x="6545160" y="1293840"/>
            <a:chExt cx="693000" cy="460440"/>
          </a:xfrm>
        </p:grpSpPr>
        <p:pic>
          <p:nvPicPr>
            <p:cNvPr id="374" name="mar0104" descr=""/>
            <p:cNvPicPr/>
            <p:nvPr/>
          </p:nvPicPr>
          <p:blipFill>
            <a:blip r:embed="rId68"/>
            <a:stretch/>
          </p:blipFill>
          <p:spPr>
            <a:xfrm>
              <a:off x="6545160" y="1311120"/>
              <a:ext cx="292320" cy="4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754320" y="1293840"/>
              <a:ext cx="48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ן גו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09400" y="14619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583240" y="2217600"/>
            <a:ext cx="693000" cy="460080"/>
            <a:chOff x="5583240" y="2217600"/>
            <a:chExt cx="693000" cy="460080"/>
          </a:xfrm>
        </p:grpSpPr>
        <p:pic>
          <p:nvPicPr>
            <p:cNvPr id="378" name="mar0104" descr=""/>
            <p:cNvPicPr/>
            <p:nvPr/>
          </p:nvPicPr>
          <p:blipFill>
            <a:blip r:embed="rId69"/>
            <a:stretch/>
          </p:blipFill>
          <p:spPr>
            <a:xfrm>
              <a:off x="5583240" y="2234880"/>
              <a:ext cx="2919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5792400" y="2217600"/>
              <a:ext cx="48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ן גו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47480" y="238572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852720" y="785880"/>
            <a:ext cx="1109880" cy="526320"/>
            <a:chOff x="3852720" y="785880"/>
            <a:chExt cx="1109880" cy="526320"/>
          </a:xfrm>
        </p:grpSpPr>
        <p:sp>
          <p:nvSpPr>
            <p:cNvPr id="382" name=""/>
            <p:cNvSpPr/>
            <p:nvPr/>
          </p:nvSpPr>
          <p:spPr>
            <a:xfrm>
              <a:off x="4407120" y="785880"/>
              <a:ext cx="247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ג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18560" y="99864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73880" y="109692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5" name="yoga" descr=""/>
            <p:cNvPicPr/>
            <p:nvPr/>
          </p:nvPicPr>
          <p:blipFill>
            <a:blip r:embed="rId70"/>
            <a:stretch/>
          </p:blipFill>
          <p:spPr>
            <a:xfrm>
              <a:off x="3852720" y="828720"/>
              <a:ext cx="46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4205880" y="108108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940840" y="1328760"/>
            <a:ext cx="972000" cy="423360"/>
            <a:chOff x="2940840" y="1328760"/>
            <a:chExt cx="972000" cy="423360"/>
          </a:xfrm>
        </p:grpSpPr>
        <p:sp>
          <p:nvSpPr>
            <p:cNvPr id="388" name=""/>
            <p:cNvSpPr/>
            <p:nvPr/>
          </p:nvSpPr>
          <p:spPr>
            <a:xfrm>
              <a:off x="2940840" y="1328760"/>
              <a:ext cx="89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י 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14880" y="1487520"/>
              <a:ext cx="597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17640" y="158112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32800" y="161280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גרש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2992320" y="1461960"/>
              <a:ext cx="268200" cy="290160"/>
              <a:chOff x="2992320" y="1461960"/>
              <a:chExt cx="268200" cy="290160"/>
            </a:xfrm>
          </p:grpSpPr>
          <p:pic>
            <p:nvPicPr>
              <p:cNvPr id="393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2992320" y="146196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2992320" y="146196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95" name=""/>
          <p:cNvGrpSpPr/>
          <p:nvPr/>
        </p:nvGrpSpPr>
        <p:grpSpPr>
          <a:xfrm>
            <a:off x="4259160" y="1284120"/>
            <a:ext cx="573840" cy="460440"/>
            <a:chOff x="4259160" y="1284120"/>
            <a:chExt cx="573840" cy="460440"/>
          </a:xfrm>
        </p:grpSpPr>
        <p:sp>
          <p:nvSpPr>
            <p:cNvPr id="396" name=""/>
            <p:cNvSpPr/>
            <p:nvPr/>
          </p:nvSpPr>
          <p:spPr>
            <a:xfrm>
              <a:off x="4498560" y="1284120"/>
              <a:ext cx="334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ן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ו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9920" y="1547640"/>
              <a:ext cx="96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8" name="mar0104" descr=""/>
            <p:cNvPicPr/>
            <p:nvPr/>
          </p:nvPicPr>
          <p:blipFill>
            <a:blip r:embed="rId73"/>
            <a:stretch/>
          </p:blipFill>
          <p:spPr>
            <a:xfrm>
              <a:off x="4259160" y="1301760"/>
              <a:ext cx="29232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9" name=""/>
          <p:cNvGrpSpPr/>
          <p:nvPr/>
        </p:nvGrpSpPr>
        <p:grpSpPr>
          <a:xfrm>
            <a:off x="3735360" y="1751040"/>
            <a:ext cx="573480" cy="460440"/>
            <a:chOff x="3735360" y="1751040"/>
            <a:chExt cx="573480" cy="460440"/>
          </a:xfrm>
        </p:grpSpPr>
        <p:sp>
          <p:nvSpPr>
            <p:cNvPr id="400" name=""/>
            <p:cNvSpPr/>
            <p:nvPr/>
          </p:nvSpPr>
          <p:spPr>
            <a:xfrm>
              <a:off x="3974400" y="1751040"/>
              <a:ext cx="334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ן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ו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55760" y="2014560"/>
              <a:ext cx="96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2" name="mar0104" descr=""/>
            <p:cNvPicPr/>
            <p:nvPr/>
          </p:nvPicPr>
          <p:blipFill>
            <a:blip r:embed="rId74"/>
            <a:stretch/>
          </p:blipFill>
          <p:spPr>
            <a:xfrm>
              <a:off x="3735360" y="1768680"/>
              <a:ext cx="2919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3" name=""/>
          <p:cNvGrpSpPr/>
          <p:nvPr/>
        </p:nvGrpSpPr>
        <p:grpSpPr>
          <a:xfrm>
            <a:off x="1763640" y="969840"/>
            <a:ext cx="693000" cy="460440"/>
            <a:chOff x="1763640" y="969840"/>
            <a:chExt cx="693000" cy="460440"/>
          </a:xfrm>
        </p:grpSpPr>
        <p:pic>
          <p:nvPicPr>
            <p:cNvPr id="404" name="mar0104" descr=""/>
            <p:cNvPicPr/>
            <p:nvPr/>
          </p:nvPicPr>
          <p:blipFill>
            <a:blip r:embed="rId75"/>
            <a:stretch/>
          </p:blipFill>
          <p:spPr>
            <a:xfrm>
              <a:off x="1763640" y="987120"/>
              <a:ext cx="292320" cy="4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1972800" y="969840"/>
              <a:ext cx="48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ן גו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27880" y="11379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249200" y="1789200"/>
            <a:ext cx="654840" cy="488880"/>
            <a:chOff x="1249200" y="1789200"/>
            <a:chExt cx="654840" cy="488880"/>
          </a:xfrm>
        </p:grpSpPr>
        <p:pic>
          <p:nvPicPr>
            <p:cNvPr id="408" name="mar0104" descr=""/>
            <p:cNvPicPr/>
            <p:nvPr/>
          </p:nvPicPr>
          <p:blipFill>
            <a:blip r:embed="rId76"/>
            <a:stretch/>
          </p:blipFill>
          <p:spPr>
            <a:xfrm>
              <a:off x="1249200" y="1835280"/>
              <a:ext cx="2919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420200" y="1789200"/>
              <a:ext cx="48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ן גו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75280" y="195732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387360" y="260280"/>
          <a:ext cx="8388360" cy="6222960"/>
        </p:xfrm>
        <a:graphic>
          <a:graphicData uri="http://schemas.openxmlformats.org/drawingml/2006/table">
            <a:tbl>
              <a:tblPr/>
              <a:tblGrid>
                <a:gridCol w="2298600"/>
                <a:gridCol w="2286000"/>
                <a:gridCol w="2273400"/>
                <a:gridCol w="153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2895480" y="19080"/>
            <a:ext cx="339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ג' תשס"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43960" y="44460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ביע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33120" y="43488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חמ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8520" y="42552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43880" y="400680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40-11: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82040" y="4950000"/>
            <a:ext cx="76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30-11: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62960" y="59180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3:20-12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82040" y="115884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82040" y="209232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00-9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34160" y="305100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50-10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2781360" y="3133800"/>
            <a:ext cx="1056600" cy="488160"/>
            <a:chOff x="2781360" y="3133800"/>
            <a:chExt cx="1056600" cy="488160"/>
          </a:xfrm>
        </p:grpSpPr>
        <p:grpSp>
          <p:nvGrpSpPr>
            <p:cNvPr id="423" name=""/>
            <p:cNvGrpSpPr/>
            <p:nvPr/>
          </p:nvGrpSpPr>
          <p:grpSpPr>
            <a:xfrm>
              <a:off x="2781360" y="3228840"/>
              <a:ext cx="361440" cy="332640"/>
              <a:chOff x="2781360" y="3228840"/>
              <a:chExt cx="361440" cy="332640"/>
            </a:xfrm>
          </p:grpSpPr>
          <p:sp>
            <p:nvSpPr>
              <p:cNvPr id="424" name=""/>
              <p:cNvSpPr/>
              <p:nvPr/>
            </p:nvSpPr>
            <p:spPr>
              <a:xfrm>
                <a:off x="2781360" y="32288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962080" y="32288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781360" y="33951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962080" y="33951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3308040" y="327960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28000" y="340668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67000" y="313380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67560" y="339084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060960" y="907920"/>
            <a:ext cx="1149840" cy="662760"/>
            <a:chOff x="6060960" y="907920"/>
            <a:chExt cx="1149840" cy="662760"/>
          </a:xfrm>
        </p:grpSpPr>
        <p:sp>
          <p:nvSpPr>
            <p:cNvPr id="433" name=""/>
            <p:cNvSpPr/>
            <p:nvPr/>
          </p:nvSpPr>
          <p:spPr>
            <a:xfrm>
              <a:off x="6699240" y="90792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02040" y="1101600"/>
              <a:ext cx="608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38120" y="121104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77560" y="133956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7" name="noahs_ark_rocking_ty_CLR" descr=""/>
            <p:cNvPicPr/>
            <p:nvPr/>
          </p:nvPicPr>
          <p:blipFill>
            <a:blip r:embed="rId1"/>
            <a:stretch/>
          </p:blipFill>
          <p:spPr>
            <a:xfrm>
              <a:off x="6060960" y="996840"/>
              <a:ext cx="6397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8" name=""/>
          <p:cNvGrpSpPr/>
          <p:nvPr/>
        </p:nvGrpSpPr>
        <p:grpSpPr>
          <a:xfrm>
            <a:off x="3514680" y="1281240"/>
            <a:ext cx="1066320" cy="478800"/>
            <a:chOff x="3514680" y="1281240"/>
            <a:chExt cx="1066320" cy="478800"/>
          </a:xfrm>
        </p:grpSpPr>
        <p:grpSp>
          <p:nvGrpSpPr>
            <p:cNvPr id="439" name=""/>
            <p:cNvGrpSpPr/>
            <p:nvPr/>
          </p:nvGrpSpPr>
          <p:grpSpPr>
            <a:xfrm>
              <a:off x="3514680" y="1343160"/>
              <a:ext cx="361440" cy="332640"/>
              <a:chOff x="3514680" y="1343160"/>
              <a:chExt cx="361440" cy="332640"/>
            </a:xfrm>
          </p:grpSpPr>
          <p:sp>
            <p:nvSpPr>
              <p:cNvPr id="440" name=""/>
              <p:cNvSpPr/>
              <p:nvPr/>
            </p:nvSpPr>
            <p:spPr>
              <a:xfrm>
                <a:off x="3514680" y="13431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5400" y="13431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514680" y="15094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695400" y="15094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4031640" y="141768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271040" y="154476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90960" y="12812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05560" y="152892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038840" y="750960"/>
            <a:ext cx="926640" cy="612000"/>
            <a:chOff x="4038840" y="750960"/>
            <a:chExt cx="926640" cy="612000"/>
          </a:xfrm>
        </p:grpSpPr>
        <p:sp>
          <p:nvSpPr>
            <p:cNvPr id="449" name=""/>
            <p:cNvSpPr/>
            <p:nvPr/>
          </p:nvSpPr>
          <p:spPr>
            <a:xfrm>
              <a:off x="4588200" y="941400"/>
              <a:ext cx="37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38840" y="75096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4365720" y="971640"/>
              <a:ext cx="192240" cy="226440"/>
              <a:chOff x="4365720" y="971640"/>
              <a:chExt cx="192240" cy="226440"/>
            </a:xfrm>
          </p:grpSpPr>
          <p:pic>
            <p:nvPicPr>
              <p:cNvPr id="4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65720" y="9716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65720" y="9716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4" name=""/>
            <p:cNvGrpSpPr/>
            <p:nvPr/>
          </p:nvGrpSpPr>
          <p:grpSpPr>
            <a:xfrm>
              <a:off x="4116600" y="960480"/>
              <a:ext cx="199800" cy="247320"/>
              <a:chOff x="4116600" y="960480"/>
              <a:chExt cx="199800" cy="247320"/>
            </a:xfrm>
          </p:grpSpPr>
          <p:pic>
            <p:nvPicPr>
              <p:cNvPr id="45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6600" y="9604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16600" y="9604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7" name=""/>
            <p:cNvSpPr/>
            <p:nvPr/>
          </p:nvSpPr>
          <p:spPr>
            <a:xfrm>
              <a:off x="4631760" y="10396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37120" y="11318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193760" y="873000"/>
            <a:ext cx="940320" cy="639360"/>
            <a:chOff x="1193760" y="873000"/>
            <a:chExt cx="940320" cy="639360"/>
          </a:xfrm>
        </p:grpSpPr>
        <p:pic>
          <p:nvPicPr>
            <p:cNvPr id="460" name="" descr=""/>
            <p:cNvPicPr/>
            <p:nvPr/>
          </p:nvPicPr>
          <p:blipFill>
            <a:blip r:embed="rId6"/>
            <a:stretch/>
          </p:blipFill>
          <p:spPr>
            <a:xfrm>
              <a:off x="1412640" y="91764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7"/>
            <a:stretch/>
          </p:blipFill>
          <p:spPr>
            <a:xfrm>
              <a:off x="1193760" y="927000"/>
              <a:ext cx="39024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525320" y="1082520"/>
              <a:ext cx="608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16040" y="12016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01640" y="873000"/>
              <a:ext cx="411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19760" y="1374840"/>
              <a:ext cx="62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מסריט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447840" y="1467000"/>
            <a:ext cx="792000" cy="21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חני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747880" y="1808280"/>
            <a:ext cx="978480" cy="500760"/>
            <a:chOff x="2747880" y="1808280"/>
            <a:chExt cx="978480" cy="500760"/>
          </a:xfrm>
        </p:grpSpPr>
        <p:sp>
          <p:nvSpPr>
            <p:cNvPr id="468" name=""/>
            <p:cNvSpPr/>
            <p:nvPr/>
          </p:nvSpPr>
          <p:spPr>
            <a:xfrm>
              <a:off x="2971080" y="180828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9" name="" descr=""/>
            <p:cNvPicPr/>
            <p:nvPr/>
          </p:nvPicPr>
          <p:blipFill>
            <a:blip r:embed="rId8"/>
            <a:stretch/>
          </p:blipFill>
          <p:spPr>
            <a:xfrm>
              <a:off x="2747880" y="1884240"/>
              <a:ext cx="295560" cy="31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9"/>
            <a:stretch/>
          </p:blipFill>
          <p:spPr>
            <a:xfrm>
              <a:off x="2747880" y="1884240"/>
              <a:ext cx="295560" cy="3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3047760" y="198756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461400" y="208584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911320" y="207792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2724120" y="2409840"/>
            <a:ext cx="79236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666960" y="2243160"/>
            <a:ext cx="1066320" cy="478800"/>
            <a:chOff x="3666960" y="2243160"/>
            <a:chExt cx="1066320" cy="478800"/>
          </a:xfrm>
        </p:grpSpPr>
        <p:grpSp>
          <p:nvGrpSpPr>
            <p:cNvPr id="476" name=""/>
            <p:cNvGrpSpPr/>
            <p:nvPr/>
          </p:nvGrpSpPr>
          <p:grpSpPr>
            <a:xfrm>
              <a:off x="3666960" y="2305080"/>
              <a:ext cx="361440" cy="332640"/>
              <a:chOff x="3666960" y="2305080"/>
              <a:chExt cx="361440" cy="332640"/>
            </a:xfrm>
          </p:grpSpPr>
          <p:sp>
            <p:nvSpPr>
              <p:cNvPr id="477" name=""/>
              <p:cNvSpPr/>
              <p:nvPr/>
            </p:nvSpPr>
            <p:spPr>
              <a:xfrm>
                <a:off x="3666960" y="23050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847680" y="23050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666960" y="24714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847680" y="24714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4183920" y="237960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23320" y="250668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43240" y="224316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57840" y="249084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4029480" y="1722600"/>
            <a:ext cx="926280" cy="612000"/>
            <a:chOff x="4029480" y="1722600"/>
            <a:chExt cx="926280" cy="612000"/>
          </a:xfrm>
        </p:grpSpPr>
        <p:sp>
          <p:nvSpPr>
            <p:cNvPr id="486" name=""/>
            <p:cNvSpPr/>
            <p:nvPr/>
          </p:nvSpPr>
          <p:spPr>
            <a:xfrm>
              <a:off x="4578480" y="1913040"/>
              <a:ext cx="37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29480" y="172260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4356000" y="1943280"/>
              <a:ext cx="191880" cy="226440"/>
              <a:chOff x="4356000" y="1943280"/>
              <a:chExt cx="191880" cy="226440"/>
            </a:xfrm>
          </p:grpSpPr>
          <p:pic>
            <p:nvPicPr>
              <p:cNvPr id="48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356000" y="19432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56000" y="19432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1" name=""/>
            <p:cNvGrpSpPr/>
            <p:nvPr/>
          </p:nvGrpSpPr>
          <p:grpSpPr>
            <a:xfrm>
              <a:off x="4106880" y="1932120"/>
              <a:ext cx="199440" cy="247320"/>
              <a:chOff x="4106880" y="1932120"/>
              <a:chExt cx="199440" cy="247320"/>
            </a:xfrm>
          </p:grpSpPr>
          <p:pic>
            <p:nvPicPr>
              <p:cNvPr id="49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06880" y="1932120"/>
                <a:ext cx="19944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106880" y="1932120"/>
                <a:ext cx="19944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4" name=""/>
            <p:cNvSpPr/>
            <p:nvPr/>
          </p:nvSpPr>
          <p:spPr>
            <a:xfrm>
              <a:off x="4622040" y="20113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27040" y="21034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743200" y="884160"/>
            <a:ext cx="978120" cy="501120"/>
            <a:chOff x="2743200" y="884160"/>
            <a:chExt cx="978120" cy="501120"/>
          </a:xfrm>
        </p:grpSpPr>
        <p:sp>
          <p:nvSpPr>
            <p:cNvPr id="497" name=""/>
            <p:cNvSpPr/>
            <p:nvPr/>
          </p:nvSpPr>
          <p:spPr>
            <a:xfrm>
              <a:off x="2966040" y="88416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8" name="" descr=""/>
            <p:cNvPicPr/>
            <p:nvPr/>
          </p:nvPicPr>
          <p:blipFill>
            <a:blip r:embed="rId14"/>
            <a:stretch/>
          </p:blipFill>
          <p:spPr>
            <a:xfrm>
              <a:off x="2743200" y="9604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15"/>
            <a:stretch/>
          </p:blipFill>
          <p:spPr>
            <a:xfrm>
              <a:off x="2743200" y="9604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3042720" y="106380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456000" y="116208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06280" y="115416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6100920" y="3160800"/>
            <a:ext cx="1143000" cy="459720"/>
            <a:chOff x="6100920" y="3160800"/>
            <a:chExt cx="1143000" cy="459720"/>
          </a:xfrm>
        </p:grpSpPr>
        <p:sp>
          <p:nvSpPr>
            <p:cNvPr id="504" name=""/>
            <p:cNvSpPr/>
            <p:nvPr/>
          </p:nvSpPr>
          <p:spPr>
            <a:xfrm>
              <a:off x="6505560" y="317016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573240" y="333864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05520" y="345132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7" name="mh2l_p" descr=""/>
            <p:cNvPicPr/>
            <p:nvPr/>
          </p:nvPicPr>
          <p:blipFill>
            <a:blip r:embed="rId16"/>
            <a:stretch/>
          </p:blipFill>
          <p:spPr>
            <a:xfrm>
              <a:off x="6100920" y="316080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6555240" y="348300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122800" y="2706840"/>
            <a:ext cx="1001160" cy="570600"/>
            <a:chOff x="5122800" y="2706840"/>
            <a:chExt cx="1001160" cy="570600"/>
          </a:xfrm>
        </p:grpSpPr>
        <p:sp>
          <p:nvSpPr>
            <p:cNvPr id="510" name=""/>
            <p:cNvSpPr/>
            <p:nvPr/>
          </p:nvSpPr>
          <p:spPr>
            <a:xfrm>
              <a:off x="5542560" y="2960640"/>
              <a:ext cx="581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תקדמ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06640" y="2803680"/>
              <a:ext cx="302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&amp;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09320" y="306864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נת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82360" y="304632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4" name="dragon_blowing_fire_sm_CLR" descr=""/>
            <p:cNvPicPr/>
            <p:nvPr/>
          </p:nvPicPr>
          <p:blipFill>
            <a:blip r:embed="rId17"/>
            <a:stretch/>
          </p:blipFill>
          <p:spPr>
            <a:xfrm>
              <a:off x="5122800" y="2706840"/>
              <a:ext cx="479520" cy="5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"/>
          <p:cNvGrpSpPr/>
          <p:nvPr/>
        </p:nvGrpSpPr>
        <p:grpSpPr>
          <a:xfrm>
            <a:off x="6135840" y="2655720"/>
            <a:ext cx="1111320" cy="526680"/>
            <a:chOff x="6135840" y="2655720"/>
            <a:chExt cx="1111320" cy="526680"/>
          </a:xfrm>
        </p:grpSpPr>
        <p:sp>
          <p:nvSpPr>
            <p:cNvPr id="516" name=""/>
            <p:cNvSpPr/>
            <p:nvPr/>
          </p:nvSpPr>
          <p:spPr>
            <a:xfrm>
              <a:off x="6631920" y="2655720"/>
              <a:ext cx="441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"ארוע"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36960" y="2814480"/>
              <a:ext cx="57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703560" y="2898720"/>
              <a:ext cx="33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וו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510240" y="3044880"/>
              <a:ext cx="73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האו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0" name="mh6_g" descr=""/>
            <p:cNvPicPr/>
            <p:nvPr/>
          </p:nvPicPr>
          <p:blipFill>
            <a:blip r:embed="rId18"/>
            <a:stretch/>
          </p:blipFill>
          <p:spPr>
            <a:xfrm>
              <a:off x="6135840" y="2701800"/>
              <a:ext cx="492120" cy="4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1" name=""/>
          <p:cNvGrpSpPr/>
          <p:nvPr/>
        </p:nvGrpSpPr>
        <p:grpSpPr>
          <a:xfrm>
            <a:off x="5010120" y="3224160"/>
            <a:ext cx="1333080" cy="459720"/>
            <a:chOff x="5010120" y="3224160"/>
            <a:chExt cx="1333080" cy="459720"/>
          </a:xfrm>
        </p:grpSpPr>
        <p:grpSp>
          <p:nvGrpSpPr>
            <p:cNvPr id="522" name=""/>
            <p:cNvGrpSpPr/>
            <p:nvPr/>
          </p:nvGrpSpPr>
          <p:grpSpPr>
            <a:xfrm>
              <a:off x="5010120" y="3267000"/>
              <a:ext cx="361440" cy="332640"/>
              <a:chOff x="5010120" y="3267000"/>
              <a:chExt cx="361440" cy="332640"/>
            </a:xfrm>
          </p:grpSpPr>
          <p:sp>
            <p:nvSpPr>
              <p:cNvPr id="523" name=""/>
              <p:cNvSpPr/>
              <p:nvPr/>
            </p:nvSpPr>
            <p:spPr>
              <a:xfrm>
                <a:off x="5010120" y="32670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190840" y="32670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010120" y="34333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190840" y="34333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5441400" y="334152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33240" y="346860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00720" y="322416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97400" y="34527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943440" y="2674800"/>
            <a:ext cx="978120" cy="501120"/>
            <a:chOff x="3943440" y="2674800"/>
            <a:chExt cx="978120" cy="501120"/>
          </a:xfrm>
        </p:grpSpPr>
        <p:sp>
          <p:nvSpPr>
            <p:cNvPr id="532" name=""/>
            <p:cNvSpPr/>
            <p:nvPr/>
          </p:nvSpPr>
          <p:spPr>
            <a:xfrm>
              <a:off x="4166280" y="267480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9"/>
            <a:stretch/>
          </p:blipFill>
          <p:spPr>
            <a:xfrm>
              <a:off x="3943440" y="275112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20"/>
            <a:stretch/>
          </p:blipFill>
          <p:spPr>
            <a:xfrm>
              <a:off x="3943440" y="275112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4242960" y="285444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56240" y="295272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06520" y="294480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952960" y="5172120"/>
            <a:ext cx="1195560" cy="369360"/>
            <a:chOff x="5952960" y="5172120"/>
            <a:chExt cx="1195560" cy="369360"/>
          </a:xfrm>
        </p:grpSpPr>
        <p:grpSp>
          <p:nvGrpSpPr>
            <p:cNvPr id="539" name=""/>
            <p:cNvGrpSpPr/>
            <p:nvPr/>
          </p:nvGrpSpPr>
          <p:grpSpPr>
            <a:xfrm>
              <a:off x="5952960" y="5172120"/>
              <a:ext cx="361440" cy="332640"/>
              <a:chOff x="5952960" y="5172120"/>
              <a:chExt cx="361440" cy="332640"/>
            </a:xfrm>
          </p:grpSpPr>
          <p:sp>
            <p:nvSpPr>
              <p:cNvPr id="540" name=""/>
              <p:cNvSpPr/>
              <p:nvPr/>
            </p:nvSpPr>
            <p:spPr>
              <a:xfrm>
                <a:off x="5952960" y="51721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133680" y="51721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952960" y="53384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133680" y="53384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6327360" y="518004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95000" y="532620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43880" y="518652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0520" y="531036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2714760" y="2685960"/>
            <a:ext cx="1257120" cy="497880"/>
            <a:chOff x="2714760" y="2685960"/>
            <a:chExt cx="1257120" cy="497880"/>
          </a:xfrm>
        </p:grpSpPr>
        <p:sp>
          <p:nvSpPr>
            <p:cNvPr id="549" name=""/>
            <p:cNvSpPr/>
            <p:nvPr/>
          </p:nvSpPr>
          <p:spPr>
            <a:xfrm>
              <a:off x="3561120" y="2876400"/>
              <a:ext cx="4107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86280" y="268596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963880" y="2840040"/>
              <a:ext cx="192240" cy="226800"/>
              <a:chOff x="2963880" y="2840040"/>
              <a:chExt cx="192240" cy="226800"/>
            </a:xfrm>
          </p:grpSpPr>
          <p:pic>
            <p:nvPicPr>
              <p:cNvPr id="55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2963880" y="284004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2963880" y="284004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4" name=""/>
            <p:cNvGrpSpPr/>
            <p:nvPr/>
          </p:nvGrpSpPr>
          <p:grpSpPr>
            <a:xfrm>
              <a:off x="2714760" y="2828880"/>
              <a:ext cx="199800" cy="247320"/>
              <a:chOff x="2714760" y="2828880"/>
              <a:chExt cx="199800" cy="247320"/>
            </a:xfrm>
          </p:grpSpPr>
          <p:pic>
            <p:nvPicPr>
              <p:cNvPr id="55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714760" y="28288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6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714760" y="28288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7" name=""/>
            <p:cNvSpPr/>
            <p:nvPr/>
          </p:nvSpPr>
          <p:spPr>
            <a:xfrm>
              <a:off x="3144600" y="2832120"/>
              <a:ext cx="41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35240" y="29527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187640" y="3032280"/>
            <a:ext cx="70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קבלת שב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191280" y="3633840"/>
            <a:ext cx="1047240" cy="478800"/>
            <a:chOff x="6191280" y="3633840"/>
            <a:chExt cx="1047240" cy="478800"/>
          </a:xfrm>
        </p:grpSpPr>
        <p:grpSp>
          <p:nvGrpSpPr>
            <p:cNvPr id="561" name=""/>
            <p:cNvGrpSpPr/>
            <p:nvPr/>
          </p:nvGrpSpPr>
          <p:grpSpPr>
            <a:xfrm>
              <a:off x="6191280" y="3676680"/>
              <a:ext cx="361440" cy="332640"/>
              <a:chOff x="6191280" y="3676680"/>
              <a:chExt cx="361440" cy="332640"/>
            </a:xfrm>
          </p:grpSpPr>
          <p:sp>
            <p:nvSpPr>
              <p:cNvPr id="562" name=""/>
              <p:cNvSpPr/>
              <p:nvPr/>
            </p:nvSpPr>
            <p:spPr>
              <a:xfrm>
                <a:off x="6191280" y="36766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372000" y="36766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191280" y="38430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372000" y="38430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737040" y="378000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928560" y="390672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96000" y="363384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82520" y="388152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קלט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005440" y="4141800"/>
            <a:ext cx="1143000" cy="450360"/>
            <a:chOff x="5005440" y="4141800"/>
            <a:chExt cx="1143000" cy="450360"/>
          </a:xfrm>
        </p:grpSpPr>
        <p:sp>
          <p:nvSpPr>
            <p:cNvPr id="571" name=""/>
            <p:cNvSpPr/>
            <p:nvPr/>
          </p:nvSpPr>
          <p:spPr>
            <a:xfrm>
              <a:off x="5410080" y="414180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477400" y="430992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10040" y="442260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4" name="mh2l_p" descr=""/>
            <p:cNvPicPr/>
            <p:nvPr/>
          </p:nvPicPr>
          <p:blipFill>
            <a:blip r:embed="rId25"/>
            <a:stretch/>
          </p:blipFill>
          <p:spPr>
            <a:xfrm>
              <a:off x="5005440" y="417996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5459400" y="44546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145200" y="4065480"/>
            <a:ext cx="1140120" cy="526680"/>
            <a:chOff x="6145200" y="4065480"/>
            <a:chExt cx="1140120" cy="526680"/>
          </a:xfrm>
        </p:grpSpPr>
        <p:sp>
          <p:nvSpPr>
            <p:cNvPr id="577" name=""/>
            <p:cNvSpPr/>
            <p:nvPr/>
          </p:nvSpPr>
          <p:spPr>
            <a:xfrm>
              <a:off x="6670080" y="4065480"/>
              <a:ext cx="441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"ארוע"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75120" y="4224240"/>
              <a:ext cx="57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41720" y="4308480"/>
              <a:ext cx="33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וו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48400" y="4454640"/>
              <a:ext cx="73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האו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1" name="mh6_g" descr=""/>
            <p:cNvPicPr/>
            <p:nvPr/>
          </p:nvPicPr>
          <p:blipFill>
            <a:blip r:embed="rId26"/>
            <a:stretch/>
          </p:blipFill>
          <p:spPr>
            <a:xfrm>
              <a:off x="6145200" y="4125960"/>
              <a:ext cx="492120" cy="4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2" name=""/>
          <p:cNvGrpSpPr/>
          <p:nvPr/>
        </p:nvGrpSpPr>
        <p:grpSpPr>
          <a:xfrm>
            <a:off x="3824280" y="3821040"/>
            <a:ext cx="1242000" cy="634320"/>
            <a:chOff x="3824280" y="3821040"/>
            <a:chExt cx="1242000" cy="634320"/>
          </a:xfrm>
        </p:grpSpPr>
        <p:sp>
          <p:nvSpPr>
            <p:cNvPr id="583" name=""/>
            <p:cNvSpPr/>
            <p:nvPr/>
          </p:nvSpPr>
          <p:spPr>
            <a:xfrm>
              <a:off x="4002480" y="3821040"/>
              <a:ext cx="100944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רטים קלאס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29720" y="398124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550040" y="41083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6" name="funny_men_hand_cart_ty_CLR" descr=""/>
            <p:cNvPicPr/>
            <p:nvPr/>
          </p:nvPicPr>
          <p:blipFill>
            <a:blip r:embed="rId27"/>
            <a:stretch/>
          </p:blipFill>
          <p:spPr>
            <a:xfrm>
              <a:off x="3824280" y="3954240"/>
              <a:ext cx="57960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4259160" y="42242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2714760" y="4119480"/>
            <a:ext cx="1204920" cy="488160"/>
            <a:chOff x="2714760" y="4119480"/>
            <a:chExt cx="1204920" cy="488160"/>
          </a:xfrm>
        </p:grpSpPr>
        <p:grpSp>
          <p:nvGrpSpPr>
            <p:cNvPr id="589" name=""/>
            <p:cNvGrpSpPr/>
            <p:nvPr/>
          </p:nvGrpSpPr>
          <p:grpSpPr>
            <a:xfrm>
              <a:off x="2714760" y="4181400"/>
              <a:ext cx="361440" cy="332640"/>
              <a:chOff x="2714760" y="4181400"/>
              <a:chExt cx="361440" cy="332640"/>
            </a:xfrm>
          </p:grpSpPr>
          <p:sp>
            <p:nvSpPr>
              <p:cNvPr id="590" name=""/>
              <p:cNvSpPr/>
              <p:nvPr/>
            </p:nvSpPr>
            <p:spPr>
              <a:xfrm>
                <a:off x="2714760" y="41814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95480" y="41814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714760" y="43477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895480" y="43477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3127680" y="4294080"/>
              <a:ext cx="581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ל הרמ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461760" y="439236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086280" y="4119480"/>
              <a:ext cx="833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- תג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15360" y="437652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76400" y="3656160"/>
            <a:ext cx="1007280" cy="500760"/>
            <a:chOff x="2876400" y="3656160"/>
            <a:chExt cx="1007280" cy="500760"/>
          </a:xfrm>
        </p:grpSpPr>
        <p:sp>
          <p:nvSpPr>
            <p:cNvPr id="599" name=""/>
            <p:cNvSpPr/>
            <p:nvPr/>
          </p:nvSpPr>
          <p:spPr>
            <a:xfrm>
              <a:off x="3128400" y="365616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" descr=""/>
            <p:cNvPicPr/>
            <p:nvPr/>
          </p:nvPicPr>
          <p:blipFill>
            <a:blip r:embed="rId28"/>
            <a:stretch/>
          </p:blipFill>
          <p:spPr>
            <a:xfrm>
              <a:off x="2905200" y="373212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29"/>
            <a:stretch/>
          </p:blipFill>
          <p:spPr>
            <a:xfrm>
              <a:off x="2876400" y="3732120"/>
              <a:ext cx="295560" cy="3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3205080" y="383544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18360" y="393372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68640" y="392580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1331280" y="4030560"/>
            <a:ext cx="512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פרלמנט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863640" y="4363920"/>
            <a:ext cx="1325160" cy="780480"/>
            <a:chOff x="863640" y="4363920"/>
            <a:chExt cx="1325160" cy="780480"/>
          </a:xfrm>
        </p:grpSpPr>
        <p:pic>
          <p:nvPicPr>
            <p:cNvPr id="607" name="" descr=""/>
            <p:cNvPicPr/>
            <p:nvPr/>
          </p:nvPicPr>
          <p:blipFill>
            <a:blip r:embed="rId30"/>
            <a:stretch/>
          </p:blipFill>
          <p:spPr>
            <a:xfrm>
              <a:off x="863640" y="4363920"/>
              <a:ext cx="1325160" cy="78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31"/>
            <a:stretch/>
          </p:blipFill>
          <p:spPr>
            <a:xfrm>
              <a:off x="863640" y="4363920"/>
              <a:ext cx="1325160" cy="78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9" name=""/>
          <p:cNvGrpSpPr/>
          <p:nvPr/>
        </p:nvGrpSpPr>
        <p:grpSpPr>
          <a:xfrm>
            <a:off x="5008680" y="3603600"/>
            <a:ext cx="1166040" cy="557280"/>
            <a:chOff x="5008680" y="3603600"/>
            <a:chExt cx="1166040" cy="557280"/>
          </a:xfrm>
        </p:grpSpPr>
        <p:pic>
          <p:nvPicPr>
            <p:cNvPr id="610" name="" descr=""/>
            <p:cNvPicPr/>
            <p:nvPr/>
          </p:nvPicPr>
          <p:blipFill>
            <a:blip r:embed="rId32"/>
            <a:stretch/>
          </p:blipFill>
          <p:spPr>
            <a:xfrm>
              <a:off x="5160960" y="3638520"/>
              <a:ext cx="3621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" descr=""/>
            <p:cNvPicPr/>
            <p:nvPr/>
          </p:nvPicPr>
          <p:blipFill>
            <a:blip r:embed="rId33"/>
            <a:stretch/>
          </p:blipFill>
          <p:spPr>
            <a:xfrm>
              <a:off x="5008680" y="3657600"/>
              <a:ext cx="404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5280840" y="3603600"/>
              <a:ext cx="8938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מתחיל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51560" y="38401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97400" y="39196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5019840" y="5276880"/>
            <a:ext cx="79200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חני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2809800" y="4713120"/>
            <a:ext cx="902520" cy="729720"/>
            <a:chOff x="2809800" y="4713120"/>
            <a:chExt cx="902520" cy="729720"/>
          </a:xfrm>
        </p:grpSpPr>
        <p:sp>
          <p:nvSpPr>
            <p:cNvPr id="617" name=""/>
            <p:cNvSpPr/>
            <p:nvPr/>
          </p:nvSpPr>
          <p:spPr>
            <a:xfrm>
              <a:off x="2957040" y="471312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8" name="" descr=""/>
            <p:cNvPicPr/>
            <p:nvPr/>
          </p:nvPicPr>
          <p:blipFill>
            <a:blip r:embed="rId34"/>
            <a:stretch/>
          </p:blipFill>
          <p:spPr>
            <a:xfrm>
              <a:off x="2809800" y="487512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35"/>
            <a:stretch/>
          </p:blipFill>
          <p:spPr>
            <a:xfrm>
              <a:off x="2809800" y="487512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231000" y="492120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123000" y="511488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44800" y="521172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805200" y="4754520"/>
            <a:ext cx="1242000" cy="634320"/>
            <a:chOff x="3805200" y="4754520"/>
            <a:chExt cx="1242000" cy="634320"/>
          </a:xfrm>
        </p:grpSpPr>
        <p:sp>
          <p:nvSpPr>
            <p:cNvPr id="624" name=""/>
            <p:cNvSpPr/>
            <p:nvPr/>
          </p:nvSpPr>
          <p:spPr>
            <a:xfrm>
              <a:off x="3983400" y="4754520"/>
              <a:ext cx="100944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רטים קלאס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10640" y="491472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30960" y="50418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7" name="funny_men_hand_cart_ty_CLR" descr=""/>
            <p:cNvPicPr/>
            <p:nvPr/>
          </p:nvPicPr>
          <p:blipFill>
            <a:blip r:embed="rId36"/>
            <a:stretch/>
          </p:blipFill>
          <p:spPr>
            <a:xfrm>
              <a:off x="3805200" y="4887720"/>
              <a:ext cx="57960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4240080" y="51577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6056280" y="4594320"/>
            <a:ext cx="1194840" cy="642240"/>
            <a:chOff x="6056280" y="4594320"/>
            <a:chExt cx="1194840" cy="642240"/>
          </a:xfrm>
        </p:grpSpPr>
        <p:pic>
          <p:nvPicPr>
            <p:cNvPr id="630" name="" descr=""/>
            <p:cNvPicPr/>
            <p:nvPr/>
          </p:nvPicPr>
          <p:blipFill>
            <a:blip r:embed="rId37"/>
            <a:stretch/>
          </p:blipFill>
          <p:spPr>
            <a:xfrm>
              <a:off x="6170760" y="4638600"/>
              <a:ext cx="361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38"/>
            <a:stretch/>
          </p:blipFill>
          <p:spPr>
            <a:xfrm>
              <a:off x="6056280" y="4610160"/>
              <a:ext cx="405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6357240" y="4594320"/>
              <a:ext cx="893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ו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מתחיל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13640" y="490716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83160" y="50054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2781360" y="5646600"/>
            <a:ext cx="902160" cy="729720"/>
            <a:chOff x="2781360" y="5646600"/>
            <a:chExt cx="902160" cy="729720"/>
          </a:xfrm>
        </p:grpSpPr>
        <p:sp>
          <p:nvSpPr>
            <p:cNvPr id="636" name=""/>
            <p:cNvSpPr/>
            <p:nvPr/>
          </p:nvSpPr>
          <p:spPr>
            <a:xfrm>
              <a:off x="2928240" y="564660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7" name="" descr=""/>
            <p:cNvPicPr/>
            <p:nvPr/>
          </p:nvPicPr>
          <p:blipFill>
            <a:blip r:embed="rId39"/>
            <a:stretch/>
          </p:blipFill>
          <p:spPr>
            <a:xfrm>
              <a:off x="2781360" y="580860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" descr=""/>
            <p:cNvPicPr/>
            <p:nvPr/>
          </p:nvPicPr>
          <p:blipFill>
            <a:blip r:embed="rId40"/>
            <a:stretch/>
          </p:blipFill>
          <p:spPr>
            <a:xfrm>
              <a:off x="2781360" y="580860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3202560" y="585468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94560" y="604836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916000" y="614520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776760" y="5688000"/>
            <a:ext cx="1242000" cy="634320"/>
            <a:chOff x="3776760" y="5688000"/>
            <a:chExt cx="1242000" cy="634320"/>
          </a:xfrm>
        </p:grpSpPr>
        <p:sp>
          <p:nvSpPr>
            <p:cNvPr id="643" name=""/>
            <p:cNvSpPr/>
            <p:nvPr/>
          </p:nvSpPr>
          <p:spPr>
            <a:xfrm>
              <a:off x="3954960" y="5688000"/>
              <a:ext cx="100944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רטים קלאס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82200" y="584820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02520" y="59752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6" name="funny_men_hand_cart_ty_CLR" descr=""/>
            <p:cNvPicPr/>
            <p:nvPr/>
          </p:nvPicPr>
          <p:blipFill>
            <a:blip r:embed="rId41"/>
            <a:stretch/>
          </p:blipFill>
          <p:spPr>
            <a:xfrm>
              <a:off x="3776760" y="5821200"/>
              <a:ext cx="57960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4211640" y="60912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4968720" y="914400"/>
            <a:ext cx="1040040" cy="682560"/>
            <a:chOff x="4968720" y="914400"/>
            <a:chExt cx="1040040" cy="682560"/>
          </a:xfrm>
        </p:grpSpPr>
        <p:sp>
          <p:nvSpPr>
            <p:cNvPr id="649" name=""/>
            <p:cNvSpPr/>
            <p:nvPr/>
          </p:nvSpPr>
          <p:spPr>
            <a:xfrm>
              <a:off x="5582880" y="1181160"/>
              <a:ext cx="342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968720" y="914400"/>
              <a:ext cx="1040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בוכים ודרקונ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(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&amp;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85320" y="138456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נת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2" name="dragon_blowing_fire_sm_CLR" descr=""/>
            <p:cNvPicPr/>
            <p:nvPr/>
          </p:nvPicPr>
          <p:blipFill>
            <a:blip r:embed="rId42"/>
            <a:stretch/>
          </p:blipFill>
          <p:spPr>
            <a:xfrm>
              <a:off x="5089320" y="1060560"/>
              <a:ext cx="479520" cy="5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3" name=""/>
          <p:cNvGrpSpPr/>
          <p:nvPr/>
        </p:nvGrpSpPr>
        <p:grpSpPr>
          <a:xfrm>
            <a:off x="5037120" y="4665600"/>
            <a:ext cx="956520" cy="647280"/>
            <a:chOff x="5037120" y="4665600"/>
            <a:chExt cx="956520" cy="647280"/>
          </a:xfrm>
        </p:grpSpPr>
        <p:sp>
          <p:nvSpPr>
            <p:cNvPr id="654" name=""/>
            <p:cNvSpPr/>
            <p:nvPr/>
          </p:nvSpPr>
          <p:spPr>
            <a:xfrm>
              <a:off x="5377320" y="482904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53280" y="4686480"/>
              <a:ext cx="445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47960" y="4908600"/>
              <a:ext cx="33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וו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039280" y="508176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האו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8" name="palette2" descr=""/>
            <p:cNvPicPr/>
            <p:nvPr/>
          </p:nvPicPr>
          <p:blipFill>
            <a:blip r:embed="rId43"/>
            <a:stretch/>
          </p:blipFill>
          <p:spPr>
            <a:xfrm>
              <a:off x="5037120" y="4665600"/>
              <a:ext cx="412920" cy="5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9" name=""/>
          <p:cNvGrpSpPr/>
          <p:nvPr/>
        </p:nvGrpSpPr>
        <p:grpSpPr>
          <a:xfrm>
            <a:off x="3797280" y="3030480"/>
            <a:ext cx="1172160" cy="650160"/>
            <a:chOff x="3797280" y="3030480"/>
            <a:chExt cx="1172160" cy="650160"/>
          </a:xfrm>
        </p:grpSpPr>
        <p:sp>
          <p:nvSpPr>
            <p:cNvPr id="660" name=""/>
            <p:cNvSpPr/>
            <p:nvPr/>
          </p:nvSpPr>
          <p:spPr>
            <a:xfrm>
              <a:off x="4274640" y="3267000"/>
              <a:ext cx="590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ב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33040" y="33670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2" name="earthy_pollution_sm_CLR" descr=""/>
            <p:cNvPicPr/>
            <p:nvPr/>
          </p:nvPicPr>
          <p:blipFill>
            <a:blip r:embed="rId44"/>
            <a:stretch/>
          </p:blipFill>
          <p:spPr>
            <a:xfrm>
              <a:off x="3797280" y="3030480"/>
              <a:ext cx="54468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4125600" y="3449520"/>
              <a:ext cx="843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או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55320" y="3094200"/>
              <a:ext cx="96552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אדם והס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499000" y="5662440"/>
            <a:ext cx="956880" cy="647280"/>
            <a:chOff x="5499000" y="5662440"/>
            <a:chExt cx="956880" cy="647280"/>
          </a:xfrm>
        </p:grpSpPr>
        <p:sp>
          <p:nvSpPr>
            <p:cNvPr id="666" name=""/>
            <p:cNvSpPr/>
            <p:nvPr/>
          </p:nvSpPr>
          <p:spPr>
            <a:xfrm>
              <a:off x="5839560" y="582624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15520" y="5683320"/>
              <a:ext cx="445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09840" y="5905440"/>
              <a:ext cx="33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וו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01160" y="607860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האו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0" name="palette2" descr=""/>
            <p:cNvPicPr/>
            <p:nvPr/>
          </p:nvPicPr>
          <p:blipFill>
            <a:blip r:embed="rId45"/>
            <a:stretch/>
          </p:blipFill>
          <p:spPr>
            <a:xfrm>
              <a:off x="5499000" y="5662440"/>
              <a:ext cx="412920" cy="5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1" name=""/>
          <p:cNvGrpSpPr/>
          <p:nvPr/>
        </p:nvGrpSpPr>
        <p:grpSpPr>
          <a:xfrm>
            <a:off x="5621400" y="1828800"/>
            <a:ext cx="1150560" cy="662760"/>
            <a:chOff x="5621400" y="1828800"/>
            <a:chExt cx="1150560" cy="662760"/>
          </a:xfrm>
        </p:grpSpPr>
        <p:sp>
          <p:nvSpPr>
            <p:cNvPr id="672" name=""/>
            <p:cNvSpPr/>
            <p:nvPr/>
          </p:nvSpPr>
          <p:spPr>
            <a:xfrm>
              <a:off x="6258960" y="182880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176880" y="2022480"/>
              <a:ext cx="595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298200" y="213192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137280" y="226044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6" name="noahs_ark_rocking_ty_CLR" descr=""/>
            <p:cNvPicPr/>
            <p:nvPr/>
          </p:nvPicPr>
          <p:blipFill>
            <a:blip r:embed="rId46"/>
            <a:stretch/>
          </p:blipFill>
          <p:spPr>
            <a:xfrm>
              <a:off x="5621400" y="1917720"/>
              <a:ext cx="63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3:36:17Z</dcterms:created>
  <dc:creator>--</dc:creator>
  <dc:description/>
  <dc:language>en-US</dc:language>
  <cp:lastModifiedBy>--</cp:lastModifiedBy>
  <dcterms:modified xsi:type="dcterms:W3CDTF">2004-04-30T06:53:24Z</dcterms:modified>
  <cp:revision>119</cp:revision>
  <dc:subject/>
  <dc:title>מצגת של PowerPoint</dc:title>
</cp:coreProperties>
</file>