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8.gif" ContentType="image/gif"/>
  <Override PartName="/ppt/media/image6.wmf" ContentType="image/x-wmf"/>
  <Override PartName="/ppt/media/image50.gif" ContentType="image/gif"/>
  <Override PartName="/ppt/media/image56.gif" ContentType="image/gif"/>
  <Override PartName="/ppt/media/image4.wmf" ContentType="image/x-wmf"/>
  <Override PartName="/ppt/media/image66.jpeg" ContentType="image/jpeg"/>
  <Override PartName="/ppt/media/image52.wmf" ContentType="image/x-wmf"/>
  <Override PartName="/ppt/media/image49.png" ContentType="image/png"/>
  <Override PartName="/ppt/media/image55.gif" ContentType="image/gif"/>
  <Override PartName="/ppt/media/image3.wmf" ContentType="image/x-wmf"/>
  <Override PartName="/ppt/media/image5.wmf" ContentType="image/x-wmf"/>
  <Override PartName="/ppt/media/image9.gif" ContentType="image/gif"/>
  <Override PartName="/ppt/media/image35.wmf" ContentType="image/x-wmf"/>
  <Override PartName="/ppt/media/image39.gif" ContentType="image/gif"/>
  <Override PartName="/ppt/media/image15.gif" ContentType="image/gif"/>
  <Override PartName="/ppt/media/image20.png" ContentType="image/png"/>
  <Override PartName="/ppt/media/image64.gif" ContentType="image/gif"/>
  <Override PartName="/ppt/media/image28.jpeg" ContentType="image/jpeg"/>
  <Override PartName="/ppt/media/image67.gif" ContentType="image/gif"/>
  <Override PartName="/ppt/media/image16.gif" ContentType="image/gif"/>
  <Override PartName="/ppt/media/image19.png" ContentType="image/png"/>
  <Override PartName="/ppt/media/image51.wmf" ContentType="image/x-wmf"/>
  <Override PartName="/ppt/media/image26.gif" ContentType="image/gif"/>
  <Override PartName="/ppt/media/image21.png" ContentType="image/png"/>
  <Override PartName="/ppt/media/image17.gif" ContentType="image/gif"/>
  <Override PartName="/ppt/media/image18.gif" ContentType="image/gif"/>
  <Override PartName="/ppt/media/image60.gif" ContentType="image/gif"/>
  <Override PartName="/ppt/media/image22.gif" ContentType="image/gif"/>
  <Override PartName="/ppt/media/image59.gif" ContentType="image/gif"/>
  <Override PartName="/ppt/media/image70.png" ContentType="image/png"/>
  <Override PartName="/ppt/media/image34.gif" ContentType="image/gif"/>
  <Override PartName="/ppt/media/image27.png" ContentType="image/png"/>
  <Override PartName="/ppt/media/image69.gif" ContentType="image/gif"/>
  <Override PartName="/ppt/media/image32.gif" ContentType="image/gif"/>
  <Override PartName="/ppt/media/image8.gif" ContentType="image/gif"/>
  <Override PartName="/ppt/media/image68.gif" ContentType="image/gif"/>
  <Override PartName="/ppt/media/image24.png" ContentType="image/png"/>
  <Override PartName="/ppt/media/image1.gif" ContentType="image/gif"/>
  <Override PartName="/ppt/media/image29.gif" ContentType="image/gif"/>
  <Override PartName="/ppt/media/image63.gif" ContentType="image/gif"/>
  <Override PartName="/ppt/media/image65.png" ContentType="image/png"/>
  <Override PartName="/ppt/media/image62.gif" ContentType="image/gif"/>
  <Override PartName="/ppt/media/image61.gif" ContentType="image/gif"/>
  <Override PartName="/ppt/media/image23.gif" ContentType="image/gif"/>
  <Override PartName="/ppt/media/image7.gif" ContentType="image/gif"/>
  <Override PartName="/ppt/media/image10.gif" ContentType="image/gif"/>
  <Override PartName="/ppt/media/image25.gif" ContentType="image/gif"/>
  <Override PartName="/ppt/media/image2.gif" ContentType="image/gif"/>
  <Override PartName="/ppt/media/image14.gif" ContentType="image/gif"/>
  <Override PartName="/ppt/media/image11.gif" ContentType="image/gif"/>
  <Override PartName="/ppt/media/image30.png" ContentType="image/png"/>
  <Override PartName="/ppt/media/image31.png" ContentType="image/png"/>
  <Override PartName="/ppt/media/image33.png" ContentType="image/png"/>
  <Override PartName="/ppt/media/image36.gif" ContentType="image/gif"/>
  <Override PartName="/ppt/media/image12.jpeg" ContentType="image/jpeg"/>
  <Override PartName="/ppt/media/image37.wmf" ContentType="image/x-wmf"/>
  <Override PartName="/ppt/media/image38.wmf" ContentType="image/x-wmf"/>
  <Override PartName="/ppt/media/image40.png" ContentType="image/png"/>
  <Override PartName="/ppt/media/image41.png" ContentType="image/png"/>
  <Override PartName="/ppt/media/image42.gif" ContentType="image/gif"/>
  <Override PartName="/ppt/media/image43.gif" ContentType="image/gif"/>
  <Override PartName="/ppt/media/image46.png" ContentType="image/png"/>
  <Override PartName="/ppt/media/image13.wmf" ContentType="image/x-wmf"/>
  <Override PartName="/ppt/media/image53.gif" ContentType="image/gif"/>
  <Override PartName="/ppt/media/image44.gif" ContentType="image/gif"/>
  <Override PartName="/ppt/media/image47.png" ContentType="image/png"/>
  <Override PartName="/ppt/media/image57.png" ContentType="image/png"/>
  <Override PartName="/ppt/media/image54.gif" ContentType="image/gif"/>
  <Override PartName="/ppt/media/image45.gif" ContentType="image/gif"/>
  <Override PartName="/ppt/media/image4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4825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1FA8B-E3C5-40B1-8769-C6338F5F8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CE1E0-312D-4D07-A675-6EE2D3F10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A9A03-84BF-4862-97EC-61B2DAE27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4C750-10BB-4111-B2B9-EB906B03E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BDC3B-4CD3-4A92-AE88-99EE35C11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72277-1428-4E36-A00C-67CCB06A5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AA332-5668-4645-8C78-46194C402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6BDFE-5591-4134-9BAF-328E68BD0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98D90-B4C2-47F8-96B8-F8BD75432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5405D-C80B-4992-A30A-463297B85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95839-FFA8-4F69-9DA3-45B629FE6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17C04-AF8C-4EF6-8F58-3F5C4ED5B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AA385-841D-415D-9E1C-AAD151AF0B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gif"/><Relationship Id="rId8" Type="http://schemas.openxmlformats.org/officeDocument/2006/relationships/image" Target="../media/image8.gif"/><Relationship Id="rId9" Type="http://schemas.openxmlformats.org/officeDocument/2006/relationships/image" Target="../media/image9.gif"/><Relationship Id="rId10" Type="http://schemas.openxmlformats.org/officeDocument/2006/relationships/image" Target="../media/image10.gif"/><Relationship Id="rId11" Type="http://schemas.openxmlformats.org/officeDocument/2006/relationships/image" Target="../media/image11.gif"/><Relationship Id="rId12" Type="http://schemas.openxmlformats.org/officeDocument/2006/relationships/image" Target="../media/image11.gif"/><Relationship Id="rId13" Type="http://schemas.openxmlformats.org/officeDocument/2006/relationships/image" Target="../media/image12.jpeg"/><Relationship Id="rId14" Type="http://schemas.openxmlformats.org/officeDocument/2006/relationships/image" Target="../media/image10.gif"/><Relationship Id="rId15" Type="http://schemas.openxmlformats.org/officeDocument/2006/relationships/image" Target="../media/image13.wmf"/><Relationship Id="rId16" Type="http://schemas.openxmlformats.org/officeDocument/2006/relationships/image" Target="../media/image14.gif"/><Relationship Id="rId17" Type="http://schemas.openxmlformats.org/officeDocument/2006/relationships/image" Target="../media/image15.gif"/><Relationship Id="rId18" Type="http://schemas.openxmlformats.org/officeDocument/2006/relationships/image" Target="../media/image16.gif"/><Relationship Id="rId19" Type="http://schemas.openxmlformats.org/officeDocument/2006/relationships/image" Target="../media/image10.gif"/><Relationship Id="rId20" Type="http://schemas.openxmlformats.org/officeDocument/2006/relationships/image" Target="../media/image17.gif"/><Relationship Id="rId21" Type="http://schemas.openxmlformats.org/officeDocument/2006/relationships/image" Target="../media/image3.wmf"/><Relationship Id="rId22" Type="http://schemas.openxmlformats.org/officeDocument/2006/relationships/image" Target="../media/image4.wmf"/><Relationship Id="rId23" Type="http://schemas.openxmlformats.org/officeDocument/2006/relationships/image" Target="../media/image5.wmf"/><Relationship Id="rId24" Type="http://schemas.openxmlformats.org/officeDocument/2006/relationships/image" Target="../media/image6.wmf"/><Relationship Id="rId25" Type="http://schemas.openxmlformats.org/officeDocument/2006/relationships/image" Target="../media/image3.wmf"/><Relationship Id="rId26" Type="http://schemas.openxmlformats.org/officeDocument/2006/relationships/image" Target="../media/image4.wmf"/><Relationship Id="rId27" Type="http://schemas.openxmlformats.org/officeDocument/2006/relationships/image" Target="../media/image5.wmf"/><Relationship Id="rId28" Type="http://schemas.openxmlformats.org/officeDocument/2006/relationships/image" Target="../media/image6.wmf"/><Relationship Id="rId29" Type="http://schemas.openxmlformats.org/officeDocument/2006/relationships/image" Target="../media/image3.wmf"/><Relationship Id="rId30" Type="http://schemas.openxmlformats.org/officeDocument/2006/relationships/image" Target="../media/image4.wmf"/><Relationship Id="rId31" Type="http://schemas.openxmlformats.org/officeDocument/2006/relationships/image" Target="../media/image5.wmf"/><Relationship Id="rId32" Type="http://schemas.openxmlformats.org/officeDocument/2006/relationships/image" Target="../media/image6.wmf"/><Relationship Id="rId33" Type="http://schemas.openxmlformats.org/officeDocument/2006/relationships/image" Target="../media/image13.wmf"/><Relationship Id="rId34" Type="http://schemas.openxmlformats.org/officeDocument/2006/relationships/image" Target="../media/image14.gif"/><Relationship Id="rId35" Type="http://schemas.openxmlformats.org/officeDocument/2006/relationships/image" Target="../media/image18.gif"/><Relationship Id="rId36" Type="http://schemas.openxmlformats.org/officeDocument/2006/relationships/image" Target="../media/image3.wmf"/><Relationship Id="rId37" Type="http://schemas.openxmlformats.org/officeDocument/2006/relationships/image" Target="../media/image4.wmf"/><Relationship Id="rId38" Type="http://schemas.openxmlformats.org/officeDocument/2006/relationships/image" Target="../media/image5.wmf"/><Relationship Id="rId39" Type="http://schemas.openxmlformats.org/officeDocument/2006/relationships/image" Target="../media/image6.wmf"/><Relationship Id="rId40" Type="http://schemas.openxmlformats.org/officeDocument/2006/relationships/image" Target="../media/image19.png"/><Relationship Id="rId41" Type="http://schemas.openxmlformats.org/officeDocument/2006/relationships/image" Target="../media/image19.png"/><Relationship Id="rId42" Type="http://schemas.openxmlformats.org/officeDocument/2006/relationships/image" Target="../media/image19.png"/><Relationship Id="rId43" Type="http://schemas.openxmlformats.org/officeDocument/2006/relationships/image" Target="../media/image20.png"/><Relationship Id="rId44" Type="http://schemas.openxmlformats.org/officeDocument/2006/relationships/image" Target="../media/image21.png"/><Relationship Id="rId45" Type="http://schemas.openxmlformats.org/officeDocument/2006/relationships/image" Target="../media/image13.wmf"/><Relationship Id="rId46" Type="http://schemas.openxmlformats.org/officeDocument/2006/relationships/image" Target="../media/image14.gif"/><Relationship Id="rId47" Type="http://schemas.openxmlformats.org/officeDocument/2006/relationships/image" Target="../media/image22.gif"/><Relationship Id="rId48" Type="http://schemas.openxmlformats.org/officeDocument/2006/relationships/image" Target="../media/image23.gif"/><Relationship Id="rId49" Type="http://schemas.openxmlformats.org/officeDocument/2006/relationships/image" Target="../media/image1.gif"/><Relationship Id="rId50" Type="http://schemas.openxmlformats.org/officeDocument/2006/relationships/image" Target="../media/image24.png"/><Relationship Id="rId51" Type="http://schemas.openxmlformats.org/officeDocument/2006/relationships/image" Target="../media/image10.gif"/><Relationship Id="rId52" Type="http://schemas.openxmlformats.org/officeDocument/2006/relationships/image" Target="../media/image19.png"/><Relationship Id="rId53" Type="http://schemas.openxmlformats.org/officeDocument/2006/relationships/image" Target="../media/image25.gif"/><Relationship Id="rId54" Type="http://schemas.openxmlformats.org/officeDocument/2006/relationships/image" Target="../media/image3.wmf"/><Relationship Id="rId55" Type="http://schemas.openxmlformats.org/officeDocument/2006/relationships/image" Target="../media/image4.wmf"/><Relationship Id="rId56" Type="http://schemas.openxmlformats.org/officeDocument/2006/relationships/image" Target="../media/image5.wmf"/><Relationship Id="rId57" Type="http://schemas.openxmlformats.org/officeDocument/2006/relationships/image" Target="../media/image6.wmf"/><Relationship Id="rId58" Type="http://schemas.openxmlformats.org/officeDocument/2006/relationships/image" Target="../media/image26.gif"/><Relationship Id="rId59" Type="http://schemas.openxmlformats.org/officeDocument/2006/relationships/image" Target="../media/image3.wmf"/><Relationship Id="rId60" Type="http://schemas.openxmlformats.org/officeDocument/2006/relationships/image" Target="../media/image4.wmf"/><Relationship Id="rId61" Type="http://schemas.openxmlformats.org/officeDocument/2006/relationships/image" Target="../media/image5.wmf"/><Relationship Id="rId62" Type="http://schemas.openxmlformats.org/officeDocument/2006/relationships/image" Target="../media/image6.wmf"/><Relationship Id="rId63" Type="http://schemas.openxmlformats.org/officeDocument/2006/relationships/image" Target="../media/image10.gif"/><Relationship Id="rId64" Type="http://schemas.openxmlformats.org/officeDocument/2006/relationships/image" Target="../media/image27.png"/><Relationship Id="rId65" Type="http://schemas.openxmlformats.org/officeDocument/2006/relationships/image" Target="../media/image8.gif"/><Relationship Id="rId66" Type="http://schemas.openxmlformats.org/officeDocument/2006/relationships/image" Target="../media/image28.jpeg"/><Relationship Id="rId67" Type="http://schemas.openxmlformats.org/officeDocument/2006/relationships/image" Target="../media/image27.png"/><Relationship Id="rId68" Type="http://schemas.openxmlformats.org/officeDocument/2006/relationships/image" Target="../media/image29.gif"/><Relationship Id="rId69" Type="http://schemas.openxmlformats.org/officeDocument/2006/relationships/image" Target="../media/image19.png"/><Relationship Id="rId70" Type="http://schemas.openxmlformats.org/officeDocument/2006/relationships/image" Target="../media/image30.png"/><Relationship Id="rId71" Type="http://schemas.openxmlformats.org/officeDocument/2006/relationships/image" Target="../media/image8.gif"/><Relationship Id="rId72" Type="http://schemas.openxmlformats.org/officeDocument/2006/relationships/image" Target="../media/image31.png"/><Relationship Id="rId73" Type="http://schemas.openxmlformats.org/officeDocument/2006/relationships/image" Target="../media/image8.gif"/><Relationship Id="rId74" Type="http://schemas.openxmlformats.org/officeDocument/2006/relationships/image" Target="../media/image8.gif"/><Relationship Id="rId75" Type="http://schemas.openxmlformats.org/officeDocument/2006/relationships/image" Target="../media/image16.gif"/><Relationship Id="rId76" Type="http://schemas.openxmlformats.org/officeDocument/2006/relationships/image" Target="../media/image32.gif"/><Relationship Id="rId77" Type="http://schemas.openxmlformats.org/officeDocument/2006/relationships/image" Target="../media/image33.png"/><Relationship Id="rId78" Type="http://schemas.openxmlformats.org/officeDocument/2006/relationships/image" Target="../media/image3.wmf"/><Relationship Id="rId79" Type="http://schemas.openxmlformats.org/officeDocument/2006/relationships/image" Target="../media/image4.wmf"/><Relationship Id="rId80" Type="http://schemas.openxmlformats.org/officeDocument/2006/relationships/image" Target="../media/image5.wmf"/><Relationship Id="rId81" Type="http://schemas.openxmlformats.org/officeDocument/2006/relationships/image" Target="../media/image6.wmf"/><Relationship Id="rId82" Type="http://schemas.openxmlformats.org/officeDocument/2006/relationships/image" Target="../media/image34.gif"/><Relationship Id="rId83" Type="http://schemas.openxmlformats.org/officeDocument/2006/relationships/image" Target="../media/image34.gif"/><Relationship Id="rId84" Type="http://schemas.openxmlformats.org/officeDocument/2006/relationships/image" Target="../media/image35.wmf"/><Relationship Id="rId85" Type="http://schemas.openxmlformats.org/officeDocument/2006/relationships/image" Target="../media/image36.gif"/><Relationship Id="rId86" Type="http://schemas.openxmlformats.org/officeDocument/2006/relationships/image" Target="../media/image37.wmf"/><Relationship Id="rId87" Type="http://schemas.openxmlformats.org/officeDocument/2006/relationships/image" Target="../media/image38.wmf"/><Relationship Id="rId88" Type="http://schemas.openxmlformats.org/officeDocument/2006/relationships/image" Target="../media/image21.png"/><Relationship Id="rId89" Type="http://schemas.openxmlformats.org/officeDocument/2006/relationships/image" Target="../media/image39.gif"/><Relationship Id="rId90" Type="http://schemas.openxmlformats.org/officeDocument/2006/relationships/image" Target="../media/image39.gif"/><Relationship Id="rId91" Type="http://schemas.openxmlformats.org/officeDocument/2006/relationships/image" Target="../media/image3.wmf"/><Relationship Id="rId92" Type="http://schemas.openxmlformats.org/officeDocument/2006/relationships/image" Target="../media/image4.wmf"/><Relationship Id="rId93" Type="http://schemas.openxmlformats.org/officeDocument/2006/relationships/image" Target="../media/image5.wmf"/><Relationship Id="rId94" Type="http://schemas.openxmlformats.org/officeDocument/2006/relationships/image" Target="../media/image6.wmf"/><Relationship Id="rId95" Type="http://schemas.openxmlformats.org/officeDocument/2006/relationships/image" Target="../media/image40.png"/><Relationship Id="rId96" Type="http://schemas.openxmlformats.org/officeDocument/2006/relationships/image" Target="../media/image41.png"/><Relationship Id="rId97" Type="http://schemas.openxmlformats.org/officeDocument/2006/relationships/image" Target="../media/image42.gif"/><Relationship Id="rId98" Type="http://schemas.openxmlformats.org/officeDocument/2006/relationships/image" Target="../media/image43.gif"/><Relationship Id="rId99" Type="http://schemas.openxmlformats.org/officeDocument/2006/relationships/image" Target="../media/image44.gif"/><Relationship Id="rId100" Type="http://schemas.openxmlformats.org/officeDocument/2006/relationships/image" Target="../media/image43.gif"/><Relationship Id="rId101" Type="http://schemas.openxmlformats.org/officeDocument/2006/relationships/image" Target="../media/image45.gif"/><Relationship Id="rId102" Type="http://schemas.openxmlformats.org/officeDocument/2006/relationships/image" Target="../media/image25.gif"/><Relationship Id="rId103" Type="http://schemas.openxmlformats.org/officeDocument/2006/relationships/image" Target="../media/image46.png"/><Relationship Id="rId104" Type="http://schemas.openxmlformats.org/officeDocument/2006/relationships/image" Target="../media/image47.png"/><Relationship Id="rId105" Type="http://schemas.openxmlformats.org/officeDocument/2006/relationships/image" Target="../media/image48.png"/><Relationship Id="rId106" Type="http://schemas.openxmlformats.org/officeDocument/2006/relationships/image" Target="../media/image8.gif"/><Relationship Id="rId107" Type="http://schemas.openxmlformats.org/officeDocument/2006/relationships/image" Target="../media/image49.png"/><Relationship Id="rId108" Type="http://schemas.openxmlformats.org/officeDocument/2006/relationships/image" Target="../media/image50.gif"/><Relationship Id="rId109" Type="http://schemas.openxmlformats.org/officeDocument/2006/relationships/image" Target="../media/image42.gif"/><Relationship Id="rId110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1.wmf"/><Relationship Id="rId2" Type="http://schemas.openxmlformats.org/officeDocument/2006/relationships/image" Target="../media/image52.wmf"/><Relationship Id="rId3" Type="http://schemas.openxmlformats.org/officeDocument/2006/relationships/image" Target="../media/image26.gif"/><Relationship Id="rId4" Type="http://schemas.openxmlformats.org/officeDocument/2006/relationships/image" Target="../media/image13.wmf"/><Relationship Id="rId5" Type="http://schemas.openxmlformats.org/officeDocument/2006/relationships/image" Target="../media/image14.gif"/><Relationship Id="rId6" Type="http://schemas.openxmlformats.org/officeDocument/2006/relationships/image" Target="../media/image27.png"/><Relationship Id="rId7" Type="http://schemas.openxmlformats.org/officeDocument/2006/relationships/image" Target="../media/image1.gif"/><Relationship Id="rId8" Type="http://schemas.openxmlformats.org/officeDocument/2006/relationships/image" Target="../media/image3.wmf"/><Relationship Id="rId9" Type="http://schemas.openxmlformats.org/officeDocument/2006/relationships/image" Target="../media/image4.wmf"/><Relationship Id="rId10" Type="http://schemas.openxmlformats.org/officeDocument/2006/relationships/image" Target="../media/image5.wmf"/><Relationship Id="rId11" Type="http://schemas.openxmlformats.org/officeDocument/2006/relationships/image" Target="../media/image6.wmf"/><Relationship Id="rId12" Type="http://schemas.openxmlformats.org/officeDocument/2006/relationships/image" Target="../media/image53.gif"/><Relationship Id="rId13" Type="http://schemas.openxmlformats.org/officeDocument/2006/relationships/image" Target="../media/image54.gif"/><Relationship Id="rId14" Type="http://schemas.openxmlformats.org/officeDocument/2006/relationships/image" Target="../media/image8.gif"/><Relationship Id="rId15" Type="http://schemas.openxmlformats.org/officeDocument/2006/relationships/image" Target="../media/image9.gif"/><Relationship Id="rId16" Type="http://schemas.openxmlformats.org/officeDocument/2006/relationships/image" Target="../media/image55.gif"/><Relationship Id="rId17" Type="http://schemas.openxmlformats.org/officeDocument/2006/relationships/image" Target="../media/image10.gif"/><Relationship Id="rId18" Type="http://schemas.openxmlformats.org/officeDocument/2006/relationships/image" Target="../media/image11.gif"/><Relationship Id="rId19" Type="http://schemas.openxmlformats.org/officeDocument/2006/relationships/image" Target="../media/image3.wmf"/><Relationship Id="rId20" Type="http://schemas.openxmlformats.org/officeDocument/2006/relationships/image" Target="../media/image4.wmf"/><Relationship Id="rId21" Type="http://schemas.openxmlformats.org/officeDocument/2006/relationships/image" Target="../media/image5.wmf"/><Relationship Id="rId22" Type="http://schemas.openxmlformats.org/officeDocument/2006/relationships/image" Target="../media/image6.wmf"/><Relationship Id="rId23" Type="http://schemas.openxmlformats.org/officeDocument/2006/relationships/image" Target="../media/image55.gif"/><Relationship Id="rId24" Type="http://schemas.openxmlformats.org/officeDocument/2006/relationships/image" Target="../media/image11.gif"/><Relationship Id="rId25" Type="http://schemas.openxmlformats.org/officeDocument/2006/relationships/image" Target="../media/image10.gif"/><Relationship Id="rId26" Type="http://schemas.openxmlformats.org/officeDocument/2006/relationships/image" Target="../media/image19.png"/><Relationship Id="rId27" Type="http://schemas.openxmlformats.org/officeDocument/2006/relationships/image" Target="../media/image19.png"/><Relationship Id="rId28" Type="http://schemas.openxmlformats.org/officeDocument/2006/relationships/image" Target="../media/image26.gif"/><Relationship Id="rId29" Type="http://schemas.openxmlformats.org/officeDocument/2006/relationships/image" Target="../media/image27.png"/><Relationship Id="rId30" Type="http://schemas.openxmlformats.org/officeDocument/2006/relationships/image" Target="../media/image52.wmf"/><Relationship Id="rId31" Type="http://schemas.openxmlformats.org/officeDocument/2006/relationships/image" Target="../media/image56.gif"/><Relationship Id="rId32" Type="http://schemas.openxmlformats.org/officeDocument/2006/relationships/image" Target="../media/image23.gif"/><Relationship Id="rId33" Type="http://schemas.openxmlformats.org/officeDocument/2006/relationships/image" Target="../media/image3.wmf"/><Relationship Id="rId34" Type="http://schemas.openxmlformats.org/officeDocument/2006/relationships/image" Target="../media/image4.wmf"/><Relationship Id="rId35" Type="http://schemas.openxmlformats.org/officeDocument/2006/relationships/image" Target="../media/image5.wmf"/><Relationship Id="rId36" Type="http://schemas.openxmlformats.org/officeDocument/2006/relationships/image" Target="../media/image6.wmf"/><Relationship Id="rId37" Type="http://schemas.openxmlformats.org/officeDocument/2006/relationships/image" Target="../media/image57.png"/><Relationship Id="rId38" Type="http://schemas.openxmlformats.org/officeDocument/2006/relationships/image" Target="../media/image8.gif"/><Relationship Id="rId39" Type="http://schemas.openxmlformats.org/officeDocument/2006/relationships/image" Target="../media/image58.gif"/><Relationship Id="rId40" Type="http://schemas.openxmlformats.org/officeDocument/2006/relationships/image" Target="../media/image8.gif"/><Relationship Id="rId41" Type="http://schemas.openxmlformats.org/officeDocument/2006/relationships/image" Target="../media/image59.gif"/><Relationship Id="rId42" Type="http://schemas.openxmlformats.org/officeDocument/2006/relationships/image" Target="../media/image16.gif"/><Relationship Id="rId43" Type="http://schemas.openxmlformats.org/officeDocument/2006/relationships/image" Target="../media/image25.gif"/><Relationship Id="rId44" Type="http://schemas.openxmlformats.org/officeDocument/2006/relationships/image" Target="../media/image3.wmf"/><Relationship Id="rId45" Type="http://schemas.openxmlformats.org/officeDocument/2006/relationships/image" Target="../media/image4.wmf"/><Relationship Id="rId46" Type="http://schemas.openxmlformats.org/officeDocument/2006/relationships/image" Target="../media/image5.wmf"/><Relationship Id="rId47" Type="http://schemas.openxmlformats.org/officeDocument/2006/relationships/image" Target="../media/image6.wmf"/><Relationship Id="rId48" Type="http://schemas.openxmlformats.org/officeDocument/2006/relationships/image" Target="../media/image10.gif"/><Relationship Id="rId49" Type="http://schemas.openxmlformats.org/officeDocument/2006/relationships/image" Target="../media/image60.gif"/><Relationship Id="rId50" Type="http://schemas.openxmlformats.org/officeDocument/2006/relationships/image" Target="../media/image60.gif"/><Relationship Id="rId51" Type="http://schemas.openxmlformats.org/officeDocument/2006/relationships/image" Target="../media/image60.gif"/><Relationship Id="rId52" Type="http://schemas.openxmlformats.org/officeDocument/2006/relationships/image" Target="../media/image60.gif"/><Relationship Id="rId53" Type="http://schemas.openxmlformats.org/officeDocument/2006/relationships/image" Target="../media/image12.jpeg"/><Relationship Id="rId54" Type="http://schemas.openxmlformats.org/officeDocument/2006/relationships/image" Target="../media/image61.gif"/><Relationship Id="rId55" Type="http://schemas.openxmlformats.org/officeDocument/2006/relationships/image" Target="../media/image16.gif"/><Relationship Id="rId56" Type="http://schemas.openxmlformats.org/officeDocument/2006/relationships/image" Target="../media/image19.png"/><Relationship Id="rId57" Type="http://schemas.openxmlformats.org/officeDocument/2006/relationships/image" Target="../media/image62.gif"/><Relationship Id="rId58" Type="http://schemas.openxmlformats.org/officeDocument/2006/relationships/image" Target="../media/image41.png"/><Relationship Id="rId59" Type="http://schemas.openxmlformats.org/officeDocument/2006/relationships/image" Target="../media/image63.gif"/><Relationship Id="rId60" Type="http://schemas.openxmlformats.org/officeDocument/2006/relationships/image" Target="../media/image64.gif"/><Relationship Id="rId61" Type="http://schemas.openxmlformats.org/officeDocument/2006/relationships/image" Target="../media/image46.png"/><Relationship Id="rId62" Type="http://schemas.openxmlformats.org/officeDocument/2006/relationships/image" Target="../media/image65.png"/><Relationship Id="rId63" Type="http://schemas.openxmlformats.org/officeDocument/2006/relationships/image" Target="../media/image47.png"/><Relationship Id="rId64" Type="http://schemas.openxmlformats.org/officeDocument/2006/relationships/image" Target="../media/image3.wmf"/><Relationship Id="rId65" Type="http://schemas.openxmlformats.org/officeDocument/2006/relationships/image" Target="../media/image4.wmf"/><Relationship Id="rId66" Type="http://schemas.openxmlformats.org/officeDocument/2006/relationships/image" Target="../media/image5.wmf"/><Relationship Id="rId67" Type="http://schemas.openxmlformats.org/officeDocument/2006/relationships/image" Target="../media/image6.wmf"/><Relationship Id="rId68" Type="http://schemas.openxmlformats.org/officeDocument/2006/relationships/image" Target="../media/image19.png"/><Relationship Id="rId69" Type="http://schemas.openxmlformats.org/officeDocument/2006/relationships/image" Target="../media/image66.jpeg"/><Relationship Id="rId70" Type="http://schemas.openxmlformats.org/officeDocument/2006/relationships/image" Target="../media/image60.gif"/><Relationship Id="rId71" Type="http://schemas.openxmlformats.org/officeDocument/2006/relationships/image" Target="../media/image8.gif"/><Relationship Id="rId72" Type="http://schemas.openxmlformats.org/officeDocument/2006/relationships/image" Target="../media/image8.gif"/><Relationship Id="rId73" Type="http://schemas.openxmlformats.org/officeDocument/2006/relationships/image" Target="../media/image67.gif"/><Relationship Id="rId74" Type="http://schemas.openxmlformats.org/officeDocument/2006/relationships/image" Target="../media/image10.gif"/><Relationship Id="rId75" Type="http://schemas.openxmlformats.org/officeDocument/2006/relationships/image" Target="../media/image68.gif"/><Relationship Id="rId76" Type="http://schemas.openxmlformats.org/officeDocument/2006/relationships/image" Target="../media/image69.gif"/><Relationship Id="rId77" Type="http://schemas.openxmlformats.org/officeDocument/2006/relationships/image" Target="../media/image69.gif"/><Relationship Id="rId78" Type="http://schemas.openxmlformats.org/officeDocument/2006/relationships/image" Target="../media/image70.png"/><Relationship Id="rId7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90440" y="371520"/>
          <a:ext cx="8766360" cy="6353280"/>
        </p:xfrm>
        <a:graphic>
          <a:graphicData uri="http://schemas.openxmlformats.org/drawingml/2006/table">
            <a:tbl>
              <a:tblPr/>
              <a:tblGrid>
                <a:gridCol w="2676600"/>
                <a:gridCol w="2666880"/>
                <a:gridCol w="2648160"/>
                <a:gridCol w="774720"/>
              </a:tblGrid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9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" name=""/>
          <p:cNvSpPr/>
          <p:nvPr/>
        </p:nvSpPr>
        <p:spPr>
          <a:xfrm>
            <a:off x="6714720" y="492120"/>
            <a:ext cx="375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100" spc="-1" strike="noStrike">
                <a:solidFill>
                  <a:srgbClr val="000000"/>
                </a:solidFill>
                <a:latin typeface="Arial"/>
                <a:cs typeface="Arial"/>
              </a:rPr>
              <a:t>ראשון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088160" y="492120"/>
            <a:ext cx="2170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100" spc="-1" strike="noStrike">
                <a:solidFill>
                  <a:srgbClr val="000000"/>
                </a:solidFill>
                <a:latin typeface="Arial"/>
                <a:cs typeface="Arial"/>
              </a:rPr>
              <a:t>שני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294560" y="511200"/>
            <a:ext cx="3924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100" spc="-1" strike="noStrike">
                <a:solidFill>
                  <a:srgbClr val="000000"/>
                </a:solidFill>
                <a:latin typeface="Arial"/>
                <a:cs typeface="Arial"/>
              </a:rPr>
              <a:t>שלישי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186760" y="4616280"/>
            <a:ext cx="7509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100" spc="-1" strike="noStrike">
                <a:solidFill>
                  <a:srgbClr val="000000"/>
                </a:solidFill>
                <a:latin typeface="Arial"/>
                <a:ea typeface="Arial"/>
              </a:rPr>
              <a:t>12:05-11:25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196120" y="5559480"/>
            <a:ext cx="7606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100" spc="-1" strike="noStrike">
                <a:solidFill>
                  <a:srgbClr val="000000"/>
                </a:solidFill>
                <a:latin typeface="Arial"/>
                <a:ea typeface="Arial"/>
              </a:rPr>
              <a:t>12:50-12:1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196120" y="6384960"/>
            <a:ext cx="7509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13:00-13:3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205840" y="1216080"/>
            <a:ext cx="7030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8:30-9:2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8253360" y="2149560"/>
            <a:ext cx="7034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9:30-10:</a:t>
            </a:r>
            <a:r>
              <a:rPr b="0" lang="he-IL" sz="11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205840" y="3660840"/>
            <a:ext cx="7509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100" spc="-1" strike="noStrike">
                <a:solidFill>
                  <a:srgbClr val="000000"/>
                </a:solidFill>
                <a:latin typeface="Arial"/>
                <a:ea typeface="Arial"/>
              </a:rPr>
              <a:t>11:20-10:4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80000" y="66600"/>
            <a:ext cx="34160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500" spc="-1" strike="noStrike">
                <a:solidFill>
                  <a:srgbClr val="0000ff"/>
                </a:solidFill>
                <a:latin typeface="Arial"/>
                <a:cs typeface="Arial"/>
              </a:rPr>
              <a:t>מערכת שעות לבחירה – שליש ג' תשס“ז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602400" y="6404040"/>
            <a:ext cx="575280" cy="13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100" spc="-1" strike="noStrike">
                <a:solidFill>
                  <a:srgbClr val="0000ff"/>
                </a:solidFill>
                <a:latin typeface="Arial"/>
                <a:cs typeface="Arial"/>
              </a:rPr>
              <a:t>חוק וסדר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059000" y="6394320"/>
            <a:ext cx="575280" cy="13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100" spc="-1" strike="noStrike">
                <a:solidFill>
                  <a:srgbClr val="0000ff"/>
                </a:solidFill>
                <a:latin typeface="Arial"/>
                <a:cs typeface="Arial"/>
              </a:rPr>
              <a:t>חוק וסדר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191960" y="6413400"/>
            <a:ext cx="575280" cy="13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100" spc="-1" strike="noStrike">
                <a:solidFill>
                  <a:srgbClr val="0000ff"/>
                </a:solidFill>
                <a:latin typeface="Arial"/>
                <a:cs typeface="Arial"/>
              </a:rPr>
              <a:t>חוק וסדר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6305400" y="2108160"/>
            <a:ext cx="676440" cy="718920"/>
            <a:chOff x="6305400" y="2108160"/>
            <a:chExt cx="676440" cy="718920"/>
          </a:xfrm>
        </p:grpSpPr>
        <p:pic>
          <p:nvPicPr>
            <p:cNvPr id="56" name="feather_quill_sm_CLR" descr=""/>
            <p:cNvPicPr/>
            <p:nvPr/>
          </p:nvPicPr>
          <p:blipFill>
            <a:blip r:embed="rId1"/>
            <a:stretch/>
          </p:blipFill>
          <p:spPr>
            <a:xfrm>
              <a:off x="6305400" y="2108160"/>
              <a:ext cx="411120" cy="7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6513120" y="2514240"/>
              <a:ext cx="46872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לישבע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618960" y="2576160"/>
              <a:ext cx="182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ה-ז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497640" y="2247840"/>
              <a:ext cx="42048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כתיבה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 יוצרת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5421240" y="3327480"/>
            <a:ext cx="1030320" cy="606240"/>
            <a:chOff x="5421240" y="3327480"/>
            <a:chExt cx="1030320" cy="606240"/>
          </a:xfrm>
        </p:grpSpPr>
        <p:sp>
          <p:nvSpPr>
            <p:cNvPr id="61" name=""/>
            <p:cNvSpPr/>
            <p:nvPr/>
          </p:nvSpPr>
          <p:spPr>
            <a:xfrm>
              <a:off x="6021000" y="3610080"/>
              <a:ext cx="26892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תמר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076440" y="3719520"/>
              <a:ext cx="153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ג-ז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983200" y="3343320"/>
              <a:ext cx="46836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שירים ואיורים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4" name="colored_pencils_writing_sm_CLR" descr=""/>
            <p:cNvPicPr/>
            <p:nvPr/>
          </p:nvPicPr>
          <p:blipFill>
            <a:blip r:embed="rId2"/>
            <a:stretch/>
          </p:blipFill>
          <p:spPr>
            <a:xfrm>
              <a:off x="5421240" y="3327480"/>
              <a:ext cx="654120" cy="606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5" name=""/>
          <p:cNvGrpSpPr/>
          <p:nvPr/>
        </p:nvGrpSpPr>
        <p:grpSpPr>
          <a:xfrm>
            <a:off x="6358320" y="3319560"/>
            <a:ext cx="566280" cy="627840"/>
            <a:chOff x="6358320" y="3319560"/>
            <a:chExt cx="566280" cy="627840"/>
          </a:xfrm>
        </p:grpSpPr>
        <p:sp>
          <p:nvSpPr>
            <p:cNvPr id="66" name=""/>
            <p:cNvSpPr/>
            <p:nvPr/>
          </p:nvSpPr>
          <p:spPr>
            <a:xfrm>
              <a:off x="6358320" y="3319560"/>
              <a:ext cx="56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אנגלית </a:t>
              </a:r>
              <a:r>
                <a:rPr b="1" lang="en-US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6621480" y="3483000"/>
              <a:ext cx="192240" cy="226440"/>
              <a:chOff x="6621480" y="3483000"/>
              <a:chExt cx="192240" cy="226440"/>
            </a:xfrm>
          </p:grpSpPr>
          <p:pic>
            <p:nvPicPr>
              <p:cNvPr id="6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6621480" y="3483000"/>
                <a:ext cx="192240" cy="226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621480" y="3483000"/>
                <a:ext cx="192240" cy="2264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70" name=""/>
            <p:cNvGrpSpPr/>
            <p:nvPr/>
          </p:nvGrpSpPr>
          <p:grpSpPr>
            <a:xfrm>
              <a:off x="6372360" y="3471840"/>
              <a:ext cx="199800" cy="247320"/>
              <a:chOff x="6372360" y="3471840"/>
              <a:chExt cx="199800" cy="247320"/>
            </a:xfrm>
          </p:grpSpPr>
          <p:pic>
            <p:nvPicPr>
              <p:cNvPr id="71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6372360" y="3471840"/>
                <a:ext cx="199800" cy="247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2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6372360" y="3471840"/>
                <a:ext cx="199800" cy="2473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73" name=""/>
            <p:cNvSpPr/>
            <p:nvPr/>
          </p:nvSpPr>
          <p:spPr>
            <a:xfrm>
              <a:off x="6439320" y="3665520"/>
              <a:ext cx="366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יתנה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493680" y="3779640"/>
              <a:ext cx="182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ה-ז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6227640" y="4294080"/>
            <a:ext cx="897480" cy="593640"/>
            <a:chOff x="6227640" y="4294080"/>
            <a:chExt cx="897480" cy="593640"/>
          </a:xfrm>
        </p:grpSpPr>
        <p:sp>
          <p:nvSpPr>
            <p:cNvPr id="76" name=""/>
            <p:cNvSpPr/>
            <p:nvPr/>
          </p:nvSpPr>
          <p:spPr>
            <a:xfrm>
              <a:off x="6621480" y="4344840"/>
              <a:ext cx="503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ביולוגיה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814440" y="4655880"/>
              <a:ext cx="182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ה-ז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671520" y="4516200"/>
              <a:ext cx="351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ורד ק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9" name="dna_looking_through_magnifying_glass_ty_CLR" descr=""/>
            <p:cNvPicPr/>
            <p:nvPr/>
          </p:nvPicPr>
          <p:blipFill>
            <a:blip r:embed="rId7"/>
            <a:stretch/>
          </p:blipFill>
          <p:spPr>
            <a:xfrm>
              <a:off x="6227640" y="4294080"/>
              <a:ext cx="594000" cy="593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0" name=""/>
          <p:cNvGrpSpPr/>
          <p:nvPr/>
        </p:nvGrpSpPr>
        <p:grpSpPr>
          <a:xfrm>
            <a:off x="4846680" y="901800"/>
            <a:ext cx="727920" cy="772200"/>
            <a:chOff x="4846680" y="901800"/>
            <a:chExt cx="727920" cy="772200"/>
          </a:xfrm>
        </p:grpSpPr>
        <p:sp>
          <p:nvSpPr>
            <p:cNvPr id="81" name=""/>
            <p:cNvSpPr/>
            <p:nvPr/>
          </p:nvSpPr>
          <p:spPr>
            <a:xfrm>
              <a:off x="4846680" y="901800"/>
              <a:ext cx="67788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מפגש בית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2" name="mushroom_house_sm_CLR" descr=""/>
            <p:cNvPicPr/>
            <p:nvPr/>
          </p:nvPicPr>
          <p:blipFill>
            <a:blip r:embed="rId8"/>
            <a:stretch/>
          </p:blipFill>
          <p:spPr>
            <a:xfrm>
              <a:off x="4959360" y="971280"/>
              <a:ext cx="514440" cy="51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"/>
            <p:cNvSpPr/>
            <p:nvPr/>
          </p:nvSpPr>
          <p:spPr>
            <a:xfrm>
              <a:off x="4930560" y="1442880"/>
              <a:ext cx="6440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lang="hi-IN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בית א-ב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3492360" y="2297160"/>
            <a:ext cx="777600" cy="539280"/>
            <a:chOff x="3492360" y="2297160"/>
            <a:chExt cx="777600" cy="539280"/>
          </a:xfrm>
        </p:grpSpPr>
        <p:sp>
          <p:nvSpPr>
            <p:cNvPr id="85" name=""/>
            <p:cNvSpPr/>
            <p:nvPr/>
          </p:nvSpPr>
          <p:spPr>
            <a:xfrm>
              <a:off x="3861000" y="2516400"/>
              <a:ext cx="381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ביבה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703320" y="2300400"/>
              <a:ext cx="566640" cy="53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   מחשבון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לאלגברה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867840" y="2665440"/>
              <a:ext cx="18216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ה-ז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8" name="walking_1_sm_CLR" descr=""/>
            <p:cNvPicPr/>
            <p:nvPr/>
          </p:nvPicPr>
          <p:blipFill>
            <a:blip r:embed="rId9"/>
            <a:stretch/>
          </p:blipFill>
          <p:spPr>
            <a:xfrm>
              <a:off x="3492360" y="2297160"/>
              <a:ext cx="342720" cy="474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9" name=""/>
          <p:cNvGrpSpPr/>
          <p:nvPr/>
        </p:nvGrpSpPr>
        <p:grpSpPr>
          <a:xfrm>
            <a:off x="4608360" y="4208400"/>
            <a:ext cx="842760" cy="593640"/>
            <a:chOff x="4608360" y="4208400"/>
            <a:chExt cx="842760" cy="593640"/>
          </a:xfrm>
        </p:grpSpPr>
        <p:sp>
          <p:nvSpPr>
            <p:cNvPr id="90" name=""/>
            <p:cNvSpPr/>
            <p:nvPr/>
          </p:nvSpPr>
          <p:spPr>
            <a:xfrm>
              <a:off x="5168880" y="4568760"/>
              <a:ext cx="22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-ב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46320" y="4238640"/>
              <a:ext cx="604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חשבון </a:t>
              </a:r>
              <a:r>
                <a:rPr b="1" lang="en-US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168520" y="4432320"/>
              <a:ext cx="20340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רוני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3" name="girl_holding_123_ty_CLR" descr=""/>
            <p:cNvPicPr/>
            <p:nvPr/>
          </p:nvPicPr>
          <p:blipFill>
            <a:blip r:embed="rId10"/>
            <a:stretch/>
          </p:blipFill>
          <p:spPr>
            <a:xfrm>
              <a:off x="4608360" y="4208400"/>
              <a:ext cx="593640" cy="593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4" name=""/>
          <p:cNvGrpSpPr/>
          <p:nvPr/>
        </p:nvGrpSpPr>
        <p:grpSpPr>
          <a:xfrm>
            <a:off x="3419640" y="1352520"/>
            <a:ext cx="974520" cy="497880"/>
            <a:chOff x="3419640" y="1352520"/>
            <a:chExt cx="974520" cy="497880"/>
          </a:xfrm>
        </p:grpSpPr>
        <p:sp>
          <p:nvSpPr>
            <p:cNvPr id="95" name=""/>
            <p:cNvSpPr/>
            <p:nvPr/>
          </p:nvSpPr>
          <p:spPr>
            <a:xfrm>
              <a:off x="4008240" y="1682640"/>
              <a:ext cx="195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ג-ה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789360" y="1352520"/>
              <a:ext cx="60480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חשבון </a:t>
              </a:r>
              <a:r>
                <a:rPr b="1" lang="en-US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3-4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970800" y="1546200"/>
              <a:ext cx="38160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ביבה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8" name="addition_2_plus_2_ty_CLR" descr=""/>
            <p:cNvPicPr/>
            <p:nvPr/>
          </p:nvPicPr>
          <p:blipFill>
            <a:blip r:embed="rId11"/>
            <a:stretch/>
          </p:blipFill>
          <p:spPr>
            <a:xfrm>
              <a:off x="3419640" y="1419120"/>
              <a:ext cx="585720" cy="379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9" name=""/>
          <p:cNvGrpSpPr/>
          <p:nvPr/>
        </p:nvGrpSpPr>
        <p:grpSpPr>
          <a:xfrm>
            <a:off x="2933640" y="3352680"/>
            <a:ext cx="1199880" cy="379440"/>
            <a:chOff x="2933640" y="3352680"/>
            <a:chExt cx="1199880" cy="379440"/>
          </a:xfrm>
        </p:grpSpPr>
        <p:sp>
          <p:nvSpPr>
            <p:cNvPr id="100" name=""/>
            <p:cNvSpPr/>
            <p:nvPr/>
          </p:nvSpPr>
          <p:spPr>
            <a:xfrm>
              <a:off x="3529800" y="3558960"/>
              <a:ext cx="182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ה-ז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475080" y="3352680"/>
              <a:ext cx="60480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חשבון </a:t>
              </a:r>
              <a:r>
                <a:rPr b="1" lang="en-US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5-6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751920" y="3537000"/>
              <a:ext cx="38160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ביבה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3" name="addition_2_plus_2_ty_CLR" descr=""/>
            <p:cNvPicPr/>
            <p:nvPr/>
          </p:nvPicPr>
          <p:blipFill>
            <a:blip r:embed="rId12"/>
            <a:stretch/>
          </p:blipFill>
          <p:spPr>
            <a:xfrm>
              <a:off x="2933640" y="3352680"/>
              <a:ext cx="585720" cy="379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4" name=""/>
          <p:cNvGrpSpPr/>
          <p:nvPr/>
        </p:nvGrpSpPr>
        <p:grpSpPr>
          <a:xfrm>
            <a:off x="3254400" y="3745080"/>
            <a:ext cx="806400" cy="423360"/>
            <a:chOff x="3254400" y="3745080"/>
            <a:chExt cx="806400" cy="423360"/>
          </a:xfrm>
        </p:grpSpPr>
        <p:sp>
          <p:nvSpPr>
            <p:cNvPr id="105" name=""/>
            <p:cNvSpPr/>
            <p:nvPr/>
          </p:nvSpPr>
          <p:spPr>
            <a:xfrm>
              <a:off x="3468600" y="3745080"/>
              <a:ext cx="5922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היסטוריה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496320" y="4000680"/>
              <a:ext cx="13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ז-י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557880" y="3890880"/>
              <a:ext cx="291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והד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8" name="GreekVase_small" descr=""/>
            <p:cNvPicPr/>
            <p:nvPr/>
          </p:nvPicPr>
          <p:blipFill>
            <a:blip r:embed="rId13"/>
            <a:stretch/>
          </p:blipFill>
          <p:spPr>
            <a:xfrm>
              <a:off x="3254400" y="3786120"/>
              <a:ext cx="214200" cy="362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9" name=""/>
          <p:cNvGrpSpPr/>
          <p:nvPr/>
        </p:nvGrpSpPr>
        <p:grpSpPr>
          <a:xfrm>
            <a:off x="4056120" y="1817640"/>
            <a:ext cx="776160" cy="593640"/>
            <a:chOff x="4056120" y="1817640"/>
            <a:chExt cx="776160" cy="593640"/>
          </a:xfrm>
        </p:grpSpPr>
        <p:sp>
          <p:nvSpPr>
            <p:cNvPr id="110" name=""/>
            <p:cNvSpPr/>
            <p:nvPr/>
          </p:nvSpPr>
          <p:spPr>
            <a:xfrm>
              <a:off x="4550040" y="2178000"/>
              <a:ext cx="22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-ב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227480" y="1847880"/>
              <a:ext cx="604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חשבון </a:t>
              </a:r>
              <a:r>
                <a:rPr b="1" lang="en-US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549680" y="2041560"/>
              <a:ext cx="20340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רוני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3" name="girl_holding_123_ty_CLR" descr=""/>
            <p:cNvPicPr/>
            <p:nvPr/>
          </p:nvPicPr>
          <p:blipFill>
            <a:blip r:embed="rId14"/>
            <a:stretch/>
          </p:blipFill>
          <p:spPr>
            <a:xfrm>
              <a:off x="4056120" y="1817640"/>
              <a:ext cx="593640" cy="593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4" name=""/>
          <p:cNvGrpSpPr/>
          <p:nvPr/>
        </p:nvGrpSpPr>
        <p:grpSpPr>
          <a:xfrm>
            <a:off x="4591080" y="3719520"/>
            <a:ext cx="631800" cy="516600"/>
            <a:chOff x="4591080" y="3719520"/>
            <a:chExt cx="631800" cy="516600"/>
          </a:xfrm>
        </p:grpSpPr>
        <p:pic>
          <p:nvPicPr>
            <p:cNvPr id="115" name="" descr=""/>
            <p:cNvPicPr/>
            <p:nvPr/>
          </p:nvPicPr>
          <p:blipFill>
            <a:blip r:embed="rId15"/>
            <a:stretch/>
          </p:blipFill>
          <p:spPr>
            <a:xfrm>
              <a:off x="4641840" y="3755880"/>
              <a:ext cx="390600" cy="44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"/>
            <p:cNvSpPr/>
            <p:nvPr/>
          </p:nvSpPr>
          <p:spPr>
            <a:xfrm>
              <a:off x="4884480" y="4101840"/>
              <a:ext cx="19584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ג-ה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892760" y="3897360"/>
              <a:ext cx="291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הוד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668840" y="3740040"/>
              <a:ext cx="554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ספרות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9" name="boy_reading_sm_CLR" descr=""/>
            <p:cNvPicPr/>
            <p:nvPr/>
          </p:nvPicPr>
          <p:blipFill>
            <a:blip r:embed="rId16"/>
            <a:stretch/>
          </p:blipFill>
          <p:spPr>
            <a:xfrm>
              <a:off x="4591080" y="3719520"/>
              <a:ext cx="304560" cy="504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0" name=""/>
          <p:cNvGrpSpPr/>
          <p:nvPr/>
        </p:nvGrpSpPr>
        <p:grpSpPr>
          <a:xfrm>
            <a:off x="4270320" y="4686480"/>
            <a:ext cx="1171800" cy="514080"/>
            <a:chOff x="4270320" y="4686480"/>
            <a:chExt cx="1171800" cy="514080"/>
          </a:xfrm>
        </p:grpSpPr>
        <p:sp>
          <p:nvSpPr>
            <p:cNvPr id="121" name=""/>
            <p:cNvSpPr/>
            <p:nvPr/>
          </p:nvSpPr>
          <p:spPr>
            <a:xfrm>
              <a:off x="4806360" y="4997520"/>
              <a:ext cx="182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ה-ז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532400" y="4762440"/>
              <a:ext cx="909720" cy="40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Zoo</a:t>
              </a:r>
              <a:r>
                <a:rPr b="1" lang="he-IL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 דמוקרטיה </a:t>
              </a:r>
              <a:r>
                <a:rPr b="1" lang="en-US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Zoo</a:t>
              </a:r>
              <a:r>
                <a:rPr b="1" lang="he-IL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 ?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083560" y="5022720"/>
              <a:ext cx="25056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שרון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4" name="roman_speaker_sm_CLR" descr=""/>
            <p:cNvPicPr/>
            <p:nvPr/>
          </p:nvPicPr>
          <p:blipFill>
            <a:blip r:embed="rId17"/>
            <a:stretch/>
          </p:blipFill>
          <p:spPr>
            <a:xfrm>
              <a:off x="4270320" y="4686480"/>
              <a:ext cx="474840" cy="514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5" name=""/>
          <p:cNvGrpSpPr/>
          <p:nvPr/>
        </p:nvGrpSpPr>
        <p:grpSpPr>
          <a:xfrm>
            <a:off x="3165480" y="4699080"/>
            <a:ext cx="1116720" cy="510480"/>
            <a:chOff x="3165480" y="4699080"/>
            <a:chExt cx="1116720" cy="510480"/>
          </a:xfrm>
        </p:grpSpPr>
        <p:pic>
          <p:nvPicPr>
            <p:cNvPr id="126" name="sphere_orbiting_gravity_well_ty_CLR" descr=""/>
            <p:cNvPicPr/>
            <p:nvPr/>
          </p:nvPicPr>
          <p:blipFill>
            <a:blip r:embed="rId18"/>
            <a:stretch/>
          </p:blipFill>
          <p:spPr>
            <a:xfrm>
              <a:off x="3165480" y="4837320"/>
              <a:ext cx="639720" cy="36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3652200" y="4699080"/>
              <a:ext cx="63000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מתמטיקה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לבוגרים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815280" y="5075280"/>
              <a:ext cx="13032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ז-י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769200" y="4926240"/>
              <a:ext cx="381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ביבה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1989000" y="846000"/>
            <a:ext cx="843120" cy="594000"/>
            <a:chOff x="1989000" y="846000"/>
            <a:chExt cx="843120" cy="594000"/>
          </a:xfrm>
        </p:grpSpPr>
        <p:sp>
          <p:nvSpPr>
            <p:cNvPr id="131" name=""/>
            <p:cNvSpPr/>
            <p:nvPr/>
          </p:nvSpPr>
          <p:spPr>
            <a:xfrm>
              <a:off x="2549880" y="1149480"/>
              <a:ext cx="22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-ב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227320" y="876240"/>
              <a:ext cx="604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חשבון </a:t>
              </a:r>
              <a:r>
                <a:rPr b="1" lang="en-US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3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549520" y="1050840"/>
              <a:ext cx="20340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רוני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4" name="girl_holding_123_ty_CLR" descr=""/>
            <p:cNvPicPr/>
            <p:nvPr/>
          </p:nvPicPr>
          <p:blipFill>
            <a:blip r:embed="rId19"/>
            <a:stretch/>
          </p:blipFill>
          <p:spPr>
            <a:xfrm>
              <a:off x="1989000" y="846000"/>
              <a:ext cx="594000" cy="594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5" name=""/>
          <p:cNvGrpSpPr/>
          <p:nvPr/>
        </p:nvGrpSpPr>
        <p:grpSpPr>
          <a:xfrm>
            <a:off x="3586320" y="5573880"/>
            <a:ext cx="833760" cy="545760"/>
            <a:chOff x="3586320" y="5573880"/>
            <a:chExt cx="833760" cy="545760"/>
          </a:xfrm>
        </p:grpSpPr>
        <p:pic>
          <p:nvPicPr>
            <p:cNvPr id="136" name="accountant_raising_pencil_sm_CLR" descr=""/>
            <p:cNvPicPr/>
            <p:nvPr/>
          </p:nvPicPr>
          <p:blipFill>
            <a:blip r:embed="rId20"/>
            <a:stretch/>
          </p:blipFill>
          <p:spPr>
            <a:xfrm>
              <a:off x="3586320" y="5573880"/>
              <a:ext cx="474480" cy="54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/>
            <p:nvPr/>
          </p:nvSpPr>
          <p:spPr>
            <a:xfrm>
              <a:off x="4190760" y="5886360"/>
              <a:ext cx="22932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נטע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999960" y="5948280"/>
              <a:ext cx="182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ה-ז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59200" y="5772240"/>
              <a:ext cx="46836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לשון </a:t>
              </a:r>
              <a:r>
                <a:rPr b="1" lang="en-US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295200" y="2405160"/>
            <a:ext cx="1023840" cy="275760"/>
            <a:chOff x="295200" y="2405160"/>
            <a:chExt cx="1023840" cy="275760"/>
          </a:xfrm>
        </p:grpSpPr>
        <p:sp>
          <p:nvSpPr>
            <p:cNvPr id="141" name=""/>
            <p:cNvSpPr/>
            <p:nvPr/>
          </p:nvSpPr>
          <p:spPr>
            <a:xfrm>
              <a:off x="729000" y="2405160"/>
              <a:ext cx="56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אנגלית </a:t>
              </a:r>
              <a:r>
                <a:rPr b="1" lang="en-US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2" name=""/>
            <p:cNvGrpSpPr/>
            <p:nvPr/>
          </p:nvGrpSpPr>
          <p:grpSpPr>
            <a:xfrm>
              <a:off x="534960" y="2444760"/>
              <a:ext cx="192240" cy="226800"/>
              <a:chOff x="534960" y="2444760"/>
              <a:chExt cx="192240" cy="226800"/>
            </a:xfrm>
          </p:grpSpPr>
          <p:pic>
            <p:nvPicPr>
              <p:cNvPr id="143" name="" descr=""/>
              <p:cNvPicPr/>
              <p:nvPr/>
            </p:nvPicPr>
            <p:blipFill>
              <a:blip r:embed="rId21"/>
              <a:stretch/>
            </p:blipFill>
            <p:spPr>
              <a:xfrm>
                <a:off x="534960" y="2444760"/>
                <a:ext cx="192240" cy="226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4" name="" descr=""/>
              <p:cNvPicPr/>
              <p:nvPr/>
            </p:nvPicPr>
            <p:blipFill>
              <a:blip r:embed="rId22"/>
              <a:stretch/>
            </p:blipFill>
            <p:spPr>
              <a:xfrm>
                <a:off x="534960" y="2444760"/>
                <a:ext cx="192240" cy="2268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45" name=""/>
            <p:cNvGrpSpPr/>
            <p:nvPr/>
          </p:nvGrpSpPr>
          <p:grpSpPr>
            <a:xfrm>
              <a:off x="295200" y="2433600"/>
              <a:ext cx="199800" cy="247320"/>
              <a:chOff x="295200" y="2433600"/>
              <a:chExt cx="199800" cy="247320"/>
            </a:xfrm>
          </p:grpSpPr>
          <p:pic>
            <p:nvPicPr>
              <p:cNvPr id="146" name="" descr=""/>
              <p:cNvPicPr/>
              <p:nvPr/>
            </p:nvPicPr>
            <p:blipFill>
              <a:blip r:embed="rId23"/>
              <a:stretch/>
            </p:blipFill>
            <p:spPr>
              <a:xfrm>
                <a:off x="295200" y="2433600"/>
                <a:ext cx="199800" cy="247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7" name="" descr=""/>
              <p:cNvPicPr/>
              <p:nvPr/>
            </p:nvPicPr>
            <p:blipFill>
              <a:blip r:embed="rId24"/>
              <a:stretch/>
            </p:blipFill>
            <p:spPr>
              <a:xfrm>
                <a:off x="295200" y="2433600"/>
                <a:ext cx="199800" cy="2473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48" name=""/>
            <p:cNvSpPr/>
            <p:nvPr/>
          </p:nvSpPr>
          <p:spPr>
            <a:xfrm>
              <a:off x="952560" y="2513160"/>
              <a:ext cx="366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יתנה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69320" y="2513160"/>
              <a:ext cx="182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ה-ז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5600880" y="1852560"/>
            <a:ext cx="856800" cy="513720"/>
            <a:chOff x="5600880" y="1852560"/>
            <a:chExt cx="856800" cy="513720"/>
          </a:xfrm>
        </p:grpSpPr>
        <p:sp>
          <p:nvSpPr>
            <p:cNvPr id="151" name=""/>
            <p:cNvSpPr/>
            <p:nvPr/>
          </p:nvSpPr>
          <p:spPr>
            <a:xfrm>
              <a:off x="5891400" y="1852560"/>
              <a:ext cx="566280" cy="40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אנגלית </a:t>
              </a:r>
              <a:r>
                <a:rPr b="1" lang="en-US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קריאה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וכתיבה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2" name=""/>
            <p:cNvGrpSpPr/>
            <p:nvPr/>
          </p:nvGrpSpPr>
          <p:grpSpPr>
            <a:xfrm>
              <a:off x="5830920" y="1968480"/>
              <a:ext cx="191880" cy="226440"/>
              <a:chOff x="5830920" y="1968480"/>
              <a:chExt cx="191880" cy="226440"/>
            </a:xfrm>
          </p:grpSpPr>
          <p:pic>
            <p:nvPicPr>
              <p:cNvPr id="153" name="" descr=""/>
              <p:cNvPicPr/>
              <p:nvPr/>
            </p:nvPicPr>
            <p:blipFill>
              <a:blip r:embed="rId25"/>
              <a:stretch/>
            </p:blipFill>
            <p:spPr>
              <a:xfrm>
                <a:off x="5830920" y="1968480"/>
                <a:ext cx="191880" cy="226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4" name="" descr=""/>
              <p:cNvPicPr/>
              <p:nvPr/>
            </p:nvPicPr>
            <p:blipFill>
              <a:blip r:embed="rId26"/>
              <a:stretch/>
            </p:blipFill>
            <p:spPr>
              <a:xfrm>
                <a:off x="5830920" y="1968480"/>
                <a:ext cx="191880" cy="2264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55" name=""/>
            <p:cNvGrpSpPr/>
            <p:nvPr/>
          </p:nvGrpSpPr>
          <p:grpSpPr>
            <a:xfrm>
              <a:off x="5600880" y="1957320"/>
              <a:ext cx="199800" cy="247320"/>
              <a:chOff x="5600880" y="1957320"/>
              <a:chExt cx="199800" cy="247320"/>
            </a:xfrm>
          </p:grpSpPr>
          <p:pic>
            <p:nvPicPr>
              <p:cNvPr id="156" name="" descr=""/>
              <p:cNvPicPr/>
              <p:nvPr/>
            </p:nvPicPr>
            <p:blipFill>
              <a:blip r:embed="rId27"/>
              <a:stretch/>
            </p:blipFill>
            <p:spPr>
              <a:xfrm>
                <a:off x="5600880" y="1957320"/>
                <a:ext cx="199800" cy="247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7" name="" descr=""/>
              <p:cNvPicPr/>
              <p:nvPr/>
            </p:nvPicPr>
            <p:blipFill>
              <a:blip r:embed="rId28"/>
              <a:stretch/>
            </p:blipFill>
            <p:spPr>
              <a:xfrm>
                <a:off x="5600880" y="1957320"/>
                <a:ext cx="199800" cy="2473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58" name=""/>
            <p:cNvSpPr/>
            <p:nvPr/>
          </p:nvSpPr>
          <p:spPr>
            <a:xfrm>
              <a:off x="6048720" y="2198520"/>
              <a:ext cx="366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יתנה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752800" y="2179440"/>
              <a:ext cx="195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ג-ה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1824120" y="4919760"/>
            <a:ext cx="1033560" cy="285120"/>
            <a:chOff x="1824120" y="4919760"/>
            <a:chExt cx="1033560" cy="285120"/>
          </a:xfrm>
        </p:grpSpPr>
        <p:sp>
          <p:nvSpPr>
            <p:cNvPr id="161" name=""/>
            <p:cNvSpPr/>
            <p:nvPr/>
          </p:nvSpPr>
          <p:spPr>
            <a:xfrm>
              <a:off x="2219760" y="4919760"/>
              <a:ext cx="56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אנגלית </a:t>
              </a:r>
              <a:r>
                <a:rPr b="1" lang="en-US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2" name=""/>
            <p:cNvGrpSpPr/>
            <p:nvPr/>
          </p:nvGrpSpPr>
          <p:grpSpPr>
            <a:xfrm>
              <a:off x="2054160" y="4959360"/>
              <a:ext cx="192240" cy="226800"/>
              <a:chOff x="2054160" y="4959360"/>
              <a:chExt cx="192240" cy="226800"/>
            </a:xfrm>
          </p:grpSpPr>
          <p:pic>
            <p:nvPicPr>
              <p:cNvPr id="163" name="" descr=""/>
              <p:cNvPicPr/>
              <p:nvPr/>
            </p:nvPicPr>
            <p:blipFill>
              <a:blip r:embed="rId29"/>
              <a:stretch/>
            </p:blipFill>
            <p:spPr>
              <a:xfrm>
                <a:off x="2054160" y="4959360"/>
                <a:ext cx="192240" cy="226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4" name="" descr=""/>
              <p:cNvPicPr/>
              <p:nvPr/>
            </p:nvPicPr>
            <p:blipFill>
              <a:blip r:embed="rId30"/>
              <a:stretch/>
            </p:blipFill>
            <p:spPr>
              <a:xfrm>
                <a:off x="2054160" y="4959360"/>
                <a:ext cx="192240" cy="2268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65" name=""/>
            <p:cNvGrpSpPr/>
            <p:nvPr/>
          </p:nvGrpSpPr>
          <p:grpSpPr>
            <a:xfrm>
              <a:off x="1824120" y="4948200"/>
              <a:ext cx="199800" cy="247320"/>
              <a:chOff x="1824120" y="4948200"/>
              <a:chExt cx="199800" cy="247320"/>
            </a:xfrm>
          </p:grpSpPr>
          <p:pic>
            <p:nvPicPr>
              <p:cNvPr id="166" name="" descr=""/>
              <p:cNvPicPr/>
              <p:nvPr/>
            </p:nvPicPr>
            <p:blipFill>
              <a:blip r:embed="rId31"/>
              <a:stretch/>
            </p:blipFill>
            <p:spPr>
              <a:xfrm>
                <a:off x="1824120" y="4948200"/>
                <a:ext cx="199800" cy="247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7" name="" descr=""/>
              <p:cNvPicPr/>
              <p:nvPr/>
            </p:nvPicPr>
            <p:blipFill>
              <a:blip r:embed="rId32"/>
              <a:stretch/>
            </p:blipFill>
            <p:spPr>
              <a:xfrm>
                <a:off x="1824120" y="4948200"/>
                <a:ext cx="199800" cy="2473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8" name=""/>
            <p:cNvSpPr/>
            <p:nvPr/>
          </p:nvSpPr>
          <p:spPr>
            <a:xfrm>
              <a:off x="2491200" y="5037120"/>
              <a:ext cx="366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יתנה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288520" y="5037120"/>
              <a:ext cx="182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ה-ז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1571760" y="2271600"/>
            <a:ext cx="631800" cy="516600"/>
            <a:chOff x="1571760" y="2271600"/>
            <a:chExt cx="631800" cy="516600"/>
          </a:xfrm>
        </p:grpSpPr>
        <p:pic>
          <p:nvPicPr>
            <p:cNvPr id="171" name="" descr=""/>
            <p:cNvPicPr/>
            <p:nvPr/>
          </p:nvPicPr>
          <p:blipFill>
            <a:blip r:embed="rId33"/>
            <a:stretch/>
          </p:blipFill>
          <p:spPr>
            <a:xfrm>
              <a:off x="1622520" y="2307960"/>
              <a:ext cx="390600" cy="44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923120" y="2653920"/>
              <a:ext cx="13032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ז-י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873440" y="2449440"/>
              <a:ext cx="291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הוד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649520" y="2292120"/>
              <a:ext cx="554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ספרות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5" name="boy_reading_sm_CLR" descr=""/>
            <p:cNvPicPr/>
            <p:nvPr/>
          </p:nvPicPr>
          <p:blipFill>
            <a:blip r:embed="rId34"/>
            <a:stretch/>
          </p:blipFill>
          <p:spPr>
            <a:xfrm>
              <a:off x="1571760" y="2271600"/>
              <a:ext cx="304560" cy="504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6" name=""/>
          <p:cNvGrpSpPr/>
          <p:nvPr/>
        </p:nvGrpSpPr>
        <p:grpSpPr>
          <a:xfrm>
            <a:off x="1936800" y="5214960"/>
            <a:ext cx="1009800" cy="610200"/>
            <a:chOff x="1936800" y="5214960"/>
            <a:chExt cx="1009800" cy="610200"/>
          </a:xfrm>
        </p:grpSpPr>
        <p:sp>
          <p:nvSpPr>
            <p:cNvPr id="177" name=""/>
            <p:cNvSpPr/>
            <p:nvPr/>
          </p:nvSpPr>
          <p:spPr>
            <a:xfrm>
              <a:off x="2319120" y="5232240"/>
              <a:ext cx="50364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אי שם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בישראל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552400" y="5483160"/>
              <a:ext cx="268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תמר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082960" y="5597280"/>
              <a:ext cx="863640" cy="22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-ב ואחרים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0" name="tourist_map_confusion_sm_CLR" descr=""/>
            <p:cNvPicPr/>
            <p:nvPr/>
          </p:nvPicPr>
          <p:blipFill>
            <a:blip r:embed="rId35"/>
            <a:stretch/>
          </p:blipFill>
          <p:spPr>
            <a:xfrm>
              <a:off x="1936800" y="5214960"/>
              <a:ext cx="431640" cy="550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1" name=""/>
          <p:cNvGrpSpPr/>
          <p:nvPr/>
        </p:nvGrpSpPr>
        <p:grpSpPr>
          <a:xfrm>
            <a:off x="6915240" y="4795920"/>
            <a:ext cx="894600" cy="380520"/>
            <a:chOff x="6915240" y="4795920"/>
            <a:chExt cx="894600" cy="380520"/>
          </a:xfrm>
        </p:grpSpPr>
        <p:sp>
          <p:nvSpPr>
            <p:cNvPr id="182" name=""/>
            <p:cNvSpPr/>
            <p:nvPr/>
          </p:nvSpPr>
          <p:spPr>
            <a:xfrm>
              <a:off x="6961680" y="4795920"/>
              <a:ext cx="84816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אנגלית דרמה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3" name=""/>
            <p:cNvGrpSpPr/>
            <p:nvPr/>
          </p:nvGrpSpPr>
          <p:grpSpPr>
            <a:xfrm>
              <a:off x="7202520" y="4921200"/>
              <a:ext cx="191520" cy="226800"/>
              <a:chOff x="7202520" y="4921200"/>
              <a:chExt cx="191520" cy="226800"/>
            </a:xfrm>
          </p:grpSpPr>
          <p:pic>
            <p:nvPicPr>
              <p:cNvPr id="184" name="" descr=""/>
              <p:cNvPicPr/>
              <p:nvPr/>
            </p:nvPicPr>
            <p:blipFill>
              <a:blip r:embed="rId36"/>
              <a:stretch/>
            </p:blipFill>
            <p:spPr>
              <a:xfrm>
                <a:off x="7202520" y="4921200"/>
                <a:ext cx="191520" cy="226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5" name="" descr=""/>
              <p:cNvPicPr/>
              <p:nvPr/>
            </p:nvPicPr>
            <p:blipFill>
              <a:blip r:embed="rId37"/>
              <a:stretch/>
            </p:blipFill>
            <p:spPr>
              <a:xfrm>
                <a:off x="7202520" y="4921200"/>
                <a:ext cx="191520" cy="2268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86" name=""/>
            <p:cNvGrpSpPr/>
            <p:nvPr/>
          </p:nvGrpSpPr>
          <p:grpSpPr>
            <a:xfrm>
              <a:off x="6915240" y="4929120"/>
              <a:ext cx="199800" cy="247320"/>
              <a:chOff x="6915240" y="4929120"/>
              <a:chExt cx="199800" cy="247320"/>
            </a:xfrm>
          </p:grpSpPr>
          <p:pic>
            <p:nvPicPr>
              <p:cNvPr id="187" name="" descr=""/>
              <p:cNvPicPr/>
              <p:nvPr/>
            </p:nvPicPr>
            <p:blipFill>
              <a:blip r:embed="rId38"/>
              <a:stretch/>
            </p:blipFill>
            <p:spPr>
              <a:xfrm>
                <a:off x="6915240" y="4929120"/>
                <a:ext cx="199800" cy="247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8" name="" descr=""/>
              <p:cNvPicPr/>
              <p:nvPr/>
            </p:nvPicPr>
            <p:blipFill>
              <a:blip r:embed="rId39"/>
              <a:stretch/>
            </p:blipFill>
            <p:spPr>
              <a:xfrm>
                <a:off x="6915240" y="4929120"/>
                <a:ext cx="199800" cy="2473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89" name=""/>
            <p:cNvSpPr/>
            <p:nvPr/>
          </p:nvSpPr>
          <p:spPr>
            <a:xfrm>
              <a:off x="7362720" y="4875120"/>
              <a:ext cx="366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יתנה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438680" y="5008680"/>
              <a:ext cx="195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ג-ה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7241400" y="888840"/>
            <a:ext cx="968400" cy="545400"/>
            <a:chOff x="7241400" y="888840"/>
            <a:chExt cx="968400" cy="545400"/>
          </a:xfrm>
        </p:grpSpPr>
        <p:sp>
          <p:nvSpPr>
            <p:cNvPr id="192" name=""/>
            <p:cNvSpPr/>
            <p:nvPr/>
          </p:nvSpPr>
          <p:spPr>
            <a:xfrm>
              <a:off x="7241400" y="888840"/>
              <a:ext cx="96840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קריאה כתיבה </a:t>
              </a:r>
              <a:r>
                <a:rPr b="1" lang="en-US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3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848000" y="1034640"/>
              <a:ext cx="268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תמר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709400" y="1206360"/>
              <a:ext cx="400320" cy="22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-ב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5" name="girl" descr=""/>
            <p:cNvPicPr/>
            <p:nvPr/>
          </p:nvPicPr>
          <p:blipFill>
            <a:blip r:embed="rId40"/>
            <a:stretch/>
          </p:blipFill>
          <p:spPr>
            <a:xfrm>
              <a:off x="7429320" y="1010880"/>
              <a:ext cx="340920" cy="420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6" name=""/>
          <p:cNvGrpSpPr/>
          <p:nvPr/>
        </p:nvGrpSpPr>
        <p:grpSpPr>
          <a:xfrm>
            <a:off x="1945440" y="3308400"/>
            <a:ext cx="1001880" cy="542880"/>
            <a:chOff x="1945440" y="3308400"/>
            <a:chExt cx="1001880" cy="542880"/>
          </a:xfrm>
        </p:grpSpPr>
        <p:sp>
          <p:nvSpPr>
            <p:cNvPr id="197" name=""/>
            <p:cNvSpPr/>
            <p:nvPr/>
          </p:nvSpPr>
          <p:spPr>
            <a:xfrm>
              <a:off x="1945440" y="3308400"/>
              <a:ext cx="96840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קריאה כתיבה </a:t>
              </a:r>
              <a:r>
                <a:rPr b="1" lang="en-US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609640" y="3454560"/>
              <a:ext cx="268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תמר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547000" y="3568680"/>
              <a:ext cx="400320" cy="22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-ב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0" name="girl" descr=""/>
            <p:cNvPicPr/>
            <p:nvPr/>
          </p:nvPicPr>
          <p:blipFill>
            <a:blip r:embed="rId41"/>
            <a:stretch/>
          </p:blipFill>
          <p:spPr>
            <a:xfrm>
              <a:off x="2257560" y="3430440"/>
              <a:ext cx="341280" cy="420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1" name=""/>
          <p:cNvGrpSpPr/>
          <p:nvPr/>
        </p:nvGrpSpPr>
        <p:grpSpPr>
          <a:xfrm>
            <a:off x="7343640" y="4280040"/>
            <a:ext cx="841320" cy="536040"/>
            <a:chOff x="7343640" y="4280040"/>
            <a:chExt cx="841320" cy="536040"/>
          </a:xfrm>
        </p:grpSpPr>
        <p:sp>
          <p:nvSpPr>
            <p:cNvPr id="202" name=""/>
            <p:cNvSpPr/>
            <p:nvPr/>
          </p:nvSpPr>
          <p:spPr>
            <a:xfrm>
              <a:off x="7661520" y="4280040"/>
              <a:ext cx="52344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קריאה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כתיבה </a:t>
              </a:r>
              <a:r>
                <a:rPr b="1" lang="en-US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848360" y="4511880"/>
              <a:ext cx="268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תמר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623720" y="4588200"/>
              <a:ext cx="400320" cy="22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-ב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5" name="girl" descr=""/>
            <p:cNvPicPr/>
            <p:nvPr/>
          </p:nvPicPr>
          <p:blipFill>
            <a:blip r:embed="rId42"/>
            <a:stretch/>
          </p:blipFill>
          <p:spPr>
            <a:xfrm>
              <a:off x="7343640" y="4354560"/>
              <a:ext cx="341280" cy="420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6" name=""/>
          <p:cNvGrpSpPr/>
          <p:nvPr/>
        </p:nvGrpSpPr>
        <p:grpSpPr>
          <a:xfrm>
            <a:off x="988200" y="3747960"/>
            <a:ext cx="916560" cy="515520"/>
            <a:chOff x="988200" y="3747960"/>
            <a:chExt cx="916560" cy="515520"/>
          </a:xfrm>
        </p:grpSpPr>
        <p:sp>
          <p:nvSpPr>
            <p:cNvPr id="207" name=""/>
            <p:cNvSpPr/>
            <p:nvPr/>
          </p:nvSpPr>
          <p:spPr>
            <a:xfrm>
              <a:off x="1343160" y="3747960"/>
              <a:ext cx="51876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עברית </a:t>
              </a:r>
              <a:r>
                <a:rPr b="1" lang="en-US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477800" y="4084560"/>
              <a:ext cx="229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נטע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988200" y="3803760"/>
              <a:ext cx="70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1400" spc="-1" strike="noStrike">
                  <a:solidFill>
                    <a:srgbClr val="009900"/>
                  </a:solidFill>
                  <a:latin typeface="Arial"/>
                  <a:cs typeface="Narkisim"/>
                </a:rPr>
                <a:t>א</a:t>
              </a:r>
              <a:r>
                <a:rPr b="0" lang="he-IL" sz="1800" spc="-1" strike="noStrike">
                  <a:solidFill>
                    <a:srgbClr val="cc0000"/>
                  </a:solidFill>
                  <a:latin typeface="Arial"/>
                  <a:cs typeface="Narkisim"/>
                </a:rPr>
                <a:t>ב</a:t>
              </a:r>
              <a:r>
                <a:rPr b="0" lang="he-IL" sz="2000" spc="-1" strike="noStrike">
                  <a:solidFill>
                    <a:srgbClr val="996633"/>
                  </a:solidFill>
                  <a:latin typeface="Arial"/>
                  <a:cs typeface="Narkisim"/>
                </a:rPr>
                <a:t>ג</a:t>
              </a:r>
              <a:r>
                <a:rPr b="0" lang="he-IL" sz="2400" spc="-1" strike="noStrike">
                  <a:solidFill>
                    <a:srgbClr val="cc00ff"/>
                  </a:solidFill>
                  <a:latin typeface="Arial"/>
                  <a:cs typeface="Narkisim"/>
                </a:rPr>
                <a:t>ד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528920" y="3932280"/>
              <a:ext cx="37584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ג-ה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6810480" y="3338640"/>
            <a:ext cx="549720" cy="714240"/>
            <a:chOff x="6810480" y="3338640"/>
            <a:chExt cx="549720" cy="714240"/>
          </a:xfrm>
        </p:grpSpPr>
        <p:pic>
          <p:nvPicPr>
            <p:cNvPr id="212" name="confucius_idea_lightbulb_sm_CLR" descr=""/>
            <p:cNvPicPr/>
            <p:nvPr/>
          </p:nvPicPr>
          <p:blipFill>
            <a:blip r:embed="rId43"/>
            <a:stretch/>
          </p:blipFill>
          <p:spPr>
            <a:xfrm>
              <a:off x="6810480" y="3338640"/>
              <a:ext cx="285480" cy="71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"/>
            <p:cNvSpPr/>
            <p:nvPr/>
          </p:nvSpPr>
          <p:spPr>
            <a:xfrm>
              <a:off x="7100280" y="3719520"/>
              <a:ext cx="25992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יתי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069320" y="3800520"/>
              <a:ext cx="22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גן-ב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879960" y="3414600"/>
              <a:ext cx="46800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שיעור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נושא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6264720" y="946080"/>
            <a:ext cx="867240" cy="459720"/>
            <a:chOff x="6264720" y="946080"/>
            <a:chExt cx="867240" cy="459720"/>
          </a:xfrm>
        </p:grpSpPr>
        <p:sp>
          <p:nvSpPr>
            <p:cNvPr id="217" name=""/>
            <p:cNvSpPr/>
            <p:nvPr/>
          </p:nvSpPr>
          <p:spPr>
            <a:xfrm>
              <a:off x="6393600" y="961920"/>
              <a:ext cx="73836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מרכז חשבון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829200" y="107928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מיר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264720" y="946080"/>
              <a:ext cx="68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0000"/>
                  </a:solidFill>
                  <a:latin typeface="Arial"/>
                  <a:ea typeface="Guttman Yad-Brush"/>
                </a:rPr>
                <a:t>32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236520" y="2781360"/>
            <a:ext cx="1271880" cy="519480"/>
            <a:chOff x="236520" y="2781360"/>
            <a:chExt cx="1271880" cy="519480"/>
          </a:xfrm>
        </p:grpSpPr>
        <p:sp>
          <p:nvSpPr>
            <p:cNvPr id="221" name=""/>
            <p:cNvSpPr/>
            <p:nvPr/>
          </p:nvSpPr>
          <p:spPr>
            <a:xfrm>
              <a:off x="468360" y="2781360"/>
              <a:ext cx="104004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מבוכים ודרקונים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(</a:t>
              </a:r>
              <a:r>
                <a:rPr b="1" lang="en-US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D</a:t>
              </a:r>
              <a:r>
                <a:rPr b="1" lang="he-IL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&amp;</a:t>
              </a:r>
              <a:r>
                <a:rPr b="1" lang="en-US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D</a:t>
              </a:r>
              <a:r>
                <a:rPr b="1" lang="he-IL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)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91480" y="2898720"/>
              <a:ext cx="325440" cy="40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זוהר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he-IL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יתי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ורועי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3" name="dragon_blowing_fire_sm_CLR" descr=""/>
            <p:cNvPicPr/>
            <p:nvPr/>
          </p:nvPicPr>
          <p:blipFill>
            <a:blip r:embed="rId44"/>
            <a:stretch/>
          </p:blipFill>
          <p:spPr>
            <a:xfrm>
              <a:off x="236520" y="2813040"/>
              <a:ext cx="431640" cy="482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24" name=""/>
          <p:cNvGrpSpPr/>
          <p:nvPr/>
        </p:nvGrpSpPr>
        <p:grpSpPr>
          <a:xfrm>
            <a:off x="7562880" y="1825560"/>
            <a:ext cx="593640" cy="553320"/>
            <a:chOff x="7562880" y="1825560"/>
            <a:chExt cx="593640" cy="553320"/>
          </a:xfrm>
        </p:grpSpPr>
        <p:pic>
          <p:nvPicPr>
            <p:cNvPr id="225" name="" descr=""/>
            <p:cNvPicPr/>
            <p:nvPr/>
          </p:nvPicPr>
          <p:blipFill>
            <a:blip r:embed="rId45"/>
            <a:stretch/>
          </p:blipFill>
          <p:spPr>
            <a:xfrm>
              <a:off x="7613640" y="1898640"/>
              <a:ext cx="390600" cy="44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6" name=""/>
            <p:cNvSpPr/>
            <p:nvPr/>
          </p:nvSpPr>
          <p:spPr>
            <a:xfrm>
              <a:off x="7836120" y="2244600"/>
              <a:ext cx="22032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-ב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836120" y="2068560"/>
              <a:ext cx="291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הוד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793280" y="1825560"/>
              <a:ext cx="36324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שעת סיפור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9" name="boy_reading_sm_CLR" descr=""/>
            <p:cNvPicPr/>
            <p:nvPr/>
          </p:nvPicPr>
          <p:blipFill>
            <a:blip r:embed="rId46"/>
            <a:stretch/>
          </p:blipFill>
          <p:spPr>
            <a:xfrm>
              <a:off x="7562880" y="1862280"/>
              <a:ext cx="304920" cy="504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30" name=""/>
          <p:cNvGrpSpPr/>
          <p:nvPr/>
        </p:nvGrpSpPr>
        <p:grpSpPr>
          <a:xfrm>
            <a:off x="2855880" y="890640"/>
            <a:ext cx="959040" cy="604800"/>
            <a:chOff x="2855880" y="890640"/>
            <a:chExt cx="959040" cy="604800"/>
          </a:xfrm>
        </p:grpSpPr>
        <p:sp>
          <p:nvSpPr>
            <p:cNvPr id="231" name=""/>
            <p:cNvSpPr/>
            <p:nvPr/>
          </p:nvSpPr>
          <p:spPr>
            <a:xfrm>
              <a:off x="3380400" y="1360800"/>
              <a:ext cx="13032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ז-י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344760" y="1173240"/>
              <a:ext cx="314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בנג'ה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171960" y="890640"/>
              <a:ext cx="64296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יחסים בין לאומיים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4" name="corporate_travel_sm_CLR" descr=""/>
            <p:cNvPicPr/>
            <p:nvPr/>
          </p:nvPicPr>
          <p:blipFill>
            <a:blip r:embed="rId47"/>
            <a:stretch/>
          </p:blipFill>
          <p:spPr>
            <a:xfrm>
              <a:off x="2855880" y="973440"/>
              <a:ext cx="498600" cy="522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5" name=""/>
          <p:cNvSpPr/>
          <p:nvPr/>
        </p:nvSpPr>
        <p:spPr>
          <a:xfrm>
            <a:off x="8196120" y="2968560"/>
            <a:ext cx="7606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100" spc="-1" strike="noStrike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r>
              <a:rPr b="0" lang="he-IL" sz="11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0-10:</a:t>
            </a:r>
            <a:r>
              <a:rPr b="0" lang="he-IL" sz="11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047360" y="2913120"/>
            <a:ext cx="650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100" spc="-1" strike="noStrike">
                <a:solidFill>
                  <a:srgbClr val="0000ff"/>
                </a:solidFill>
                <a:latin typeface="Arial"/>
                <a:cs typeface="Arial"/>
              </a:rPr>
              <a:t>הפסקה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46960" y="2903400"/>
            <a:ext cx="650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100" spc="-1" strike="noStrike">
                <a:solidFill>
                  <a:srgbClr val="0000ff"/>
                </a:solidFill>
                <a:latin typeface="Arial"/>
                <a:cs typeface="Arial"/>
              </a:rPr>
              <a:t>הפסקה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789560" y="2913120"/>
            <a:ext cx="650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100" spc="-1" strike="noStrike">
                <a:solidFill>
                  <a:srgbClr val="0000ff"/>
                </a:solidFill>
                <a:latin typeface="Arial"/>
                <a:cs typeface="Arial"/>
              </a:rPr>
              <a:t>הפסקה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2928960" y="6186600"/>
            <a:ext cx="1355040" cy="465120"/>
            <a:chOff x="2928960" y="6186600"/>
            <a:chExt cx="1355040" cy="465120"/>
          </a:xfrm>
        </p:grpSpPr>
        <p:pic>
          <p:nvPicPr>
            <p:cNvPr id="240" name="protractor_measuring_angle_sm_wht" descr=""/>
            <p:cNvPicPr/>
            <p:nvPr/>
          </p:nvPicPr>
          <p:blipFill>
            <a:blip r:embed="rId48"/>
            <a:stretch/>
          </p:blipFill>
          <p:spPr>
            <a:xfrm>
              <a:off x="2928960" y="6186600"/>
              <a:ext cx="631800" cy="46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"/>
            <p:cNvSpPr/>
            <p:nvPr/>
          </p:nvSpPr>
          <p:spPr>
            <a:xfrm>
              <a:off x="3545640" y="6203880"/>
              <a:ext cx="73836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מרכז חשבון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767760" y="6513480"/>
              <a:ext cx="13032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ז-י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636000" y="6326280"/>
              <a:ext cx="381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ביבה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1685880" y="1193760"/>
            <a:ext cx="666720" cy="718920"/>
            <a:chOff x="1685880" y="1193760"/>
            <a:chExt cx="666720" cy="718920"/>
          </a:xfrm>
        </p:grpSpPr>
        <p:pic>
          <p:nvPicPr>
            <p:cNvPr id="245" name="feather_quill_sm_CLR" descr=""/>
            <p:cNvPicPr/>
            <p:nvPr/>
          </p:nvPicPr>
          <p:blipFill>
            <a:blip r:embed="rId49"/>
            <a:stretch/>
          </p:blipFill>
          <p:spPr>
            <a:xfrm>
              <a:off x="1685880" y="1193760"/>
              <a:ext cx="411120" cy="7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"/>
            <p:cNvSpPr/>
            <p:nvPr/>
          </p:nvSpPr>
          <p:spPr>
            <a:xfrm>
              <a:off x="1883880" y="1638360"/>
              <a:ext cx="46872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לישבע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029320" y="1509480"/>
              <a:ext cx="13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ז-י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925280" y="1305000"/>
              <a:ext cx="42084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כתיבה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 יוצרת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9" name=""/>
          <p:cNvGrpSpPr/>
          <p:nvPr/>
        </p:nvGrpSpPr>
        <p:grpSpPr>
          <a:xfrm>
            <a:off x="103680" y="3236760"/>
            <a:ext cx="1188360" cy="709200"/>
            <a:chOff x="103680" y="3236760"/>
            <a:chExt cx="1188360" cy="709200"/>
          </a:xfrm>
        </p:grpSpPr>
        <p:sp>
          <p:nvSpPr>
            <p:cNvPr id="250" name=""/>
            <p:cNvSpPr/>
            <p:nvPr/>
          </p:nvSpPr>
          <p:spPr>
            <a:xfrm>
              <a:off x="103680" y="3236760"/>
              <a:ext cx="8877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מפגש בנות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1" name="grlcl1q_" descr=""/>
            <p:cNvPicPr/>
            <p:nvPr/>
          </p:nvPicPr>
          <p:blipFill>
            <a:blip r:embed="rId50"/>
            <a:stretch/>
          </p:blipFill>
          <p:spPr>
            <a:xfrm>
              <a:off x="204840" y="3432240"/>
              <a:ext cx="684000" cy="46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2" name=""/>
            <p:cNvSpPr/>
            <p:nvPr/>
          </p:nvSpPr>
          <p:spPr>
            <a:xfrm>
              <a:off x="799920" y="3684600"/>
              <a:ext cx="3621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ה-ז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43320" y="3387600"/>
              <a:ext cx="648720" cy="36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לישבע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ושרון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4656240" y="5160960"/>
            <a:ext cx="842400" cy="593640"/>
            <a:chOff x="4656240" y="5160960"/>
            <a:chExt cx="842400" cy="593640"/>
          </a:xfrm>
        </p:grpSpPr>
        <p:sp>
          <p:nvSpPr>
            <p:cNvPr id="255" name=""/>
            <p:cNvSpPr/>
            <p:nvPr/>
          </p:nvSpPr>
          <p:spPr>
            <a:xfrm>
              <a:off x="5203440" y="5464080"/>
              <a:ext cx="2322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גן-א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894200" y="5190840"/>
              <a:ext cx="604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חשבון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188320" y="5365440"/>
              <a:ext cx="23544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ענת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8" name="girl_holding_123_ty_CLR" descr=""/>
            <p:cNvPicPr/>
            <p:nvPr/>
          </p:nvPicPr>
          <p:blipFill>
            <a:blip r:embed="rId51"/>
            <a:stretch/>
          </p:blipFill>
          <p:spPr>
            <a:xfrm>
              <a:off x="4656240" y="5160960"/>
              <a:ext cx="593640" cy="593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59" name=""/>
          <p:cNvGrpSpPr/>
          <p:nvPr/>
        </p:nvGrpSpPr>
        <p:grpSpPr>
          <a:xfrm>
            <a:off x="1926360" y="4280040"/>
            <a:ext cx="1020960" cy="552240"/>
            <a:chOff x="1926360" y="4280040"/>
            <a:chExt cx="1020960" cy="552240"/>
          </a:xfrm>
        </p:grpSpPr>
        <p:sp>
          <p:nvSpPr>
            <p:cNvPr id="260" name=""/>
            <p:cNvSpPr/>
            <p:nvPr/>
          </p:nvSpPr>
          <p:spPr>
            <a:xfrm>
              <a:off x="1926360" y="4280040"/>
              <a:ext cx="96840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קריאה כתיבה </a:t>
              </a:r>
              <a:r>
                <a:rPr b="1" lang="en-US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3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590560" y="4425840"/>
              <a:ext cx="268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תמר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547000" y="4568760"/>
              <a:ext cx="400320" cy="22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-ב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63" name="girl" descr=""/>
            <p:cNvPicPr/>
            <p:nvPr/>
          </p:nvPicPr>
          <p:blipFill>
            <a:blip r:embed="rId52"/>
            <a:stretch/>
          </p:blipFill>
          <p:spPr>
            <a:xfrm>
              <a:off x="2219400" y="4411800"/>
              <a:ext cx="341280" cy="420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64" name=""/>
          <p:cNvGrpSpPr/>
          <p:nvPr/>
        </p:nvGrpSpPr>
        <p:grpSpPr>
          <a:xfrm>
            <a:off x="566640" y="4629240"/>
            <a:ext cx="835920" cy="565200"/>
            <a:chOff x="566640" y="4629240"/>
            <a:chExt cx="835920" cy="565200"/>
          </a:xfrm>
        </p:grpSpPr>
        <p:sp>
          <p:nvSpPr>
            <p:cNvPr id="265" name=""/>
            <p:cNvSpPr/>
            <p:nvPr/>
          </p:nvSpPr>
          <p:spPr>
            <a:xfrm>
              <a:off x="1263240" y="4905360"/>
              <a:ext cx="13932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שי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974520" y="4871880"/>
              <a:ext cx="195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ג-ה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8320" y="4629240"/>
              <a:ext cx="468360" cy="40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סיפורים ואגדות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68" name="riding_hood_running_basket_sm_CLR_Horiz" descr=""/>
            <p:cNvPicPr/>
            <p:nvPr/>
          </p:nvPicPr>
          <p:blipFill>
            <a:blip r:embed="rId53"/>
            <a:stretch/>
          </p:blipFill>
          <p:spPr>
            <a:xfrm>
              <a:off x="566640" y="4700520"/>
              <a:ext cx="493920" cy="493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69" name=""/>
          <p:cNvGrpSpPr/>
          <p:nvPr/>
        </p:nvGrpSpPr>
        <p:grpSpPr>
          <a:xfrm>
            <a:off x="251640" y="3881520"/>
            <a:ext cx="901440" cy="380520"/>
            <a:chOff x="251640" y="3881520"/>
            <a:chExt cx="901440" cy="380520"/>
          </a:xfrm>
        </p:grpSpPr>
        <p:sp>
          <p:nvSpPr>
            <p:cNvPr id="270" name=""/>
            <p:cNvSpPr/>
            <p:nvPr/>
          </p:nvSpPr>
          <p:spPr>
            <a:xfrm>
              <a:off x="251640" y="3881520"/>
              <a:ext cx="90144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ספרות אנגלית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1" name=""/>
            <p:cNvGrpSpPr/>
            <p:nvPr/>
          </p:nvGrpSpPr>
          <p:grpSpPr>
            <a:xfrm>
              <a:off x="496440" y="4016520"/>
              <a:ext cx="192240" cy="226440"/>
              <a:chOff x="496440" y="4016520"/>
              <a:chExt cx="192240" cy="226440"/>
            </a:xfrm>
          </p:grpSpPr>
          <p:pic>
            <p:nvPicPr>
              <p:cNvPr id="272" name="" descr=""/>
              <p:cNvPicPr/>
              <p:nvPr/>
            </p:nvPicPr>
            <p:blipFill>
              <a:blip r:embed="rId54"/>
              <a:stretch/>
            </p:blipFill>
            <p:spPr>
              <a:xfrm>
                <a:off x="496440" y="4016520"/>
                <a:ext cx="192240" cy="226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73" name="" descr=""/>
              <p:cNvPicPr/>
              <p:nvPr/>
            </p:nvPicPr>
            <p:blipFill>
              <a:blip r:embed="rId55"/>
              <a:stretch/>
            </p:blipFill>
            <p:spPr>
              <a:xfrm>
                <a:off x="496440" y="4016520"/>
                <a:ext cx="192240" cy="2264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74" name=""/>
            <p:cNvGrpSpPr/>
            <p:nvPr/>
          </p:nvGrpSpPr>
          <p:grpSpPr>
            <a:xfrm>
              <a:off x="257040" y="4005360"/>
              <a:ext cx="199800" cy="247320"/>
              <a:chOff x="257040" y="4005360"/>
              <a:chExt cx="199800" cy="247320"/>
            </a:xfrm>
          </p:grpSpPr>
          <p:pic>
            <p:nvPicPr>
              <p:cNvPr id="275" name="" descr=""/>
              <p:cNvPicPr/>
              <p:nvPr/>
            </p:nvPicPr>
            <p:blipFill>
              <a:blip r:embed="rId56"/>
              <a:stretch/>
            </p:blipFill>
            <p:spPr>
              <a:xfrm>
                <a:off x="257040" y="4005360"/>
                <a:ext cx="199800" cy="247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76" name="" descr=""/>
              <p:cNvPicPr/>
              <p:nvPr/>
            </p:nvPicPr>
            <p:blipFill>
              <a:blip r:embed="rId57"/>
              <a:stretch/>
            </p:blipFill>
            <p:spPr>
              <a:xfrm>
                <a:off x="257040" y="4005360"/>
                <a:ext cx="199800" cy="2473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77" name=""/>
            <p:cNvSpPr/>
            <p:nvPr/>
          </p:nvSpPr>
          <p:spPr>
            <a:xfrm>
              <a:off x="733320" y="3979800"/>
              <a:ext cx="366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יתנה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733680" y="4094280"/>
              <a:ext cx="13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ז-י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927000" y="5126040"/>
            <a:ext cx="1079640" cy="549360"/>
            <a:chOff x="927000" y="5126040"/>
            <a:chExt cx="1079640" cy="549360"/>
          </a:xfrm>
        </p:grpSpPr>
        <p:sp>
          <p:nvSpPr>
            <p:cNvPr id="280" name=""/>
            <p:cNvSpPr/>
            <p:nvPr/>
          </p:nvSpPr>
          <p:spPr>
            <a:xfrm>
              <a:off x="1483200" y="5241960"/>
              <a:ext cx="52344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סיפורי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בראשית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444680" y="5535720"/>
              <a:ext cx="220320" cy="11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-ב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690920" y="5459400"/>
              <a:ext cx="291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הוד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83" name="noahs_ark_rocking_ty_CLR" descr=""/>
            <p:cNvPicPr/>
            <p:nvPr/>
          </p:nvPicPr>
          <p:blipFill>
            <a:blip r:embed="rId58"/>
            <a:stretch/>
          </p:blipFill>
          <p:spPr>
            <a:xfrm>
              <a:off x="927000" y="5126040"/>
              <a:ext cx="639720" cy="549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84" name=""/>
          <p:cNvGrpSpPr/>
          <p:nvPr/>
        </p:nvGrpSpPr>
        <p:grpSpPr>
          <a:xfrm>
            <a:off x="1888560" y="5757840"/>
            <a:ext cx="977760" cy="380520"/>
            <a:chOff x="1888560" y="5757840"/>
            <a:chExt cx="977760" cy="380520"/>
          </a:xfrm>
        </p:grpSpPr>
        <p:sp>
          <p:nvSpPr>
            <p:cNvPr id="285" name=""/>
            <p:cNvSpPr/>
            <p:nvPr/>
          </p:nvSpPr>
          <p:spPr>
            <a:xfrm>
              <a:off x="1888560" y="5757840"/>
              <a:ext cx="97776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אנגלית </a:t>
              </a:r>
              <a:r>
                <a:rPr b="1" lang="en-US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unseen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6" name=""/>
            <p:cNvGrpSpPr/>
            <p:nvPr/>
          </p:nvGrpSpPr>
          <p:grpSpPr>
            <a:xfrm>
              <a:off x="2306520" y="5892840"/>
              <a:ext cx="192240" cy="226440"/>
              <a:chOff x="2306520" y="5892840"/>
              <a:chExt cx="192240" cy="226440"/>
            </a:xfrm>
          </p:grpSpPr>
          <p:pic>
            <p:nvPicPr>
              <p:cNvPr id="287" name="" descr=""/>
              <p:cNvPicPr/>
              <p:nvPr/>
            </p:nvPicPr>
            <p:blipFill>
              <a:blip r:embed="rId59"/>
              <a:stretch/>
            </p:blipFill>
            <p:spPr>
              <a:xfrm>
                <a:off x="2306520" y="5892840"/>
                <a:ext cx="192240" cy="226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88" name="" descr=""/>
              <p:cNvPicPr/>
              <p:nvPr/>
            </p:nvPicPr>
            <p:blipFill>
              <a:blip r:embed="rId60"/>
              <a:stretch/>
            </p:blipFill>
            <p:spPr>
              <a:xfrm>
                <a:off x="2306520" y="5892840"/>
                <a:ext cx="192240" cy="2264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89" name=""/>
            <p:cNvGrpSpPr/>
            <p:nvPr/>
          </p:nvGrpSpPr>
          <p:grpSpPr>
            <a:xfrm>
              <a:off x="2057400" y="5891040"/>
              <a:ext cx="199800" cy="247320"/>
              <a:chOff x="2057400" y="5891040"/>
              <a:chExt cx="199800" cy="247320"/>
            </a:xfrm>
          </p:grpSpPr>
          <p:pic>
            <p:nvPicPr>
              <p:cNvPr id="290" name="" descr=""/>
              <p:cNvPicPr/>
              <p:nvPr/>
            </p:nvPicPr>
            <p:blipFill>
              <a:blip r:embed="rId61"/>
              <a:stretch/>
            </p:blipFill>
            <p:spPr>
              <a:xfrm>
                <a:off x="2057400" y="5891040"/>
                <a:ext cx="199800" cy="247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91" name="" descr=""/>
              <p:cNvPicPr/>
              <p:nvPr/>
            </p:nvPicPr>
            <p:blipFill>
              <a:blip r:embed="rId62"/>
              <a:stretch/>
            </p:blipFill>
            <p:spPr>
              <a:xfrm>
                <a:off x="2057400" y="5891040"/>
                <a:ext cx="199800" cy="2473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92" name=""/>
            <p:cNvSpPr/>
            <p:nvPr/>
          </p:nvSpPr>
          <p:spPr>
            <a:xfrm>
              <a:off x="2495880" y="5846760"/>
              <a:ext cx="366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יתנה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591280" y="5961240"/>
              <a:ext cx="13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ז-י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4" name=""/>
          <p:cNvGrpSpPr/>
          <p:nvPr/>
        </p:nvGrpSpPr>
        <p:grpSpPr>
          <a:xfrm>
            <a:off x="6789600" y="1827360"/>
            <a:ext cx="785880" cy="593640"/>
            <a:chOff x="6789600" y="1827360"/>
            <a:chExt cx="785880" cy="593640"/>
          </a:xfrm>
        </p:grpSpPr>
        <p:sp>
          <p:nvSpPr>
            <p:cNvPr id="295" name=""/>
            <p:cNvSpPr/>
            <p:nvPr/>
          </p:nvSpPr>
          <p:spPr>
            <a:xfrm>
              <a:off x="7283520" y="2092320"/>
              <a:ext cx="22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-ב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970680" y="1847880"/>
              <a:ext cx="604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חשבון </a:t>
              </a:r>
              <a:r>
                <a:rPr b="1" lang="en-US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3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7245360" y="1994040"/>
              <a:ext cx="20340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רוני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98" name="girl_holding_123_ty_CLR" descr=""/>
            <p:cNvPicPr/>
            <p:nvPr/>
          </p:nvPicPr>
          <p:blipFill>
            <a:blip r:embed="rId63"/>
            <a:stretch/>
          </p:blipFill>
          <p:spPr>
            <a:xfrm>
              <a:off x="6789600" y="1827360"/>
              <a:ext cx="594000" cy="593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99" name=""/>
          <p:cNvGrpSpPr/>
          <p:nvPr/>
        </p:nvGrpSpPr>
        <p:grpSpPr>
          <a:xfrm>
            <a:off x="1214280" y="912960"/>
            <a:ext cx="728640" cy="454680"/>
            <a:chOff x="1214280" y="912960"/>
            <a:chExt cx="728640" cy="454680"/>
          </a:xfrm>
        </p:grpSpPr>
        <p:sp>
          <p:nvSpPr>
            <p:cNvPr id="300" name=""/>
            <p:cNvSpPr/>
            <p:nvPr/>
          </p:nvSpPr>
          <p:spPr>
            <a:xfrm>
              <a:off x="1519920" y="912960"/>
              <a:ext cx="28728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יוגה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597320" y="1233360"/>
              <a:ext cx="22464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-ה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607040" y="1012680"/>
              <a:ext cx="335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דנה ל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03" name="yoga" descr=""/>
            <p:cNvPicPr/>
            <p:nvPr/>
          </p:nvPicPr>
          <p:blipFill>
            <a:blip r:embed="rId64"/>
            <a:stretch/>
          </p:blipFill>
          <p:spPr>
            <a:xfrm>
              <a:off x="1214280" y="961920"/>
              <a:ext cx="462240" cy="390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04" name=""/>
          <p:cNvGrpSpPr/>
          <p:nvPr/>
        </p:nvGrpSpPr>
        <p:grpSpPr>
          <a:xfrm>
            <a:off x="4322880" y="1092240"/>
            <a:ext cx="705600" cy="772560"/>
            <a:chOff x="4322880" y="1092240"/>
            <a:chExt cx="705600" cy="772560"/>
          </a:xfrm>
        </p:grpSpPr>
        <p:sp>
          <p:nvSpPr>
            <p:cNvPr id="305" name=""/>
            <p:cNvSpPr/>
            <p:nvPr/>
          </p:nvSpPr>
          <p:spPr>
            <a:xfrm>
              <a:off x="4322880" y="1092240"/>
              <a:ext cx="67788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מפגש בית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06" name="mushroom_house_sm_CLR" descr=""/>
            <p:cNvPicPr/>
            <p:nvPr/>
          </p:nvPicPr>
          <p:blipFill>
            <a:blip r:embed="rId65"/>
            <a:stretch/>
          </p:blipFill>
          <p:spPr>
            <a:xfrm>
              <a:off x="4435560" y="1162080"/>
              <a:ext cx="514440" cy="5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7" name=""/>
            <p:cNvSpPr/>
            <p:nvPr/>
          </p:nvSpPr>
          <p:spPr>
            <a:xfrm>
              <a:off x="4414680" y="1633680"/>
              <a:ext cx="613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lang="hi-IN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בית ה-ז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8" name=""/>
          <p:cNvGrpSpPr/>
          <p:nvPr/>
        </p:nvGrpSpPr>
        <p:grpSpPr>
          <a:xfrm>
            <a:off x="1044000" y="3236760"/>
            <a:ext cx="1087920" cy="649440"/>
            <a:chOff x="1044000" y="3236760"/>
            <a:chExt cx="1087920" cy="649440"/>
          </a:xfrm>
        </p:grpSpPr>
        <p:pic>
          <p:nvPicPr>
            <p:cNvPr id="309" name="Plasticine_s_c" descr=""/>
            <p:cNvPicPr/>
            <p:nvPr/>
          </p:nvPicPr>
          <p:blipFill>
            <a:blip r:embed="rId66"/>
            <a:stretch/>
          </p:blipFill>
          <p:spPr>
            <a:xfrm>
              <a:off x="1185840" y="3457440"/>
              <a:ext cx="636480" cy="42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0" name=""/>
            <p:cNvSpPr/>
            <p:nvPr/>
          </p:nvSpPr>
          <p:spPr>
            <a:xfrm>
              <a:off x="1044000" y="3236760"/>
              <a:ext cx="82548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פלסטלינה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1655640" y="3332160"/>
              <a:ext cx="47628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מיר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689840" y="3456000"/>
              <a:ext cx="40032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-ב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3" name=""/>
          <p:cNvGrpSpPr/>
          <p:nvPr/>
        </p:nvGrpSpPr>
        <p:grpSpPr>
          <a:xfrm>
            <a:off x="5587920" y="1111320"/>
            <a:ext cx="690120" cy="531000"/>
            <a:chOff x="5587920" y="1111320"/>
            <a:chExt cx="690120" cy="531000"/>
          </a:xfrm>
        </p:grpSpPr>
        <p:sp>
          <p:nvSpPr>
            <p:cNvPr id="314" name=""/>
            <p:cNvSpPr/>
            <p:nvPr/>
          </p:nvSpPr>
          <p:spPr>
            <a:xfrm>
              <a:off x="5674320" y="1111320"/>
              <a:ext cx="28728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יוגה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5985720" y="1508040"/>
              <a:ext cx="18216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ה-ז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5942160" y="1268280"/>
              <a:ext cx="335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דנה ל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17" name="yoga" descr=""/>
            <p:cNvPicPr/>
            <p:nvPr/>
          </p:nvPicPr>
          <p:blipFill>
            <a:blip r:embed="rId67"/>
            <a:stretch/>
          </p:blipFill>
          <p:spPr>
            <a:xfrm>
              <a:off x="5587920" y="1245960"/>
              <a:ext cx="461880" cy="390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18" name=""/>
          <p:cNvGrpSpPr/>
          <p:nvPr/>
        </p:nvGrpSpPr>
        <p:grpSpPr>
          <a:xfrm>
            <a:off x="3132720" y="4268880"/>
            <a:ext cx="583200" cy="604440"/>
            <a:chOff x="3132720" y="4268880"/>
            <a:chExt cx="583200" cy="604440"/>
          </a:xfrm>
        </p:grpSpPr>
        <p:sp>
          <p:nvSpPr>
            <p:cNvPr id="319" name=""/>
            <p:cNvSpPr/>
            <p:nvPr/>
          </p:nvSpPr>
          <p:spPr>
            <a:xfrm>
              <a:off x="3132720" y="4268880"/>
              <a:ext cx="57672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   שיטת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אלכסנדר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504240" y="4603680"/>
              <a:ext cx="182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ה-ז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3472920" y="4484520"/>
              <a:ext cx="243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רחל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22" name="MOReohiz" descr=""/>
            <p:cNvPicPr/>
            <p:nvPr/>
          </p:nvPicPr>
          <p:blipFill>
            <a:blip r:embed="rId68"/>
            <a:stretch/>
          </p:blipFill>
          <p:spPr>
            <a:xfrm>
              <a:off x="3211200" y="4508280"/>
              <a:ext cx="365040" cy="365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23" name=""/>
          <p:cNvGrpSpPr/>
          <p:nvPr/>
        </p:nvGrpSpPr>
        <p:grpSpPr>
          <a:xfrm>
            <a:off x="3726720" y="5213520"/>
            <a:ext cx="973080" cy="542520"/>
            <a:chOff x="3726720" y="5213520"/>
            <a:chExt cx="973080" cy="542520"/>
          </a:xfrm>
        </p:grpSpPr>
        <p:sp>
          <p:nvSpPr>
            <p:cNvPr id="324" name=""/>
            <p:cNvSpPr/>
            <p:nvPr/>
          </p:nvSpPr>
          <p:spPr>
            <a:xfrm>
              <a:off x="3726720" y="5213520"/>
              <a:ext cx="96840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קריאה כתיבה </a:t>
              </a:r>
              <a:r>
                <a:rPr b="1" lang="en-US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4333320" y="5359320"/>
              <a:ext cx="268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תמר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299480" y="5502240"/>
              <a:ext cx="400320" cy="22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-ב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27" name="girl" descr=""/>
            <p:cNvPicPr/>
            <p:nvPr/>
          </p:nvPicPr>
          <p:blipFill>
            <a:blip r:embed="rId69"/>
            <a:stretch/>
          </p:blipFill>
          <p:spPr>
            <a:xfrm>
              <a:off x="3971880" y="5335560"/>
              <a:ext cx="340920" cy="420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28" name=""/>
          <p:cNvGrpSpPr/>
          <p:nvPr/>
        </p:nvGrpSpPr>
        <p:grpSpPr>
          <a:xfrm>
            <a:off x="1839960" y="3763800"/>
            <a:ext cx="1155960" cy="507600"/>
            <a:chOff x="1839960" y="3763800"/>
            <a:chExt cx="1155960" cy="507600"/>
          </a:xfrm>
        </p:grpSpPr>
        <p:sp>
          <p:nvSpPr>
            <p:cNvPr id="329" name=""/>
            <p:cNvSpPr/>
            <p:nvPr/>
          </p:nvSpPr>
          <p:spPr>
            <a:xfrm>
              <a:off x="2108160" y="3772080"/>
              <a:ext cx="8877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מפגש בנים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219040" y="4010040"/>
              <a:ext cx="3621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ה-ז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248560" y="3951360"/>
              <a:ext cx="471960" cy="22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הוד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2" name="boycl1h" descr=""/>
            <p:cNvPicPr/>
            <p:nvPr/>
          </p:nvPicPr>
          <p:blipFill>
            <a:blip r:embed="rId70"/>
            <a:stretch/>
          </p:blipFill>
          <p:spPr>
            <a:xfrm>
              <a:off x="1839960" y="3763800"/>
              <a:ext cx="434880" cy="460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33" name=""/>
          <p:cNvGrpSpPr/>
          <p:nvPr/>
        </p:nvGrpSpPr>
        <p:grpSpPr>
          <a:xfrm>
            <a:off x="7246800" y="6186600"/>
            <a:ext cx="893520" cy="514080"/>
            <a:chOff x="7246800" y="6186600"/>
            <a:chExt cx="893520" cy="514080"/>
          </a:xfrm>
        </p:grpSpPr>
        <p:sp>
          <p:nvSpPr>
            <p:cNvPr id="334" name=""/>
            <p:cNvSpPr/>
            <p:nvPr/>
          </p:nvSpPr>
          <p:spPr>
            <a:xfrm>
              <a:off x="7246800" y="6211800"/>
              <a:ext cx="83952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מפגש סיפור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5" name="mushroom_house_sm_CLR" descr=""/>
            <p:cNvPicPr/>
            <p:nvPr/>
          </p:nvPicPr>
          <p:blipFill>
            <a:blip r:embed="rId71"/>
            <a:stretch/>
          </p:blipFill>
          <p:spPr>
            <a:xfrm>
              <a:off x="7625880" y="6186600"/>
              <a:ext cx="514440" cy="51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6" name=""/>
            <p:cNvSpPr/>
            <p:nvPr/>
          </p:nvSpPr>
          <p:spPr>
            <a:xfrm>
              <a:off x="7355880" y="6286320"/>
              <a:ext cx="429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lang="hi-IN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בית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hi-IN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-ב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7" name=""/>
          <p:cNvGrpSpPr/>
          <p:nvPr/>
        </p:nvGrpSpPr>
        <p:grpSpPr>
          <a:xfrm>
            <a:off x="3900600" y="4226040"/>
            <a:ext cx="782640" cy="480960"/>
            <a:chOff x="3900600" y="4226040"/>
            <a:chExt cx="782640" cy="480960"/>
          </a:xfrm>
        </p:grpSpPr>
        <p:pic>
          <p:nvPicPr>
            <p:cNvPr id="338" name="ccsaying3a" descr=""/>
            <p:cNvPicPr/>
            <p:nvPr/>
          </p:nvPicPr>
          <p:blipFill>
            <a:blip r:embed="rId72"/>
            <a:stretch/>
          </p:blipFill>
          <p:spPr>
            <a:xfrm>
              <a:off x="3900600" y="4275360"/>
              <a:ext cx="51120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9" name=""/>
            <p:cNvSpPr/>
            <p:nvPr/>
          </p:nvSpPr>
          <p:spPr>
            <a:xfrm>
              <a:off x="4319640" y="4383360"/>
              <a:ext cx="36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גן-א-ב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125960" y="4226040"/>
              <a:ext cx="554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פעילות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1" name=""/>
          <p:cNvGrpSpPr/>
          <p:nvPr/>
        </p:nvGrpSpPr>
        <p:grpSpPr>
          <a:xfrm>
            <a:off x="4618080" y="6167520"/>
            <a:ext cx="893520" cy="514440"/>
            <a:chOff x="4618080" y="6167520"/>
            <a:chExt cx="893520" cy="514440"/>
          </a:xfrm>
        </p:grpSpPr>
        <p:sp>
          <p:nvSpPr>
            <p:cNvPr id="342" name=""/>
            <p:cNvSpPr/>
            <p:nvPr/>
          </p:nvSpPr>
          <p:spPr>
            <a:xfrm>
              <a:off x="4618080" y="6193080"/>
              <a:ext cx="83952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עושים סדר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43" name="mushroom_house_sm_CLR" descr=""/>
            <p:cNvPicPr/>
            <p:nvPr/>
          </p:nvPicPr>
          <p:blipFill>
            <a:blip r:embed="rId73"/>
            <a:stretch/>
          </p:blipFill>
          <p:spPr>
            <a:xfrm>
              <a:off x="4997160" y="6167520"/>
              <a:ext cx="514440" cy="5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4" name=""/>
            <p:cNvSpPr/>
            <p:nvPr/>
          </p:nvSpPr>
          <p:spPr>
            <a:xfrm>
              <a:off x="4727160" y="6267600"/>
              <a:ext cx="429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lang="hi-IN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בית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hi-IN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-ב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5" name=""/>
          <p:cNvGrpSpPr/>
          <p:nvPr/>
        </p:nvGrpSpPr>
        <p:grpSpPr>
          <a:xfrm>
            <a:off x="1951200" y="6157800"/>
            <a:ext cx="893520" cy="514440"/>
            <a:chOff x="1951200" y="6157800"/>
            <a:chExt cx="893520" cy="514440"/>
          </a:xfrm>
        </p:grpSpPr>
        <p:sp>
          <p:nvSpPr>
            <p:cNvPr id="346" name=""/>
            <p:cNvSpPr/>
            <p:nvPr/>
          </p:nvSpPr>
          <p:spPr>
            <a:xfrm>
              <a:off x="1951200" y="6183360"/>
              <a:ext cx="83952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מפגש משלנו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47" name="mushroom_house_sm_CLR" descr=""/>
            <p:cNvPicPr/>
            <p:nvPr/>
          </p:nvPicPr>
          <p:blipFill>
            <a:blip r:embed="rId74"/>
            <a:stretch/>
          </p:blipFill>
          <p:spPr>
            <a:xfrm>
              <a:off x="2330280" y="6157800"/>
              <a:ext cx="514440" cy="5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8" name=""/>
            <p:cNvSpPr/>
            <p:nvPr/>
          </p:nvSpPr>
          <p:spPr>
            <a:xfrm>
              <a:off x="2060280" y="6257880"/>
              <a:ext cx="429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lang="hi-IN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בית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hi-IN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-ב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9" name=""/>
          <p:cNvSpPr/>
          <p:nvPr/>
        </p:nvSpPr>
        <p:spPr>
          <a:xfrm>
            <a:off x="8215200" y="530280"/>
            <a:ext cx="7034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100" spc="-1" strike="noStrike">
                <a:solidFill>
                  <a:srgbClr val="000000"/>
                </a:solidFill>
                <a:latin typeface="Arial"/>
                <a:ea typeface="Arial"/>
              </a:rPr>
              <a:t>7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r>
              <a:rPr b="0" lang="he-IL" sz="1100" spc="-1" strike="noStrike">
                <a:solidFill>
                  <a:srgbClr val="000000"/>
                </a:solidFill>
                <a:latin typeface="Arial"/>
                <a:ea typeface="Arial"/>
              </a:rPr>
              <a:t>45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he-IL" sz="1100" spc="-1" strike="noStrike">
                <a:solidFill>
                  <a:srgbClr val="000000"/>
                </a:solidFill>
                <a:latin typeface="Arial"/>
                <a:ea typeface="Arial"/>
              </a:rPr>
              <a:t>8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:2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4409280" y="5668920"/>
            <a:ext cx="1174320" cy="482040"/>
            <a:chOff x="4409280" y="5668920"/>
            <a:chExt cx="1174320" cy="482040"/>
          </a:xfrm>
        </p:grpSpPr>
        <p:pic>
          <p:nvPicPr>
            <p:cNvPr id="351" name="sphere_orbiting_gravity_well_ty_CLR" descr=""/>
            <p:cNvPicPr/>
            <p:nvPr/>
          </p:nvPicPr>
          <p:blipFill>
            <a:blip r:embed="rId75"/>
            <a:stretch/>
          </p:blipFill>
          <p:spPr>
            <a:xfrm>
              <a:off x="4424400" y="5778720"/>
              <a:ext cx="639720" cy="36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2" name=""/>
            <p:cNvSpPr/>
            <p:nvPr/>
          </p:nvSpPr>
          <p:spPr>
            <a:xfrm>
              <a:off x="4409280" y="5668920"/>
              <a:ext cx="117432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מתמטיקה לבוגרים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5112360" y="6016680"/>
              <a:ext cx="13032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ז-י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028120" y="5810400"/>
              <a:ext cx="381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ביבה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5" name=""/>
          <p:cNvGrpSpPr/>
          <p:nvPr/>
        </p:nvGrpSpPr>
        <p:grpSpPr>
          <a:xfrm>
            <a:off x="5553000" y="2824200"/>
            <a:ext cx="939960" cy="475560"/>
            <a:chOff x="5553000" y="2824200"/>
            <a:chExt cx="939960" cy="475560"/>
          </a:xfrm>
        </p:grpSpPr>
        <p:pic>
          <p:nvPicPr>
            <p:cNvPr id="356" name="professor_atomic_energy_lg_CLR" descr=""/>
            <p:cNvPicPr/>
            <p:nvPr/>
          </p:nvPicPr>
          <p:blipFill>
            <a:blip r:embed="rId76"/>
            <a:stretch/>
          </p:blipFill>
          <p:spPr>
            <a:xfrm>
              <a:off x="5553000" y="2824200"/>
              <a:ext cx="595440" cy="43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7" name=""/>
            <p:cNvSpPr/>
            <p:nvPr/>
          </p:nvSpPr>
          <p:spPr>
            <a:xfrm>
              <a:off x="6057000" y="3165480"/>
              <a:ext cx="21420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-ד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886360" y="2997360"/>
              <a:ext cx="584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יונתן וזוהר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011640" y="2895480"/>
              <a:ext cx="48132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פיזיקה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0" name=""/>
          <p:cNvGrpSpPr/>
          <p:nvPr/>
        </p:nvGrpSpPr>
        <p:grpSpPr>
          <a:xfrm>
            <a:off x="44640" y="5162400"/>
            <a:ext cx="984240" cy="856800"/>
            <a:chOff x="44640" y="5162400"/>
            <a:chExt cx="984240" cy="856800"/>
          </a:xfrm>
        </p:grpSpPr>
        <p:pic>
          <p:nvPicPr>
            <p:cNvPr id="361" name="ktcl1w" descr=""/>
            <p:cNvPicPr/>
            <p:nvPr/>
          </p:nvPicPr>
          <p:blipFill>
            <a:blip r:embed="rId77"/>
            <a:stretch/>
          </p:blipFill>
          <p:spPr>
            <a:xfrm>
              <a:off x="209520" y="5280120"/>
              <a:ext cx="635040" cy="31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93600" y="5162400"/>
              <a:ext cx="935280" cy="36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בישול יצירה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וטבע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4640" y="5522760"/>
              <a:ext cx="826920" cy="36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נועה, ירדן,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מאהי ויעל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49400" y="5757840"/>
              <a:ext cx="37584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ג-ה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5" name=""/>
          <p:cNvGrpSpPr/>
          <p:nvPr/>
        </p:nvGrpSpPr>
        <p:grpSpPr>
          <a:xfrm>
            <a:off x="6309720" y="1400040"/>
            <a:ext cx="697680" cy="381960"/>
            <a:chOff x="6309720" y="1400040"/>
            <a:chExt cx="697680" cy="381960"/>
          </a:xfrm>
        </p:grpSpPr>
        <p:sp>
          <p:nvSpPr>
            <p:cNvPr id="366" name=""/>
            <p:cNvSpPr/>
            <p:nvPr/>
          </p:nvSpPr>
          <p:spPr>
            <a:xfrm>
              <a:off x="6309720" y="1400040"/>
              <a:ext cx="44892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אנגלית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6825240" y="1647720"/>
              <a:ext cx="18216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ה-ז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6819120" y="1464840"/>
              <a:ext cx="139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שי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9" name=""/>
            <p:cNvGrpSpPr/>
            <p:nvPr/>
          </p:nvGrpSpPr>
          <p:grpSpPr>
            <a:xfrm>
              <a:off x="6326280" y="1531800"/>
              <a:ext cx="191880" cy="226440"/>
              <a:chOff x="6326280" y="1531800"/>
              <a:chExt cx="191880" cy="226440"/>
            </a:xfrm>
          </p:grpSpPr>
          <p:pic>
            <p:nvPicPr>
              <p:cNvPr id="370" name="" descr=""/>
              <p:cNvPicPr/>
              <p:nvPr/>
            </p:nvPicPr>
            <p:blipFill>
              <a:blip r:embed="rId78"/>
              <a:stretch/>
            </p:blipFill>
            <p:spPr>
              <a:xfrm>
                <a:off x="6326280" y="1531800"/>
                <a:ext cx="191880" cy="226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71" name="" descr=""/>
              <p:cNvPicPr/>
              <p:nvPr/>
            </p:nvPicPr>
            <p:blipFill>
              <a:blip r:embed="rId79"/>
              <a:stretch/>
            </p:blipFill>
            <p:spPr>
              <a:xfrm>
                <a:off x="6326280" y="1531800"/>
                <a:ext cx="191880" cy="2264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72" name=""/>
            <p:cNvGrpSpPr/>
            <p:nvPr/>
          </p:nvGrpSpPr>
          <p:grpSpPr>
            <a:xfrm>
              <a:off x="6565680" y="1520640"/>
              <a:ext cx="199800" cy="247320"/>
              <a:chOff x="6565680" y="1520640"/>
              <a:chExt cx="199800" cy="247320"/>
            </a:xfrm>
          </p:grpSpPr>
          <p:pic>
            <p:nvPicPr>
              <p:cNvPr id="373" name="" descr=""/>
              <p:cNvPicPr/>
              <p:nvPr/>
            </p:nvPicPr>
            <p:blipFill>
              <a:blip r:embed="rId80"/>
              <a:stretch/>
            </p:blipFill>
            <p:spPr>
              <a:xfrm>
                <a:off x="6565680" y="1520640"/>
                <a:ext cx="199800" cy="247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74" name="" descr=""/>
              <p:cNvPicPr/>
              <p:nvPr/>
            </p:nvPicPr>
            <p:blipFill>
              <a:blip r:embed="rId81"/>
              <a:stretch/>
            </p:blipFill>
            <p:spPr>
              <a:xfrm>
                <a:off x="6565680" y="1520640"/>
                <a:ext cx="199800" cy="2473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375" name=""/>
          <p:cNvGrpSpPr/>
          <p:nvPr/>
        </p:nvGrpSpPr>
        <p:grpSpPr>
          <a:xfrm>
            <a:off x="7043760" y="1442880"/>
            <a:ext cx="1144080" cy="442440"/>
            <a:chOff x="7043760" y="1442880"/>
            <a:chExt cx="1144080" cy="442440"/>
          </a:xfrm>
        </p:grpSpPr>
        <p:pic>
          <p:nvPicPr>
            <p:cNvPr id="376" name="funny_men_hand_cart_md_CLR" descr=""/>
            <p:cNvPicPr/>
            <p:nvPr/>
          </p:nvPicPr>
          <p:blipFill>
            <a:blip r:embed="rId82"/>
            <a:stretch/>
          </p:blipFill>
          <p:spPr>
            <a:xfrm>
              <a:off x="7043760" y="1442880"/>
              <a:ext cx="458640" cy="3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7" name=""/>
            <p:cNvSpPr/>
            <p:nvPr/>
          </p:nvSpPr>
          <p:spPr>
            <a:xfrm>
              <a:off x="7379280" y="1454040"/>
              <a:ext cx="80856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מועדון הסרט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הטוב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458120" y="1562040"/>
              <a:ext cx="291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והד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7625880" y="1657440"/>
              <a:ext cx="310320" cy="22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ז-י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0" name=""/>
          <p:cNvGrpSpPr/>
          <p:nvPr/>
        </p:nvGrpSpPr>
        <p:grpSpPr>
          <a:xfrm>
            <a:off x="7034040" y="2390760"/>
            <a:ext cx="1144080" cy="442440"/>
            <a:chOff x="7034040" y="2390760"/>
            <a:chExt cx="1144080" cy="442440"/>
          </a:xfrm>
        </p:grpSpPr>
        <p:pic>
          <p:nvPicPr>
            <p:cNvPr id="381" name="funny_men_hand_cart_md_CLR" descr=""/>
            <p:cNvPicPr/>
            <p:nvPr/>
          </p:nvPicPr>
          <p:blipFill>
            <a:blip r:embed="rId83"/>
            <a:stretch/>
          </p:blipFill>
          <p:spPr>
            <a:xfrm>
              <a:off x="7034040" y="2390760"/>
              <a:ext cx="458640" cy="3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2" name=""/>
            <p:cNvSpPr/>
            <p:nvPr/>
          </p:nvSpPr>
          <p:spPr>
            <a:xfrm>
              <a:off x="7369560" y="2401920"/>
              <a:ext cx="80856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מועדון הסרט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הטוב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7448400" y="2509920"/>
              <a:ext cx="291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והד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7616160" y="2605320"/>
              <a:ext cx="310320" cy="22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ז-י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5" name=""/>
          <p:cNvGrpSpPr/>
          <p:nvPr/>
        </p:nvGrpSpPr>
        <p:grpSpPr>
          <a:xfrm>
            <a:off x="5607720" y="4602240"/>
            <a:ext cx="741960" cy="531360"/>
            <a:chOff x="5607720" y="4602240"/>
            <a:chExt cx="741960" cy="531360"/>
          </a:xfrm>
        </p:grpSpPr>
        <p:sp>
          <p:nvSpPr>
            <p:cNvPr id="386" name=""/>
            <p:cNvSpPr/>
            <p:nvPr/>
          </p:nvSpPr>
          <p:spPr>
            <a:xfrm>
              <a:off x="5607720" y="4602240"/>
              <a:ext cx="651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סדנת חקר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87" name="" descr=""/>
            <p:cNvPicPr/>
            <p:nvPr/>
          </p:nvPicPr>
          <p:blipFill>
            <a:blip r:embed="rId84"/>
            <a:stretch/>
          </p:blipFill>
          <p:spPr>
            <a:xfrm>
              <a:off x="5621400" y="4754520"/>
              <a:ext cx="295200" cy="3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8" name=""/>
            <p:cNvSpPr/>
            <p:nvPr/>
          </p:nvSpPr>
          <p:spPr>
            <a:xfrm>
              <a:off x="5982480" y="4829400"/>
              <a:ext cx="13032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ז-י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690520" y="4965840"/>
              <a:ext cx="659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והד ואהוד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0" name=""/>
          <p:cNvGrpSpPr/>
          <p:nvPr/>
        </p:nvGrpSpPr>
        <p:grpSpPr>
          <a:xfrm>
            <a:off x="2835360" y="1843200"/>
            <a:ext cx="621720" cy="497520"/>
            <a:chOff x="2835360" y="1843200"/>
            <a:chExt cx="621720" cy="497520"/>
          </a:xfrm>
        </p:grpSpPr>
        <p:sp>
          <p:nvSpPr>
            <p:cNvPr id="391" name=""/>
            <p:cNvSpPr/>
            <p:nvPr/>
          </p:nvSpPr>
          <p:spPr>
            <a:xfrm>
              <a:off x="3130920" y="2172960"/>
              <a:ext cx="279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ולם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2974680" y="1843200"/>
              <a:ext cx="482400" cy="40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האזנה למוזיקה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3135960" y="2074680"/>
              <a:ext cx="29628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מיר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94" name="girl_listening_to_headphones_sm_CLR" descr=""/>
            <p:cNvPicPr/>
            <p:nvPr/>
          </p:nvPicPr>
          <p:blipFill>
            <a:blip r:embed="rId85"/>
            <a:stretch/>
          </p:blipFill>
          <p:spPr>
            <a:xfrm>
              <a:off x="2835360" y="1847520"/>
              <a:ext cx="271080" cy="474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95" name=""/>
          <p:cNvGrpSpPr/>
          <p:nvPr/>
        </p:nvGrpSpPr>
        <p:grpSpPr>
          <a:xfrm>
            <a:off x="6100920" y="5288040"/>
            <a:ext cx="1542240" cy="780840"/>
            <a:chOff x="6100920" y="5288040"/>
            <a:chExt cx="1542240" cy="780840"/>
          </a:xfrm>
        </p:grpSpPr>
        <p:grpSp>
          <p:nvGrpSpPr>
            <p:cNvPr id="396" name=""/>
            <p:cNvGrpSpPr/>
            <p:nvPr/>
          </p:nvGrpSpPr>
          <p:grpSpPr>
            <a:xfrm>
              <a:off x="6100920" y="5288040"/>
              <a:ext cx="1325520" cy="780840"/>
              <a:chOff x="6100920" y="5288040"/>
              <a:chExt cx="1325520" cy="780840"/>
            </a:xfrm>
          </p:grpSpPr>
          <p:pic>
            <p:nvPicPr>
              <p:cNvPr id="397" name="" descr=""/>
              <p:cNvPicPr/>
              <p:nvPr/>
            </p:nvPicPr>
            <p:blipFill>
              <a:blip r:embed="rId86"/>
              <a:stretch/>
            </p:blipFill>
            <p:spPr>
              <a:xfrm>
                <a:off x="6100920" y="5288040"/>
                <a:ext cx="1325520" cy="78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98" name="" descr=""/>
              <p:cNvPicPr/>
              <p:nvPr/>
            </p:nvPicPr>
            <p:blipFill>
              <a:blip r:embed="rId87"/>
              <a:stretch/>
            </p:blipFill>
            <p:spPr>
              <a:xfrm>
                <a:off x="6100920" y="5288040"/>
                <a:ext cx="1325520" cy="7808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99" name=""/>
            <p:cNvSpPr/>
            <p:nvPr/>
          </p:nvSpPr>
          <p:spPr>
            <a:xfrm>
              <a:off x="7130520" y="5288040"/>
              <a:ext cx="512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פרלמנט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0" name=""/>
          <p:cNvGrpSpPr/>
          <p:nvPr/>
        </p:nvGrpSpPr>
        <p:grpSpPr>
          <a:xfrm>
            <a:off x="2890800" y="2327400"/>
            <a:ext cx="662040" cy="453960"/>
            <a:chOff x="2890800" y="2327400"/>
            <a:chExt cx="662040" cy="453960"/>
          </a:xfrm>
        </p:grpSpPr>
        <p:sp>
          <p:nvSpPr>
            <p:cNvPr id="401" name=""/>
            <p:cNvSpPr/>
            <p:nvPr/>
          </p:nvSpPr>
          <p:spPr>
            <a:xfrm>
              <a:off x="3022560" y="2327400"/>
              <a:ext cx="51912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RD&amp;D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201120" y="2638800"/>
              <a:ext cx="17280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ה-י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3260880" y="2446560"/>
              <a:ext cx="291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והד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04" name="dragon_blowing_fire_sm_CLR" descr=""/>
            <p:cNvPicPr/>
            <p:nvPr/>
          </p:nvPicPr>
          <p:blipFill>
            <a:blip r:embed="rId88"/>
            <a:stretch/>
          </p:blipFill>
          <p:spPr>
            <a:xfrm>
              <a:off x="2890800" y="2372040"/>
              <a:ext cx="366480" cy="409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05" name=""/>
          <p:cNvGrpSpPr/>
          <p:nvPr/>
        </p:nvGrpSpPr>
        <p:grpSpPr>
          <a:xfrm>
            <a:off x="3741840" y="852480"/>
            <a:ext cx="806400" cy="528120"/>
            <a:chOff x="3741840" y="852480"/>
            <a:chExt cx="806400" cy="528120"/>
          </a:xfrm>
        </p:grpSpPr>
        <p:sp>
          <p:nvSpPr>
            <p:cNvPr id="406" name=""/>
            <p:cNvSpPr/>
            <p:nvPr/>
          </p:nvSpPr>
          <p:spPr>
            <a:xfrm>
              <a:off x="4145400" y="1246320"/>
              <a:ext cx="22032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-ב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105440" y="1030320"/>
              <a:ext cx="287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חגית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3905280" y="938160"/>
              <a:ext cx="64296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תפירה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09" name="needle_thread_shimmer_sm_CLR" descr=""/>
            <p:cNvPicPr/>
            <p:nvPr/>
          </p:nvPicPr>
          <p:blipFill>
            <a:blip r:embed="rId89"/>
            <a:stretch/>
          </p:blipFill>
          <p:spPr>
            <a:xfrm>
              <a:off x="3741840" y="852480"/>
              <a:ext cx="609480" cy="477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10" name=""/>
          <p:cNvGrpSpPr/>
          <p:nvPr/>
        </p:nvGrpSpPr>
        <p:grpSpPr>
          <a:xfrm>
            <a:off x="3409920" y="1787400"/>
            <a:ext cx="806400" cy="480240"/>
            <a:chOff x="3409920" y="1787400"/>
            <a:chExt cx="806400" cy="480240"/>
          </a:xfrm>
        </p:grpSpPr>
        <p:sp>
          <p:nvSpPr>
            <p:cNvPr id="411" name=""/>
            <p:cNvSpPr/>
            <p:nvPr/>
          </p:nvSpPr>
          <p:spPr>
            <a:xfrm>
              <a:off x="3946680" y="2133360"/>
              <a:ext cx="22032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-ב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3773520" y="1964880"/>
              <a:ext cx="287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חגית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3573360" y="1873080"/>
              <a:ext cx="64296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תפירה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14" name="needle_thread_shimmer_sm_CLR" descr=""/>
            <p:cNvPicPr/>
            <p:nvPr/>
          </p:nvPicPr>
          <p:blipFill>
            <a:blip r:embed="rId90"/>
            <a:stretch/>
          </p:blipFill>
          <p:spPr>
            <a:xfrm>
              <a:off x="3409920" y="1787400"/>
              <a:ext cx="609840" cy="477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15" name=""/>
          <p:cNvGrpSpPr/>
          <p:nvPr/>
        </p:nvGrpSpPr>
        <p:grpSpPr>
          <a:xfrm>
            <a:off x="4390920" y="3319560"/>
            <a:ext cx="1107360" cy="333000"/>
            <a:chOff x="4390920" y="3319560"/>
            <a:chExt cx="1107360" cy="333000"/>
          </a:xfrm>
        </p:grpSpPr>
        <p:sp>
          <p:nvSpPr>
            <p:cNvPr id="416" name=""/>
            <p:cNvSpPr/>
            <p:nvPr/>
          </p:nvSpPr>
          <p:spPr>
            <a:xfrm>
              <a:off x="4912920" y="3319560"/>
              <a:ext cx="448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אנגלית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7" name=""/>
            <p:cNvGrpSpPr/>
            <p:nvPr/>
          </p:nvGrpSpPr>
          <p:grpSpPr>
            <a:xfrm>
              <a:off x="4640400" y="3416400"/>
              <a:ext cx="191880" cy="226800"/>
              <a:chOff x="4640400" y="3416400"/>
              <a:chExt cx="191880" cy="226800"/>
            </a:xfrm>
          </p:grpSpPr>
          <p:pic>
            <p:nvPicPr>
              <p:cNvPr id="418" name="" descr=""/>
              <p:cNvPicPr/>
              <p:nvPr/>
            </p:nvPicPr>
            <p:blipFill>
              <a:blip r:embed="rId91"/>
              <a:stretch/>
            </p:blipFill>
            <p:spPr>
              <a:xfrm>
                <a:off x="4640400" y="3416400"/>
                <a:ext cx="191880" cy="226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19" name="" descr=""/>
              <p:cNvPicPr/>
              <p:nvPr/>
            </p:nvPicPr>
            <p:blipFill>
              <a:blip r:embed="rId92"/>
              <a:stretch/>
            </p:blipFill>
            <p:spPr>
              <a:xfrm>
                <a:off x="4640400" y="3416400"/>
                <a:ext cx="191880" cy="2268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20" name=""/>
            <p:cNvGrpSpPr/>
            <p:nvPr/>
          </p:nvGrpSpPr>
          <p:grpSpPr>
            <a:xfrm>
              <a:off x="4390920" y="3405240"/>
              <a:ext cx="199800" cy="247320"/>
              <a:chOff x="4390920" y="3405240"/>
              <a:chExt cx="199800" cy="247320"/>
            </a:xfrm>
          </p:grpSpPr>
          <p:pic>
            <p:nvPicPr>
              <p:cNvPr id="421" name="" descr=""/>
              <p:cNvPicPr/>
              <p:nvPr/>
            </p:nvPicPr>
            <p:blipFill>
              <a:blip r:embed="rId93"/>
              <a:stretch/>
            </p:blipFill>
            <p:spPr>
              <a:xfrm>
                <a:off x="4390920" y="3405240"/>
                <a:ext cx="199800" cy="247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22" name="" descr=""/>
              <p:cNvPicPr/>
              <p:nvPr/>
            </p:nvPicPr>
            <p:blipFill>
              <a:blip r:embed="rId94"/>
              <a:stretch/>
            </p:blipFill>
            <p:spPr>
              <a:xfrm>
                <a:off x="4390920" y="3405240"/>
                <a:ext cx="199800" cy="2473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423" name=""/>
            <p:cNvSpPr/>
            <p:nvPr/>
          </p:nvSpPr>
          <p:spPr>
            <a:xfrm>
              <a:off x="5163840" y="3475080"/>
              <a:ext cx="334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ורית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847040" y="3475080"/>
              <a:ext cx="22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-ב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5" name=""/>
          <p:cNvGrpSpPr/>
          <p:nvPr/>
        </p:nvGrpSpPr>
        <p:grpSpPr>
          <a:xfrm>
            <a:off x="7362720" y="3219480"/>
            <a:ext cx="948960" cy="612000"/>
            <a:chOff x="7362720" y="3219480"/>
            <a:chExt cx="948960" cy="612000"/>
          </a:xfrm>
        </p:grpSpPr>
        <p:sp>
          <p:nvSpPr>
            <p:cNvPr id="426" name=""/>
            <p:cNvSpPr/>
            <p:nvPr/>
          </p:nvSpPr>
          <p:spPr>
            <a:xfrm>
              <a:off x="7578360" y="3219480"/>
              <a:ext cx="54504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רוסית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7695000" y="3565440"/>
              <a:ext cx="61668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דם מ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7377480" y="3570120"/>
              <a:ext cx="40032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-ב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29" name="Russian" descr=""/>
            <p:cNvPicPr/>
            <p:nvPr/>
          </p:nvPicPr>
          <p:blipFill>
            <a:blip r:embed="rId95"/>
            <a:stretch/>
          </p:blipFill>
          <p:spPr>
            <a:xfrm>
              <a:off x="7362720" y="3419640"/>
              <a:ext cx="799920" cy="228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30" name=""/>
          <p:cNvGrpSpPr/>
          <p:nvPr/>
        </p:nvGrpSpPr>
        <p:grpSpPr>
          <a:xfrm>
            <a:off x="5589720" y="3902040"/>
            <a:ext cx="1182600" cy="342000"/>
            <a:chOff x="5589720" y="3902040"/>
            <a:chExt cx="1182600" cy="342000"/>
          </a:xfrm>
        </p:grpSpPr>
        <p:sp>
          <p:nvSpPr>
            <p:cNvPr id="431" name=""/>
            <p:cNvSpPr/>
            <p:nvPr/>
          </p:nvSpPr>
          <p:spPr>
            <a:xfrm>
              <a:off x="5887080" y="3968640"/>
              <a:ext cx="87084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דקדוק פורמלי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261120" y="4109760"/>
              <a:ext cx="51120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ות ז-י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5916240" y="4065480"/>
              <a:ext cx="229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נטע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34" name="v1" descr=""/>
            <p:cNvPicPr/>
            <p:nvPr/>
          </p:nvPicPr>
          <p:blipFill>
            <a:blip r:embed="rId96"/>
            <a:stretch/>
          </p:blipFill>
          <p:spPr>
            <a:xfrm>
              <a:off x="5589720" y="3902040"/>
              <a:ext cx="317520" cy="328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35" name=""/>
          <p:cNvGrpSpPr/>
          <p:nvPr/>
        </p:nvGrpSpPr>
        <p:grpSpPr>
          <a:xfrm>
            <a:off x="7334280" y="3800520"/>
            <a:ext cx="812880" cy="457200"/>
            <a:chOff x="7334280" y="3800520"/>
            <a:chExt cx="812880" cy="457200"/>
          </a:xfrm>
        </p:grpSpPr>
        <p:pic>
          <p:nvPicPr>
            <p:cNvPr id="436" name="question_md_CLR" descr=""/>
            <p:cNvPicPr/>
            <p:nvPr/>
          </p:nvPicPr>
          <p:blipFill>
            <a:blip r:embed="rId97"/>
            <a:stretch/>
          </p:blipFill>
          <p:spPr>
            <a:xfrm>
              <a:off x="7334280" y="3905280"/>
              <a:ext cx="352440" cy="35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7" name=""/>
            <p:cNvSpPr/>
            <p:nvPr/>
          </p:nvSpPr>
          <p:spPr>
            <a:xfrm>
              <a:off x="7851960" y="4057920"/>
              <a:ext cx="29196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והד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7686000" y="4062600"/>
              <a:ext cx="182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ה-ז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7450200" y="3800520"/>
              <a:ext cx="696960" cy="40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על מה שאני לא יודע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0" name=""/>
          <p:cNvGrpSpPr/>
          <p:nvPr/>
        </p:nvGrpSpPr>
        <p:grpSpPr>
          <a:xfrm>
            <a:off x="4160160" y="2308320"/>
            <a:ext cx="703080" cy="523080"/>
            <a:chOff x="4160160" y="2308320"/>
            <a:chExt cx="703080" cy="523080"/>
          </a:xfrm>
        </p:grpSpPr>
        <p:sp>
          <p:nvSpPr>
            <p:cNvPr id="441" name=""/>
            <p:cNvSpPr/>
            <p:nvPr/>
          </p:nvSpPr>
          <p:spPr>
            <a:xfrm>
              <a:off x="4267440" y="2357280"/>
              <a:ext cx="51876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עברית </a:t>
              </a:r>
              <a:r>
                <a:rPr b="1" lang="en-US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4259160" y="2608200"/>
              <a:ext cx="229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נטע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4160160" y="2308320"/>
              <a:ext cx="70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1400" spc="-1" strike="noStrike">
                  <a:solidFill>
                    <a:srgbClr val="009900"/>
                  </a:solidFill>
                  <a:latin typeface="Arial"/>
                  <a:cs typeface="Narkisim"/>
                </a:rPr>
                <a:t>א</a:t>
              </a:r>
              <a:r>
                <a:rPr b="0" lang="he-IL" sz="1800" spc="-1" strike="noStrike">
                  <a:solidFill>
                    <a:srgbClr val="cc0000"/>
                  </a:solidFill>
                  <a:latin typeface="Arial"/>
                  <a:cs typeface="Narkisim"/>
                </a:rPr>
                <a:t>ב</a:t>
              </a:r>
              <a:r>
                <a:rPr b="0" lang="he-IL" sz="2000" spc="-1" strike="noStrike">
                  <a:solidFill>
                    <a:srgbClr val="996633"/>
                  </a:solidFill>
                  <a:latin typeface="Arial"/>
                  <a:cs typeface="Narkisim"/>
                </a:rPr>
                <a:t>ג</a:t>
              </a:r>
              <a:r>
                <a:rPr b="0" lang="he-IL" sz="2400" spc="-1" strike="noStrike">
                  <a:solidFill>
                    <a:srgbClr val="cc00ff"/>
                  </a:solidFill>
                  <a:latin typeface="Arial"/>
                  <a:cs typeface="Narkisim"/>
                </a:rPr>
                <a:t>ד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4443840" y="2570040"/>
              <a:ext cx="37584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ג-ה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5" name=""/>
          <p:cNvGrpSpPr/>
          <p:nvPr/>
        </p:nvGrpSpPr>
        <p:grpSpPr>
          <a:xfrm>
            <a:off x="4861080" y="1871640"/>
            <a:ext cx="663480" cy="514440"/>
            <a:chOff x="4861080" y="1871640"/>
            <a:chExt cx="663480" cy="514440"/>
          </a:xfrm>
        </p:grpSpPr>
        <p:pic>
          <p:nvPicPr>
            <p:cNvPr id="446" name="happy_face_scratching_chin_question_sm_CLR" descr=""/>
            <p:cNvPicPr/>
            <p:nvPr/>
          </p:nvPicPr>
          <p:blipFill>
            <a:blip r:embed="rId98"/>
            <a:stretch/>
          </p:blipFill>
          <p:spPr>
            <a:xfrm>
              <a:off x="4870440" y="1994040"/>
              <a:ext cx="391680" cy="39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7" name=""/>
            <p:cNvSpPr/>
            <p:nvPr/>
          </p:nvSpPr>
          <p:spPr>
            <a:xfrm>
              <a:off x="5251680" y="2201760"/>
              <a:ext cx="22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-ב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861080" y="1871640"/>
              <a:ext cx="663480" cy="40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מי זה האיש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הזה?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5262840" y="2122560"/>
              <a:ext cx="23076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רועי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0" name=""/>
          <p:cNvGrpSpPr/>
          <p:nvPr/>
        </p:nvGrpSpPr>
        <p:grpSpPr>
          <a:xfrm>
            <a:off x="2882520" y="4356000"/>
            <a:ext cx="282600" cy="786960"/>
            <a:chOff x="2882520" y="4356000"/>
            <a:chExt cx="282600" cy="786960"/>
          </a:xfrm>
        </p:grpSpPr>
        <p:sp>
          <p:nvSpPr>
            <p:cNvPr id="451" name=""/>
            <p:cNvSpPr/>
            <p:nvPr/>
          </p:nvSpPr>
          <p:spPr>
            <a:xfrm>
              <a:off x="2895480" y="4356000"/>
              <a:ext cx="25668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???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918880" y="5008680"/>
              <a:ext cx="19584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ג-ה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882520" y="4859280"/>
              <a:ext cx="234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???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54" name="4940518" descr=""/>
            <p:cNvPicPr/>
            <p:nvPr/>
          </p:nvPicPr>
          <p:blipFill>
            <a:blip r:embed="rId99"/>
            <a:stretch/>
          </p:blipFill>
          <p:spPr>
            <a:xfrm>
              <a:off x="2900160" y="4476600"/>
              <a:ext cx="264960" cy="382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55" name=""/>
          <p:cNvGrpSpPr/>
          <p:nvPr/>
        </p:nvGrpSpPr>
        <p:grpSpPr>
          <a:xfrm>
            <a:off x="2889360" y="5643720"/>
            <a:ext cx="663480" cy="513720"/>
            <a:chOff x="2889360" y="5643720"/>
            <a:chExt cx="663480" cy="513720"/>
          </a:xfrm>
        </p:grpSpPr>
        <p:pic>
          <p:nvPicPr>
            <p:cNvPr id="456" name="happy_face_scratching_chin_question_sm_CLR" descr=""/>
            <p:cNvPicPr/>
            <p:nvPr/>
          </p:nvPicPr>
          <p:blipFill>
            <a:blip r:embed="rId100"/>
            <a:stretch/>
          </p:blipFill>
          <p:spPr>
            <a:xfrm>
              <a:off x="2898720" y="5765760"/>
              <a:ext cx="391680" cy="39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7" name=""/>
            <p:cNvSpPr/>
            <p:nvPr/>
          </p:nvSpPr>
          <p:spPr>
            <a:xfrm>
              <a:off x="3300120" y="5973480"/>
              <a:ext cx="195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ג-ה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2889360" y="5643720"/>
              <a:ext cx="663480" cy="40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מי זה האיש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הזה?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3291120" y="5894280"/>
              <a:ext cx="23076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רועי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0" name=""/>
          <p:cNvGrpSpPr/>
          <p:nvPr/>
        </p:nvGrpSpPr>
        <p:grpSpPr>
          <a:xfrm>
            <a:off x="2860560" y="5238720"/>
            <a:ext cx="942840" cy="458640"/>
            <a:chOff x="2860560" y="5238720"/>
            <a:chExt cx="942840" cy="458640"/>
          </a:xfrm>
        </p:grpSpPr>
        <p:pic>
          <p:nvPicPr>
            <p:cNvPr id="461" name="acrobat_balancing_sm_CLR" descr=""/>
            <p:cNvPicPr/>
            <p:nvPr/>
          </p:nvPicPr>
          <p:blipFill>
            <a:blip r:embed="rId101"/>
            <a:stretch/>
          </p:blipFill>
          <p:spPr>
            <a:xfrm>
              <a:off x="2860560" y="5238720"/>
              <a:ext cx="372960" cy="45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2" name=""/>
            <p:cNvSpPr/>
            <p:nvPr/>
          </p:nvSpPr>
          <p:spPr>
            <a:xfrm>
              <a:off x="3512880" y="5447880"/>
              <a:ext cx="20952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זהר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3218040" y="5414760"/>
              <a:ext cx="22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-ב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106440" y="5324040"/>
              <a:ext cx="69696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אקרובטיקה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5" name=""/>
          <p:cNvGrpSpPr/>
          <p:nvPr/>
        </p:nvGrpSpPr>
        <p:grpSpPr>
          <a:xfrm>
            <a:off x="642960" y="1332000"/>
            <a:ext cx="807840" cy="493560"/>
            <a:chOff x="642960" y="1332000"/>
            <a:chExt cx="807840" cy="493560"/>
          </a:xfrm>
        </p:grpSpPr>
        <p:sp>
          <p:nvSpPr>
            <p:cNvPr id="466" name=""/>
            <p:cNvSpPr/>
            <p:nvPr/>
          </p:nvSpPr>
          <p:spPr>
            <a:xfrm>
              <a:off x="1234800" y="1689120"/>
              <a:ext cx="13932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שי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90000" y="1655640"/>
              <a:ext cx="182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ה-ז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982800" y="1422360"/>
              <a:ext cx="468000" cy="40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סיפורים ואגדות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9" name="riding_hood_running_basket_sm_CLR_Horiz" descr=""/>
            <p:cNvPicPr/>
            <p:nvPr/>
          </p:nvPicPr>
          <p:blipFill>
            <a:blip r:embed="rId102"/>
            <a:stretch/>
          </p:blipFill>
          <p:spPr>
            <a:xfrm>
              <a:off x="642960" y="1332000"/>
              <a:ext cx="493560" cy="493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70" name=""/>
          <p:cNvGrpSpPr/>
          <p:nvPr/>
        </p:nvGrpSpPr>
        <p:grpSpPr>
          <a:xfrm>
            <a:off x="2014560" y="1836720"/>
            <a:ext cx="828720" cy="513720"/>
            <a:chOff x="2014560" y="1836720"/>
            <a:chExt cx="828720" cy="513720"/>
          </a:xfrm>
        </p:grpSpPr>
        <p:sp>
          <p:nvSpPr>
            <p:cNvPr id="471" name=""/>
            <p:cNvSpPr/>
            <p:nvPr/>
          </p:nvSpPr>
          <p:spPr>
            <a:xfrm>
              <a:off x="2457720" y="2216160"/>
              <a:ext cx="22464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-ה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639880" y="2049480"/>
              <a:ext cx="203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רוני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2306520" y="1863720"/>
              <a:ext cx="506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אוריגמי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74" name="Origami-" descr=""/>
            <p:cNvPicPr/>
            <p:nvPr/>
          </p:nvPicPr>
          <p:blipFill>
            <a:blip r:embed="rId103"/>
            <a:stretch/>
          </p:blipFill>
          <p:spPr>
            <a:xfrm>
              <a:off x="2014560" y="1836720"/>
              <a:ext cx="634680" cy="488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75" name=""/>
          <p:cNvGrpSpPr/>
          <p:nvPr/>
        </p:nvGrpSpPr>
        <p:grpSpPr>
          <a:xfrm>
            <a:off x="527040" y="1847880"/>
            <a:ext cx="1028520" cy="527040"/>
            <a:chOff x="527040" y="1847880"/>
            <a:chExt cx="1028520" cy="527040"/>
          </a:xfrm>
        </p:grpSpPr>
        <p:sp>
          <p:nvSpPr>
            <p:cNvPr id="476" name=""/>
            <p:cNvSpPr/>
            <p:nvPr/>
          </p:nvSpPr>
          <p:spPr>
            <a:xfrm>
              <a:off x="1293480" y="2187360"/>
              <a:ext cx="195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ג-ה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950760" y="1847880"/>
              <a:ext cx="60480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משחקים בחברה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1241640" y="2089080"/>
              <a:ext cx="25812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הדס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79" name="family_playing_board_game_sm_wht_16331" descr=""/>
            <p:cNvPicPr/>
            <p:nvPr/>
          </p:nvPicPr>
          <p:blipFill>
            <a:blip r:embed="rId104"/>
            <a:stretch/>
          </p:blipFill>
          <p:spPr>
            <a:xfrm>
              <a:off x="527040" y="1914480"/>
              <a:ext cx="696960" cy="460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80" name=""/>
          <p:cNvGrpSpPr/>
          <p:nvPr/>
        </p:nvGrpSpPr>
        <p:grpSpPr>
          <a:xfrm>
            <a:off x="1360440" y="4352760"/>
            <a:ext cx="634680" cy="592920"/>
            <a:chOff x="1360440" y="4352760"/>
            <a:chExt cx="634680" cy="592920"/>
          </a:xfrm>
        </p:grpSpPr>
        <p:sp>
          <p:nvSpPr>
            <p:cNvPr id="481" name=""/>
            <p:cNvSpPr/>
            <p:nvPr/>
          </p:nvSpPr>
          <p:spPr>
            <a:xfrm>
              <a:off x="1758960" y="4777920"/>
              <a:ext cx="22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-ב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1360440" y="4352760"/>
              <a:ext cx="60480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קרשינדו ואני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1759680" y="4679640"/>
              <a:ext cx="23544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ענת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84" name="boy" descr=""/>
            <p:cNvPicPr/>
            <p:nvPr/>
          </p:nvPicPr>
          <p:blipFill>
            <a:blip r:embed="rId105"/>
            <a:stretch/>
          </p:blipFill>
          <p:spPr>
            <a:xfrm>
              <a:off x="1419120" y="4500360"/>
              <a:ext cx="343080" cy="426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85" name=""/>
          <p:cNvGrpSpPr/>
          <p:nvPr/>
        </p:nvGrpSpPr>
        <p:grpSpPr>
          <a:xfrm>
            <a:off x="123840" y="4248000"/>
            <a:ext cx="677880" cy="702720"/>
            <a:chOff x="123840" y="4248000"/>
            <a:chExt cx="677880" cy="702720"/>
          </a:xfrm>
        </p:grpSpPr>
        <p:pic>
          <p:nvPicPr>
            <p:cNvPr id="486" name="mushroom_house_sm_CLR" descr=""/>
            <p:cNvPicPr/>
            <p:nvPr/>
          </p:nvPicPr>
          <p:blipFill>
            <a:blip r:embed="rId106"/>
            <a:stretch/>
          </p:blipFill>
          <p:spPr>
            <a:xfrm>
              <a:off x="217440" y="4248000"/>
              <a:ext cx="514440" cy="5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7" name=""/>
            <p:cNvSpPr/>
            <p:nvPr/>
          </p:nvSpPr>
          <p:spPr>
            <a:xfrm>
              <a:off x="198720" y="4719600"/>
              <a:ext cx="5695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lang="hi-IN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בית ז-י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123840" y="4263840"/>
              <a:ext cx="67788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מפגש בית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9" name=""/>
          <p:cNvGrpSpPr/>
          <p:nvPr/>
        </p:nvGrpSpPr>
        <p:grpSpPr>
          <a:xfrm>
            <a:off x="333000" y="5676840"/>
            <a:ext cx="762480" cy="536040"/>
            <a:chOff x="333000" y="5676840"/>
            <a:chExt cx="762480" cy="536040"/>
          </a:xfrm>
        </p:grpSpPr>
        <p:sp>
          <p:nvSpPr>
            <p:cNvPr id="490" name=""/>
            <p:cNvSpPr/>
            <p:nvPr/>
          </p:nvSpPr>
          <p:spPr>
            <a:xfrm>
              <a:off x="405360" y="5915160"/>
              <a:ext cx="41976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 רישום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333000" y="5989680"/>
              <a:ext cx="139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שי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92" name="palette1" descr=""/>
            <p:cNvPicPr/>
            <p:nvPr/>
          </p:nvPicPr>
          <p:blipFill>
            <a:blip r:embed="rId107"/>
            <a:stretch/>
          </p:blipFill>
          <p:spPr>
            <a:xfrm>
              <a:off x="743040" y="5676840"/>
              <a:ext cx="352440" cy="45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3" name=""/>
            <p:cNvSpPr/>
            <p:nvPr/>
          </p:nvSpPr>
          <p:spPr>
            <a:xfrm>
              <a:off x="498600" y="5951520"/>
              <a:ext cx="3330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ג-ז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4" name=""/>
          <p:cNvGrpSpPr/>
          <p:nvPr/>
        </p:nvGrpSpPr>
        <p:grpSpPr>
          <a:xfrm>
            <a:off x="1063800" y="5680080"/>
            <a:ext cx="901440" cy="465120"/>
            <a:chOff x="1063800" y="5680080"/>
            <a:chExt cx="901440" cy="465120"/>
          </a:xfrm>
        </p:grpSpPr>
        <p:pic>
          <p:nvPicPr>
            <p:cNvPr id="495" name="dancez" descr=""/>
            <p:cNvPicPr/>
            <p:nvPr/>
          </p:nvPicPr>
          <p:blipFill>
            <a:blip r:embed="rId108"/>
            <a:stretch/>
          </p:blipFill>
          <p:spPr>
            <a:xfrm>
              <a:off x="1093680" y="5780160"/>
              <a:ext cx="365040" cy="36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6" name=""/>
            <p:cNvSpPr/>
            <p:nvPr/>
          </p:nvSpPr>
          <p:spPr>
            <a:xfrm>
              <a:off x="1063800" y="5680080"/>
              <a:ext cx="90144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הבעה יצירתית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בתנועה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1472400" y="6021360"/>
              <a:ext cx="182160" cy="11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ה-ז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86240" y="5897520"/>
              <a:ext cx="2581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הדס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9" name=""/>
          <p:cNvGrpSpPr/>
          <p:nvPr/>
        </p:nvGrpSpPr>
        <p:grpSpPr>
          <a:xfrm>
            <a:off x="219240" y="885960"/>
            <a:ext cx="812160" cy="457200"/>
            <a:chOff x="219240" y="885960"/>
            <a:chExt cx="812160" cy="457200"/>
          </a:xfrm>
        </p:grpSpPr>
        <p:pic>
          <p:nvPicPr>
            <p:cNvPr id="500" name="question_md_CLR" descr=""/>
            <p:cNvPicPr/>
            <p:nvPr/>
          </p:nvPicPr>
          <p:blipFill>
            <a:blip r:embed="rId109"/>
            <a:stretch/>
          </p:blipFill>
          <p:spPr>
            <a:xfrm>
              <a:off x="219240" y="990720"/>
              <a:ext cx="352080" cy="35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1" name=""/>
            <p:cNvSpPr/>
            <p:nvPr/>
          </p:nvSpPr>
          <p:spPr>
            <a:xfrm>
              <a:off x="736560" y="1143360"/>
              <a:ext cx="29196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והד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564840" y="1148040"/>
              <a:ext cx="195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ג-ה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334800" y="885960"/>
              <a:ext cx="696600" cy="40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על מה שאני לא יודע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4" name=""/>
          <p:cNvGraphicFramePr/>
          <p:nvPr/>
        </p:nvGraphicFramePr>
        <p:xfrm>
          <a:off x="190440" y="345960"/>
          <a:ext cx="8766360" cy="6346800"/>
        </p:xfrm>
        <a:graphic>
          <a:graphicData uri="http://schemas.openxmlformats.org/drawingml/2006/table">
            <a:tbl>
              <a:tblPr/>
              <a:tblGrid>
                <a:gridCol w="2676600"/>
                <a:gridCol w="2666880"/>
                <a:gridCol w="2648160"/>
                <a:gridCol w="7747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5" name=""/>
          <p:cNvSpPr/>
          <p:nvPr/>
        </p:nvSpPr>
        <p:spPr>
          <a:xfrm>
            <a:off x="6742440" y="492120"/>
            <a:ext cx="3438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100" spc="-1" strike="noStrike">
                <a:solidFill>
                  <a:srgbClr val="000000"/>
                </a:solidFill>
                <a:latin typeface="Arial"/>
                <a:cs typeface="Arial"/>
              </a:rPr>
              <a:t>רביעי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3918960" y="492120"/>
            <a:ext cx="3985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100" spc="-1" strike="noStrike">
                <a:solidFill>
                  <a:srgbClr val="000000"/>
                </a:solidFill>
                <a:latin typeface="Arial"/>
                <a:cs typeface="Arial"/>
              </a:rPr>
              <a:t>חמישי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1369800" y="511200"/>
            <a:ext cx="3117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100" spc="-1" strike="noStrike">
                <a:solidFill>
                  <a:srgbClr val="000000"/>
                </a:solidFill>
                <a:latin typeface="Arial"/>
                <a:cs typeface="Arial"/>
              </a:rPr>
              <a:t>שישי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8186760" y="4616280"/>
            <a:ext cx="7509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100" spc="-1" strike="noStrike">
                <a:solidFill>
                  <a:srgbClr val="000000"/>
                </a:solidFill>
                <a:latin typeface="Arial"/>
                <a:ea typeface="Arial"/>
              </a:rPr>
              <a:t>12:05-11:25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8196120" y="5559480"/>
            <a:ext cx="7606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100" spc="-1" strike="noStrike">
                <a:solidFill>
                  <a:srgbClr val="000000"/>
                </a:solidFill>
                <a:latin typeface="Arial"/>
                <a:ea typeface="Arial"/>
              </a:rPr>
              <a:t>12:50-12:1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8196120" y="6280200"/>
            <a:ext cx="7509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13:00-13:3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8205840" y="1216080"/>
            <a:ext cx="7030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8:30-9:2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8253360" y="2149560"/>
            <a:ext cx="7034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9:30-10:</a:t>
            </a:r>
            <a:r>
              <a:rPr b="0" lang="he-IL" sz="11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8205840" y="3660840"/>
            <a:ext cx="7509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100" spc="-1" strike="noStrike">
                <a:solidFill>
                  <a:srgbClr val="000000"/>
                </a:solidFill>
                <a:latin typeface="Arial"/>
                <a:ea typeface="Arial"/>
              </a:rPr>
              <a:t>11:20-10:4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6602400" y="6337440"/>
            <a:ext cx="575280" cy="13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100" spc="-1" strike="noStrike">
                <a:solidFill>
                  <a:srgbClr val="0000ff"/>
                </a:solidFill>
                <a:latin typeface="Arial"/>
                <a:cs typeface="Arial"/>
              </a:rPr>
              <a:t>חוק וסדר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4120920" y="6365880"/>
            <a:ext cx="575280" cy="13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100" spc="-1" strike="noStrike">
                <a:solidFill>
                  <a:srgbClr val="0000ff"/>
                </a:solidFill>
                <a:latin typeface="Arial"/>
                <a:cs typeface="Arial"/>
              </a:rPr>
              <a:t>חוק וסדר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6" name=""/>
          <p:cNvGrpSpPr/>
          <p:nvPr/>
        </p:nvGrpSpPr>
        <p:grpSpPr>
          <a:xfrm>
            <a:off x="6591240" y="903240"/>
            <a:ext cx="778680" cy="553680"/>
            <a:chOff x="6591240" y="903240"/>
            <a:chExt cx="778680" cy="553680"/>
          </a:xfrm>
        </p:grpSpPr>
        <p:sp>
          <p:nvSpPr>
            <p:cNvPr id="517" name=""/>
            <p:cNvSpPr/>
            <p:nvPr/>
          </p:nvSpPr>
          <p:spPr>
            <a:xfrm>
              <a:off x="6960600" y="998640"/>
              <a:ext cx="409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ספורט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6769440" y="1289160"/>
              <a:ext cx="224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-ה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9" name=""/>
            <p:cNvGrpSpPr/>
            <p:nvPr/>
          </p:nvGrpSpPr>
          <p:grpSpPr>
            <a:xfrm>
              <a:off x="6591240" y="903240"/>
              <a:ext cx="401400" cy="404640"/>
              <a:chOff x="6591240" y="903240"/>
              <a:chExt cx="401400" cy="404640"/>
            </a:xfrm>
          </p:grpSpPr>
          <p:pic>
            <p:nvPicPr>
              <p:cNvPr id="520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6591240" y="903240"/>
                <a:ext cx="401400" cy="404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1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6591240" y="903240"/>
                <a:ext cx="401400" cy="404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22" name=""/>
            <p:cNvSpPr/>
            <p:nvPr/>
          </p:nvSpPr>
          <p:spPr>
            <a:xfrm>
              <a:off x="6932880" y="1174680"/>
              <a:ext cx="369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מיכאל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3" name=""/>
          <p:cNvGrpSpPr/>
          <p:nvPr/>
        </p:nvGrpSpPr>
        <p:grpSpPr>
          <a:xfrm>
            <a:off x="7070760" y="1220760"/>
            <a:ext cx="938520" cy="574560"/>
            <a:chOff x="7070760" y="1220760"/>
            <a:chExt cx="938520" cy="574560"/>
          </a:xfrm>
        </p:grpSpPr>
        <p:sp>
          <p:nvSpPr>
            <p:cNvPr id="524" name=""/>
            <p:cNvSpPr/>
            <p:nvPr/>
          </p:nvSpPr>
          <p:spPr>
            <a:xfrm>
              <a:off x="7699320" y="1365120"/>
              <a:ext cx="30996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תנ"ך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578000" y="1677960"/>
              <a:ext cx="182160" cy="11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ה-ז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7695360" y="1506600"/>
              <a:ext cx="24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רותי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27" name="noahs_ark_rocking_ty_CLR" descr=""/>
            <p:cNvPicPr/>
            <p:nvPr/>
          </p:nvPicPr>
          <p:blipFill>
            <a:blip r:embed="rId3"/>
            <a:stretch/>
          </p:blipFill>
          <p:spPr>
            <a:xfrm>
              <a:off x="7070760" y="1220760"/>
              <a:ext cx="639720" cy="549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28" name=""/>
          <p:cNvGrpSpPr/>
          <p:nvPr/>
        </p:nvGrpSpPr>
        <p:grpSpPr>
          <a:xfrm>
            <a:off x="5533920" y="2252520"/>
            <a:ext cx="660600" cy="516960"/>
            <a:chOff x="5533920" y="2252520"/>
            <a:chExt cx="660600" cy="516960"/>
          </a:xfrm>
        </p:grpSpPr>
        <p:pic>
          <p:nvPicPr>
            <p:cNvPr id="529" name="" descr=""/>
            <p:cNvPicPr/>
            <p:nvPr/>
          </p:nvPicPr>
          <p:blipFill>
            <a:blip r:embed="rId4"/>
            <a:stretch/>
          </p:blipFill>
          <p:spPr>
            <a:xfrm>
              <a:off x="5584680" y="2289240"/>
              <a:ext cx="390600" cy="44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0" name=""/>
            <p:cNvSpPr/>
            <p:nvPr/>
          </p:nvSpPr>
          <p:spPr>
            <a:xfrm>
              <a:off x="5834880" y="2635200"/>
              <a:ext cx="18216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ה-ז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5835960" y="2487600"/>
              <a:ext cx="291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הוד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5640480" y="2368440"/>
              <a:ext cx="554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ספרות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3" name="boy_reading_sm_CLR" descr=""/>
            <p:cNvPicPr/>
            <p:nvPr/>
          </p:nvPicPr>
          <p:blipFill>
            <a:blip r:embed="rId5"/>
            <a:stretch/>
          </p:blipFill>
          <p:spPr>
            <a:xfrm>
              <a:off x="5533920" y="2252520"/>
              <a:ext cx="304920" cy="505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34" name=""/>
          <p:cNvGrpSpPr/>
          <p:nvPr/>
        </p:nvGrpSpPr>
        <p:grpSpPr>
          <a:xfrm>
            <a:off x="6195960" y="2341440"/>
            <a:ext cx="879840" cy="416880"/>
            <a:chOff x="6195960" y="2341440"/>
            <a:chExt cx="879840" cy="416880"/>
          </a:xfrm>
        </p:grpSpPr>
        <p:sp>
          <p:nvSpPr>
            <p:cNvPr id="535" name=""/>
            <p:cNvSpPr/>
            <p:nvPr/>
          </p:nvSpPr>
          <p:spPr>
            <a:xfrm>
              <a:off x="6489720" y="2341440"/>
              <a:ext cx="58608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מדיטציה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6584400" y="2624040"/>
              <a:ext cx="18216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ה-ז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6609240" y="2441520"/>
              <a:ext cx="369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מיכאל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8" name="yoga" descr=""/>
            <p:cNvPicPr/>
            <p:nvPr/>
          </p:nvPicPr>
          <p:blipFill>
            <a:blip r:embed="rId6"/>
            <a:stretch/>
          </p:blipFill>
          <p:spPr>
            <a:xfrm>
              <a:off x="6195960" y="2352600"/>
              <a:ext cx="461880" cy="390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39" name=""/>
          <p:cNvGrpSpPr/>
          <p:nvPr/>
        </p:nvGrpSpPr>
        <p:grpSpPr>
          <a:xfrm>
            <a:off x="6686640" y="3708360"/>
            <a:ext cx="723600" cy="718920"/>
            <a:chOff x="6686640" y="3708360"/>
            <a:chExt cx="723600" cy="718920"/>
          </a:xfrm>
        </p:grpSpPr>
        <p:pic>
          <p:nvPicPr>
            <p:cNvPr id="540" name="feather_quill_sm_CLR" descr=""/>
            <p:cNvPicPr/>
            <p:nvPr/>
          </p:nvPicPr>
          <p:blipFill>
            <a:blip r:embed="rId7"/>
            <a:stretch/>
          </p:blipFill>
          <p:spPr>
            <a:xfrm>
              <a:off x="6686640" y="3708360"/>
              <a:ext cx="410760" cy="7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"/>
            <p:cNvSpPr/>
            <p:nvPr/>
          </p:nvSpPr>
          <p:spPr>
            <a:xfrm>
              <a:off x="6941520" y="4114440"/>
              <a:ext cx="468720" cy="134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לישבע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736680" y="4071600"/>
              <a:ext cx="195840" cy="16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ג-ה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926040" y="3828960"/>
              <a:ext cx="391680" cy="40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כתיבה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יוצרת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4" name=""/>
          <p:cNvGrpSpPr/>
          <p:nvPr/>
        </p:nvGrpSpPr>
        <p:grpSpPr>
          <a:xfrm>
            <a:off x="6138720" y="3738600"/>
            <a:ext cx="571320" cy="513720"/>
            <a:chOff x="6138720" y="3738600"/>
            <a:chExt cx="571320" cy="513720"/>
          </a:xfrm>
        </p:grpSpPr>
        <p:sp>
          <p:nvSpPr>
            <p:cNvPr id="545" name=""/>
            <p:cNvSpPr/>
            <p:nvPr/>
          </p:nvSpPr>
          <p:spPr>
            <a:xfrm>
              <a:off x="6138720" y="3738600"/>
              <a:ext cx="56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אנגלית </a:t>
              </a:r>
              <a:r>
                <a:rPr b="1" lang="en-US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6" name=""/>
            <p:cNvGrpSpPr/>
            <p:nvPr/>
          </p:nvGrpSpPr>
          <p:grpSpPr>
            <a:xfrm>
              <a:off x="6411600" y="3892680"/>
              <a:ext cx="191880" cy="226440"/>
              <a:chOff x="6411600" y="3892680"/>
              <a:chExt cx="191880" cy="226440"/>
            </a:xfrm>
          </p:grpSpPr>
          <p:pic>
            <p:nvPicPr>
              <p:cNvPr id="547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6411600" y="3892680"/>
                <a:ext cx="191880" cy="226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8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6411600" y="3892680"/>
                <a:ext cx="191880" cy="2264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49" name=""/>
            <p:cNvGrpSpPr/>
            <p:nvPr/>
          </p:nvGrpSpPr>
          <p:grpSpPr>
            <a:xfrm>
              <a:off x="6190920" y="3881520"/>
              <a:ext cx="199800" cy="247320"/>
              <a:chOff x="6190920" y="3881520"/>
              <a:chExt cx="199800" cy="247320"/>
            </a:xfrm>
          </p:grpSpPr>
          <p:pic>
            <p:nvPicPr>
              <p:cNvPr id="550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6190920" y="3881520"/>
                <a:ext cx="199800" cy="247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1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6190920" y="3881520"/>
                <a:ext cx="199800" cy="2473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52" name=""/>
            <p:cNvSpPr/>
            <p:nvPr/>
          </p:nvSpPr>
          <p:spPr>
            <a:xfrm>
              <a:off x="6343560" y="4084560"/>
              <a:ext cx="366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יתנה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6160320" y="4084560"/>
              <a:ext cx="182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ה-ז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4" name=""/>
          <p:cNvGrpSpPr/>
          <p:nvPr/>
        </p:nvGrpSpPr>
        <p:grpSpPr>
          <a:xfrm>
            <a:off x="3605040" y="3772080"/>
            <a:ext cx="864000" cy="596160"/>
            <a:chOff x="3605040" y="3772080"/>
            <a:chExt cx="864000" cy="596160"/>
          </a:xfrm>
        </p:grpSpPr>
        <p:sp>
          <p:nvSpPr>
            <p:cNvPr id="555" name=""/>
            <p:cNvSpPr/>
            <p:nvPr/>
          </p:nvSpPr>
          <p:spPr>
            <a:xfrm>
              <a:off x="4239720" y="4057560"/>
              <a:ext cx="229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נטע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4020840" y="3832200"/>
              <a:ext cx="433440" cy="53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כותבים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ומציגים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4014360" y="4092480"/>
              <a:ext cx="19584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ג-ה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58" name="theater_masks_rocking_back_and_forth_sm_wht" descr=""/>
            <p:cNvPicPr/>
            <p:nvPr/>
          </p:nvPicPr>
          <p:blipFill>
            <a:blip r:embed="rId12"/>
            <a:stretch/>
          </p:blipFill>
          <p:spPr>
            <a:xfrm>
              <a:off x="3605040" y="3772080"/>
              <a:ext cx="468000" cy="468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59" name=""/>
          <p:cNvGrpSpPr/>
          <p:nvPr/>
        </p:nvGrpSpPr>
        <p:grpSpPr>
          <a:xfrm>
            <a:off x="6524640" y="4548240"/>
            <a:ext cx="922320" cy="502920"/>
            <a:chOff x="6524640" y="4548240"/>
            <a:chExt cx="922320" cy="502920"/>
          </a:xfrm>
        </p:grpSpPr>
        <p:pic>
          <p:nvPicPr>
            <p:cNvPr id="560" name="MAN_Reading_newspaper_Sm_CLR" descr=""/>
            <p:cNvPicPr/>
            <p:nvPr/>
          </p:nvPicPr>
          <p:blipFill>
            <a:blip r:embed="rId13"/>
            <a:stretch/>
          </p:blipFill>
          <p:spPr>
            <a:xfrm>
              <a:off x="6524640" y="4548240"/>
              <a:ext cx="419040" cy="50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1" name=""/>
            <p:cNvSpPr/>
            <p:nvPr/>
          </p:nvSpPr>
          <p:spPr>
            <a:xfrm>
              <a:off x="6959160" y="4902120"/>
              <a:ext cx="15300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ג-ז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6978240" y="4735440"/>
              <a:ext cx="468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לישבע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6821280" y="4597200"/>
              <a:ext cx="354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עיתון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4" name=""/>
          <p:cNvGrpSpPr/>
          <p:nvPr/>
        </p:nvGrpSpPr>
        <p:grpSpPr>
          <a:xfrm>
            <a:off x="5484960" y="5330880"/>
            <a:ext cx="705600" cy="772560"/>
            <a:chOff x="5484960" y="5330880"/>
            <a:chExt cx="705600" cy="772560"/>
          </a:xfrm>
        </p:grpSpPr>
        <p:sp>
          <p:nvSpPr>
            <p:cNvPr id="565" name=""/>
            <p:cNvSpPr/>
            <p:nvPr/>
          </p:nvSpPr>
          <p:spPr>
            <a:xfrm>
              <a:off x="5484960" y="5330880"/>
              <a:ext cx="67788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מפגש בית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66" name="mushroom_house_sm_CLR" descr=""/>
            <p:cNvPicPr/>
            <p:nvPr/>
          </p:nvPicPr>
          <p:blipFill>
            <a:blip r:embed="rId14"/>
            <a:stretch/>
          </p:blipFill>
          <p:spPr>
            <a:xfrm>
              <a:off x="5597640" y="5400720"/>
              <a:ext cx="514440" cy="5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7" name=""/>
            <p:cNvSpPr/>
            <p:nvPr/>
          </p:nvSpPr>
          <p:spPr>
            <a:xfrm>
              <a:off x="5576760" y="5872320"/>
              <a:ext cx="613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lang="hi-IN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בית ה-ז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8" name=""/>
          <p:cNvGrpSpPr/>
          <p:nvPr/>
        </p:nvGrpSpPr>
        <p:grpSpPr>
          <a:xfrm>
            <a:off x="4152960" y="1325520"/>
            <a:ext cx="1398600" cy="483480"/>
            <a:chOff x="4152960" y="1325520"/>
            <a:chExt cx="1398600" cy="483480"/>
          </a:xfrm>
        </p:grpSpPr>
        <p:sp>
          <p:nvSpPr>
            <p:cNvPr id="569" name=""/>
            <p:cNvSpPr/>
            <p:nvPr/>
          </p:nvSpPr>
          <p:spPr>
            <a:xfrm>
              <a:off x="4863240" y="1630440"/>
              <a:ext cx="381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ביבה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4152960" y="1538280"/>
              <a:ext cx="108108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מחשבון לאלגברה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4622040" y="1674720"/>
              <a:ext cx="18216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ה-ז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72" name="walking_1_sm_CLR" descr=""/>
            <p:cNvPicPr/>
            <p:nvPr/>
          </p:nvPicPr>
          <p:blipFill>
            <a:blip r:embed="rId15"/>
            <a:stretch/>
          </p:blipFill>
          <p:spPr>
            <a:xfrm>
              <a:off x="5208840" y="1325520"/>
              <a:ext cx="342720" cy="474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73" name=""/>
          <p:cNvGrpSpPr/>
          <p:nvPr/>
        </p:nvGrpSpPr>
        <p:grpSpPr>
          <a:xfrm>
            <a:off x="3405240" y="836640"/>
            <a:ext cx="694800" cy="650880"/>
            <a:chOff x="3405240" y="836640"/>
            <a:chExt cx="694800" cy="650880"/>
          </a:xfrm>
        </p:grpSpPr>
        <p:pic>
          <p:nvPicPr>
            <p:cNvPr id="574" name="army_guy_rope_repelling_sm_CLR" descr=""/>
            <p:cNvPicPr/>
            <p:nvPr/>
          </p:nvPicPr>
          <p:blipFill>
            <a:blip r:embed="rId16"/>
            <a:stretch/>
          </p:blipFill>
          <p:spPr>
            <a:xfrm>
              <a:off x="3405240" y="836640"/>
              <a:ext cx="409320" cy="65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5" name=""/>
            <p:cNvSpPr/>
            <p:nvPr/>
          </p:nvSpPr>
          <p:spPr>
            <a:xfrm>
              <a:off x="3810240" y="1148040"/>
              <a:ext cx="13032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ז-י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3808080" y="990720"/>
              <a:ext cx="291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והד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3470040" y="862200"/>
              <a:ext cx="5536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טיפוס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8" name=""/>
          <p:cNvGrpSpPr/>
          <p:nvPr/>
        </p:nvGrpSpPr>
        <p:grpSpPr>
          <a:xfrm>
            <a:off x="4465800" y="1760400"/>
            <a:ext cx="842760" cy="594000"/>
            <a:chOff x="4465800" y="1760400"/>
            <a:chExt cx="842760" cy="594000"/>
          </a:xfrm>
        </p:grpSpPr>
        <p:sp>
          <p:nvSpPr>
            <p:cNvPr id="579" name=""/>
            <p:cNvSpPr/>
            <p:nvPr/>
          </p:nvSpPr>
          <p:spPr>
            <a:xfrm>
              <a:off x="5026320" y="2073240"/>
              <a:ext cx="22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-ב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703760" y="1790640"/>
              <a:ext cx="604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חשבון </a:t>
              </a:r>
              <a:r>
                <a:rPr b="1" lang="en-US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5025960" y="1965240"/>
              <a:ext cx="20340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רוני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82" name="girl_holding_123_ty_CLR" descr=""/>
            <p:cNvPicPr/>
            <p:nvPr/>
          </p:nvPicPr>
          <p:blipFill>
            <a:blip r:embed="rId17"/>
            <a:stretch/>
          </p:blipFill>
          <p:spPr>
            <a:xfrm>
              <a:off x="4465800" y="1760400"/>
              <a:ext cx="593640" cy="594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83" name=""/>
          <p:cNvGrpSpPr/>
          <p:nvPr/>
        </p:nvGrpSpPr>
        <p:grpSpPr>
          <a:xfrm>
            <a:off x="3781440" y="2314440"/>
            <a:ext cx="984240" cy="479160"/>
            <a:chOff x="3781440" y="2314440"/>
            <a:chExt cx="984240" cy="479160"/>
          </a:xfrm>
        </p:grpSpPr>
        <p:sp>
          <p:nvSpPr>
            <p:cNvPr id="584" name=""/>
            <p:cNvSpPr/>
            <p:nvPr/>
          </p:nvSpPr>
          <p:spPr>
            <a:xfrm>
              <a:off x="4370400" y="2625840"/>
              <a:ext cx="195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ג-ה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4160880" y="2314440"/>
              <a:ext cx="60480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חשבון </a:t>
              </a:r>
              <a:r>
                <a:rPr b="1" lang="en-US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3-4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4342680" y="2508120"/>
              <a:ext cx="38160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ביבה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87" name="addition_2_plus_2_ty_CLR" descr=""/>
            <p:cNvPicPr/>
            <p:nvPr/>
          </p:nvPicPr>
          <p:blipFill>
            <a:blip r:embed="rId18"/>
            <a:stretch/>
          </p:blipFill>
          <p:spPr>
            <a:xfrm>
              <a:off x="3781440" y="2362320"/>
              <a:ext cx="586080" cy="379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88" name=""/>
          <p:cNvGrpSpPr/>
          <p:nvPr/>
        </p:nvGrpSpPr>
        <p:grpSpPr>
          <a:xfrm>
            <a:off x="7058160" y="2357280"/>
            <a:ext cx="1135800" cy="399240"/>
            <a:chOff x="7058160" y="2357280"/>
            <a:chExt cx="1135800" cy="399240"/>
          </a:xfrm>
        </p:grpSpPr>
        <p:sp>
          <p:nvSpPr>
            <p:cNvPr id="589" name=""/>
            <p:cNvSpPr/>
            <p:nvPr/>
          </p:nvSpPr>
          <p:spPr>
            <a:xfrm>
              <a:off x="7480080" y="2357280"/>
              <a:ext cx="71388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אנגלית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אוצר מילים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0" name=""/>
            <p:cNvGrpSpPr/>
            <p:nvPr/>
          </p:nvGrpSpPr>
          <p:grpSpPr>
            <a:xfrm>
              <a:off x="7316640" y="2511000"/>
              <a:ext cx="192240" cy="226800"/>
              <a:chOff x="7316640" y="2511000"/>
              <a:chExt cx="192240" cy="226800"/>
            </a:xfrm>
          </p:grpSpPr>
          <p:pic>
            <p:nvPicPr>
              <p:cNvPr id="591" name="" descr=""/>
              <p:cNvPicPr/>
              <p:nvPr/>
            </p:nvPicPr>
            <p:blipFill>
              <a:blip r:embed="rId19"/>
              <a:stretch/>
            </p:blipFill>
            <p:spPr>
              <a:xfrm>
                <a:off x="7316640" y="2511000"/>
                <a:ext cx="192240" cy="226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92" name="" descr=""/>
              <p:cNvPicPr/>
              <p:nvPr/>
            </p:nvPicPr>
            <p:blipFill>
              <a:blip r:embed="rId20"/>
              <a:stretch/>
            </p:blipFill>
            <p:spPr>
              <a:xfrm>
                <a:off x="7316640" y="2511000"/>
                <a:ext cx="192240" cy="2268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93" name=""/>
            <p:cNvGrpSpPr/>
            <p:nvPr/>
          </p:nvGrpSpPr>
          <p:grpSpPr>
            <a:xfrm>
              <a:off x="7058160" y="2499840"/>
              <a:ext cx="199800" cy="247320"/>
              <a:chOff x="7058160" y="2499840"/>
              <a:chExt cx="199800" cy="247320"/>
            </a:xfrm>
          </p:grpSpPr>
          <p:pic>
            <p:nvPicPr>
              <p:cNvPr id="594" name="" descr=""/>
              <p:cNvPicPr/>
              <p:nvPr/>
            </p:nvPicPr>
            <p:blipFill>
              <a:blip r:embed="rId21"/>
              <a:stretch/>
            </p:blipFill>
            <p:spPr>
              <a:xfrm>
                <a:off x="7058160" y="2499840"/>
                <a:ext cx="199800" cy="247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95" name="" descr=""/>
              <p:cNvPicPr/>
              <p:nvPr/>
            </p:nvPicPr>
            <p:blipFill>
              <a:blip r:embed="rId22"/>
              <a:stretch/>
            </p:blipFill>
            <p:spPr>
              <a:xfrm>
                <a:off x="7058160" y="2499840"/>
                <a:ext cx="199800" cy="2473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96" name=""/>
            <p:cNvSpPr/>
            <p:nvPr/>
          </p:nvSpPr>
          <p:spPr>
            <a:xfrm>
              <a:off x="7801200" y="2588760"/>
              <a:ext cx="366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יתנה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7534080" y="2588760"/>
              <a:ext cx="195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ג-ה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8" name=""/>
          <p:cNvGrpSpPr/>
          <p:nvPr/>
        </p:nvGrpSpPr>
        <p:grpSpPr>
          <a:xfrm>
            <a:off x="2760840" y="1785960"/>
            <a:ext cx="694800" cy="650880"/>
            <a:chOff x="2760840" y="1785960"/>
            <a:chExt cx="694800" cy="650880"/>
          </a:xfrm>
        </p:grpSpPr>
        <p:pic>
          <p:nvPicPr>
            <p:cNvPr id="599" name="army_guy_rope_repelling_sm_CLR" descr=""/>
            <p:cNvPicPr/>
            <p:nvPr/>
          </p:nvPicPr>
          <p:blipFill>
            <a:blip r:embed="rId23"/>
            <a:stretch/>
          </p:blipFill>
          <p:spPr>
            <a:xfrm>
              <a:off x="2760840" y="1785960"/>
              <a:ext cx="409320" cy="65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"/>
            <p:cNvSpPr/>
            <p:nvPr/>
          </p:nvSpPr>
          <p:spPr>
            <a:xfrm>
              <a:off x="3165840" y="2144520"/>
              <a:ext cx="13032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ז-י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3163680" y="1968480"/>
              <a:ext cx="291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והד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2825640" y="1811160"/>
              <a:ext cx="5536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טיפוס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3" name=""/>
          <p:cNvGrpSpPr/>
          <p:nvPr/>
        </p:nvGrpSpPr>
        <p:grpSpPr>
          <a:xfrm>
            <a:off x="4560840" y="3822840"/>
            <a:ext cx="955440" cy="426960"/>
            <a:chOff x="4560840" y="3822840"/>
            <a:chExt cx="955440" cy="426960"/>
          </a:xfrm>
        </p:grpSpPr>
        <p:sp>
          <p:nvSpPr>
            <p:cNvPr id="604" name=""/>
            <p:cNvSpPr/>
            <p:nvPr/>
          </p:nvSpPr>
          <p:spPr>
            <a:xfrm>
              <a:off x="5147280" y="4067280"/>
              <a:ext cx="182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ה-ז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4911480" y="3822840"/>
              <a:ext cx="60480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חשבון </a:t>
              </a:r>
              <a:r>
                <a:rPr b="1" lang="en-US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5-6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093280" y="3988080"/>
              <a:ext cx="38160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ביבה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07" name="addition_2_plus_2_ty_CLR" descr=""/>
            <p:cNvPicPr/>
            <p:nvPr/>
          </p:nvPicPr>
          <p:blipFill>
            <a:blip r:embed="rId24"/>
            <a:stretch/>
          </p:blipFill>
          <p:spPr>
            <a:xfrm>
              <a:off x="4560840" y="3870720"/>
              <a:ext cx="585720" cy="379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08" name=""/>
          <p:cNvGrpSpPr/>
          <p:nvPr/>
        </p:nvGrpSpPr>
        <p:grpSpPr>
          <a:xfrm>
            <a:off x="6389640" y="3265560"/>
            <a:ext cx="766800" cy="593640"/>
            <a:chOff x="6389640" y="3265560"/>
            <a:chExt cx="766800" cy="593640"/>
          </a:xfrm>
        </p:grpSpPr>
        <p:sp>
          <p:nvSpPr>
            <p:cNvPr id="609" name=""/>
            <p:cNvSpPr/>
            <p:nvPr/>
          </p:nvSpPr>
          <p:spPr>
            <a:xfrm>
              <a:off x="6874200" y="3625920"/>
              <a:ext cx="22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-ב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6551640" y="3295800"/>
              <a:ext cx="604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חשבון </a:t>
              </a:r>
              <a:r>
                <a:rPr b="1" lang="en-US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6873840" y="3489480"/>
              <a:ext cx="20340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רוני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12" name="girl_holding_123_ty_CLR" descr=""/>
            <p:cNvPicPr/>
            <p:nvPr/>
          </p:nvPicPr>
          <p:blipFill>
            <a:blip r:embed="rId25"/>
            <a:stretch/>
          </p:blipFill>
          <p:spPr>
            <a:xfrm>
              <a:off x="6389640" y="3265560"/>
              <a:ext cx="593640" cy="593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13" name=""/>
          <p:cNvGrpSpPr/>
          <p:nvPr/>
        </p:nvGrpSpPr>
        <p:grpSpPr>
          <a:xfrm>
            <a:off x="4654440" y="3321000"/>
            <a:ext cx="853920" cy="516960"/>
            <a:chOff x="4654440" y="3321000"/>
            <a:chExt cx="853920" cy="516960"/>
          </a:xfrm>
        </p:grpSpPr>
        <p:sp>
          <p:nvSpPr>
            <p:cNvPr id="614" name=""/>
            <p:cNvSpPr/>
            <p:nvPr/>
          </p:nvSpPr>
          <p:spPr>
            <a:xfrm>
              <a:off x="4984920" y="3321000"/>
              <a:ext cx="52344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קריאה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כתיבה </a:t>
              </a:r>
              <a:r>
                <a:rPr b="1" lang="en-US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5209920" y="3543480"/>
              <a:ext cx="268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תמר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4909320" y="3610080"/>
              <a:ext cx="400320" cy="22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-ב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17" name="girl" descr=""/>
            <p:cNvPicPr/>
            <p:nvPr/>
          </p:nvPicPr>
          <p:blipFill>
            <a:blip r:embed="rId26"/>
            <a:stretch/>
          </p:blipFill>
          <p:spPr>
            <a:xfrm>
              <a:off x="4654440" y="3348000"/>
              <a:ext cx="341280" cy="420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18" name=""/>
          <p:cNvGrpSpPr/>
          <p:nvPr/>
        </p:nvGrpSpPr>
        <p:grpSpPr>
          <a:xfrm>
            <a:off x="7222320" y="4299120"/>
            <a:ext cx="968400" cy="545400"/>
            <a:chOff x="7222320" y="4299120"/>
            <a:chExt cx="968400" cy="545400"/>
          </a:xfrm>
        </p:grpSpPr>
        <p:sp>
          <p:nvSpPr>
            <p:cNvPr id="619" name=""/>
            <p:cNvSpPr/>
            <p:nvPr/>
          </p:nvSpPr>
          <p:spPr>
            <a:xfrm>
              <a:off x="7222320" y="4299120"/>
              <a:ext cx="96840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קריאה כתיבה </a:t>
              </a:r>
              <a:r>
                <a:rPr b="1" lang="en-US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7828920" y="4444920"/>
              <a:ext cx="268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תמר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90320" y="4616640"/>
              <a:ext cx="400320" cy="22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-ב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22" name="girl" descr=""/>
            <p:cNvPicPr/>
            <p:nvPr/>
          </p:nvPicPr>
          <p:blipFill>
            <a:blip r:embed="rId27"/>
            <a:stretch/>
          </p:blipFill>
          <p:spPr>
            <a:xfrm>
              <a:off x="7410240" y="4421160"/>
              <a:ext cx="340920" cy="420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23" name=""/>
          <p:cNvGrpSpPr/>
          <p:nvPr/>
        </p:nvGrpSpPr>
        <p:grpSpPr>
          <a:xfrm>
            <a:off x="6442200" y="1792440"/>
            <a:ext cx="938520" cy="574560"/>
            <a:chOff x="6442200" y="1792440"/>
            <a:chExt cx="938520" cy="574560"/>
          </a:xfrm>
        </p:grpSpPr>
        <p:sp>
          <p:nvSpPr>
            <p:cNvPr id="624" name=""/>
            <p:cNvSpPr/>
            <p:nvPr/>
          </p:nvSpPr>
          <p:spPr>
            <a:xfrm>
              <a:off x="7070760" y="1936800"/>
              <a:ext cx="30996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תנ"ך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6999840" y="2249640"/>
              <a:ext cx="130320" cy="11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ז-י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7066800" y="2078280"/>
              <a:ext cx="24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רותי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27" name="noahs_ark_rocking_ty_CLR" descr=""/>
            <p:cNvPicPr/>
            <p:nvPr/>
          </p:nvPicPr>
          <p:blipFill>
            <a:blip r:embed="rId28"/>
            <a:stretch/>
          </p:blipFill>
          <p:spPr>
            <a:xfrm>
              <a:off x="6442200" y="1792440"/>
              <a:ext cx="639720" cy="549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28" name=""/>
          <p:cNvGrpSpPr/>
          <p:nvPr/>
        </p:nvGrpSpPr>
        <p:grpSpPr>
          <a:xfrm>
            <a:off x="5527800" y="3722760"/>
            <a:ext cx="698400" cy="521640"/>
            <a:chOff x="5527800" y="3722760"/>
            <a:chExt cx="698400" cy="521640"/>
          </a:xfrm>
        </p:grpSpPr>
        <p:sp>
          <p:nvSpPr>
            <p:cNvPr id="629" name=""/>
            <p:cNvSpPr/>
            <p:nvPr/>
          </p:nvSpPr>
          <p:spPr>
            <a:xfrm>
              <a:off x="5527800" y="3722760"/>
              <a:ext cx="58608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מדיטציה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5987160" y="4110120"/>
              <a:ext cx="13032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ז-י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856840" y="3879720"/>
              <a:ext cx="369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מיכאל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32" name="yoga" descr=""/>
            <p:cNvPicPr/>
            <p:nvPr/>
          </p:nvPicPr>
          <p:blipFill>
            <a:blip r:embed="rId29"/>
            <a:stretch/>
          </p:blipFill>
          <p:spPr>
            <a:xfrm>
              <a:off x="5548320" y="3838680"/>
              <a:ext cx="461880" cy="390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33" name=""/>
          <p:cNvGrpSpPr/>
          <p:nvPr/>
        </p:nvGrpSpPr>
        <p:grpSpPr>
          <a:xfrm>
            <a:off x="3733920" y="3308400"/>
            <a:ext cx="750240" cy="467640"/>
            <a:chOff x="3733920" y="3308400"/>
            <a:chExt cx="750240" cy="467640"/>
          </a:xfrm>
        </p:grpSpPr>
        <p:sp>
          <p:nvSpPr>
            <p:cNvPr id="634" name=""/>
            <p:cNvSpPr/>
            <p:nvPr/>
          </p:nvSpPr>
          <p:spPr>
            <a:xfrm>
              <a:off x="4052160" y="3308400"/>
              <a:ext cx="432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כדורגל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4121640" y="3608280"/>
              <a:ext cx="224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-ה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36" name="" descr=""/>
            <p:cNvPicPr/>
            <p:nvPr/>
          </p:nvPicPr>
          <p:blipFill>
            <a:blip r:embed="rId30"/>
            <a:stretch/>
          </p:blipFill>
          <p:spPr>
            <a:xfrm>
              <a:off x="3733920" y="3365640"/>
              <a:ext cx="401760" cy="40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7" name=""/>
            <p:cNvSpPr/>
            <p:nvPr/>
          </p:nvSpPr>
          <p:spPr>
            <a:xfrm>
              <a:off x="4106520" y="3456000"/>
              <a:ext cx="293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ופק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8" name=""/>
          <p:cNvGrpSpPr/>
          <p:nvPr/>
        </p:nvGrpSpPr>
        <p:grpSpPr>
          <a:xfrm>
            <a:off x="3763800" y="4221000"/>
            <a:ext cx="789120" cy="588960"/>
            <a:chOff x="3763800" y="4221000"/>
            <a:chExt cx="789120" cy="588960"/>
          </a:xfrm>
        </p:grpSpPr>
        <p:sp>
          <p:nvSpPr>
            <p:cNvPr id="639" name=""/>
            <p:cNvSpPr/>
            <p:nvPr/>
          </p:nvSpPr>
          <p:spPr>
            <a:xfrm>
              <a:off x="4293000" y="4660920"/>
              <a:ext cx="22464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-ה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4391640" y="4503600"/>
              <a:ext cx="1152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דן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4160880" y="4289400"/>
              <a:ext cx="39204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מדע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לרוחב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42" name="atomic_energy_sm_CLR" descr=""/>
            <p:cNvPicPr/>
            <p:nvPr/>
          </p:nvPicPr>
          <p:blipFill>
            <a:blip r:embed="rId31"/>
            <a:stretch/>
          </p:blipFill>
          <p:spPr>
            <a:xfrm>
              <a:off x="3763800" y="4221000"/>
              <a:ext cx="588960" cy="588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43" name=""/>
          <p:cNvSpPr/>
          <p:nvPr/>
        </p:nvSpPr>
        <p:spPr>
          <a:xfrm>
            <a:off x="6494760" y="2913120"/>
            <a:ext cx="650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100" spc="-1" strike="noStrike">
                <a:solidFill>
                  <a:srgbClr val="0000ff"/>
                </a:solidFill>
                <a:latin typeface="Arial"/>
                <a:cs typeface="Arial"/>
              </a:rPr>
              <a:t>הפסקה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3970800" y="2903400"/>
            <a:ext cx="650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100" spc="-1" strike="noStrike">
                <a:solidFill>
                  <a:srgbClr val="0000ff"/>
                </a:solidFill>
                <a:latin typeface="Arial"/>
                <a:cs typeface="Arial"/>
              </a:rPr>
              <a:t>הפסקה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8196120" y="2968560"/>
            <a:ext cx="7606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100" spc="-1" strike="noStrike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r>
              <a:rPr b="0" lang="he-IL" sz="11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0-10:</a:t>
            </a:r>
            <a:r>
              <a:rPr b="0" lang="he-IL" sz="11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6" name=""/>
          <p:cNvGrpSpPr/>
          <p:nvPr/>
        </p:nvGrpSpPr>
        <p:grpSpPr>
          <a:xfrm>
            <a:off x="2928960" y="6186600"/>
            <a:ext cx="1355040" cy="465120"/>
            <a:chOff x="2928960" y="6186600"/>
            <a:chExt cx="1355040" cy="465120"/>
          </a:xfrm>
        </p:grpSpPr>
        <p:pic>
          <p:nvPicPr>
            <p:cNvPr id="647" name="protractor_measuring_angle_sm_wht" descr=""/>
            <p:cNvPicPr/>
            <p:nvPr/>
          </p:nvPicPr>
          <p:blipFill>
            <a:blip r:embed="rId32"/>
            <a:stretch/>
          </p:blipFill>
          <p:spPr>
            <a:xfrm>
              <a:off x="2928960" y="6186600"/>
              <a:ext cx="631800" cy="46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8" name=""/>
            <p:cNvSpPr/>
            <p:nvPr/>
          </p:nvSpPr>
          <p:spPr>
            <a:xfrm>
              <a:off x="3545640" y="6203880"/>
              <a:ext cx="73836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מרכז חשבון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3767760" y="6513480"/>
              <a:ext cx="13032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ז-י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636000" y="6326280"/>
              <a:ext cx="381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ביבה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1" name=""/>
          <p:cNvGrpSpPr/>
          <p:nvPr/>
        </p:nvGrpSpPr>
        <p:grpSpPr>
          <a:xfrm>
            <a:off x="6181560" y="5805360"/>
            <a:ext cx="834840" cy="371160"/>
            <a:chOff x="6181560" y="5805360"/>
            <a:chExt cx="834840" cy="371160"/>
          </a:xfrm>
        </p:grpSpPr>
        <p:sp>
          <p:nvSpPr>
            <p:cNvPr id="652" name=""/>
            <p:cNvSpPr/>
            <p:nvPr/>
          </p:nvSpPr>
          <p:spPr>
            <a:xfrm>
              <a:off x="6189840" y="5805360"/>
              <a:ext cx="82656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אנגלית דיבור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3" name=""/>
            <p:cNvGrpSpPr/>
            <p:nvPr/>
          </p:nvGrpSpPr>
          <p:grpSpPr>
            <a:xfrm>
              <a:off x="6402240" y="5931000"/>
              <a:ext cx="192240" cy="226440"/>
              <a:chOff x="6402240" y="5931000"/>
              <a:chExt cx="192240" cy="226440"/>
            </a:xfrm>
          </p:grpSpPr>
          <p:pic>
            <p:nvPicPr>
              <p:cNvPr id="654" name="" descr=""/>
              <p:cNvPicPr/>
              <p:nvPr/>
            </p:nvPicPr>
            <p:blipFill>
              <a:blip r:embed="rId33"/>
              <a:stretch/>
            </p:blipFill>
            <p:spPr>
              <a:xfrm>
                <a:off x="6402240" y="5931000"/>
                <a:ext cx="192240" cy="226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5" name="" descr=""/>
              <p:cNvPicPr/>
              <p:nvPr/>
            </p:nvPicPr>
            <p:blipFill>
              <a:blip r:embed="rId34"/>
              <a:stretch/>
            </p:blipFill>
            <p:spPr>
              <a:xfrm>
                <a:off x="6402240" y="5931000"/>
                <a:ext cx="192240" cy="2264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56" name=""/>
            <p:cNvGrpSpPr/>
            <p:nvPr/>
          </p:nvGrpSpPr>
          <p:grpSpPr>
            <a:xfrm>
              <a:off x="6181560" y="5919840"/>
              <a:ext cx="199800" cy="247320"/>
              <a:chOff x="6181560" y="5919840"/>
              <a:chExt cx="199800" cy="247320"/>
            </a:xfrm>
          </p:grpSpPr>
          <p:pic>
            <p:nvPicPr>
              <p:cNvPr id="657" name="" descr=""/>
              <p:cNvPicPr/>
              <p:nvPr/>
            </p:nvPicPr>
            <p:blipFill>
              <a:blip r:embed="rId35"/>
              <a:stretch/>
            </p:blipFill>
            <p:spPr>
              <a:xfrm>
                <a:off x="6181560" y="5919840"/>
                <a:ext cx="199800" cy="247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8" name="" descr=""/>
              <p:cNvPicPr/>
              <p:nvPr/>
            </p:nvPicPr>
            <p:blipFill>
              <a:blip r:embed="rId36"/>
              <a:stretch/>
            </p:blipFill>
            <p:spPr>
              <a:xfrm>
                <a:off x="6181560" y="5919840"/>
                <a:ext cx="199800" cy="2473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59" name=""/>
            <p:cNvSpPr/>
            <p:nvPr/>
          </p:nvSpPr>
          <p:spPr>
            <a:xfrm>
              <a:off x="6610320" y="5875200"/>
              <a:ext cx="366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יתנה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6696720" y="6008760"/>
              <a:ext cx="13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ז-י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1" name=""/>
          <p:cNvGrpSpPr/>
          <p:nvPr/>
        </p:nvGrpSpPr>
        <p:grpSpPr>
          <a:xfrm>
            <a:off x="7742160" y="3276720"/>
            <a:ext cx="420480" cy="642240"/>
            <a:chOff x="7742160" y="3276720"/>
            <a:chExt cx="420480" cy="642240"/>
          </a:xfrm>
        </p:grpSpPr>
        <p:sp>
          <p:nvSpPr>
            <p:cNvPr id="662" name=""/>
            <p:cNvSpPr/>
            <p:nvPr/>
          </p:nvSpPr>
          <p:spPr>
            <a:xfrm>
              <a:off x="7742160" y="3276720"/>
              <a:ext cx="414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שחמט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7869960" y="3784680"/>
              <a:ext cx="22644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ירדן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64" name="ChessBoard" descr=""/>
            <p:cNvPicPr/>
            <p:nvPr/>
          </p:nvPicPr>
          <p:blipFill>
            <a:blip r:embed="rId37"/>
            <a:stretch/>
          </p:blipFill>
          <p:spPr>
            <a:xfrm>
              <a:off x="7800840" y="3438360"/>
              <a:ext cx="361800" cy="362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65" name=""/>
          <p:cNvGrpSpPr/>
          <p:nvPr/>
        </p:nvGrpSpPr>
        <p:grpSpPr>
          <a:xfrm>
            <a:off x="7246800" y="6138720"/>
            <a:ext cx="893520" cy="514440"/>
            <a:chOff x="7246800" y="6138720"/>
            <a:chExt cx="893520" cy="514440"/>
          </a:xfrm>
        </p:grpSpPr>
        <p:sp>
          <p:nvSpPr>
            <p:cNvPr id="666" name=""/>
            <p:cNvSpPr/>
            <p:nvPr/>
          </p:nvSpPr>
          <p:spPr>
            <a:xfrm>
              <a:off x="7246800" y="6164280"/>
              <a:ext cx="83952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מפגש חורשה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67" name="mushroom_house_sm_CLR" descr=""/>
            <p:cNvPicPr/>
            <p:nvPr/>
          </p:nvPicPr>
          <p:blipFill>
            <a:blip r:embed="rId38"/>
            <a:stretch/>
          </p:blipFill>
          <p:spPr>
            <a:xfrm>
              <a:off x="7625880" y="6138720"/>
              <a:ext cx="514440" cy="5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8" name=""/>
            <p:cNvSpPr/>
            <p:nvPr/>
          </p:nvSpPr>
          <p:spPr>
            <a:xfrm>
              <a:off x="7355880" y="6238800"/>
              <a:ext cx="429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lang="hi-IN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בית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hi-IN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-ב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9" name=""/>
          <p:cNvGrpSpPr/>
          <p:nvPr/>
        </p:nvGrpSpPr>
        <p:grpSpPr>
          <a:xfrm>
            <a:off x="3638520" y="1825560"/>
            <a:ext cx="860400" cy="565200"/>
            <a:chOff x="3638520" y="1825560"/>
            <a:chExt cx="860400" cy="565200"/>
          </a:xfrm>
        </p:grpSpPr>
        <p:sp>
          <p:nvSpPr>
            <p:cNvPr id="670" name=""/>
            <p:cNvSpPr/>
            <p:nvPr/>
          </p:nvSpPr>
          <p:spPr>
            <a:xfrm>
              <a:off x="4121280" y="2130120"/>
              <a:ext cx="22032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-ב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3944880" y="1825560"/>
              <a:ext cx="554040" cy="40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שעת בית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   בצק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72" name="woman_at_pottery_wheel_ty_CLR_Horiz" descr=""/>
            <p:cNvPicPr/>
            <p:nvPr/>
          </p:nvPicPr>
          <p:blipFill>
            <a:blip r:embed="rId39"/>
            <a:stretch/>
          </p:blipFill>
          <p:spPr>
            <a:xfrm>
              <a:off x="3638520" y="1831680"/>
              <a:ext cx="493920" cy="559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73" name=""/>
          <p:cNvGrpSpPr/>
          <p:nvPr/>
        </p:nvGrpSpPr>
        <p:grpSpPr>
          <a:xfrm>
            <a:off x="4717800" y="6138720"/>
            <a:ext cx="864000" cy="568440"/>
            <a:chOff x="4717800" y="6138720"/>
            <a:chExt cx="864000" cy="568440"/>
          </a:xfrm>
        </p:grpSpPr>
        <p:sp>
          <p:nvSpPr>
            <p:cNvPr id="674" name=""/>
            <p:cNvSpPr/>
            <p:nvPr/>
          </p:nvSpPr>
          <p:spPr>
            <a:xfrm>
              <a:off x="4741920" y="6164280"/>
              <a:ext cx="83988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מפגש   סיכום שבועי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75" name="mushroom_house_sm_CLR" descr=""/>
            <p:cNvPicPr/>
            <p:nvPr/>
          </p:nvPicPr>
          <p:blipFill>
            <a:blip r:embed="rId40"/>
            <a:stretch/>
          </p:blipFill>
          <p:spPr>
            <a:xfrm>
              <a:off x="5016600" y="6138720"/>
              <a:ext cx="514080" cy="5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6" name=""/>
            <p:cNvSpPr/>
            <p:nvPr/>
          </p:nvSpPr>
          <p:spPr>
            <a:xfrm>
              <a:off x="4717800" y="6394320"/>
              <a:ext cx="4291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lang="hi-IN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בית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hi-IN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-ב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7" name=""/>
          <p:cNvSpPr/>
          <p:nvPr/>
        </p:nvSpPr>
        <p:spPr>
          <a:xfrm>
            <a:off x="8215200" y="530280"/>
            <a:ext cx="7034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100" spc="-1" strike="noStrike">
                <a:solidFill>
                  <a:srgbClr val="000000"/>
                </a:solidFill>
                <a:latin typeface="Arial"/>
                <a:ea typeface="Arial"/>
              </a:rPr>
              <a:t>7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r>
              <a:rPr b="0" lang="he-IL" sz="1100" spc="-1" strike="noStrike">
                <a:solidFill>
                  <a:srgbClr val="000000"/>
                </a:solidFill>
                <a:latin typeface="Arial"/>
                <a:ea typeface="Arial"/>
              </a:rPr>
              <a:t>45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he-IL" sz="1100" spc="-1" strike="noStrike">
                <a:solidFill>
                  <a:srgbClr val="000000"/>
                </a:solidFill>
                <a:latin typeface="Arial"/>
                <a:ea typeface="Arial"/>
              </a:rPr>
              <a:t>8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:2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8" name=""/>
          <p:cNvGrpSpPr/>
          <p:nvPr/>
        </p:nvGrpSpPr>
        <p:grpSpPr>
          <a:xfrm>
            <a:off x="2836440" y="874800"/>
            <a:ext cx="640800" cy="619200"/>
            <a:chOff x="2836440" y="874800"/>
            <a:chExt cx="640800" cy="619200"/>
          </a:xfrm>
        </p:grpSpPr>
        <p:sp>
          <p:nvSpPr>
            <p:cNvPr id="679" name=""/>
            <p:cNvSpPr/>
            <p:nvPr/>
          </p:nvSpPr>
          <p:spPr>
            <a:xfrm>
              <a:off x="2836440" y="874800"/>
              <a:ext cx="64080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אקטואליה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3191760" y="1157400"/>
              <a:ext cx="17280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ה-י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3124080" y="993600"/>
              <a:ext cx="3466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פרת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82" name="analyzing_computer_tv_head_md_CLR_Horiz" descr=""/>
            <p:cNvPicPr/>
            <p:nvPr/>
          </p:nvPicPr>
          <p:blipFill>
            <a:blip r:embed="rId41"/>
            <a:stretch/>
          </p:blipFill>
          <p:spPr>
            <a:xfrm>
              <a:off x="2854440" y="1000080"/>
              <a:ext cx="328320" cy="493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83" name=""/>
          <p:cNvGrpSpPr/>
          <p:nvPr/>
        </p:nvGrpSpPr>
        <p:grpSpPr>
          <a:xfrm>
            <a:off x="4237200" y="4748040"/>
            <a:ext cx="1280160" cy="452520"/>
            <a:chOff x="4237200" y="4748040"/>
            <a:chExt cx="1280160" cy="452520"/>
          </a:xfrm>
        </p:grpSpPr>
        <p:pic>
          <p:nvPicPr>
            <p:cNvPr id="684" name="sphere_orbiting_gravity_well_ty_CLR" descr=""/>
            <p:cNvPicPr/>
            <p:nvPr/>
          </p:nvPicPr>
          <p:blipFill>
            <a:blip r:embed="rId42"/>
            <a:stretch/>
          </p:blipFill>
          <p:spPr>
            <a:xfrm>
              <a:off x="4237200" y="4835520"/>
              <a:ext cx="639720" cy="36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5" name=""/>
            <p:cNvSpPr/>
            <p:nvPr/>
          </p:nvSpPr>
          <p:spPr>
            <a:xfrm>
              <a:off x="4887360" y="4748040"/>
              <a:ext cx="63000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מתמטיקה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לבוגרים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4877280" y="5029200"/>
              <a:ext cx="13032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ז-י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5078880" y="4987800"/>
              <a:ext cx="381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ביבה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8" name=""/>
          <p:cNvGrpSpPr/>
          <p:nvPr/>
        </p:nvGrpSpPr>
        <p:grpSpPr>
          <a:xfrm>
            <a:off x="3836880" y="5635800"/>
            <a:ext cx="807840" cy="626760"/>
            <a:chOff x="3836880" y="5635800"/>
            <a:chExt cx="807840" cy="626760"/>
          </a:xfrm>
        </p:grpSpPr>
        <p:sp>
          <p:nvSpPr>
            <p:cNvPr id="689" name=""/>
            <p:cNvSpPr/>
            <p:nvPr/>
          </p:nvSpPr>
          <p:spPr>
            <a:xfrm>
              <a:off x="4304880" y="5983560"/>
              <a:ext cx="13932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שי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4202280" y="6045480"/>
              <a:ext cx="22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-ב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4176720" y="5726520"/>
              <a:ext cx="468000" cy="53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סיפורים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 ואגדות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92" name="riding_hood_running_basket_sm_CLR_Horiz" descr=""/>
            <p:cNvPicPr/>
            <p:nvPr/>
          </p:nvPicPr>
          <p:blipFill>
            <a:blip r:embed="rId43"/>
            <a:stretch/>
          </p:blipFill>
          <p:spPr>
            <a:xfrm>
              <a:off x="3836880" y="5635800"/>
              <a:ext cx="493560" cy="493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93" name=""/>
          <p:cNvGrpSpPr/>
          <p:nvPr/>
        </p:nvGrpSpPr>
        <p:grpSpPr>
          <a:xfrm>
            <a:off x="4754520" y="5730840"/>
            <a:ext cx="803880" cy="435600"/>
            <a:chOff x="4754520" y="5730840"/>
            <a:chExt cx="803880" cy="435600"/>
          </a:xfrm>
        </p:grpSpPr>
        <p:sp>
          <p:nvSpPr>
            <p:cNvPr id="694" name=""/>
            <p:cNvSpPr/>
            <p:nvPr/>
          </p:nvSpPr>
          <p:spPr>
            <a:xfrm>
              <a:off x="4757400" y="5730840"/>
              <a:ext cx="80100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מרכז אנגלית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95" name=""/>
            <p:cNvGrpSpPr/>
            <p:nvPr/>
          </p:nvGrpSpPr>
          <p:grpSpPr>
            <a:xfrm>
              <a:off x="4994280" y="5884560"/>
              <a:ext cx="192240" cy="226440"/>
              <a:chOff x="4994280" y="5884560"/>
              <a:chExt cx="192240" cy="226440"/>
            </a:xfrm>
          </p:grpSpPr>
          <p:pic>
            <p:nvPicPr>
              <p:cNvPr id="696" name="" descr=""/>
              <p:cNvPicPr/>
              <p:nvPr/>
            </p:nvPicPr>
            <p:blipFill>
              <a:blip r:embed="rId44"/>
              <a:stretch/>
            </p:blipFill>
            <p:spPr>
              <a:xfrm>
                <a:off x="4994280" y="5884560"/>
                <a:ext cx="192240" cy="226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97" name="" descr=""/>
              <p:cNvPicPr/>
              <p:nvPr/>
            </p:nvPicPr>
            <p:blipFill>
              <a:blip r:embed="rId45"/>
              <a:stretch/>
            </p:blipFill>
            <p:spPr>
              <a:xfrm>
                <a:off x="4994280" y="5884560"/>
                <a:ext cx="192240" cy="2264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98" name=""/>
            <p:cNvGrpSpPr/>
            <p:nvPr/>
          </p:nvGrpSpPr>
          <p:grpSpPr>
            <a:xfrm>
              <a:off x="4754520" y="5873400"/>
              <a:ext cx="199800" cy="246960"/>
              <a:chOff x="4754520" y="5873400"/>
              <a:chExt cx="199800" cy="246960"/>
            </a:xfrm>
          </p:grpSpPr>
          <p:pic>
            <p:nvPicPr>
              <p:cNvPr id="699" name="" descr=""/>
              <p:cNvPicPr/>
              <p:nvPr/>
            </p:nvPicPr>
            <p:blipFill>
              <a:blip r:embed="rId46"/>
              <a:stretch/>
            </p:blipFill>
            <p:spPr>
              <a:xfrm>
                <a:off x="4754520" y="5873400"/>
                <a:ext cx="199800" cy="246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00" name="" descr=""/>
              <p:cNvPicPr/>
              <p:nvPr/>
            </p:nvPicPr>
            <p:blipFill>
              <a:blip r:embed="rId47"/>
              <a:stretch/>
            </p:blipFill>
            <p:spPr>
              <a:xfrm>
                <a:off x="4754520" y="5873400"/>
                <a:ext cx="199800" cy="2469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701" name=""/>
            <p:cNvSpPr/>
            <p:nvPr/>
          </p:nvSpPr>
          <p:spPr>
            <a:xfrm>
              <a:off x="5173920" y="5829120"/>
              <a:ext cx="366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יתנה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5153040" y="5905080"/>
              <a:ext cx="3528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ה-י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3" name=""/>
          <p:cNvGrpSpPr/>
          <p:nvPr/>
        </p:nvGrpSpPr>
        <p:grpSpPr>
          <a:xfrm>
            <a:off x="3766680" y="5184720"/>
            <a:ext cx="964800" cy="459720"/>
            <a:chOff x="3766680" y="5184720"/>
            <a:chExt cx="964800" cy="459720"/>
          </a:xfrm>
        </p:grpSpPr>
        <p:sp>
          <p:nvSpPr>
            <p:cNvPr id="704" name=""/>
            <p:cNvSpPr/>
            <p:nvPr/>
          </p:nvSpPr>
          <p:spPr>
            <a:xfrm>
              <a:off x="4330080" y="5276880"/>
              <a:ext cx="40140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מרכז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עברית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4081320" y="5460840"/>
              <a:ext cx="229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נטע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3766680" y="5184720"/>
              <a:ext cx="686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2400" spc="-1" strike="noStrike">
                  <a:solidFill>
                    <a:srgbClr val="009900"/>
                  </a:solidFill>
                  <a:latin typeface="Arial"/>
                  <a:cs typeface="Guttman Yad-Brush"/>
                </a:rPr>
                <a:t>א</a:t>
              </a:r>
              <a:r>
                <a:rPr b="0" lang="he-IL" sz="2400" spc="-1" strike="noStrike">
                  <a:solidFill>
                    <a:srgbClr val="cc0000"/>
                  </a:solidFill>
                  <a:latin typeface="Arial"/>
                  <a:cs typeface="Guttman Yad-Brush"/>
                </a:rPr>
                <a:t>ב</a:t>
              </a:r>
              <a:r>
                <a:rPr b="0" lang="he-IL" sz="2400" spc="-1" strike="noStrike">
                  <a:solidFill>
                    <a:srgbClr val="cc00ff"/>
                  </a:solidFill>
                  <a:latin typeface="Arial"/>
                  <a:cs typeface="Guttman Yad-Brush"/>
                </a:rPr>
                <a:t>ג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7" name=""/>
          <p:cNvGrpSpPr/>
          <p:nvPr/>
        </p:nvGrpSpPr>
        <p:grpSpPr>
          <a:xfrm>
            <a:off x="4722840" y="5180040"/>
            <a:ext cx="750600" cy="593640"/>
            <a:chOff x="4722840" y="5180040"/>
            <a:chExt cx="750600" cy="593640"/>
          </a:xfrm>
        </p:grpSpPr>
        <p:sp>
          <p:nvSpPr>
            <p:cNvPr id="708" name=""/>
            <p:cNvSpPr/>
            <p:nvPr/>
          </p:nvSpPr>
          <p:spPr>
            <a:xfrm>
              <a:off x="5245560" y="5464080"/>
              <a:ext cx="22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גן-ב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4846680" y="5191200"/>
              <a:ext cx="604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חשבון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5217480" y="5356080"/>
              <a:ext cx="23544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ענת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11" name="girl_holding_123_ty_CLR" descr=""/>
            <p:cNvPicPr/>
            <p:nvPr/>
          </p:nvPicPr>
          <p:blipFill>
            <a:blip r:embed="rId48"/>
            <a:stretch/>
          </p:blipFill>
          <p:spPr>
            <a:xfrm>
              <a:off x="4722840" y="5180040"/>
              <a:ext cx="594000" cy="593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12" name=""/>
          <p:cNvGrpSpPr/>
          <p:nvPr/>
        </p:nvGrpSpPr>
        <p:grpSpPr>
          <a:xfrm>
            <a:off x="2778480" y="5130720"/>
            <a:ext cx="929160" cy="537480"/>
            <a:chOff x="2778480" y="5130720"/>
            <a:chExt cx="929160" cy="537480"/>
          </a:xfrm>
        </p:grpSpPr>
        <p:sp>
          <p:nvSpPr>
            <p:cNvPr id="713" name=""/>
            <p:cNvSpPr/>
            <p:nvPr/>
          </p:nvSpPr>
          <p:spPr>
            <a:xfrm>
              <a:off x="3321360" y="5222880"/>
              <a:ext cx="38628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מרכז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חשבון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3285720" y="5435640"/>
              <a:ext cx="203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רוני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2778480" y="5130720"/>
              <a:ext cx="68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0000"/>
                  </a:solidFill>
                  <a:latin typeface="Arial"/>
                  <a:ea typeface="Guttman Yad-Brush"/>
                </a:rPr>
                <a:t>12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2914920" y="5406840"/>
              <a:ext cx="40032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-ב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7" name=""/>
          <p:cNvGrpSpPr/>
          <p:nvPr/>
        </p:nvGrpSpPr>
        <p:grpSpPr>
          <a:xfrm>
            <a:off x="3002040" y="2274840"/>
            <a:ext cx="785520" cy="528840"/>
            <a:chOff x="3002040" y="2274840"/>
            <a:chExt cx="785520" cy="528840"/>
          </a:xfrm>
        </p:grpSpPr>
        <p:pic>
          <p:nvPicPr>
            <p:cNvPr id="718" name="Professor_new_md_CLR" descr=""/>
            <p:cNvPicPr/>
            <p:nvPr/>
          </p:nvPicPr>
          <p:blipFill>
            <a:blip r:embed="rId49"/>
            <a:stretch/>
          </p:blipFill>
          <p:spPr>
            <a:xfrm>
              <a:off x="3002040" y="2274840"/>
              <a:ext cx="399960" cy="39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9" name=""/>
            <p:cNvSpPr/>
            <p:nvPr/>
          </p:nvSpPr>
          <p:spPr>
            <a:xfrm>
              <a:off x="3181320" y="2303640"/>
              <a:ext cx="54936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אקדמיה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3431160" y="2397240"/>
              <a:ext cx="13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ו-ז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3105360" y="2490840"/>
              <a:ext cx="68220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הקריה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האקדמית)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2" name=""/>
          <p:cNvGrpSpPr/>
          <p:nvPr/>
        </p:nvGrpSpPr>
        <p:grpSpPr>
          <a:xfrm>
            <a:off x="2866680" y="3708360"/>
            <a:ext cx="863640" cy="586080"/>
            <a:chOff x="2866680" y="3708360"/>
            <a:chExt cx="863640" cy="586080"/>
          </a:xfrm>
        </p:grpSpPr>
        <p:pic>
          <p:nvPicPr>
            <p:cNvPr id="723" name="Professor_new_md_CLR" descr=""/>
            <p:cNvPicPr/>
            <p:nvPr/>
          </p:nvPicPr>
          <p:blipFill>
            <a:blip r:embed="rId50"/>
            <a:stretch/>
          </p:blipFill>
          <p:spPr>
            <a:xfrm>
              <a:off x="2887560" y="3813120"/>
              <a:ext cx="399960" cy="40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4" name=""/>
            <p:cNvSpPr/>
            <p:nvPr/>
          </p:nvSpPr>
          <p:spPr>
            <a:xfrm>
              <a:off x="2866680" y="3708360"/>
              <a:ext cx="54936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אקדמיה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3316680" y="3801960"/>
              <a:ext cx="13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ו-ז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3048120" y="3981600"/>
              <a:ext cx="68220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הקריה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האקדמית)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7" name=""/>
          <p:cNvGrpSpPr/>
          <p:nvPr/>
        </p:nvGrpSpPr>
        <p:grpSpPr>
          <a:xfrm>
            <a:off x="2800080" y="4605480"/>
            <a:ext cx="806040" cy="633600"/>
            <a:chOff x="2800080" y="4605480"/>
            <a:chExt cx="806040" cy="633600"/>
          </a:xfrm>
        </p:grpSpPr>
        <p:pic>
          <p:nvPicPr>
            <p:cNvPr id="728" name="Professor_new_md_CLR" descr=""/>
            <p:cNvPicPr/>
            <p:nvPr/>
          </p:nvPicPr>
          <p:blipFill>
            <a:blip r:embed="rId51"/>
            <a:stretch/>
          </p:blipFill>
          <p:spPr>
            <a:xfrm>
              <a:off x="2820960" y="4710240"/>
              <a:ext cx="399960" cy="39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9" name=""/>
            <p:cNvSpPr/>
            <p:nvPr/>
          </p:nvSpPr>
          <p:spPr>
            <a:xfrm>
              <a:off x="2800080" y="4605480"/>
              <a:ext cx="54936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אקדמיה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249720" y="4699080"/>
              <a:ext cx="13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ו-ז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2923920" y="4926240"/>
              <a:ext cx="68220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הקריה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האקדמית)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2" name=""/>
          <p:cNvGrpSpPr/>
          <p:nvPr/>
        </p:nvGrpSpPr>
        <p:grpSpPr>
          <a:xfrm>
            <a:off x="2811600" y="5603760"/>
            <a:ext cx="882360" cy="595440"/>
            <a:chOff x="2811600" y="5603760"/>
            <a:chExt cx="882360" cy="595440"/>
          </a:xfrm>
        </p:grpSpPr>
        <p:pic>
          <p:nvPicPr>
            <p:cNvPr id="733" name="Professor_new_md_CLR" descr=""/>
            <p:cNvPicPr/>
            <p:nvPr/>
          </p:nvPicPr>
          <p:blipFill>
            <a:blip r:embed="rId52"/>
            <a:stretch/>
          </p:blipFill>
          <p:spPr>
            <a:xfrm>
              <a:off x="2832120" y="5708520"/>
              <a:ext cx="399960" cy="40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4" name=""/>
            <p:cNvSpPr/>
            <p:nvPr/>
          </p:nvSpPr>
          <p:spPr>
            <a:xfrm>
              <a:off x="2811600" y="5603760"/>
              <a:ext cx="54936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אקדמיה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3261240" y="5697360"/>
              <a:ext cx="13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ו-ז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3011760" y="5886360"/>
              <a:ext cx="68220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הקריה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האקדמית)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7" name=""/>
          <p:cNvGrpSpPr/>
          <p:nvPr/>
        </p:nvGrpSpPr>
        <p:grpSpPr>
          <a:xfrm>
            <a:off x="2842200" y="4246560"/>
            <a:ext cx="883440" cy="405720"/>
            <a:chOff x="2842200" y="4246560"/>
            <a:chExt cx="883440" cy="405720"/>
          </a:xfrm>
        </p:grpSpPr>
        <p:sp>
          <p:nvSpPr>
            <p:cNvPr id="738" name=""/>
            <p:cNvSpPr/>
            <p:nvPr/>
          </p:nvSpPr>
          <p:spPr>
            <a:xfrm>
              <a:off x="3367440" y="4317840"/>
              <a:ext cx="27972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לשון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3104640" y="4435560"/>
              <a:ext cx="229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נטע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2842200" y="4246560"/>
              <a:ext cx="54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600" spc="-1" strike="noStrike">
                  <a:solidFill>
                    <a:srgbClr val="009900"/>
                  </a:solidFill>
                  <a:latin typeface="Arial"/>
                  <a:cs typeface="Guttman Yad-Brush"/>
                </a:rPr>
                <a:t>פ</a:t>
              </a:r>
              <a:r>
                <a:rPr b="0" lang="hi-IN" sz="1600" spc="-1" strike="noStrike">
                  <a:solidFill>
                    <a:srgbClr val="996633"/>
                  </a:solidFill>
                  <a:latin typeface="Arial"/>
                  <a:cs typeface="Guttman Yad-Brush"/>
                </a:rPr>
                <a:t>ע</a:t>
              </a:r>
              <a:r>
                <a:rPr b="0" lang="hi-IN" sz="1600" spc="-1" strike="noStrike">
                  <a:solidFill>
                    <a:srgbClr val="009900"/>
                  </a:solidFill>
                  <a:latin typeface="Arial"/>
                  <a:cs typeface="Guttman Yad-Brush"/>
                </a:rPr>
                <a:t>ל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3363480" y="4424400"/>
              <a:ext cx="362160" cy="22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ה-ז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2" name=""/>
          <p:cNvGrpSpPr/>
          <p:nvPr/>
        </p:nvGrpSpPr>
        <p:grpSpPr>
          <a:xfrm>
            <a:off x="2914560" y="3305160"/>
            <a:ext cx="806760" cy="403200"/>
            <a:chOff x="2914560" y="3305160"/>
            <a:chExt cx="806760" cy="403200"/>
          </a:xfrm>
        </p:grpSpPr>
        <p:sp>
          <p:nvSpPr>
            <p:cNvPr id="743" name=""/>
            <p:cNvSpPr/>
            <p:nvPr/>
          </p:nvSpPr>
          <p:spPr>
            <a:xfrm>
              <a:off x="3129120" y="3305160"/>
              <a:ext cx="5922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היסטוריה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3137400" y="3513240"/>
              <a:ext cx="13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ז-י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3246480" y="3432240"/>
              <a:ext cx="291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והד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46" name="GreekVase_small" descr=""/>
            <p:cNvPicPr/>
            <p:nvPr/>
          </p:nvPicPr>
          <p:blipFill>
            <a:blip r:embed="rId53"/>
            <a:stretch/>
          </p:blipFill>
          <p:spPr>
            <a:xfrm>
              <a:off x="2914560" y="3346560"/>
              <a:ext cx="214560" cy="36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47" name=""/>
          <p:cNvGrpSpPr/>
          <p:nvPr/>
        </p:nvGrpSpPr>
        <p:grpSpPr>
          <a:xfrm>
            <a:off x="7375680" y="836640"/>
            <a:ext cx="884880" cy="537120"/>
            <a:chOff x="7375680" y="836640"/>
            <a:chExt cx="884880" cy="537120"/>
          </a:xfrm>
        </p:grpSpPr>
        <p:pic>
          <p:nvPicPr>
            <p:cNvPr id="748" name="omega_md_wht_8611" descr=""/>
            <p:cNvPicPr/>
            <p:nvPr/>
          </p:nvPicPr>
          <p:blipFill>
            <a:blip r:embed="rId54"/>
            <a:stretch/>
          </p:blipFill>
          <p:spPr>
            <a:xfrm>
              <a:off x="7375680" y="933120"/>
              <a:ext cx="377640" cy="34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9" name=""/>
            <p:cNvSpPr/>
            <p:nvPr/>
          </p:nvSpPr>
          <p:spPr>
            <a:xfrm>
              <a:off x="7670520" y="836640"/>
              <a:ext cx="5130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יוונית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7602840" y="979200"/>
              <a:ext cx="65772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מאיה ה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7738200" y="1112400"/>
              <a:ext cx="40032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-ב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2" name=""/>
          <p:cNvSpPr/>
          <p:nvPr/>
        </p:nvSpPr>
        <p:spPr>
          <a:xfrm>
            <a:off x="2880000" y="66600"/>
            <a:ext cx="34160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500" spc="-1" strike="noStrike">
                <a:solidFill>
                  <a:srgbClr val="0000ff"/>
                </a:solidFill>
                <a:latin typeface="Arial"/>
                <a:cs typeface="Arial"/>
              </a:rPr>
              <a:t>מערכת שעות לבחירה – שליש ג' תשס“ז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3" name=""/>
          <p:cNvGrpSpPr/>
          <p:nvPr/>
        </p:nvGrpSpPr>
        <p:grpSpPr>
          <a:xfrm>
            <a:off x="2855160" y="365040"/>
            <a:ext cx="1174320" cy="482040"/>
            <a:chOff x="2855160" y="365040"/>
            <a:chExt cx="1174320" cy="482040"/>
          </a:xfrm>
        </p:grpSpPr>
        <p:pic>
          <p:nvPicPr>
            <p:cNvPr id="754" name="sphere_orbiting_gravity_well_ty_CLR" descr=""/>
            <p:cNvPicPr/>
            <p:nvPr/>
          </p:nvPicPr>
          <p:blipFill>
            <a:blip r:embed="rId55"/>
            <a:stretch/>
          </p:blipFill>
          <p:spPr>
            <a:xfrm>
              <a:off x="2870280" y="474840"/>
              <a:ext cx="639720" cy="36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5" name=""/>
            <p:cNvSpPr/>
            <p:nvPr/>
          </p:nvSpPr>
          <p:spPr>
            <a:xfrm>
              <a:off x="2855160" y="365040"/>
              <a:ext cx="117432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מתמטיקה לבוגרים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3558240" y="712800"/>
              <a:ext cx="13032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ז-י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3474000" y="506520"/>
              <a:ext cx="381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ביבה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8" name=""/>
          <p:cNvGrpSpPr/>
          <p:nvPr/>
        </p:nvGrpSpPr>
        <p:grpSpPr>
          <a:xfrm>
            <a:off x="7251120" y="1851120"/>
            <a:ext cx="973080" cy="542520"/>
            <a:chOff x="7251120" y="1851120"/>
            <a:chExt cx="973080" cy="542520"/>
          </a:xfrm>
        </p:grpSpPr>
        <p:sp>
          <p:nvSpPr>
            <p:cNvPr id="759" name=""/>
            <p:cNvSpPr/>
            <p:nvPr/>
          </p:nvSpPr>
          <p:spPr>
            <a:xfrm>
              <a:off x="7251120" y="1851120"/>
              <a:ext cx="96840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קריאה כתיבה </a:t>
              </a:r>
              <a:r>
                <a:rPr b="1" lang="en-US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7858080" y="1996920"/>
              <a:ext cx="268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תמר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7823880" y="2139840"/>
              <a:ext cx="400320" cy="22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-ב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62" name="girl" descr=""/>
            <p:cNvPicPr/>
            <p:nvPr/>
          </p:nvPicPr>
          <p:blipFill>
            <a:blip r:embed="rId56"/>
            <a:stretch/>
          </p:blipFill>
          <p:spPr>
            <a:xfrm>
              <a:off x="7496280" y="1973160"/>
              <a:ext cx="341280" cy="420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63" name=""/>
          <p:cNvGrpSpPr/>
          <p:nvPr/>
        </p:nvGrpSpPr>
        <p:grpSpPr>
          <a:xfrm>
            <a:off x="5603760" y="884160"/>
            <a:ext cx="942840" cy="585720"/>
            <a:chOff x="5603760" y="884160"/>
            <a:chExt cx="942840" cy="585720"/>
          </a:xfrm>
        </p:grpSpPr>
        <p:sp>
          <p:nvSpPr>
            <p:cNvPr id="764" name=""/>
            <p:cNvSpPr/>
            <p:nvPr/>
          </p:nvSpPr>
          <p:spPr>
            <a:xfrm>
              <a:off x="6288840" y="1209600"/>
              <a:ext cx="24300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יורם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345360" y="1299960"/>
              <a:ext cx="172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-י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78240" y="933480"/>
              <a:ext cx="46836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סדנת פירוק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67" name="hole_in_wall_gears_sm_CLR" descr=""/>
            <p:cNvPicPr/>
            <p:nvPr/>
          </p:nvPicPr>
          <p:blipFill>
            <a:blip r:embed="rId57"/>
            <a:stretch/>
          </p:blipFill>
          <p:spPr>
            <a:xfrm>
              <a:off x="5603760" y="884160"/>
              <a:ext cx="669960" cy="585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68" name=""/>
          <p:cNvGrpSpPr/>
          <p:nvPr/>
        </p:nvGrpSpPr>
        <p:grpSpPr>
          <a:xfrm>
            <a:off x="5580000" y="1463760"/>
            <a:ext cx="1182600" cy="342000"/>
            <a:chOff x="5580000" y="1463760"/>
            <a:chExt cx="1182600" cy="342000"/>
          </a:xfrm>
        </p:grpSpPr>
        <p:sp>
          <p:nvSpPr>
            <p:cNvPr id="769" name=""/>
            <p:cNvSpPr/>
            <p:nvPr/>
          </p:nvSpPr>
          <p:spPr>
            <a:xfrm>
              <a:off x="5877360" y="1530360"/>
              <a:ext cx="87084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דקדוק פורמלי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6251400" y="1671480"/>
              <a:ext cx="51120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ות ז-י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5906520" y="1627200"/>
              <a:ext cx="229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נטע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72" name="v1" descr=""/>
            <p:cNvPicPr/>
            <p:nvPr/>
          </p:nvPicPr>
          <p:blipFill>
            <a:blip r:embed="rId58"/>
            <a:stretch/>
          </p:blipFill>
          <p:spPr>
            <a:xfrm>
              <a:off x="5580000" y="1463760"/>
              <a:ext cx="317520" cy="328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73" name=""/>
          <p:cNvGrpSpPr/>
          <p:nvPr/>
        </p:nvGrpSpPr>
        <p:grpSpPr>
          <a:xfrm>
            <a:off x="5746680" y="1793880"/>
            <a:ext cx="632160" cy="580680"/>
            <a:chOff x="5746680" y="1793880"/>
            <a:chExt cx="632160" cy="580680"/>
          </a:xfrm>
        </p:grpSpPr>
        <p:sp>
          <p:nvSpPr>
            <p:cNvPr id="774" name=""/>
            <p:cNvSpPr/>
            <p:nvPr/>
          </p:nvSpPr>
          <p:spPr>
            <a:xfrm>
              <a:off x="5881320" y="1803240"/>
              <a:ext cx="497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קפוארה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5937120" y="2106360"/>
              <a:ext cx="36360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דם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ועומרי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5956920" y="1893600"/>
              <a:ext cx="40032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-ב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77" name="Jimmy_Kung_fu_kick_sm_CLR" descr=""/>
            <p:cNvPicPr/>
            <p:nvPr/>
          </p:nvPicPr>
          <p:blipFill>
            <a:blip r:embed="rId59"/>
            <a:stretch/>
          </p:blipFill>
          <p:spPr>
            <a:xfrm>
              <a:off x="5746680" y="1793880"/>
              <a:ext cx="522360" cy="522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78" name=""/>
          <p:cNvGrpSpPr/>
          <p:nvPr/>
        </p:nvGrpSpPr>
        <p:grpSpPr>
          <a:xfrm>
            <a:off x="5562720" y="3286080"/>
            <a:ext cx="773280" cy="461880"/>
            <a:chOff x="5562720" y="3286080"/>
            <a:chExt cx="773280" cy="461880"/>
          </a:xfrm>
        </p:grpSpPr>
        <p:sp>
          <p:nvSpPr>
            <p:cNvPr id="779" name=""/>
            <p:cNvSpPr/>
            <p:nvPr/>
          </p:nvSpPr>
          <p:spPr>
            <a:xfrm>
              <a:off x="6112080" y="3568680"/>
              <a:ext cx="22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-ב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5722920" y="3286080"/>
              <a:ext cx="604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מוסיקה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6099120" y="3451320"/>
              <a:ext cx="23688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ורי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82" name="music_staff_md_CLR" descr=""/>
            <p:cNvPicPr/>
            <p:nvPr/>
          </p:nvPicPr>
          <p:blipFill>
            <a:blip r:embed="rId60"/>
            <a:stretch/>
          </p:blipFill>
          <p:spPr>
            <a:xfrm>
              <a:off x="5562720" y="3336840"/>
              <a:ext cx="514080" cy="411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83" name=""/>
          <p:cNvGrpSpPr/>
          <p:nvPr/>
        </p:nvGrpSpPr>
        <p:grpSpPr>
          <a:xfrm>
            <a:off x="7105680" y="3359160"/>
            <a:ext cx="665640" cy="438840"/>
            <a:chOff x="7105680" y="3359160"/>
            <a:chExt cx="665640" cy="438840"/>
          </a:xfrm>
        </p:grpSpPr>
        <p:sp>
          <p:nvSpPr>
            <p:cNvPr id="784" name=""/>
            <p:cNvSpPr/>
            <p:nvPr/>
          </p:nvSpPr>
          <p:spPr>
            <a:xfrm>
              <a:off x="7396920" y="3663720"/>
              <a:ext cx="18216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ה-ז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7542000" y="3497040"/>
              <a:ext cx="229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תום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7221600" y="3359160"/>
              <a:ext cx="506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אוריגמי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87" name="Origami-" descr=""/>
            <p:cNvPicPr/>
            <p:nvPr/>
          </p:nvPicPr>
          <p:blipFill>
            <a:blip r:embed="rId61"/>
            <a:stretch/>
          </p:blipFill>
          <p:spPr>
            <a:xfrm>
              <a:off x="7105680" y="3398760"/>
              <a:ext cx="449280" cy="345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88" name=""/>
          <p:cNvGrpSpPr/>
          <p:nvPr/>
        </p:nvGrpSpPr>
        <p:grpSpPr>
          <a:xfrm>
            <a:off x="8066160" y="3841920"/>
            <a:ext cx="736920" cy="391680"/>
            <a:chOff x="8066160" y="3841920"/>
            <a:chExt cx="736920" cy="391680"/>
          </a:xfrm>
        </p:grpSpPr>
        <p:pic>
          <p:nvPicPr>
            <p:cNvPr id="789" name="mh6_g" descr=""/>
            <p:cNvPicPr/>
            <p:nvPr/>
          </p:nvPicPr>
          <p:blipFill>
            <a:blip r:embed="rId62"/>
            <a:stretch/>
          </p:blipFill>
          <p:spPr>
            <a:xfrm>
              <a:off x="8240760" y="3841920"/>
              <a:ext cx="531720" cy="13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0" name=""/>
            <p:cNvSpPr/>
            <p:nvPr/>
          </p:nvSpPr>
          <p:spPr>
            <a:xfrm>
              <a:off x="8066160" y="3972240"/>
              <a:ext cx="70956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שיעור לז-י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8227800" y="4099320"/>
              <a:ext cx="57528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סטודנטים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2" name=""/>
          <p:cNvGrpSpPr/>
          <p:nvPr/>
        </p:nvGrpSpPr>
        <p:grpSpPr>
          <a:xfrm>
            <a:off x="5556240" y="4267080"/>
            <a:ext cx="1028520" cy="527040"/>
            <a:chOff x="5556240" y="4267080"/>
            <a:chExt cx="1028520" cy="527040"/>
          </a:xfrm>
        </p:grpSpPr>
        <p:sp>
          <p:nvSpPr>
            <p:cNvPr id="793" name=""/>
            <p:cNvSpPr/>
            <p:nvPr/>
          </p:nvSpPr>
          <p:spPr>
            <a:xfrm>
              <a:off x="6302520" y="4606560"/>
              <a:ext cx="22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-ב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5979960" y="4267080"/>
              <a:ext cx="60480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משחקים חברתיים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6270840" y="4508280"/>
              <a:ext cx="25812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הדס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96" name="family_playing_board_game_sm_wht_16331" descr=""/>
            <p:cNvPicPr/>
            <p:nvPr/>
          </p:nvPicPr>
          <p:blipFill>
            <a:blip r:embed="rId63"/>
            <a:stretch/>
          </p:blipFill>
          <p:spPr>
            <a:xfrm>
              <a:off x="5556240" y="4333680"/>
              <a:ext cx="696960" cy="460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97" name=""/>
          <p:cNvGrpSpPr/>
          <p:nvPr/>
        </p:nvGrpSpPr>
        <p:grpSpPr>
          <a:xfrm>
            <a:off x="5571360" y="4805280"/>
            <a:ext cx="878400" cy="390240"/>
            <a:chOff x="5571360" y="4805280"/>
            <a:chExt cx="878400" cy="390240"/>
          </a:xfrm>
        </p:grpSpPr>
        <p:sp>
          <p:nvSpPr>
            <p:cNvPr id="798" name=""/>
            <p:cNvSpPr/>
            <p:nvPr/>
          </p:nvSpPr>
          <p:spPr>
            <a:xfrm>
              <a:off x="5571360" y="4805280"/>
              <a:ext cx="87840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אנגלית דקדוק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99" name=""/>
            <p:cNvGrpSpPr/>
            <p:nvPr/>
          </p:nvGrpSpPr>
          <p:grpSpPr>
            <a:xfrm>
              <a:off x="5850000" y="4940280"/>
              <a:ext cx="191880" cy="226800"/>
              <a:chOff x="5850000" y="4940280"/>
              <a:chExt cx="191880" cy="226800"/>
            </a:xfrm>
          </p:grpSpPr>
          <p:pic>
            <p:nvPicPr>
              <p:cNvPr id="800" name="" descr=""/>
              <p:cNvPicPr/>
              <p:nvPr/>
            </p:nvPicPr>
            <p:blipFill>
              <a:blip r:embed="rId64"/>
              <a:stretch/>
            </p:blipFill>
            <p:spPr>
              <a:xfrm>
                <a:off x="5850000" y="4940280"/>
                <a:ext cx="191880" cy="226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01" name="" descr=""/>
              <p:cNvPicPr/>
              <p:nvPr/>
            </p:nvPicPr>
            <p:blipFill>
              <a:blip r:embed="rId65"/>
              <a:stretch/>
            </p:blipFill>
            <p:spPr>
              <a:xfrm>
                <a:off x="5850000" y="4940280"/>
                <a:ext cx="191880" cy="2268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02" name=""/>
            <p:cNvGrpSpPr/>
            <p:nvPr/>
          </p:nvGrpSpPr>
          <p:grpSpPr>
            <a:xfrm>
              <a:off x="5600880" y="4938840"/>
              <a:ext cx="199800" cy="247320"/>
              <a:chOff x="5600880" y="4938840"/>
              <a:chExt cx="199800" cy="247320"/>
            </a:xfrm>
          </p:grpSpPr>
          <p:pic>
            <p:nvPicPr>
              <p:cNvPr id="803" name="" descr=""/>
              <p:cNvPicPr/>
              <p:nvPr/>
            </p:nvPicPr>
            <p:blipFill>
              <a:blip r:embed="rId66"/>
              <a:stretch/>
            </p:blipFill>
            <p:spPr>
              <a:xfrm>
                <a:off x="5600880" y="4938840"/>
                <a:ext cx="199800" cy="247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04" name="" descr=""/>
              <p:cNvPicPr/>
              <p:nvPr/>
            </p:nvPicPr>
            <p:blipFill>
              <a:blip r:embed="rId67"/>
              <a:stretch/>
            </p:blipFill>
            <p:spPr>
              <a:xfrm>
                <a:off x="5600880" y="4938840"/>
                <a:ext cx="199800" cy="2473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805" name=""/>
            <p:cNvSpPr/>
            <p:nvPr/>
          </p:nvSpPr>
          <p:spPr>
            <a:xfrm>
              <a:off x="6029640" y="4894200"/>
              <a:ext cx="366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יתנה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6105960" y="5027760"/>
              <a:ext cx="13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ז-י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7" name=""/>
          <p:cNvGrpSpPr/>
          <p:nvPr/>
        </p:nvGrpSpPr>
        <p:grpSpPr>
          <a:xfrm>
            <a:off x="7270200" y="5270400"/>
            <a:ext cx="968400" cy="545400"/>
            <a:chOff x="7270200" y="5270400"/>
            <a:chExt cx="968400" cy="545400"/>
          </a:xfrm>
        </p:grpSpPr>
        <p:sp>
          <p:nvSpPr>
            <p:cNvPr id="808" name=""/>
            <p:cNvSpPr/>
            <p:nvPr/>
          </p:nvSpPr>
          <p:spPr>
            <a:xfrm>
              <a:off x="7270200" y="5270400"/>
              <a:ext cx="96840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קריאה כתיבה </a:t>
              </a:r>
              <a:r>
                <a:rPr b="1" lang="en-US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3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7877160" y="5416200"/>
              <a:ext cx="268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תמר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7738200" y="5587920"/>
              <a:ext cx="400320" cy="22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-ב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11" name="girl" descr=""/>
            <p:cNvPicPr/>
            <p:nvPr/>
          </p:nvPicPr>
          <p:blipFill>
            <a:blip r:embed="rId68"/>
            <a:stretch/>
          </p:blipFill>
          <p:spPr>
            <a:xfrm>
              <a:off x="7458120" y="5392440"/>
              <a:ext cx="341280" cy="420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12" name=""/>
          <p:cNvGrpSpPr/>
          <p:nvPr/>
        </p:nvGrpSpPr>
        <p:grpSpPr>
          <a:xfrm>
            <a:off x="6338880" y="5240160"/>
            <a:ext cx="797040" cy="578160"/>
            <a:chOff x="6338880" y="5240160"/>
            <a:chExt cx="797040" cy="578160"/>
          </a:xfrm>
        </p:grpSpPr>
        <p:sp>
          <p:nvSpPr>
            <p:cNvPr id="813" name=""/>
            <p:cNvSpPr/>
            <p:nvPr/>
          </p:nvSpPr>
          <p:spPr>
            <a:xfrm>
              <a:off x="6576480" y="5240160"/>
              <a:ext cx="556920" cy="40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מפגשים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על ארץ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ישראל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6608520" y="5676840"/>
              <a:ext cx="195840" cy="11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ג-ה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6843960" y="5629320"/>
              <a:ext cx="291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הוד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16" name="images" descr=""/>
            <p:cNvPicPr/>
            <p:nvPr/>
          </p:nvPicPr>
          <p:blipFill>
            <a:blip r:embed="rId69"/>
            <a:stretch/>
          </p:blipFill>
          <p:spPr>
            <a:xfrm>
              <a:off x="6338880" y="5249880"/>
              <a:ext cx="284040" cy="568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17" name=""/>
          <p:cNvGrpSpPr/>
          <p:nvPr/>
        </p:nvGrpSpPr>
        <p:grpSpPr>
          <a:xfrm>
            <a:off x="3011400" y="1322280"/>
            <a:ext cx="785520" cy="528840"/>
            <a:chOff x="3011400" y="1322280"/>
            <a:chExt cx="785520" cy="528840"/>
          </a:xfrm>
        </p:grpSpPr>
        <p:pic>
          <p:nvPicPr>
            <p:cNvPr id="818" name="Professor_new_md_CLR" descr=""/>
            <p:cNvPicPr/>
            <p:nvPr/>
          </p:nvPicPr>
          <p:blipFill>
            <a:blip r:embed="rId70"/>
            <a:stretch/>
          </p:blipFill>
          <p:spPr>
            <a:xfrm>
              <a:off x="3011400" y="1322280"/>
              <a:ext cx="399960" cy="39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9" name=""/>
            <p:cNvSpPr/>
            <p:nvPr/>
          </p:nvSpPr>
          <p:spPr>
            <a:xfrm>
              <a:off x="3190680" y="1351080"/>
              <a:ext cx="54936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אקדמיה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3440520" y="1444680"/>
              <a:ext cx="13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ו-ז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3114720" y="1538280"/>
              <a:ext cx="68220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הקריה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האקדמית)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2" name=""/>
          <p:cNvGrpSpPr/>
          <p:nvPr/>
        </p:nvGrpSpPr>
        <p:grpSpPr>
          <a:xfrm>
            <a:off x="4627440" y="863640"/>
            <a:ext cx="727920" cy="734400"/>
            <a:chOff x="4627440" y="863640"/>
            <a:chExt cx="727920" cy="734400"/>
          </a:xfrm>
        </p:grpSpPr>
        <p:pic>
          <p:nvPicPr>
            <p:cNvPr id="823" name="mushroom_house_sm_CLR" descr=""/>
            <p:cNvPicPr/>
            <p:nvPr/>
          </p:nvPicPr>
          <p:blipFill>
            <a:blip r:embed="rId71"/>
            <a:stretch/>
          </p:blipFill>
          <p:spPr>
            <a:xfrm>
              <a:off x="4740120" y="895320"/>
              <a:ext cx="514440" cy="5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4" name=""/>
            <p:cNvSpPr/>
            <p:nvPr/>
          </p:nvSpPr>
          <p:spPr>
            <a:xfrm>
              <a:off x="4711320" y="1366920"/>
              <a:ext cx="6440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lang="hi-IN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בית א-ב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4627440" y="863640"/>
              <a:ext cx="67788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מפגש בית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6" name=""/>
          <p:cNvGrpSpPr/>
          <p:nvPr/>
        </p:nvGrpSpPr>
        <p:grpSpPr>
          <a:xfrm>
            <a:off x="3989520" y="892080"/>
            <a:ext cx="677880" cy="705600"/>
            <a:chOff x="3989520" y="892080"/>
            <a:chExt cx="677880" cy="705600"/>
          </a:xfrm>
        </p:grpSpPr>
        <p:pic>
          <p:nvPicPr>
            <p:cNvPr id="827" name="mushroom_house_sm_CLR" descr=""/>
            <p:cNvPicPr/>
            <p:nvPr/>
          </p:nvPicPr>
          <p:blipFill>
            <a:blip r:embed="rId72"/>
            <a:stretch/>
          </p:blipFill>
          <p:spPr>
            <a:xfrm>
              <a:off x="4044960" y="894960"/>
              <a:ext cx="514440" cy="5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8" name=""/>
            <p:cNvSpPr/>
            <p:nvPr/>
          </p:nvSpPr>
          <p:spPr>
            <a:xfrm>
              <a:off x="4018680" y="1366560"/>
              <a:ext cx="6256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lang="hi-IN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בית ג-ה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3989520" y="892080"/>
              <a:ext cx="677880" cy="10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מפגש בית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0" name=""/>
          <p:cNvGrpSpPr/>
          <p:nvPr/>
        </p:nvGrpSpPr>
        <p:grpSpPr>
          <a:xfrm>
            <a:off x="4784760" y="2251080"/>
            <a:ext cx="731520" cy="520200"/>
            <a:chOff x="4784760" y="2251080"/>
            <a:chExt cx="731520" cy="520200"/>
          </a:xfrm>
        </p:grpSpPr>
        <p:sp>
          <p:nvSpPr>
            <p:cNvPr id="831" name=""/>
            <p:cNvSpPr/>
            <p:nvPr/>
          </p:nvSpPr>
          <p:spPr>
            <a:xfrm>
              <a:off x="5070600" y="2251080"/>
              <a:ext cx="44568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כתיבה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לבמה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22160" y="2637000"/>
              <a:ext cx="18216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ה-ז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314320" y="2487600"/>
              <a:ext cx="139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שי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34" name="shakespeare_writing_sm_CLR" descr=""/>
            <p:cNvPicPr/>
            <p:nvPr/>
          </p:nvPicPr>
          <p:blipFill>
            <a:blip r:embed="rId73"/>
            <a:stretch/>
          </p:blipFill>
          <p:spPr>
            <a:xfrm>
              <a:off x="4784760" y="2279520"/>
              <a:ext cx="487080" cy="487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35" name=""/>
          <p:cNvGrpSpPr/>
          <p:nvPr/>
        </p:nvGrpSpPr>
        <p:grpSpPr>
          <a:xfrm>
            <a:off x="4713120" y="4255920"/>
            <a:ext cx="776160" cy="593640"/>
            <a:chOff x="4713120" y="4255920"/>
            <a:chExt cx="776160" cy="593640"/>
          </a:xfrm>
        </p:grpSpPr>
        <p:sp>
          <p:nvSpPr>
            <p:cNvPr id="836" name=""/>
            <p:cNvSpPr/>
            <p:nvPr/>
          </p:nvSpPr>
          <p:spPr>
            <a:xfrm>
              <a:off x="5207040" y="4616280"/>
              <a:ext cx="22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-ב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4884480" y="4286160"/>
              <a:ext cx="604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חשבון </a:t>
              </a:r>
              <a:r>
                <a:rPr b="1" lang="en-US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206680" y="4479840"/>
              <a:ext cx="20340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רוני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39" name="girl_holding_123_ty_CLR" descr=""/>
            <p:cNvPicPr/>
            <p:nvPr/>
          </p:nvPicPr>
          <p:blipFill>
            <a:blip r:embed="rId74"/>
            <a:stretch/>
          </p:blipFill>
          <p:spPr>
            <a:xfrm>
              <a:off x="4713120" y="4255920"/>
              <a:ext cx="593640" cy="593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40" name=""/>
          <p:cNvGrpSpPr/>
          <p:nvPr/>
        </p:nvGrpSpPr>
        <p:grpSpPr>
          <a:xfrm>
            <a:off x="3443400" y="4729320"/>
            <a:ext cx="1047960" cy="522000"/>
            <a:chOff x="3443400" y="4729320"/>
            <a:chExt cx="1047960" cy="522000"/>
          </a:xfrm>
        </p:grpSpPr>
        <p:sp>
          <p:nvSpPr>
            <p:cNvPr id="841" name=""/>
            <p:cNvSpPr/>
            <p:nvPr/>
          </p:nvSpPr>
          <p:spPr>
            <a:xfrm>
              <a:off x="3951000" y="5054760"/>
              <a:ext cx="19584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ג-ה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3917160" y="4869000"/>
              <a:ext cx="230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רועי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766680" y="4729320"/>
              <a:ext cx="7246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סיפורים פה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44" name="english_teacher_magic_book_ride_sm_CLR" descr=""/>
            <p:cNvPicPr/>
            <p:nvPr/>
          </p:nvPicPr>
          <p:blipFill>
            <a:blip r:embed="rId75"/>
            <a:stretch/>
          </p:blipFill>
          <p:spPr>
            <a:xfrm>
              <a:off x="3443400" y="4786200"/>
              <a:ext cx="581040" cy="465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45" name=""/>
          <p:cNvGrpSpPr/>
          <p:nvPr/>
        </p:nvGrpSpPr>
        <p:grpSpPr>
          <a:xfrm>
            <a:off x="7086600" y="4838760"/>
            <a:ext cx="1084680" cy="447480"/>
            <a:chOff x="7086600" y="4838760"/>
            <a:chExt cx="1084680" cy="447480"/>
          </a:xfrm>
        </p:grpSpPr>
        <p:pic>
          <p:nvPicPr>
            <p:cNvPr id="846" name="roll_around_rim_sm_CLR" descr=""/>
            <p:cNvPicPr/>
            <p:nvPr/>
          </p:nvPicPr>
          <p:blipFill>
            <a:blip r:embed="rId76"/>
            <a:stretch/>
          </p:blipFill>
          <p:spPr>
            <a:xfrm>
              <a:off x="7086600" y="4838760"/>
              <a:ext cx="536400" cy="44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7" name=""/>
            <p:cNvSpPr/>
            <p:nvPr/>
          </p:nvSpPr>
          <p:spPr>
            <a:xfrm>
              <a:off x="7747200" y="5045040"/>
              <a:ext cx="172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-י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408800" y="4876560"/>
              <a:ext cx="60480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כדורסל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7565400" y="4975200"/>
              <a:ext cx="60588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סף ויונתן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0" name=""/>
          <p:cNvGrpSpPr/>
          <p:nvPr/>
        </p:nvGrpSpPr>
        <p:grpSpPr>
          <a:xfrm>
            <a:off x="7086600" y="5715000"/>
            <a:ext cx="1104120" cy="447840"/>
            <a:chOff x="7086600" y="5715000"/>
            <a:chExt cx="1104120" cy="447840"/>
          </a:xfrm>
        </p:grpSpPr>
        <p:pic>
          <p:nvPicPr>
            <p:cNvPr id="851" name="roll_around_rim_sm_CLR" descr=""/>
            <p:cNvPicPr/>
            <p:nvPr/>
          </p:nvPicPr>
          <p:blipFill>
            <a:blip r:embed="rId77"/>
            <a:stretch/>
          </p:blipFill>
          <p:spPr>
            <a:xfrm>
              <a:off x="7086600" y="5715000"/>
              <a:ext cx="536400" cy="44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2" name=""/>
            <p:cNvSpPr/>
            <p:nvPr/>
          </p:nvSpPr>
          <p:spPr>
            <a:xfrm>
              <a:off x="7766280" y="5978520"/>
              <a:ext cx="172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-י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7427880" y="5810400"/>
              <a:ext cx="60480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כדורסל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7584840" y="5908680"/>
              <a:ext cx="60588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סף ויונתן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5" name=""/>
          <p:cNvGrpSpPr/>
          <p:nvPr/>
        </p:nvGrpSpPr>
        <p:grpSpPr>
          <a:xfrm>
            <a:off x="7405560" y="3876840"/>
            <a:ext cx="786960" cy="399960"/>
            <a:chOff x="7405560" y="3876840"/>
            <a:chExt cx="786960" cy="399960"/>
          </a:xfrm>
        </p:grpSpPr>
        <p:sp>
          <p:nvSpPr>
            <p:cNvPr id="856" name=""/>
            <p:cNvSpPr/>
            <p:nvPr/>
          </p:nvSpPr>
          <p:spPr>
            <a:xfrm>
              <a:off x="7695000" y="4137120"/>
              <a:ext cx="13032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ז-י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7912440" y="4094280"/>
              <a:ext cx="2581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הדס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7606440" y="3888000"/>
              <a:ext cx="58608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מדברים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על החיים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59" name="mh1l_b" descr=""/>
            <p:cNvPicPr/>
            <p:nvPr/>
          </p:nvPicPr>
          <p:blipFill>
            <a:blip r:embed="rId78"/>
            <a:stretch/>
          </p:blipFill>
          <p:spPr>
            <a:xfrm>
              <a:off x="7405560" y="3876840"/>
              <a:ext cx="245880" cy="399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60" name=""/>
          <p:cNvSpPr/>
          <p:nvPr/>
        </p:nvSpPr>
        <p:spPr>
          <a:xfrm>
            <a:off x="8182080" y="3828960"/>
            <a:ext cx="771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8182080" y="3838680"/>
            <a:ext cx="0" cy="409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6T13:36:17Z</dcterms:created>
  <dc:creator>--</dc:creator>
  <dc:description/>
  <dc:language>en-US</dc:language>
  <cp:lastModifiedBy> -</cp:lastModifiedBy>
  <dcterms:modified xsi:type="dcterms:W3CDTF">2007-04-28T06:42:04Z</dcterms:modified>
  <cp:revision>875</cp:revision>
  <dc:subject/>
  <dc:title>מצגת של PowerPoint</dc:title>
</cp:coreProperties>
</file>