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61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2.wmf" ContentType="image/x-wmf"/>
  <Override PartName="/ppt/media/image65.png" ContentType="image/png"/>
  <Override PartName="/ppt/media/image67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8.png" ContentType="image/png"/>
  <Override PartName="/ppt/media/image25.wmf" ContentType="image/x-wmf"/>
  <Override PartName="/ppt/media/image4.wmf" ContentType="image/x-wmf"/>
  <Override PartName="/ppt/media/image16.wmf" ContentType="image/x-wmf"/>
  <Override PartName="/ppt/media/image70.png" ContentType="image/png"/>
  <Override PartName="/ppt/media/image31.wmf" ContentType="image/x-wmf"/>
  <Override PartName="/ppt/media/image14.wmf" ContentType="image/x-wmf"/>
  <Override PartName="/ppt/media/image60.wmf" ContentType="image/x-wmf"/>
  <Override PartName="/ppt/media/image66.png" ContentType="image/png"/>
  <Override PartName="/ppt/media/image23.wmf" ContentType="image/x-wmf"/>
  <Override PartName="/ppt/media/image2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2.wmf" ContentType="image/x-wmf"/>
  <Override PartName="/ppt/media/image40.wmf" ContentType="image/x-wmf"/>
  <Override PartName="/ppt/media/image62.jpeg" ContentType="image/jpeg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A4F-7F12-4B4F-8C7B-A94EFC15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A6B-6502-4FBA-A621-C59F173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808-7696-4F1D-B295-C3AB9E80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9CE-2259-43E7-B1D9-D9E4AD98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EB6-3B1E-43F3-8EF6-874620F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0D8-5609-4162-A0FB-EC8654D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554-FFDF-4271-BB7D-E9915C80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AE5-468A-4393-A0BD-F36F990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00E-7394-46FB-8DEE-F2D0633C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BC4-BF43-4740-AE83-8C9FDF4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717-ED15-4F13-A1FC-D3ABFAA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44F-000B-4E5F-A57F-3286D7C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364-BFE3-4FFD-BBA0-C50093936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6.wmf"/><Relationship Id="rId17" Type="http://schemas.openxmlformats.org/officeDocument/2006/relationships/image" Target="../media/image14.wmf"/><Relationship Id="rId18" Type="http://schemas.openxmlformats.org/officeDocument/2006/relationships/image" Target="../media/image15.wmf"/><Relationship Id="rId19" Type="http://schemas.openxmlformats.org/officeDocument/2006/relationships/image" Target="../media/image16.wmf"/><Relationship Id="rId20" Type="http://schemas.openxmlformats.org/officeDocument/2006/relationships/image" Target="../media/image17.wmf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18.wmf"/><Relationship Id="rId24" Type="http://schemas.openxmlformats.org/officeDocument/2006/relationships/image" Target="../media/image19.wmf"/><Relationship Id="rId25" Type="http://schemas.openxmlformats.org/officeDocument/2006/relationships/image" Target="../media/image20.wmf"/><Relationship Id="rId26" Type="http://schemas.openxmlformats.org/officeDocument/2006/relationships/image" Target="../media/image21.wmf"/><Relationship Id="rId27" Type="http://schemas.openxmlformats.org/officeDocument/2006/relationships/image" Target="../media/image22.wmf"/><Relationship Id="rId28" Type="http://schemas.openxmlformats.org/officeDocument/2006/relationships/image" Target="../media/image23.wmf"/><Relationship Id="rId29" Type="http://schemas.openxmlformats.org/officeDocument/2006/relationships/image" Target="../media/image24.wmf"/><Relationship Id="rId30" Type="http://schemas.openxmlformats.org/officeDocument/2006/relationships/image" Target="../media/image25.wmf"/><Relationship Id="rId31" Type="http://schemas.openxmlformats.org/officeDocument/2006/relationships/image" Target="../media/image26.wmf"/><Relationship Id="rId32" Type="http://schemas.openxmlformats.org/officeDocument/2006/relationships/image" Target="../media/image6.wmf"/><Relationship Id="rId33" Type="http://schemas.openxmlformats.org/officeDocument/2006/relationships/image" Target="../media/image27.wmf"/><Relationship Id="rId34" Type="http://schemas.openxmlformats.org/officeDocument/2006/relationships/image" Target="../media/image28.wmf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29.wmf"/><Relationship Id="rId38" Type="http://schemas.openxmlformats.org/officeDocument/2006/relationships/image" Target="../media/image30.wmf"/><Relationship Id="rId39" Type="http://schemas.openxmlformats.org/officeDocument/2006/relationships/image" Target="../media/image31.wmf"/><Relationship Id="rId40" Type="http://schemas.openxmlformats.org/officeDocument/2006/relationships/image" Target="../media/image32.wmf"/><Relationship Id="rId41" Type="http://schemas.openxmlformats.org/officeDocument/2006/relationships/image" Target="../media/image33.wmf"/><Relationship Id="rId42" Type="http://schemas.openxmlformats.org/officeDocument/2006/relationships/image" Target="../media/image34.wmf"/><Relationship Id="rId43" Type="http://schemas.openxmlformats.org/officeDocument/2006/relationships/image" Target="../media/image35.wmf"/><Relationship Id="rId44" Type="http://schemas.openxmlformats.org/officeDocument/2006/relationships/image" Target="../media/image36.wmf"/><Relationship Id="rId45" Type="http://schemas.openxmlformats.org/officeDocument/2006/relationships/image" Target="../media/image37.wmf"/><Relationship Id="rId46" Type="http://schemas.openxmlformats.org/officeDocument/2006/relationships/image" Target="../media/image6.wmf"/><Relationship Id="rId47" Type="http://schemas.openxmlformats.org/officeDocument/2006/relationships/image" Target="../media/image38.wmf"/><Relationship Id="rId48" Type="http://schemas.openxmlformats.org/officeDocument/2006/relationships/image" Target="../media/image39.wmf"/><Relationship Id="rId49" Type="http://schemas.openxmlformats.org/officeDocument/2006/relationships/image" Target="../media/image40.wmf"/><Relationship Id="rId50" Type="http://schemas.openxmlformats.org/officeDocument/2006/relationships/image" Target="../media/image41.wmf"/><Relationship Id="rId51" Type="http://schemas.openxmlformats.org/officeDocument/2006/relationships/image" Target="../media/image42.wmf"/><Relationship Id="rId52" Type="http://schemas.openxmlformats.org/officeDocument/2006/relationships/image" Target="../media/image43.wmf"/><Relationship Id="rId53" Type="http://schemas.openxmlformats.org/officeDocument/2006/relationships/image" Target="../media/image44.wmf"/><Relationship Id="rId54" Type="http://schemas.openxmlformats.org/officeDocument/2006/relationships/image" Target="../media/image45.wmf"/><Relationship Id="rId55" Type="http://schemas.openxmlformats.org/officeDocument/2006/relationships/image" Target="../media/image46.wmf"/><Relationship Id="rId56" Type="http://schemas.openxmlformats.org/officeDocument/2006/relationships/image" Target="../media/image47.wmf"/><Relationship Id="rId57" Type="http://schemas.openxmlformats.org/officeDocument/2006/relationships/image" Target="../media/image42.wmf"/><Relationship Id="rId58" Type="http://schemas.openxmlformats.org/officeDocument/2006/relationships/image" Target="../media/image43.wmf"/><Relationship Id="rId59" Type="http://schemas.openxmlformats.org/officeDocument/2006/relationships/image" Target="../media/image48.wmf"/><Relationship Id="rId60" Type="http://schemas.openxmlformats.org/officeDocument/2006/relationships/image" Target="../media/image49.wmf"/><Relationship Id="rId61" Type="http://schemas.openxmlformats.org/officeDocument/2006/relationships/image" Target="../media/image50.wmf"/><Relationship Id="rId62" Type="http://schemas.openxmlformats.org/officeDocument/2006/relationships/image" Target="../media/image51.wmf"/><Relationship Id="rId63" Type="http://schemas.openxmlformats.org/officeDocument/2006/relationships/image" Target="../media/image52.wmf"/><Relationship Id="rId64" Type="http://schemas.openxmlformats.org/officeDocument/2006/relationships/image" Target="../media/image53.wmf"/><Relationship Id="rId65" Type="http://schemas.openxmlformats.org/officeDocument/2006/relationships/image" Target="../media/image54.wmf"/><Relationship Id="rId66" Type="http://schemas.openxmlformats.org/officeDocument/2006/relationships/image" Target="../media/image55.wmf"/><Relationship Id="rId67" Type="http://schemas.openxmlformats.org/officeDocument/2006/relationships/image" Target="../media/image56.wmf"/><Relationship Id="rId68" Type="http://schemas.openxmlformats.org/officeDocument/2006/relationships/image" Target="../media/image57.wmf"/><Relationship Id="rId69" Type="http://schemas.openxmlformats.org/officeDocument/2006/relationships/image" Target="../media/image58.wmf"/><Relationship Id="rId70" Type="http://schemas.openxmlformats.org/officeDocument/2006/relationships/image" Target="../media/image59.wmf"/><Relationship Id="rId71" Type="http://schemas.openxmlformats.org/officeDocument/2006/relationships/image" Target="../media/image60.wmf"/><Relationship Id="rId72" Type="http://schemas.openxmlformats.org/officeDocument/2006/relationships/image" Target="../media/image61.wmf"/><Relationship Id="rId73" Type="http://schemas.openxmlformats.org/officeDocument/2006/relationships/image" Target="../media/image62.jpeg"/><Relationship Id="rId74" Type="http://schemas.openxmlformats.org/officeDocument/2006/relationships/image" Target="../media/image62.jpeg"/><Relationship Id="rId75" Type="http://schemas.openxmlformats.org/officeDocument/2006/relationships/image" Target="../media/image1.png"/><Relationship Id="rId76" Type="http://schemas.openxmlformats.org/officeDocument/2006/relationships/image" Target="../media/image2.png"/><Relationship Id="rId77" Type="http://schemas.openxmlformats.org/officeDocument/2006/relationships/image" Target="../media/image40.wmf"/><Relationship Id="rId78" Type="http://schemas.openxmlformats.org/officeDocument/2006/relationships/image" Target="../media/image41.wmf"/><Relationship Id="rId79" Type="http://schemas.openxmlformats.org/officeDocument/2006/relationships/image" Target="../media/image18.wmf"/><Relationship Id="rId80" Type="http://schemas.openxmlformats.org/officeDocument/2006/relationships/image" Target="../media/image19.wmf"/><Relationship Id="rId81" Type="http://schemas.openxmlformats.org/officeDocument/2006/relationships/image" Target="../media/image63.wmf"/><Relationship Id="rId82" Type="http://schemas.openxmlformats.org/officeDocument/2006/relationships/image" Target="../media/image64.wmf"/><Relationship Id="rId83" Type="http://schemas.openxmlformats.org/officeDocument/2006/relationships/image" Target="../media/image26.wmf"/><Relationship Id="rId84" Type="http://schemas.openxmlformats.org/officeDocument/2006/relationships/image" Target="../media/image6.wmf"/><Relationship Id="rId85" Type="http://schemas.openxmlformats.org/officeDocument/2006/relationships/image" Target="../media/image27.wmf"/><Relationship Id="rId86" Type="http://schemas.openxmlformats.org/officeDocument/2006/relationships/image" Target="../media/image28.wmf"/><Relationship Id="rId87" Type="http://schemas.openxmlformats.org/officeDocument/2006/relationships/image" Target="../media/image1.png"/><Relationship Id="rId88" Type="http://schemas.openxmlformats.org/officeDocument/2006/relationships/image" Target="../media/image2.png"/><Relationship Id="rId89" Type="http://schemas.openxmlformats.org/officeDocument/2006/relationships/image" Target="../media/image46.wmf"/><Relationship Id="rId90" Type="http://schemas.openxmlformats.org/officeDocument/2006/relationships/image" Target="../media/image47.wmf"/><Relationship Id="rId91" Type="http://schemas.openxmlformats.org/officeDocument/2006/relationships/image" Target="../media/image54.wmf"/><Relationship Id="rId92" Type="http://schemas.openxmlformats.org/officeDocument/2006/relationships/image" Target="../media/image55.wmf"/><Relationship Id="rId93" Type="http://schemas.openxmlformats.org/officeDocument/2006/relationships/image" Target="../media/image56.wmf"/><Relationship Id="rId94" Type="http://schemas.openxmlformats.org/officeDocument/2006/relationships/image" Target="../media/image57.wmf"/><Relationship Id="rId95" Type="http://schemas.openxmlformats.org/officeDocument/2006/relationships/image" Target="../media/image22.wmf"/><Relationship Id="rId96" Type="http://schemas.openxmlformats.org/officeDocument/2006/relationships/image" Target="../media/image23.wmf"/><Relationship Id="rId97" Type="http://schemas.openxmlformats.org/officeDocument/2006/relationships/image" Target="../media/image24.wmf"/><Relationship Id="rId98" Type="http://schemas.openxmlformats.org/officeDocument/2006/relationships/image" Target="../media/image25.wmf"/><Relationship Id="rId99" Type="http://schemas.openxmlformats.org/officeDocument/2006/relationships/image" Target="../media/image26.wmf"/><Relationship Id="rId100" Type="http://schemas.openxmlformats.org/officeDocument/2006/relationships/image" Target="../media/image6.wmf"/><Relationship Id="rId101" Type="http://schemas.openxmlformats.org/officeDocument/2006/relationships/image" Target="../media/image27.wmf"/><Relationship Id="rId102" Type="http://schemas.openxmlformats.org/officeDocument/2006/relationships/image" Target="../media/image28.wmf"/><Relationship Id="rId103" Type="http://schemas.openxmlformats.org/officeDocument/2006/relationships/image" Target="../media/image65.png"/><Relationship Id="rId104" Type="http://schemas.openxmlformats.org/officeDocument/2006/relationships/image" Target="../media/image66.png"/><Relationship Id="rId105" Type="http://schemas.openxmlformats.org/officeDocument/2006/relationships/image" Target="../media/image50.wmf"/><Relationship Id="rId106" Type="http://schemas.openxmlformats.org/officeDocument/2006/relationships/image" Target="../media/image51.wmf"/><Relationship Id="rId107" Type="http://schemas.openxmlformats.org/officeDocument/2006/relationships/image" Target="../media/image58.wmf"/><Relationship Id="rId108" Type="http://schemas.openxmlformats.org/officeDocument/2006/relationships/image" Target="../media/image59.wmf"/><Relationship Id="rId109" Type="http://schemas.openxmlformats.org/officeDocument/2006/relationships/image" Target="../media/image50.wmf"/><Relationship Id="rId110" Type="http://schemas.openxmlformats.org/officeDocument/2006/relationships/image" Target="../media/image51.wmf"/><Relationship Id="rId111" Type="http://schemas.openxmlformats.org/officeDocument/2006/relationships/image" Target="../media/image67.jpeg"/><Relationship Id="rId112" Type="http://schemas.openxmlformats.org/officeDocument/2006/relationships/image" Target="../media/image68.png"/><Relationship Id="rId113" Type="http://schemas.openxmlformats.org/officeDocument/2006/relationships/image" Target="../media/image69.png"/><Relationship Id="rId114" Type="http://schemas.openxmlformats.org/officeDocument/2006/relationships/image" Target="../media/image70.png"/><Relationship Id="rId115" Type="http://schemas.openxmlformats.org/officeDocument/2006/relationships/image" Target="../media/image70.png"/><Relationship Id="rId1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1120"/>
            <a:ext cx="346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ג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6200" y="271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0680" y="492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616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164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6248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9480" y="49212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492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128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4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6280" y="444600"/>
            <a:ext cx="860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3160" y="444600"/>
            <a:ext cx="855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8880" y="444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05000" y="444600"/>
            <a:ext cx="858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3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70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34080" y="444600"/>
            <a:ext cx="8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8880" y="449280"/>
            <a:ext cx="612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888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96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396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760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7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58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58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42960" y="785880"/>
            <a:ext cx="585720" cy="911880"/>
            <a:chOff x="1542960" y="785880"/>
            <a:chExt cx="585720" cy="911880"/>
          </a:xfrm>
        </p:grpSpPr>
        <p:sp>
          <p:nvSpPr>
            <p:cNvPr id="75" name=""/>
            <p:cNvSpPr/>
            <p:nvPr/>
          </p:nvSpPr>
          <p:spPr>
            <a:xfrm>
              <a:off x="1641960" y="7858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838160" y="1014480"/>
              <a:ext cx="28728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542960" y="1014480"/>
              <a:ext cx="295200" cy="3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564200" y="135612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10000" y="15300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343240" y="747720"/>
            <a:ext cx="640800" cy="1121760"/>
            <a:chOff x="2343240" y="747720"/>
            <a:chExt cx="640800" cy="1121760"/>
          </a:xfrm>
        </p:grpSpPr>
        <p:sp>
          <p:nvSpPr>
            <p:cNvPr id="81" name=""/>
            <p:cNvSpPr/>
            <p:nvPr/>
          </p:nvSpPr>
          <p:spPr>
            <a:xfrm>
              <a:off x="2343240" y="74772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שוע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29280" y="928080"/>
              <a:ext cx="42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כ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519280" y="1148040"/>
              <a:ext cx="297000" cy="387720"/>
              <a:chOff x="2519280" y="1148040"/>
              <a:chExt cx="297000" cy="387720"/>
            </a:xfrm>
          </p:grpSpPr>
          <p:pic>
            <p:nvPicPr>
              <p:cNvPr id="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9280" y="1148040"/>
                <a:ext cx="297000" cy="3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9280" y="1148040"/>
                <a:ext cx="297000" cy="3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2365920" y="170172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48800" y="1536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02800" y="1187280"/>
            <a:ext cx="11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60880" y="755640"/>
            <a:ext cx="507600" cy="911880"/>
            <a:chOff x="4160880" y="755640"/>
            <a:chExt cx="507600" cy="911880"/>
          </a:xfrm>
        </p:grpSpPr>
        <p:sp>
          <p:nvSpPr>
            <p:cNvPr id="90" name=""/>
            <p:cNvSpPr/>
            <p:nvPr/>
          </p:nvSpPr>
          <p:spPr>
            <a:xfrm>
              <a:off x="4181040" y="7556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476600" y="1025280"/>
              <a:ext cx="191880" cy="226440"/>
              <a:chOff x="4476600" y="1025280"/>
              <a:chExt cx="191880" cy="226440"/>
            </a:xfrm>
          </p:grpSpPr>
          <p:pic>
            <p:nvPicPr>
              <p:cNvPr id="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76600" y="1025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76600" y="1025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"/>
            <p:cNvGrpSpPr/>
            <p:nvPr/>
          </p:nvGrpSpPr>
          <p:grpSpPr>
            <a:xfrm>
              <a:off x="4160880" y="1004760"/>
              <a:ext cx="201600" cy="246960"/>
              <a:chOff x="4160880" y="1004760"/>
              <a:chExt cx="201600" cy="246960"/>
            </a:xfrm>
          </p:grpSpPr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60880" y="100476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60880" y="100476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4195800" y="132444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7640" y="1499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40280" y="785880"/>
            <a:ext cx="585720" cy="994680"/>
            <a:chOff x="4940280" y="785880"/>
            <a:chExt cx="585720" cy="994680"/>
          </a:xfrm>
        </p:grpSpPr>
        <p:sp>
          <p:nvSpPr>
            <p:cNvPr id="100" name=""/>
            <p:cNvSpPr/>
            <p:nvPr/>
          </p:nvSpPr>
          <p:spPr>
            <a:xfrm>
              <a:off x="5009040" y="7858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5235480" y="1076040"/>
              <a:ext cx="287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4940280" y="1076040"/>
              <a:ext cx="29520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61520" y="143928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5480" y="16128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4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6280" y="723960"/>
            <a:ext cx="860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6280" y="72396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3160" y="723960"/>
            <a:ext cx="855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43160" y="72396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5000" y="723960"/>
            <a:ext cx="858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5000" y="72396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70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70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34080" y="723960"/>
            <a:ext cx="801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72396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5800" y="723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0480" y="723960"/>
            <a:ext cx="874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0480" y="723960"/>
            <a:ext cx="87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98880" y="73008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39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760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27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58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181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18160" y="73008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7600" y="1755720"/>
            <a:ext cx="618120" cy="1042200"/>
            <a:chOff x="597600" y="1755720"/>
            <a:chExt cx="618120" cy="1042200"/>
          </a:xfrm>
        </p:grpSpPr>
        <p:sp>
          <p:nvSpPr>
            <p:cNvPr id="131" name=""/>
            <p:cNvSpPr/>
            <p:nvPr/>
          </p:nvSpPr>
          <p:spPr>
            <a:xfrm>
              <a:off x="659160" y="175572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720" y="1891440"/>
              <a:ext cx="47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וי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39800" y="2104200"/>
              <a:ext cx="324000" cy="391320"/>
              <a:chOff x="739800" y="2104200"/>
              <a:chExt cx="324000" cy="3913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9800" y="2104200"/>
                <a:ext cx="324000" cy="39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39800" y="2104200"/>
                <a:ext cx="324000" cy="39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597600" y="245484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6120" y="26301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550880" y="1803240"/>
            <a:ext cx="604440" cy="969120"/>
            <a:chOff x="1550880" y="1803240"/>
            <a:chExt cx="604440" cy="969120"/>
          </a:xfrm>
        </p:grpSpPr>
        <p:sp>
          <p:nvSpPr>
            <p:cNvPr id="139" name=""/>
            <p:cNvSpPr/>
            <p:nvPr/>
          </p:nvSpPr>
          <p:spPr>
            <a:xfrm>
              <a:off x="1653120" y="18032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97316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550880" y="2155680"/>
              <a:ext cx="506520" cy="272880"/>
              <a:chOff x="1550880" y="2155680"/>
              <a:chExt cx="506520" cy="2728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50880" y="2155680"/>
                <a:ext cx="506520" cy="27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50880" y="2155680"/>
                <a:ext cx="506520" cy="27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1573920" y="242928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קד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7600" y="2604600"/>
              <a:ext cx="19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267000" y="757080"/>
            <a:ext cx="509400" cy="904320"/>
            <a:chOff x="3267000" y="757080"/>
            <a:chExt cx="509400" cy="904320"/>
          </a:xfrm>
        </p:grpSpPr>
        <p:sp>
          <p:nvSpPr>
            <p:cNvPr id="147" name=""/>
            <p:cNvSpPr/>
            <p:nvPr/>
          </p:nvSpPr>
          <p:spPr>
            <a:xfrm>
              <a:off x="3353400" y="133740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2360" y="7570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583080" y="1016280"/>
              <a:ext cx="191880" cy="226080"/>
              <a:chOff x="3583080" y="1016280"/>
              <a:chExt cx="191880" cy="226080"/>
            </a:xfrm>
          </p:grpSpPr>
          <p:pic>
            <p:nvPicPr>
              <p:cNvPr id="1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83080" y="10162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83080" y="10162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3267000" y="995760"/>
              <a:ext cx="199800" cy="246600"/>
              <a:chOff x="3267000" y="995760"/>
              <a:chExt cx="199800" cy="24660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67000" y="9957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67000" y="9957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3420360" y="1493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72600" y="1938240"/>
            <a:ext cx="884520" cy="756360"/>
            <a:chOff x="3072600" y="1938240"/>
            <a:chExt cx="884520" cy="756360"/>
          </a:xfrm>
        </p:grpSpPr>
        <p:sp>
          <p:nvSpPr>
            <p:cNvPr id="157" name=""/>
            <p:cNvSpPr/>
            <p:nvPr/>
          </p:nvSpPr>
          <p:spPr>
            <a:xfrm>
              <a:off x="3072600" y="1938240"/>
              <a:ext cx="88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שועי כי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446280" y="2120040"/>
              <a:ext cx="171000" cy="277920"/>
              <a:chOff x="3446280" y="2120040"/>
              <a:chExt cx="171000" cy="2779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446280" y="2120040"/>
                <a:ext cx="171000" cy="27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446280" y="2120040"/>
                <a:ext cx="171000" cy="27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" name=""/>
            <p:cNvSpPr/>
            <p:nvPr/>
          </p:nvSpPr>
          <p:spPr>
            <a:xfrm>
              <a:off x="3193920" y="2387880"/>
              <a:ext cx="59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9040" y="252684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06600" y="3564000"/>
            <a:ext cx="581040" cy="756360"/>
            <a:chOff x="1506600" y="3564000"/>
            <a:chExt cx="581040" cy="756360"/>
          </a:xfrm>
        </p:grpSpPr>
        <p:sp>
          <p:nvSpPr>
            <p:cNvPr id="164" name=""/>
            <p:cNvSpPr/>
            <p:nvPr/>
          </p:nvSpPr>
          <p:spPr>
            <a:xfrm>
              <a:off x="1623240" y="35640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1"/>
            <a:stretch/>
          </p:blipFill>
          <p:spPr>
            <a:xfrm>
              <a:off x="1801800" y="3735360"/>
              <a:ext cx="28584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2"/>
            <a:stretch/>
          </p:blipFill>
          <p:spPr>
            <a:xfrm>
              <a:off x="1506600" y="3735360"/>
              <a:ext cx="29520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84360" y="400536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0640" y="41526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90960" y="1900080"/>
            <a:ext cx="81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שימות ח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67080" y="2182680"/>
            <a:ext cx="295560" cy="318960"/>
            <a:chOff x="4267080" y="2182680"/>
            <a:chExt cx="295560" cy="318960"/>
          </a:xfrm>
        </p:grpSpPr>
        <p:pic>
          <p:nvPicPr>
            <p:cNvPr id="171" name="" descr=""/>
            <p:cNvPicPr/>
            <p:nvPr/>
          </p:nvPicPr>
          <p:blipFill>
            <a:blip r:embed="rId23"/>
            <a:stretch/>
          </p:blipFill>
          <p:spPr>
            <a:xfrm>
              <a:off x="4267080" y="218268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4"/>
            <a:stretch/>
          </p:blipFill>
          <p:spPr>
            <a:xfrm>
              <a:off x="4267080" y="2182680"/>
              <a:ext cx="29556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4098600" y="2513160"/>
            <a:ext cx="55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כיתות ו-ח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0920" y="2687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עמי ורות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74760" y="1739880"/>
            <a:ext cx="59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803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98880" y="1803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39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2760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5800" y="1803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81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98880" y="180972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9888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39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396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2760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27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58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58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81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8160" y="180972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6040" y="2851200"/>
            <a:ext cx="43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נדס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1040" y="2992320"/>
            <a:ext cx="52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 וחשיב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11200" y="3030480"/>
            <a:ext cx="514080" cy="275760"/>
            <a:chOff x="1411200" y="3030480"/>
            <a:chExt cx="514080" cy="275760"/>
          </a:xfrm>
        </p:grpSpPr>
        <p:pic>
          <p:nvPicPr>
            <p:cNvPr id="197" name="" descr=""/>
            <p:cNvPicPr/>
            <p:nvPr/>
          </p:nvPicPr>
          <p:blipFill>
            <a:blip r:embed="rId25"/>
            <a:stretch/>
          </p:blipFill>
          <p:spPr>
            <a:xfrm>
              <a:off x="1411200" y="3030480"/>
              <a:ext cx="5140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6"/>
            <a:stretch/>
          </p:blipFill>
          <p:spPr>
            <a:xfrm>
              <a:off x="1411200" y="3030480"/>
              <a:ext cx="514080" cy="27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1530000" y="329724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מתחילי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3120" y="3400560"/>
            <a:ext cx="19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דוד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71600" y="3030480"/>
            <a:ext cx="811440" cy="777240"/>
            <a:chOff x="2271600" y="3030480"/>
            <a:chExt cx="811440" cy="777240"/>
          </a:xfrm>
        </p:grpSpPr>
        <p:sp>
          <p:nvSpPr>
            <p:cNvPr id="202" name=""/>
            <p:cNvSpPr/>
            <p:nvPr/>
          </p:nvSpPr>
          <p:spPr>
            <a:xfrm>
              <a:off x="2271600" y="30304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62840" y="3250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735280" y="3518280"/>
              <a:ext cx="266400" cy="289440"/>
              <a:chOff x="2735280" y="3518280"/>
              <a:chExt cx="266400" cy="2894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735280" y="3518280"/>
                <a:ext cx="266400" cy="28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735280" y="3518280"/>
                <a:ext cx="266400" cy="28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390760" y="3518280"/>
              <a:ext cx="268200" cy="289440"/>
              <a:chOff x="2390760" y="3518280"/>
              <a:chExt cx="268200" cy="289440"/>
            </a:xfrm>
          </p:grpSpPr>
          <p:pic>
            <p:nvPicPr>
              <p:cNvPr id="20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390760" y="3518280"/>
                <a:ext cx="268200" cy="28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390760" y="3518280"/>
                <a:ext cx="268200" cy="28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0" name=""/>
          <p:cNvGrpSpPr/>
          <p:nvPr/>
        </p:nvGrpSpPr>
        <p:grpSpPr>
          <a:xfrm>
            <a:off x="4141800" y="2882880"/>
            <a:ext cx="545040" cy="941760"/>
            <a:chOff x="4141800" y="2882880"/>
            <a:chExt cx="545040" cy="941760"/>
          </a:xfrm>
        </p:grpSpPr>
        <p:sp>
          <p:nvSpPr>
            <p:cNvPr id="211" name=""/>
            <p:cNvSpPr/>
            <p:nvPr/>
          </p:nvSpPr>
          <p:spPr>
            <a:xfrm>
              <a:off x="4237920" y="28828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457880" y="3193560"/>
              <a:ext cx="191880" cy="227520"/>
              <a:chOff x="4457880" y="3193560"/>
              <a:chExt cx="191880" cy="2275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3193560"/>
                <a:ext cx="19188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57880" y="3193560"/>
                <a:ext cx="191880" cy="22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" name=""/>
            <p:cNvGrpSpPr/>
            <p:nvPr/>
          </p:nvGrpSpPr>
          <p:grpSpPr>
            <a:xfrm>
              <a:off x="4141800" y="3195000"/>
              <a:ext cx="201600" cy="246600"/>
              <a:chOff x="4141800" y="3195000"/>
              <a:chExt cx="201600" cy="246600"/>
            </a:xfrm>
          </p:grpSpPr>
          <p:pic>
            <p:nvPicPr>
              <p:cNvPr id="21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141800" y="3195000"/>
                <a:ext cx="2016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141800" y="3195000"/>
                <a:ext cx="2016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8" name=""/>
            <p:cNvSpPr/>
            <p:nvPr/>
          </p:nvSpPr>
          <p:spPr>
            <a:xfrm>
              <a:off x="4292640" y="3483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5160" y="36568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940280" y="2954160"/>
            <a:ext cx="582480" cy="1024560"/>
            <a:chOff x="4940280" y="2954160"/>
            <a:chExt cx="582480" cy="1024560"/>
          </a:xfrm>
        </p:grpSpPr>
        <p:sp>
          <p:nvSpPr>
            <p:cNvPr id="221" name=""/>
            <p:cNvSpPr/>
            <p:nvPr/>
          </p:nvSpPr>
          <p:spPr>
            <a:xfrm>
              <a:off x="5037840" y="29541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35"/>
            <a:stretch/>
          </p:blipFill>
          <p:spPr>
            <a:xfrm>
              <a:off x="5235480" y="3267000"/>
              <a:ext cx="28728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6"/>
            <a:stretch/>
          </p:blipFill>
          <p:spPr>
            <a:xfrm>
              <a:off x="4940280" y="3267000"/>
              <a:ext cx="2952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969080" y="36183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680" y="381096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14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4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6280" y="2882880"/>
            <a:ext cx="860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6280" y="288288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43160" y="2882880"/>
            <a:ext cx="855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43160" y="288288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05000" y="2882880"/>
            <a:ext cx="858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05000" y="288288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0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0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34080" y="2882880"/>
            <a:ext cx="801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34080" y="288288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5800" y="2882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40480" y="2882880"/>
            <a:ext cx="877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0480" y="288288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98880" y="2889360"/>
            <a:ext cx="612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9888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396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396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2760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27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58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58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816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18160" y="2889360"/>
            <a:ext cx="180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40080" y="2935440"/>
            <a:ext cx="619920" cy="726120"/>
            <a:chOff x="640080" y="2935440"/>
            <a:chExt cx="619920" cy="726120"/>
          </a:xfrm>
        </p:grpSpPr>
        <p:sp>
          <p:nvSpPr>
            <p:cNvPr id="254" name=""/>
            <p:cNvSpPr/>
            <p:nvPr/>
          </p:nvSpPr>
          <p:spPr>
            <a:xfrm>
              <a:off x="757800" y="293544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89120" y="3084480"/>
              <a:ext cx="304560" cy="329400"/>
              <a:chOff x="789120" y="3084480"/>
              <a:chExt cx="304560" cy="329400"/>
            </a:xfrm>
          </p:grpSpPr>
          <p:pic>
            <p:nvPicPr>
              <p:cNvPr id="25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89120" y="308448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89120" y="308448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8" name=""/>
            <p:cNvSpPr/>
            <p:nvPr/>
          </p:nvSpPr>
          <p:spPr>
            <a:xfrm>
              <a:off x="640080" y="337536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9120" y="349380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53320" y="4478400"/>
            <a:ext cx="771480" cy="521640"/>
            <a:chOff x="553320" y="4478400"/>
            <a:chExt cx="771480" cy="521640"/>
          </a:xfrm>
        </p:grpSpPr>
        <p:sp>
          <p:nvSpPr>
            <p:cNvPr id="261" name=""/>
            <p:cNvSpPr/>
            <p:nvPr/>
          </p:nvSpPr>
          <p:spPr>
            <a:xfrm>
              <a:off x="961200" y="4478400"/>
              <a:ext cx="36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3320" y="44784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987480" y="4710240"/>
              <a:ext cx="268200" cy="289800"/>
              <a:chOff x="987480" y="4710240"/>
              <a:chExt cx="268200" cy="289800"/>
            </a:xfrm>
          </p:grpSpPr>
          <p:pic>
            <p:nvPicPr>
              <p:cNvPr id="26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987480" y="4710240"/>
                <a:ext cx="268200" cy="28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987480" y="4710240"/>
                <a:ext cx="268200" cy="289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642960" y="4710240"/>
              <a:ext cx="268200" cy="289800"/>
              <a:chOff x="642960" y="4710240"/>
              <a:chExt cx="268200" cy="289800"/>
            </a:xfrm>
          </p:grpSpPr>
          <p:pic>
            <p:nvPicPr>
              <p:cNvPr id="26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42960" y="4710240"/>
                <a:ext cx="268200" cy="28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42960" y="4710240"/>
                <a:ext cx="268200" cy="289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1376640" y="4330800"/>
            <a:ext cx="834480" cy="705600"/>
            <a:chOff x="1376640" y="4330800"/>
            <a:chExt cx="834480" cy="705600"/>
          </a:xfrm>
        </p:grpSpPr>
        <p:sp>
          <p:nvSpPr>
            <p:cNvPr id="270" name=""/>
            <p:cNvSpPr/>
            <p:nvPr/>
          </p:nvSpPr>
          <p:spPr>
            <a:xfrm>
              <a:off x="1376640" y="43308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לצות, צי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29200" y="4454280"/>
              <a:ext cx="76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ה שביניה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563840" y="4620960"/>
              <a:ext cx="361800" cy="164160"/>
              <a:chOff x="1563840" y="4620960"/>
              <a:chExt cx="361800" cy="164160"/>
            </a:xfrm>
          </p:grpSpPr>
          <p:pic>
            <p:nvPicPr>
              <p:cNvPr id="273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563840" y="4620960"/>
                <a:ext cx="361800" cy="16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563840" y="4620960"/>
                <a:ext cx="36180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"/>
            <p:cNvSpPr/>
            <p:nvPr/>
          </p:nvSpPr>
          <p:spPr>
            <a:xfrm>
              <a:off x="1483200" y="474804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0400" y="4868640"/>
              <a:ext cx="39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דם מ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67000" y="2871720"/>
            <a:ext cx="507960" cy="769320"/>
            <a:chOff x="3267000" y="2871720"/>
            <a:chExt cx="507960" cy="769320"/>
          </a:xfrm>
        </p:grpSpPr>
        <p:sp>
          <p:nvSpPr>
            <p:cNvPr id="278" name=""/>
            <p:cNvSpPr/>
            <p:nvPr/>
          </p:nvSpPr>
          <p:spPr>
            <a:xfrm>
              <a:off x="3277440" y="287172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582720" y="3069360"/>
              <a:ext cx="192240" cy="227880"/>
              <a:chOff x="3582720" y="3069360"/>
              <a:chExt cx="192240" cy="227880"/>
            </a:xfrm>
          </p:grpSpPr>
          <p:pic>
            <p:nvPicPr>
              <p:cNvPr id="28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582720" y="3069360"/>
                <a:ext cx="192240" cy="22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582720" y="3069360"/>
                <a:ext cx="192240" cy="22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"/>
            <p:cNvGrpSpPr/>
            <p:nvPr/>
          </p:nvGrpSpPr>
          <p:grpSpPr>
            <a:xfrm>
              <a:off x="3267000" y="3050280"/>
              <a:ext cx="199800" cy="246960"/>
              <a:chOff x="3267000" y="3050280"/>
              <a:chExt cx="199800" cy="246960"/>
            </a:xfrm>
          </p:grpSpPr>
          <p:pic>
            <p:nvPicPr>
              <p:cNvPr id="28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267000" y="30502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267000" y="30502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5" name=""/>
            <p:cNvSpPr/>
            <p:nvPr/>
          </p:nvSpPr>
          <p:spPr>
            <a:xfrm>
              <a:off x="3282840" y="330804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63120" y="3473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25600" y="3652920"/>
            <a:ext cx="711360" cy="829440"/>
            <a:chOff x="3225600" y="3652920"/>
            <a:chExt cx="711360" cy="829440"/>
          </a:xfrm>
        </p:grpSpPr>
        <p:sp>
          <p:nvSpPr>
            <p:cNvPr id="288" name=""/>
            <p:cNvSpPr/>
            <p:nvPr/>
          </p:nvSpPr>
          <p:spPr>
            <a:xfrm>
              <a:off x="3256560" y="365292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346560" y="3829680"/>
              <a:ext cx="371520" cy="350280"/>
              <a:chOff x="3346560" y="3829680"/>
              <a:chExt cx="371520" cy="350280"/>
            </a:xfrm>
          </p:grpSpPr>
          <p:pic>
            <p:nvPicPr>
              <p:cNvPr id="290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3346560" y="3829680"/>
                <a:ext cx="371520" cy="35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3346560" y="3829680"/>
                <a:ext cx="371520" cy="35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"/>
            <p:cNvSpPr/>
            <p:nvPr/>
          </p:nvSpPr>
          <p:spPr>
            <a:xfrm>
              <a:off x="3225600" y="417348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8560" y="431460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153600" y="4522680"/>
            <a:ext cx="771480" cy="483480"/>
            <a:chOff x="3153600" y="4522680"/>
            <a:chExt cx="771480" cy="483480"/>
          </a:xfrm>
        </p:grpSpPr>
        <p:sp>
          <p:nvSpPr>
            <p:cNvPr id="295" name=""/>
            <p:cNvSpPr/>
            <p:nvPr/>
          </p:nvSpPr>
          <p:spPr>
            <a:xfrm>
              <a:off x="3561480" y="4522680"/>
              <a:ext cx="36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53600" y="452268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587760" y="4715280"/>
              <a:ext cx="268200" cy="290880"/>
              <a:chOff x="3587760" y="4715280"/>
              <a:chExt cx="268200" cy="290880"/>
            </a:xfrm>
          </p:grpSpPr>
          <p:pic>
            <p:nvPicPr>
              <p:cNvPr id="29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87760" y="471528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3587760" y="471528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"/>
            <p:cNvGrpSpPr/>
            <p:nvPr/>
          </p:nvGrpSpPr>
          <p:grpSpPr>
            <a:xfrm>
              <a:off x="3195720" y="4704840"/>
              <a:ext cx="268200" cy="290520"/>
              <a:chOff x="3195720" y="4704840"/>
              <a:chExt cx="268200" cy="2905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3195720" y="4704840"/>
                <a:ext cx="26820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3195720" y="4704840"/>
                <a:ext cx="2682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"/>
          <p:cNvGrpSpPr/>
          <p:nvPr/>
        </p:nvGrpSpPr>
        <p:grpSpPr>
          <a:xfrm>
            <a:off x="4119480" y="4041720"/>
            <a:ext cx="576720" cy="956520"/>
            <a:chOff x="4119480" y="4041720"/>
            <a:chExt cx="576720" cy="956520"/>
          </a:xfrm>
        </p:grpSpPr>
        <p:sp>
          <p:nvSpPr>
            <p:cNvPr id="304" name=""/>
            <p:cNvSpPr/>
            <p:nvPr/>
          </p:nvSpPr>
          <p:spPr>
            <a:xfrm>
              <a:off x="4308480" y="40417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129200" y="4223880"/>
              <a:ext cx="533160" cy="430560"/>
              <a:chOff x="4129200" y="4223880"/>
              <a:chExt cx="533160" cy="430560"/>
            </a:xfrm>
          </p:grpSpPr>
          <p:pic>
            <p:nvPicPr>
              <p:cNvPr id="306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129200" y="4223880"/>
                <a:ext cx="533160" cy="43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4129200" y="4223880"/>
                <a:ext cx="533160" cy="43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"/>
            <p:cNvSpPr/>
            <p:nvPr/>
          </p:nvSpPr>
          <p:spPr>
            <a:xfrm>
              <a:off x="4119480" y="46692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32960" y="48304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792680" y="4216320"/>
            <a:ext cx="811440" cy="626400"/>
            <a:chOff x="4792680" y="4216320"/>
            <a:chExt cx="811440" cy="626400"/>
          </a:xfrm>
        </p:grpSpPr>
        <p:sp>
          <p:nvSpPr>
            <p:cNvPr id="311" name=""/>
            <p:cNvSpPr/>
            <p:nvPr/>
          </p:nvSpPr>
          <p:spPr>
            <a:xfrm>
              <a:off x="4792680" y="421632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283360" y="4551840"/>
              <a:ext cx="268200" cy="290880"/>
              <a:chOff x="5283360" y="4551840"/>
              <a:chExt cx="268200" cy="290880"/>
            </a:xfrm>
          </p:grpSpPr>
          <p:pic>
            <p:nvPicPr>
              <p:cNvPr id="313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5283360" y="455184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5283360" y="455184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4938840" y="4551840"/>
              <a:ext cx="268200" cy="290880"/>
              <a:chOff x="4938840" y="4551840"/>
              <a:chExt cx="268200" cy="290880"/>
            </a:xfrm>
          </p:grpSpPr>
          <p:pic>
            <p:nvPicPr>
              <p:cNvPr id="316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4938840" y="455184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938840" y="4551840"/>
                <a:ext cx="268200" cy="290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8" name=""/>
          <p:cNvSpPr/>
          <p:nvPr/>
        </p:nvSpPr>
        <p:spPr>
          <a:xfrm>
            <a:off x="5727240" y="3908520"/>
            <a:ext cx="671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3668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98880" y="39592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3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2760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58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181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98880" y="396540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9888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39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396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2760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58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58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81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18160" y="396540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4440" y="5075280"/>
            <a:ext cx="5121360" cy="17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61720" y="5068800"/>
            <a:ext cx="35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ועד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4440" y="5046840"/>
            <a:ext cx="5121360" cy="28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440" y="5249880"/>
            <a:ext cx="5121360" cy="30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5600" y="509256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10000"/>
                </a:solidFill>
                <a:latin typeface="Arial"/>
                <a:ea typeface="Arial"/>
              </a:rPr>
              <a:t>10:50-11: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23560" y="5068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4440" y="5038560"/>
            <a:ext cx="8571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4440" y="50385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5038560"/>
            <a:ext cx="86040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6280" y="5038560"/>
            <a:ext cx="860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43160" y="5038560"/>
            <a:ext cx="855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43160" y="5038560"/>
            <a:ext cx="85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05000" y="5038560"/>
            <a:ext cx="8589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5000" y="5038560"/>
            <a:ext cx="85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70440" y="5038560"/>
            <a:ext cx="8571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70440" y="50385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4080" y="5038560"/>
            <a:ext cx="801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34080" y="5038560"/>
            <a:ext cx="801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5800" y="5038560"/>
            <a:ext cx="46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40480" y="5038560"/>
            <a:ext cx="8776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40480" y="5038560"/>
            <a:ext cx="87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35800" y="504684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5800" y="5046840"/>
            <a:ext cx="1440" cy="23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18160" y="5046840"/>
            <a:ext cx="64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18160" y="5046840"/>
            <a:ext cx="1800" cy="23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34240" y="5343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63680" y="4187880"/>
            <a:ext cx="773280" cy="764280"/>
            <a:chOff x="2263680" y="4187880"/>
            <a:chExt cx="773280" cy="764280"/>
          </a:xfrm>
        </p:grpSpPr>
        <p:sp>
          <p:nvSpPr>
            <p:cNvPr id="366" name=""/>
            <p:cNvSpPr/>
            <p:nvPr/>
          </p:nvSpPr>
          <p:spPr>
            <a:xfrm>
              <a:off x="2638440" y="418788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263680" y="4265280"/>
              <a:ext cx="725400" cy="415440"/>
              <a:chOff x="2263680" y="4265280"/>
              <a:chExt cx="725400" cy="415440"/>
            </a:xfrm>
          </p:grpSpPr>
          <p:pic>
            <p:nvPicPr>
              <p:cNvPr id="368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2263680" y="4265280"/>
                <a:ext cx="72540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2263680" y="4265280"/>
                <a:ext cx="72540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"/>
            <p:cNvSpPr/>
            <p:nvPr/>
          </p:nvSpPr>
          <p:spPr>
            <a:xfrm>
              <a:off x="2399400" y="465012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57440" y="478440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920040" y="5383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89880" y="5875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2720" y="60483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4440" y="528012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440" y="528012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5280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5280120"/>
            <a:ext cx="860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6280" y="528012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43160" y="5280120"/>
            <a:ext cx="855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43160" y="528012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98880" y="52801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05000" y="5280120"/>
            <a:ext cx="858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5000" y="528012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3960" y="5280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70440" y="528012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70440" y="528012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27600" y="5280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080" y="5280120"/>
            <a:ext cx="801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34080" y="528012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5800" y="5280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40480" y="5280120"/>
            <a:ext cx="877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40480" y="528012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18160" y="5280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2862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52862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98880" y="5286240"/>
            <a:ext cx="612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98880" y="52862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3960" y="5286240"/>
            <a:ext cx="64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3960" y="52862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27600" y="5286240"/>
            <a:ext cx="64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27600" y="52862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5800" y="52862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5800" y="52862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18160" y="5286240"/>
            <a:ext cx="64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18160" y="5286240"/>
            <a:ext cx="180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6353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98880" y="63532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3960" y="6353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6353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5800" y="6353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18160" y="6353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6359400"/>
            <a:ext cx="46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3594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98880" y="6359400"/>
            <a:ext cx="612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98880" y="63594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3960" y="63594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3960" y="63594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7600" y="63594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27600" y="63594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35800" y="6359400"/>
            <a:ext cx="46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5800" y="63594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18160" y="63594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8160" y="6359400"/>
            <a:ext cx="180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4120" y="545472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6800" y="5824440"/>
            <a:ext cx="892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0240" y="600228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30280" y="6335640"/>
            <a:ext cx="810720" cy="456840"/>
            <a:chOff x="530280" y="6335640"/>
            <a:chExt cx="810720" cy="456840"/>
          </a:xfrm>
        </p:grpSpPr>
        <p:pic>
          <p:nvPicPr>
            <p:cNvPr id="429" name="" descr=""/>
            <p:cNvPicPr/>
            <p:nvPr/>
          </p:nvPicPr>
          <p:blipFill>
            <a:blip r:embed="rId63"/>
            <a:stretch/>
          </p:blipFill>
          <p:spPr>
            <a:xfrm>
              <a:off x="530280" y="6335640"/>
              <a:ext cx="8107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64"/>
            <a:stretch/>
          </p:blipFill>
          <p:spPr>
            <a:xfrm>
              <a:off x="530280" y="6335640"/>
              <a:ext cx="81072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3987720" y="8516880"/>
            <a:ext cx="811440" cy="739080"/>
            <a:chOff x="3987720" y="8516880"/>
            <a:chExt cx="811440" cy="739080"/>
          </a:xfrm>
        </p:grpSpPr>
        <p:sp>
          <p:nvSpPr>
            <p:cNvPr id="432" name=""/>
            <p:cNvSpPr/>
            <p:nvPr/>
          </p:nvSpPr>
          <p:spPr>
            <a:xfrm>
              <a:off x="3987720" y="85168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440240" y="8965800"/>
              <a:ext cx="268200" cy="290160"/>
              <a:chOff x="4440240" y="8965800"/>
              <a:chExt cx="268200" cy="290160"/>
            </a:xfrm>
          </p:grpSpPr>
          <p:pic>
            <p:nvPicPr>
              <p:cNvPr id="434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4440240" y="89658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4440240" y="89658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6" name=""/>
            <p:cNvGrpSpPr/>
            <p:nvPr/>
          </p:nvGrpSpPr>
          <p:grpSpPr>
            <a:xfrm>
              <a:off x="4095720" y="8965800"/>
              <a:ext cx="268200" cy="290160"/>
              <a:chOff x="4095720" y="8965800"/>
              <a:chExt cx="268200" cy="290160"/>
            </a:xfrm>
          </p:grpSpPr>
          <p:pic>
            <p:nvPicPr>
              <p:cNvPr id="437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4095720" y="89658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4095720" y="89658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9" name=""/>
          <p:cNvGrpSpPr/>
          <p:nvPr/>
        </p:nvGrpSpPr>
        <p:grpSpPr>
          <a:xfrm>
            <a:off x="4836960" y="6630840"/>
            <a:ext cx="820800" cy="719280"/>
            <a:chOff x="4836960" y="6630840"/>
            <a:chExt cx="820800" cy="719280"/>
          </a:xfrm>
        </p:grpSpPr>
        <p:grpSp>
          <p:nvGrpSpPr>
            <p:cNvPr id="440" name=""/>
            <p:cNvGrpSpPr/>
            <p:nvPr/>
          </p:nvGrpSpPr>
          <p:grpSpPr>
            <a:xfrm>
              <a:off x="4836960" y="6657840"/>
              <a:ext cx="409320" cy="445320"/>
              <a:chOff x="4836960" y="6657840"/>
              <a:chExt cx="409320" cy="445320"/>
            </a:xfrm>
          </p:grpSpPr>
          <p:pic>
            <p:nvPicPr>
              <p:cNvPr id="441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4836960" y="6657840"/>
                <a:ext cx="409320" cy="44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4836960" y="6657840"/>
                <a:ext cx="409320" cy="445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"/>
            <p:cNvGrpSpPr/>
            <p:nvPr/>
          </p:nvGrpSpPr>
          <p:grpSpPr>
            <a:xfrm>
              <a:off x="5184000" y="6630840"/>
              <a:ext cx="473760" cy="475200"/>
              <a:chOff x="5184000" y="6630840"/>
              <a:chExt cx="473760" cy="47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5184000" y="663084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212080" y="678528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205600" y="693828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973400" y="70552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19920" y="718236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719320" y="636912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30-12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5800" y="688032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6888240"/>
            <a:ext cx="46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68882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98880" y="6888240"/>
            <a:ext cx="612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98880" y="68882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3960" y="68882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63960" y="68882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27600" y="68882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27600" y="68882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5800" y="6888240"/>
            <a:ext cx="46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35800" y="68882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18160" y="68882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18160" y="6888240"/>
            <a:ext cx="180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5840" y="7818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98440" y="7348680"/>
            <a:ext cx="867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ידות ופתרונ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056200" y="7508880"/>
            <a:ext cx="353880" cy="325080"/>
            <a:chOff x="5056200" y="7508880"/>
            <a:chExt cx="353880" cy="325080"/>
          </a:xfrm>
        </p:grpSpPr>
        <p:pic>
          <p:nvPicPr>
            <p:cNvPr id="466" name="" descr=""/>
            <p:cNvPicPr/>
            <p:nvPr/>
          </p:nvPicPr>
          <p:blipFill>
            <a:blip r:embed="rId71"/>
            <a:stretch/>
          </p:blipFill>
          <p:spPr>
            <a:xfrm>
              <a:off x="5056200" y="7508880"/>
              <a:ext cx="35388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72"/>
            <a:stretch/>
          </p:blipFill>
          <p:spPr>
            <a:xfrm>
              <a:off x="5056200" y="7508880"/>
              <a:ext cx="35388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4950000" y="777240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כיתות ד-ח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1560" y="7889760"/>
            <a:ext cx="32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עומר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70880" y="8066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4720" y="7365960"/>
            <a:ext cx="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4440" y="736596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4440" y="73659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6280" y="7365960"/>
            <a:ext cx="860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6280" y="7365960"/>
            <a:ext cx="860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43160" y="7365960"/>
            <a:ext cx="855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43160" y="7365960"/>
            <a:ext cx="85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05000" y="7365960"/>
            <a:ext cx="858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05000" y="7365960"/>
            <a:ext cx="85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0440" y="736596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0440" y="73659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34080" y="7365960"/>
            <a:ext cx="801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34080" y="7365960"/>
            <a:ext cx="801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35800" y="736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0480" y="7365960"/>
            <a:ext cx="877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0480" y="7365960"/>
            <a:ext cx="87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73724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73724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98880" y="7372440"/>
            <a:ext cx="612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98880" y="73724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3960" y="73724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63960" y="73724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27600" y="73724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27600" y="73724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5800" y="73724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35800" y="73724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18160" y="73724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18160" y="7372440"/>
            <a:ext cx="180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5800" y="8439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71600" y="84456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98880" y="8445600"/>
            <a:ext cx="612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98880" y="84456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3960" y="84456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3960" y="84456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27600" y="84456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27600" y="84456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35800" y="8445600"/>
            <a:ext cx="46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5800" y="84456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18160" y="84456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18160" y="8445600"/>
            <a:ext cx="180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09600" y="835200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3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5800" y="8967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89740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89740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94536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9453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94536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94536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9453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1600" y="94536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76280" y="9453600"/>
            <a:ext cx="860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376280" y="9455040"/>
            <a:ext cx="8604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3160" y="9453600"/>
            <a:ext cx="855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43160" y="9455040"/>
            <a:ext cx="855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98880" y="8974080"/>
            <a:ext cx="612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98880" y="89740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05000" y="9453600"/>
            <a:ext cx="858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105000" y="9455040"/>
            <a:ext cx="8589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63960" y="89740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0440" y="945360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970440" y="9455040"/>
            <a:ext cx="8571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27600" y="89740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34080" y="9453600"/>
            <a:ext cx="801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834080" y="9455040"/>
            <a:ext cx="801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35800" y="89740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35800" y="89740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35800" y="94536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40480" y="9453600"/>
            <a:ext cx="877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640480" y="9455040"/>
            <a:ext cx="8776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18160" y="8974080"/>
            <a:ext cx="64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8160" y="89740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108240" y="3659040"/>
            <a:ext cx="865440" cy="10800"/>
            <a:chOff x="3108240" y="3659040"/>
            <a:chExt cx="865440" cy="10800"/>
          </a:xfrm>
        </p:grpSpPr>
        <p:sp>
          <p:nvSpPr>
            <p:cNvPr id="543" name=""/>
            <p:cNvSpPr/>
            <p:nvPr/>
          </p:nvSpPr>
          <p:spPr>
            <a:xfrm>
              <a:off x="3108240" y="365904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6872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33880" y="3659040"/>
              <a:ext cx="44280" cy="108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9724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6060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5760" y="36590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9480" y="3659040"/>
              <a:ext cx="4572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5284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18000" y="3659040"/>
              <a:ext cx="44280" cy="108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8136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5080" y="3659040"/>
              <a:ext cx="4572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09880" y="36590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73600" y="365904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36960" y="3659040"/>
              <a:ext cx="36720" cy="1080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84480" y="4497480"/>
            <a:ext cx="874800" cy="9360"/>
            <a:chOff x="3084480" y="4497480"/>
            <a:chExt cx="874800" cy="9360"/>
          </a:xfrm>
        </p:grpSpPr>
        <p:sp>
          <p:nvSpPr>
            <p:cNvPr id="558" name=""/>
            <p:cNvSpPr/>
            <p:nvPr/>
          </p:nvSpPr>
          <p:spPr>
            <a:xfrm>
              <a:off x="3084480" y="449748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4496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0832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73480" y="449748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3684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0056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65360" y="449748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2908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9244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57600" y="449748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2096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8468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4804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13200" y="449748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6800" y="1906560"/>
            <a:ext cx="638640" cy="960840"/>
            <a:chOff x="4906800" y="1906560"/>
            <a:chExt cx="638640" cy="960840"/>
          </a:xfrm>
        </p:grpSpPr>
        <p:sp>
          <p:nvSpPr>
            <p:cNvPr id="573" name=""/>
            <p:cNvSpPr/>
            <p:nvPr/>
          </p:nvSpPr>
          <p:spPr>
            <a:xfrm>
              <a:off x="4906800" y="19065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35240" y="252396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67000" y="26996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GreekVase_small" descr=""/>
            <p:cNvPicPr/>
            <p:nvPr/>
          </p:nvPicPr>
          <p:blipFill>
            <a:blip r:embed="rId73"/>
            <a:stretch/>
          </p:blipFill>
          <p:spPr>
            <a:xfrm>
              <a:off x="5092560" y="2109600"/>
              <a:ext cx="214560" cy="3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"/>
          <p:cNvSpPr/>
          <p:nvPr/>
        </p:nvSpPr>
        <p:spPr>
          <a:xfrm>
            <a:off x="4829040" y="18273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240000" y="7416720"/>
            <a:ext cx="610200" cy="816480"/>
            <a:chOff x="3240000" y="7416720"/>
            <a:chExt cx="610200" cy="816480"/>
          </a:xfrm>
        </p:grpSpPr>
        <p:sp>
          <p:nvSpPr>
            <p:cNvPr id="579" name=""/>
            <p:cNvSpPr/>
            <p:nvPr/>
          </p:nvSpPr>
          <p:spPr>
            <a:xfrm>
              <a:off x="3240000" y="74167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40000" y="790020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90120" y="80654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GreekVase_small" descr=""/>
            <p:cNvPicPr/>
            <p:nvPr/>
          </p:nvPicPr>
          <p:blipFill>
            <a:blip r:embed="rId74"/>
            <a:stretch/>
          </p:blipFill>
          <p:spPr>
            <a:xfrm>
              <a:off x="3425760" y="7588800"/>
              <a:ext cx="213840" cy="36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"/>
          <p:cNvSpPr/>
          <p:nvPr/>
        </p:nvSpPr>
        <p:spPr>
          <a:xfrm>
            <a:off x="4829040" y="40035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71600" y="17542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43340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7640" y="785880"/>
            <a:ext cx="582840" cy="911880"/>
            <a:chOff x="647640" y="785880"/>
            <a:chExt cx="582840" cy="911880"/>
          </a:xfrm>
        </p:grpSpPr>
        <p:sp>
          <p:nvSpPr>
            <p:cNvPr id="587" name=""/>
            <p:cNvSpPr/>
            <p:nvPr/>
          </p:nvSpPr>
          <p:spPr>
            <a:xfrm>
              <a:off x="746640" y="7858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75"/>
            <a:stretch/>
          </p:blipFill>
          <p:spPr>
            <a:xfrm>
              <a:off x="942840" y="1014480"/>
              <a:ext cx="28764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6"/>
            <a:stretch/>
          </p:blipFill>
          <p:spPr>
            <a:xfrm>
              <a:off x="647640" y="1014480"/>
              <a:ext cx="295200" cy="3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731880" y="135612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4680" y="15300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 flipH="1">
            <a:off x="504720" y="17542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71600" y="35812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962160" y="400356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923360" y="5262480"/>
            <a:ext cx="680400" cy="756720"/>
            <a:chOff x="4923360" y="5262480"/>
            <a:chExt cx="680400" cy="756720"/>
          </a:xfrm>
        </p:grpSpPr>
        <p:sp>
          <p:nvSpPr>
            <p:cNvPr id="596" name=""/>
            <p:cNvSpPr/>
            <p:nvPr/>
          </p:nvSpPr>
          <p:spPr>
            <a:xfrm>
              <a:off x="4923360" y="526248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013360" y="5439240"/>
              <a:ext cx="371520" cy="350280"/>
              <a:chOff x="5013360" y="5439240"/>
              <a:chExt cx="371520" cy="350280"/>
            </a:xfrm>
          </p:grpSpPr>
          <p:pic>
            <p:nvPicPr>
              <p:cNvPr id="59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013360" y="5439240"/>
                <a:ext cx="371520" cy="35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013360" y="5439240"/>
                <a:ext cx="371520" cy="35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"/>
            <p:cNvSpPr/>
            <p:nvPr/>
          </p:nvSpPr>
          <p:spPr>
            <a:xfrm>
              <a:off x="4930560" y="573156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24160" y="58514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829040" y="60166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90960" y="5326200"/>
            <a:ext cx="812880" cy="892800"/>
            <a:chOff x="3990960" y="5326200"/>
            <a:chExt cx="812880" cy="892800"/>
          </a:xfrm>
        </p:grpSpPr>
        <p:sp>
          <p:nvSpPr>
            <p:cNvPr id="604" name=""/>
            <p:cNvSpPr/>
            <p:nvPr/>
          </p:nvSpPr>
          <p:spPr>
            <a:xfrm>
              <a:off x="3990960" y="5326200"/>
              <a:ext cx="81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ימות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267080" y="5535720"/>
              <a:ext cx="295560" cy="318960"/>
              <a:chOff x="4267080" y="5535720"/>
              <a:chExt cx="295560" cy="318960"/>
            </a:xfrm>
          </p:grpSpPr>
          <p:pic>
            <p:nvPicPr>
              <p:cNvPr id="606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4267080" y="5535720"/>
                <a:ext cx="2955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4267080" y="5535720"/>
                <a:ext cx="29556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8" name=""/>
            <p:cNvSpPr/>
            <p:nvPr/>
          </p:nvSpPr>
          <p:spPr>
            <a:xfrm>
              <a:off x="4078800" y="58860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92480" y="6051240"/>
              <a:ext cx="53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 ו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6640" y="5359320"/>
            <a:ext cx="576720" cy="886320"/>
            <a:chOff x="2366640" y="5359320"/>
            <a:chExt cx="576720" cy="886320"/>
          </a:xfrm>
        </p:grpSpPr>
        <p:sp>
          <p:nvSpPr>
            <p:cNvPr id="611" name=""/>
            <p:cNvSpPr/>
            <p:nvPr/>
          </p:nvSpPr>
          <p:spPr>
            <a:xfrm>
              <a:off x="2429280" y="535932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81"/>
            <a:stretch/>
          </p:blipFill>
          <p:spPr>
            <a:xfrm>
              <a:off x="2460600" y="5537520"/>
              <a:ext cx="39024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82"/>
            <a:stretch/>
          </p:blipFill>
          <p:spPr>
            <a:xfrm>
              <a:off x="2460600" y="5537520"/>
              <a:ext cx="39024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2366640" y="594972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82920" y="60778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 flipH="1">
            <a:off x="2238120" y="630540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413080" y="6359400"/>
            <a:ext cx="507600" cy="943200"/>
            <a:chOff x="2413080" y="6359400"/>
            <a:chExt cx="507600" cy="943200"/>
          </a:xfrm>
        </p:grpSpPr>
        <p:sp>
          <p:nvSpPr>
            <p:cNvPr id="618" name=""/>
            <p:cNvSpPr/>
            <p:nvPr/>
          </p:nvSpPr>
          <p:spPr>
            <a:xfrm>
              <a:off x="2451960" y="63594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2728800" y="6660000"/>
              <a:ext cx="191880" cy="228600"/>
              <a:chOff x="2728800" y="6660000"/>
              <a:chExt cx="191880" cy="228600"/>
            </a:xfrm>
          </p:grpSpPr>
          <p:pic>
            <p:nvPicPr>
              <p:cNvPr id="620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2728800" y="6660000"/>
                <a:ext cx="1918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2728800" y="6660000"/>
                <a:ext cx="19188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2" name=""/>
            <p:cNvGrpSpPr/>
            <p:nvPr/>
          </p:nvGrpSpPr>
          <p:grpSpPr>
            <a:xfrm>
              <a:off x="2413080" y="6662160"/>
              <a:ext cx="201600" cy="247320"/>
              <a:chOff x="2413080" y="6662160"/>
              <a:chExt cx="201600" cy="247320"/>
            </a:xfrm>
          </p:grpSpPr>
          <p:pic>
            <p:nvPicPr>
              <p:cNvPr id="623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2413080" y="6662160"/>
                <a:ext cx="2016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4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413080" y="6662160"/>
                <a:ext cx="2016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5" name=""/>
            <p:cNvSpPr/>
            <p:nvPr/>
          </p:nvSpPr>
          <p:spPr>
            <a:xfrm>
              <a:off x="2506320" y="69613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08840" y="7134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618200" y="5307120"/>
            <a:ext cx="38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שב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87"/>
          <a:stretch/>
        </p:blipFill>
        <p:spPr>
          <a:xfrm>
            <a:off x="1816200" y="5527800"/>
            <a:ext cx="287280" cy="3096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88"/>
          <a:stretch/>
        </p:blipFill>
        <p:spPr>
          <a:xfrm>
            <a:off x="1521000" y="5527800"/>
            <a:ext cx="295200" cy="3096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549800" y="583740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מות ג-ד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97400" y="6029280"/>
            <a:ext cx="21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עמ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371600" y="63054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29040" y="87296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962160" y="841068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107240" y="7426440"/>
            <a:ext cx="599760" cy="956520"/>
            <a:chOff x="4107240" y="7426440"/>
            <a:chExt cx="599760" cy="956520"/>
          </a:xfrm>
        </p:grpSpPr>
        <p:sp>
          <p:nvSpPr>
            <p:cNvPr id="636" name=""/>
            <p:cNvSpPr/>
            <p:nvPr/>
          </p:nvSpPr>
          <p:spPr>
            <a:xfrm>
              <a:off x="4317480" y="74264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138560" y="7608600"/>
              <a:ext cx="532800" cy="430560"/>
              <a:chOff x="4138560" y="7608600"/>
              <a:chExt cx="532800" cy="430560"/>
            </a:xfrm>
          </p:grpSpPr>
          <p:pic>
            <p:nvPicPr>
              <p:cNvPr id="638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4138560" y="7608600"/>
                <a:ext cx="532800" cy="43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138560" y="7608600"/>
                <a:ext cx="532800" cy="43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0" name=""/>
            <p:cNvSpPr/>
            <p:nvPr/>
          </p:nvSpPr>
          <p:spPr>
            <a:xfrm>
              <a:off x="4107240" y="80539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42320" y="82152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1415880" y="6432480"/>
            <a:ext cx="811440" cy="739080"/>
            <a:chOff x="1415880" y="6432480"/>
            <a:chExt cx="811440" cy="739080"/>
          </a:xfrm>
        </p:grpSpPr>
        <p:sp>
          <p:nvSpPr>
            <p:cNvPr id="643" name=""/>
            <p:cNvSpPr/>
            <p:nvPr/>
          </p:nvSpPr>
          <p:spPr>
            <a:xfrm>
              <a:off x="1415880" y="64324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868400" y="6881400"/>
              <a:ext cx="268200" cy="290160"/>
              <a:chOff x="1868400" y="6881400"/>
              <a:chExt cx="268200" cy="290160"/>
            </a:xfrm>
          </p:grpSpPr>
          <p:pic>
            <p:nvPicPr>
              <p:cNvPr id="645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1868400" y="6881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1868400" y="6881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7" name=""/>
            <p:cNvGrpSpPr/>
            <p:nvPr/>
          </p:nvGrpSpPr>
          <p:grpSpPr>
            <a:xfrm>
              <a:off x="1523880" y="6881400"/>
              <a:ext cx="268200" cy="290160"/>
              <a:chOff x="1523880" y="6881400"/>
              <a:chExt cx="268200" cy="290160"/>
            </a:xfrm>
          </p:grpSpPr>
          <p:pic>
            <p:nvPicPr>
              <p:cNvPr id="648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1523880" y="6881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1523880" y="688140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0" name=""/>
          <p:cNvGrpSpPr/>
          <p:nvPr/>
        </p:nvGrpSpPr>
        <p:grpSpPr>
          <a:xfrm>
            <a:off x="2252520" y="8443800"/>
            <a:ext cx="811440" cy="882000"/>
            <a:chOff x="2252520" y="8443800"/>
            <a:chExt cx="811440" cy="882000"/>
          </a:xfrm>
        </p:grpSpPr>
        <p:sp>
          <p:nvSpPr>
            <p:cNvPr id="651" name=""/>
            <p:cNvSpPr/>
            <p:nvPr/>
          </p:nvSpPr>
          <p:spPr>
            <a:xfrm>
              <a:off x="2252520" y="8443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41240" y="870516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735280" y="9035640"/>
              <a:ext cx="266400" cy="290160"/>
              <a:chOff x="2735280" y="9035640"/>
              <a:chExt cx="266400" cy="290160"/>
            </a:xfrm>
          </p:grpSpPr>
          <p:pic>
            <p:nvPicPr>
              <p:cNvPr id="654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2735280" y="9035640"/>
                <a:ext cx="2664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2735280" y="9035640"/>
                <a:ext cx="266400" cy="29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6" name=""/>
            <p:cNvGrpSpPr/>
            <p:nvPr/>
          </p:nvGrpSpPr>
          <p:grpSpPr>
            <a:xfrm>
              <a:off x="2390760" y="9035640"/>
              <a:ext cx="268200" cy="290160"/>
              <a:chOff x="2390760" y="9035640"/>
              <a:chExt cx="268200" cy="290160"/>
            </a:xfrm>
          </p:grpSpPr>
          <p:pic>
            <p:nvPicPr>
              <p:cNvPr id="657" name="" descr=""/>
              <p:cNvPicPr/>
              <p:nvPr/>
            </p:nvPicPr>
            <p:blipFill>
              <a:blip r:embed="rId97"/>
              <a:stretch/>
            </p:blipFill>
            <p:spPr>
              <a:xfrm>
                <a:off x="2390760" y="903564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98"/>
              <a:stretch/>
            </p:blipFill>
            <p:spPr>
              <a:xfrm>
                <a:off x="2390760" y="903564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9" name=""/>
          <p:cNvSpPr/>
          <p:nvPr/>
        </p:nvSpPr>
        <p:spPr>
          <a:xfrm flipH="1">
            <a:off x="2238120" y="841068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408400" y="7412040"/>
            <a:ext cx="545040" cy="943200"/>
            <a:chOff x="2408400" y="7412040"/>
            <a:chExt cx="545040" cy="943200"/>
          </a:xfrm>
        </p:grpSpPr>
        <p:sp>
          <p:nvSpPr>
            <p:cNvPr id="661" name=""/>
            <p:cNvSpPr/>
            <p:nvPr/>
          </p:nvSpPr>
          <p:spPr>
            <a:xfrm>
              <a:off x="2504520" y="74120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2724480" y="7723080"/>
              <a:ext cx="191880" cy="228240"/>
              <a:chOff x="2724480" y="7723080"/>
              <a:chExt cx="191880" cy="228240"/>
            </a:xfrm>
          </p:grpSpPr>
          <p:pic>
            <p:nvPicPr>
              <p:cNvPr id="663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2724480" y="7723080"/>
                <a:ext cx="191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2724480" y="7723080"/>
                <a:ext cx="19188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"/>
            <p:cNvGrpSpPr/>
            <p:nvPr/>
          </p:nvGrpSpPr>
          <p:grpSpPr>
            <a:xfrm>
              <a:off x="2408400" y="7724880"/>
              <a:ext cx="201600" cy="247320"/>
              <a:chOff x="2408400" y="7724880"/>
              <a:chExt cx="201600" cy="24732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2408400" y="7724880"/>
                <a:ext cx="2016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2408400" y="7724880"/>
                <a:ext cx="2016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8" name=""/>
            <p:cNvSpPr/>
            <p:nvPr/>
          </p:nvSpPr>
          <p:spPr>
            <a:xfrm>
              <a:off x="2536560" y="801396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61760" y="8187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491120" y="7373880"/>
            <a:ext cx="635760" cy="1018440"/>
            <a:chOff x="1491120" y="7373880"/>
            <a:chExt cx="635760" cy="1018440"/>
          </a:xfrm>
        </p:grpSpPr>
        <p:sp>
          <p:nvSpPr>
            <p:cNvPr id="671" name=""/>
            <p:cNvSpPr/>
            <p:nvPr/>
          </p:nvSpPr>
          <p:spPr>
            <a:xfrm>
              <a:off x="1555560" y="7373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ומד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16680" y="751788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הספ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91120" y="805932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06760" y="822456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bkcl1a" descr=""/>
            <p:cNvPicPr/>
            <p:nvPr/>
          </p:nvPicPr>
          <p:blipFill>
            <a:blip r:embed="rId103"/>
            <a:stretch/>
          </p:blipFill>
          <p:spPr>
            <a:xfrm>
              <a:off x="1617840" y="7706880"/>
              <a:ext cx="40320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"/>
          <p:cNvSpPr/>
          <p:nvPr/>
        </p:nvSpPr>
        <p:spPr>
          <a:xfrm>
            <a:off x="2247840" y="396252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133440" y="5270400"/>
            <a:ext cx="798120" cy="1025280"/>
            <a:chOff x="3133440" y="5270400"/>
            <a:chExt cx="798120" cy="1025280"/>
          </a:xfrm>
        </p:grpSpPr>
        <p:pic>
          <p:nvPicPr>
            <p:cNvPr id="678" name="ccplant3" descr=""/>
            <p:cNvPicPr/>
            <p:nvPr/>
          </p:nvPicPr>
          <p:blipFill>
            <a:blip r:embed="rId104"/>
            <a:stretch/>
          </p:blipFill>
          <p:spPr>
            <a:xfrm>
              <a:off x="3247920" y="5466600"/>
              <a:ext cx="4492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275640" y="5270400"/>
              <a:ext cx="43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נ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3440" y="5889600"/>
              <a:ext cx="79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93280" y="6034320"/>
              <a:ext cx="47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829040" y="66358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863960" y="6004080"/>
            <a:ext cx="754200" cy="640440"/>
            <a:chOff x="4863960" y="6004080"/>
            <a:chExt cx="754200" cy="640440"/>
          </a:xfrm>
        </p:grpSpPr>
        <p:sp>
          <p:nvSpPr>
            <p:cNvPr id="684" name=""/>
            <p:cNvSpPr/>
            <p:nvPr/>
          </p:nvSpPr>
          <p:spPr>
            <a:xfrm>
              <a:off x="5219640" y="600408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4863960" y="6071040"/>
              <a:ext cx="497160" cy="312840"/>
              <a:chOff x="4863960" y="6071040"/>
              <a:chExt cx="497160" cy="312840"/>
            </a:xfrm>
          </p:grpSpPr>
          <p:pic>
            <p:nvPicPr>
              <p:cNvPr id="686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4863960" y="607104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4863960" y="607104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" name=""/>
            <p:cNvSpPr/>
            <p:nvPr/>
          </p:nvSpPr>
          <p:spPr>
            <a:xfrm>
              <a:off x="4924800" y="6363360"/>
              <a:ext cx="56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#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33880" y="64767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827600" y="8726400"/>
            <a:ext cx="820080" cy="718200"/>
            <a:chOff x="4827600" y="8726400"/>
            <a:chExt cx="820080" cy="718200"/>
          </a:xfrm>
        </p:grpSpPr>
        <p:grpSp>
          <p:nvGrpSpPr>
            <p:cNvPr id="691" name=""/>
            <p:cNvGrpSpPr/>
            <p:nvPr/>
          </p:nvGrpSpPr>
          <p:grpSpPr>
            <a:xfrm>
              <a:off x="4827600" y="8753400"/>
              <a:ext cx="408960" cy="444240"/>
              <a:chOff x="4827600" y="8753400"/>
              <a:chExt cx="408960" cy="444240"/>
            </a:xfrm>
          </p:grpSpPr>
          <p:pic>
            <p:nvPicPr>
              <p:cNvPr id="692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4827600" y="8753400"/>
                <a:ext cx="408960" cy="44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4827600" y="8753400"/>
                <a:ext cx="40896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4" name=""/>
            <p:cNvGrpSpPr/>
            <p:nvPr/>
          </p:nvGrpSpPr>
          <p:grpSpPr>
            <a:xfrm>
              <a:off x="5174280" y="8726400"/>
              <a:ext cx="473400" cy="474480"/>
              <a:chOff x="5174280" y="8726400"/>
              <a:chExt cx="473400" cy="474480"/>
            </a:xfrm>
          </p:grpSpPr>
          <p:sp>
            <p:nvSpPr>
              <p:cNvPr id="695" name=""/>
              <p:cNvSpPr/>
              <p:nvPr/>
            </p:nvSpPr>
            <p:spPr>
              <a:xfrm>
                <a:off x="5174280" y="872640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202000" y="888084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195520" y="903312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963680" y="915012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9840" y="92768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4829040" y="80694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873680" y="8077320"/>
            <a:ext cx="754200" cy="640440"/>
            <a:chOff x="4873680" y="8077320"/>
            <a:chExt cx="754200" cy="640440"/>
          </a:xfrm>
        </p:grpSpPr>
        <p:sp>
          <p:nvSpPr>
            <p:cNvPr id="702" name=""/>
            <p:cNvSpPr/>
            <p:nvPr/>
          </p:nvSpPr>
          <p:spPr>
            <a:xfrm>
              <a:off x="5229360" y="8077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73680" y="8144280"/>
              <a:ext cx="497160" cy="312840"/>
              <a:chOff x="4873680" y="8144280"/>
              <a:chExt cx="497160" cy="312840"/>
            </a:xfrm>
          </p:grpSpPr>
          <p:pic>
            <p:nvPicPr>
              <p:cNvPr id="704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4873680" y="814428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110"/>
              <a:stretch/>
            </p:blipFill>
            <p:spPr>
              <a:xfrm>
                <a:off x="4873680" y="814428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4934520" y="8436600"/>
              <a:ext cx="56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#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43600" y="855000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H="1">
            <a:off x="3095640" y="182736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182736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95360" y="369396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4720" y="444816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74840" y="3746520"/>
            <a:ext cx="913680" cy="713160"/>
            <a:chOff x="474840" y="3746520"/>
            <a:chExt cx="913680" cy="713160"/>
          </a:xfrm>
        </p:grpSpPr>
        <p:sp>
          <p:nvSpPr>
            <p:cNvPr id="713" name=""/>
            <p:cNvSpPr/>
            <p:nvPr/>
          </p:nvSpPr>
          <p:spPr>
            <a:xfrm>
              <a:off x="474840" y="3746520"/>
              <a:ext cx="91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ג סקייטב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4" name="A001s082_small" descr=""/>
            <p:cNvPicPr/>
            <p:nvPr/>
          </p:nvPicPr>
          <p:blipFill>
            <a:blip r:embed="rId111"/>
            <a:stretch/>
          </p:blipFill>
          <p:spPr>
            <a:xfrm>
              <a:off x="666720" y="3945240"/>
              <a:ext cx="57132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713520" y="41983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 flipH="1">
            <a:off x="1371600" y="84106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432800" y="8416800"/>
            <a:ext cx="744480" cy="1027800"/>
            <a:chOff x="1432800" y="8416800"/>
            <a:chExt cx="744480" cy="1027800"/>
          </a:xfrm>
        </p:grpSpPr>
        <p:sp>
          <p:nvSpPr>
            <p:cNvPr id="718" name=""/>
            <p:cNvSpPr/>
            <p:nvPr/>
          </p:nvSpPr>
          <p:spPr>
            <a:xfrm>
              <a:off x="1432800" y="8416800"/>
              <a:ext cx="74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שיבת 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92560" y="8571240"/>
              <a:ext cx="63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ה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81760" y="91119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18280" y="927684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man_reading_newspaper_still" descr=""/>
            <p:cNvPicPr/>
            <p:nvPr/>
          </p:nvPicPr>
          <p:blipFill>
            <a:blip r:embed="rId112"/>
            <a:stretch/>
          </p:blipFill>
          <p:spPr>
            <a:xfrm>
              <a:off x="1619280" y="8717400"/>
              <a:ext cx="361800" cy="4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"/>
          <p:cNvGrpSpPr/>
          <p:nvPr/>
        </p:nvGrpSpPr>
        <p:grpSpPr>
          <a:xfrm>
            <a:off x="152280" y="7532640"/>
            <a:ext cx="1228680" cy="1553760"/>
            <a:chOff x="152280" y="7532640"/>
            <a:chExt cx="1228680" cy="1553760"/>
          </a:xfrm>
        </p:grpSpPr>
        <p:sp>
          <p:nvSpPr>
            <p:cNvPr id="724" name=""/>
            <p:cNvSpPr/>
            <p:nvPr/>
          </p:nvSpPr>
          <p:spPr>
            <a:xfrm>
              <a:off x="152280" y="7532640"/>
              <a:ext cx="122868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 u="sng">
                  <a:solidFill>
                    <a:srgbClr val="0000ff"/>
                  </a:solidFill>
                  <a:uFillTx/>
                  <a:latin typeface="Arial"/>
                  <a:cs typeface="Arial"/>
                </a:rPr>
                <a:t>בנוסף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"גן גורים" כל י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:30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עד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: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mar0104" descr=""/>
            <p:cNvPicPr/>
            <p:nvPr/>
          </p:nvPicPr>
          <p:blipFill>
            <a:blip r:embed="rId113"/>
            <a:stretch/>
          </p:blipFill>
          <p:spPr>
            <a:xfrm>
              <a:off x="687240" y="8397360"/>
              <a:ext cx="4255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"/>
          <p:cNvSpPr/>
          <p:nvPr/>
        </p:nvSpPr>
        <p:spPr>
          <a:xfrm>
            <a:off x="3095640" y="63054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95640" y="84106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037320" y="6292800"/>
            <a:ext cx="992880" cy="1076400"/>
            <a:chOff x="3037320" y="6292800"/>
            <a:chExt cx="992880" cy="1076400"/>
          </a:xfrm>
        </p:grpSpPr>
        <p:sp>
          <p:nvSpPr>
            <p:cNvPr id="729" name=""/>
            <p:cNvSpPr/>
            <p:nvPr/>
          </p:nvSpPr>
          <p:spPr>
            <a:xfrm>
              <a:off x="3142800" y="6953400"/>
              <a:ext cx="79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37320" y="629280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37040" y="7107840"/>
              <a:ext cx="77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 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2" name="foot" descr=""/>
            <p:cNvPicPr/>
            <p:nvPr/>
          </p:nvPicPr>
          <p:blipFill>
            <a:blip r:embed="rId114"/>
            <a:stretch/>
          </p:blipFill>
          <p:spPr>
            <a:xfrm>
              <a:off x="3228840" y="6588720"/>
              <a:ext cx="59076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3027600" y="8377200"/>
            <a:ext cx="992880" cy="1076040"/>
            <a:chOff x="3027600" y="8377200"/>
            <a:chExt cx="992880" cy="1076040"/>
          </a:xfrm>
        </p:grpSpPr>
        <p:sp>
          <p:nvSpPr>
            <p:cNvPr id="734" name=""/>
            <p:cNvSpPr/>
            <p:nvPr/>
          </p:nvSpPr>
          <p:spPr>
            <a:xfrm>
              <a:off x="3133080" y="9037440"/>
              <a:ext cx="79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27600" y="837720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27320" y="9191880"/>
              <a:ext cx="77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 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7" name="foot" descr=""/>
            <p:cNvPicPr/>
            <p:nvPr/>
          </p:nvPicPr>
          <p:blipFill>
            <a:blip r:embed="rId115"/>
            <a:stretch/>
          </p:blipFill>
          <p:spPr>
            <a:xfrm>
              <a:off x="3219120" y="8673120"/>
              <a:ext cx="59076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8" name=""/>
          <p:cNvSpPr/>
          <p:nvPr/>
        </p:nvSpPr>
        <p:spPr>
          <a:xfrm>
            <a:off x="485640" y="447840"/>
            <a:ext cx="9720" cy="691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5640" y="447840"/>
            <a:ext cx="51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238480" y="447840"/>
            <a:ext cx="0" cy="45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276880"/>
            <a:ext cx="0" cy="41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5:04:02Z</dcterms:created>
  <dc:creator>--</dc:creator>
  <dc:description/>
  <dc:language>en-US</dc:language>
  <cp:lastModifiedBy>--</cp:lastModifiedBy>
  <dcterms:modified xsi:type="dcterms:W3CDTF">2002-11-15T07:37:06Z</dcterms:modified>
  <cp:revision>91</cp:revision>
  <dc:subject/>
  <dc:title>מצגת של PowerPoint</dc:title>
</cp:coreProperties>
</file>