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0.png" ContentType="image/png"/>
  <Override PartName="/ppt/media/image19.gif" ContentType="image/gif"/>
  <Override PartName="/ppt/media/image29.wmf" ContentType="image/x-wmf"/>
  <Override PartName="/ppt/media/image6.wmf" ContentType="image/x-wmf"/>
  <Override PartName="/ppt/media/image11.wmf" ContentType="image/x-wmf"/>
  <Override PartName="/ppt/media/image23.gif" ContentType="image/gif"/>
  <Override PartName="/ppt/media/image7.wmf" ContentType="image/x-wmf"/>
  <Override PartName="/ppt/media/image3.png" ContentType="image/png"/>
  <Override PartName="/ppt/media/image33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8.gif" ContentType="image/gif"/>
  <Override PartName="/ppt/media/image9.wmf" ContentType="image/x-wmf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5.gif" ContentType="image/gif"/>
  <Override PartName="/ppt/media/image1.wmf" ContentType="image/x-wmf"/>
  <Override PartName="/ppt/media/image24.wmf" ContentType="image/x-wmf"/>
  <Override PartName="/ppt/media/image26.gif" ContentType="image/gif"/>
  <Override PartName="/ppt/media/image18.gif" ContentType="image/gif"/>
  <Override PartName="/ppt/media/image14.wmf" ContentType="image/x-wmf"/>
  <Override PartName="/ppt/media/image22.gif" ContentType="image/gif"/>
  <Override PartName="/ppt/media/image15.png" ContentType="image/png"/>
  <Override PartName="/ppt/media/image12.wmf" ContentType="image/x-wmf"/>
  <Override PartName="/ppt/media/image16.gif" ContentType="image/gif"/>
  <Override PartName="/ppt/media/image21.png" ContentType="image/png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11C-E9C8-4873-90DB-D749FBBB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DC1-61F5-428A-A42A-F189C334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09A-3444-4BBD-A8AE-47776313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CE5-6A19-44E1-BDE6-3FFF0561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9E8-120B-4AAF-AD4E-55234D1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356-E8AA-43A4-AD22-8FB1135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09C-515D-4D94-AF92-2551B637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33A-C2E6-4747-BA77-76F5BB1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F2E-4896-4758-9838-D58414D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75F-3515-4D33-941A-1F29F65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CCB-282B-4E59-A885-D45485C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2CF-663B-494A-B8CC-62B0A5A2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C83A-BA21-410C-8001-ED9AD5E2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3.png"/><Relationship Id="rId9" Type="http://schemas.openxmlformats.org/officeDocument/2006/relationships/image" Target="../media/image8.gi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png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3.png"/><Relationship Id="rId20" Type="http://schemas.openxmlformats.org/officeDocument/2006/relationships/image" Target="../media/image16.gif"/><Relationship Id="rId21" Type="http://schemas.openxmlformats.org/officeDocument/2006/relationships/image" Target="../media/image4.png"/><Relationship Id="rId22" Type="http://schemas.openxmlformats.org/officeDocument/2006/relationships/image" Target="../media/image5.gif"/><Relationship Id="rId23" Type="http://schemas.openxmlformats.org/officeDocument/2006/relationships/image" Target="../media/image6.wmf"/><Relationship Id="rId24" Type="http://schemas.openxmlformats.org/officeDocument/2006/relationships/image" Target="../media/image7.wmf"/><Relationship Id="rId25" Type="http://schemas.openxmlformats.org/officeDocument/2006/relationships/image" Target="../media/image3.png"/><Relationship Id="rId26" Type="http://schemas.openxmlformats.org/officeDocument/2006/relationships/image" Target="../media/image11.wmf"/><Relationship Id="rId27" Type="http://schemas.openxmlformats.org/officeDocument/2006/relationships/image" Target="../media/image12.wmf"/><Relationship Id="rId28" Type="http://schemas.openxmlformats.org/officeDocument/2006/relationships/image" Target="../media/image13.wmf"/><Relationship Id="rId29" Type="http://schemas.openxmlformats.org/officeDocument/2006/relationships/image" Target="../media/image14.wmf"/><Relationship Id="rId30" Type="http://schemas.openxmlformats.org/officeDocument/2006/relationships/image" Target="../media/image8.gif"/><Relationship Id="rId31" Type="http://schemas.openxmlformats.org/officeDocument/2006/relationships/image" Target="../media/image9.wmf"/><Relationship Id="rId32" Type="http://schemas.openxmlformats.org/officeDocument/2006/relationships/image" Target="../media/image10.wmf"/><Relationship Id="rId33" Type="http://schemas.openxmlformats.org/officeDocument/2006/relationships/image" Target="../media/image11.wmf"/><Relationship Id="rId34" Type="http://schemas.openxmlformats.org/officeDocument/2006/relationships/image" Target="../media/image12.wmf"/><Relationship Id="rId35" Type="http://schemas.openxmlformats.org/officeDocument/2006/relationships/image" Target="../media/image13.wmf"/><Relationship Id="rId36" Type="http://schemas.openxmlformats.org/officeDocument/2006/relationships/image" Target="../media/image14.wmf"/><Relationship Id="rId37" Type="http://schemas.openxmlformats.org/officeDocument/2006/relationships/image" Target="../media/image16.gi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4.wmf"/><Relationship Id="rId42" Type="http://schemas.openxmlformats.org/officeDocument/2006/relationships/image" Target="../media/image3.png"/><Relationship Id="rId43" Type="http://schemas.openxmlformats.org/officeDocument/2006/relationships/image" Target="../media/image11.wmf"/><Relationship Id="rId44" Type="http://schemas.openxmlformats.org/officeDocument/2006/relationships/image" Target="../media/image12.wmf"/><Relationship Id="rId45" Type="http://schemas.openxmlformats.org/officeDocument/2006/relationships/image" Target="../media/image13.wmf"/><Relationship Id="rId46" Type="http://schemas.openxmlformats.org/officeDocument/2006/relationships/image" Target="../media/image14.wmf"/><Relationship Id="rId47" Type="http://schemas.openxmlformats.org/officeDocument/2006/relationships/image" Target="../media/image6.wmf"/><Relationship Id="rId48" Type="http://schemas.openxmlformats.org/officeDocument/2006/relationships/image" Target="../media/image7.wmf"/><Relationship Id="rId49" Type="http://schemas.openxmlformats.org/officeDocument/2006/relationships/image" Target="../media/image11.wmf"/><Relationship Id="rId50" Type="http://schemas.openxmlformats.org/officeDocument/2006/relationships/image" Target="../media/image12.wmf"/><Relationship Id="rId51" Type="http://schemas.openxmlformats.org/officeDocument/2006/relationships/image" Target="../media/image13.wmf"/><Relationship Id="rId52" Type="http://schemas.openxmlformats.org/officeDocument/2006/relationships/image" Target="../media/image14.wmf"/><Relationship Id="rId53" Type="http://schemas.openxmlformats.org/officeDocument/2006/relationships/image" Target="../media/image17.gif"/><Relationship Id="rId54" Type="http://schemas.openxmlformats.org/officeDocument/2006/relationships/image" Target="../media/image3.png"/><Relationship Id="rId55" Type="http://schemas.openxmlformats.org/officeDocument/2006/relationships/image" Target="../media/image18.gif"/><Relationship Id="rId56" Type="http://schemas.openxmlformats.org/officeDocument/2006/relationships/image" Target="../media/image15.png"/><Relationship Id="rId57" Type="http://schemas.openxmlformats.org/officeDocument/2006/relationships/image" Target="../media/image19.gif"/><Relationship Id="rId58" Type="http://schemas.openxmlformats.org/officeDocument/2006/relationships/image" Target="../media/image19.gif"/><Relationship Id="rId59" Type="http://schemas.openxmlformats.org/officeDocument/2006/relationships/image" Target="../media/image11.wmf"/><Relationship Id="rId60" Type="http://schemas.openxmlformats.org/officeDocument/2006/relationships/image" Target="../media/image12.wmf"/><Relationship Id="rId61" Type="http://schemas.openxmlformats.org/officeDocument/2006/relationships/image" Target="../media/image13.wmf"/><Relationship Id="rId62" Type="http://schemas.openxmlformats.org/officeDocument/2006/relationships/image" Target="../media/image14.wmf"/><Relationship Id="rId6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3.png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8.gif"/><Relationship Id="rId17" Type="http://schemas.openxmlformats.org/officeDocument/2006/relationships/image" Target="../media/image23.gi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7.png"/><Relationship Id="rId23" Type="http://schemas.openxmlformats.org/officeDocument/2006/relationships/image" Target="../media/image28.wmf"/><Relationship Id="rId24" Type="http://schemas.openxmlformats.org/officeDocument/2006/relationships/image" Target="../media/image29.wmf"/><Relationship Id="rId25" Type="http://schemas.openxmlformats.org/officeDocument/2006/relationships/image" Target="../media/image17.gif"/><Relationship Id="rId26" Type="http://schemas.openxmlformats.org/officeDocument/2006/relationships/image" Target="../media/image30.png"/><Relationship Id="rId27" Type="http://schemas.openxmlformats.org/officeDocument/2006/relationships/image" Target="../media/image30.png"/><Relationship Id="rId28" Type="http://schemas.openxmlformats.org/officeDocument/2006/relationships/image" Target="../media/image4.png"/><Relationship Id="rId29" Type="http://schemas.openxmlformats.org/officeDocument/2006/relationships/image" Target="../media/image31.wmf"/><Relationship Id="rId30" Type="http://schemas.openxmlformats.org/officeDocument/2006/relationships/image" Target="../media/image32.wmf"/><Relationship Id="rId31" Type="http://schemas.openxmlformats.org/officeDocument/2006/relationships/image" Target="../media/image18.gif"/><Relationship Id="rId32" Type="http://schemas.openxmlformats.org/officeDocument/2006/relationships/image" Target="../media/image23.gif"/><Relationship Id="rId33" Type="http://schemas.openxmlformats.org/officeDocument/2006/relationships/image" Target="../media/image27.png"/><Relationship Id="rId34" Type="http://schemas.openxmlformats.org/officeDocument/2006/relationships/image" Target="../media/image28.wmf"/><Relationship Id="rId35" Type="http://schemas.openxmlformats.org/officeDocument/2006/relationships/image" Target="../media/image29.wmf"/><Relationship Id="rId36" Type="http://schemas.openxmlformats.org/officeDocument/2006/relationships/image" Target="../media/image17.gif"/><Relationship Id="rId37" Type="http://schemas.openxmlformats.org/officeDocument/2006/relationships/image" Target="../media/image33.png"/><Relationship Id="rId38" Type="http://schemas.openxmlformats.org/officeDocument/2006/relationships/image" Target="../media/image31.wmf"/><Relationship Id="rId39" Type="http://schemas.openxmlformats.org/officeDocument/2006/relationships/image" Target="../media/image32.wmf"/><Relationship Id="rId40" Type="http://schemas.openxmlformats.org/officeDocument/2006/relationships/image" Target="../media/image18.gif"/><Relationship Id="rId41" Type="http://schemas.openxmlformats.org/officeDocument/2006/relationships/image" Target="../media/image23.gif"/><Relationship Id="rId42" Type="http://schemas.openxmlformats.org/officeDocument/2006/relationships/image" Target="../media/image17.gif"/><Relationship Id="rId43" Type="http://schemas.openxmlformats.org/officeDocument/2006/relationships/image" Target="../media/image20.png"/><Relationship Id="rId44" Type="http://schemas.openxmlformats.org/officeDocument/2006/relationships/image" Target="../media/image21.png"/><Relationship Id="rId45" Type="http://schemas.openxmlformats.org/officeDocument/2006/relationships/image" Target="../media/image30.png"/><Relationship Id="rId46" Type="http://schemas.openxmlformats.org/officeDocument/2006/relationships/image" Target="../media/image34.gif"/><Relationship Id="rId47" Type="http://schemas.openxmlformats.org/officeDocument/2006/relationships/image" Target="../media/image34.gif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3160" y="399960"/>
          <a:ext cx="6453000" cy="8340840"/>
        </p:xfrm>
        <a:graphic>
          <a:graphicData uri="http://schemas.openxmlformats.org/drawingml/2006/table">
            <a:tbl>
              <a:tblPr/>
              <a:tblGrid>
                <a:gridCol w="920520"/>
                <a:gridCol w="924120"/>
                <a:gridCol w="920520"/>
                <a:gridCol w="922320"/>
                <a:gridCol w="920880"/>
                <a:gridCol w="924120"/>
                <a:gridCol w="920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5028840" y="56844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2280" y="56844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8320" y="141120"/>
            <a:ext cx="348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ד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5778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47120" y="5778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14800" y="5778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28120" y="5778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05360" y="20829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42000" y="1397160"/>
            <a:ext cx="771480" cy="715320"/>
            <a:chOff x="4842000" y="1397160"/>
            <a:chExt cx="771480" cy="7153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5060880" y="141300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842000" y="142272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31520" y="15782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83200" y="1839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02360" y="13971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10760" y="197496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834080" y="2443320"/>
            <a:ext cx="833040" cy="716760"/>
            <a:chOff x="4834080" y="2443320"/>
            <a:chExt cx="833040" cy="716760"/>
          </a:xfrm>
        </p:grpSpPr>
        <p:sp>
          <p:nvSpPr>
            <p:cNvPr id="58" name=""/>
            <p:cNvSpPr/>
            <p:nvPr/>
          </p:nvSpPr>
          <p:spPr>
            <a:xfrm>
              <a:off x="4838760" y="244332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85520" y="26492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38360" y="28764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mh2l_p" descr=""/>
            <p:cNvPicPr/>
            <p:nvPr/>
          </p:nvPicPr>
          <p:blipFill>
            <a:blip r:embed="rId3"/>
            <a:stretch/>
          </p:blipFill>
          <p:spPr>
            <a:xfrm>
              <a:off x="4834080" y="2585880"/>
              <a:ext cx="4460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173920" y="30225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48120" y="1481040"/>
            <a:ext cx="811080" cy="707400"/>
            <a:chOff x="3948120" y="1481040"/>
            <a:chExt cx="811080" cy="707400"/>
          </a:xfrm>
        </p:grpSpPr>
        <p:sp>
          <p:nvSpPr>
            <p:cNvPr id="64" name=""/>
            <p:cNvSpPr/>
            <p:nvPr/>
          </p:nvSpPr>
          <p:spPr>
            <a:xfrm>
              <a:off x="4511520" y="148104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74000" y="16650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6320" y="1868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yoga" descr=""/>
            <p:cNvPicPr/>
            <p:nvPr/>
          </p:nvPicPr>
          <p:blipFill>
            <a:blip r:embed="rId4"/>
            <a:stretch/>
          </p:blipFill>
          <p:spPr>
            <a:xfrm>
              <a:off x="3948120" y="151416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120200" y="19573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65680" y="2370240"/>
            <a:ext cx="924120" cy="705600"/>
            <a:chOff x="3865680" y="2370240"/>
            <a:chExt cx="924120" cy="705600"/>
          </a:xfrm>
        </p:grpSpPr>
        <p:sp>
          <p:nvSpPr>
            <p:cNvPr id="70" name=""/>
            <p:cNvSpPr/>
            <p:nvPr/>
          </p:nvSpPr>
          <p:spPr>
            <a:xfrm>
              <a:off x="4402800" y="25797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60240" y="27543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72200" y="238608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germ_squishing_around_ty_CLR" descr=""/>
            <p:cNvPicPr/>
            <p:nvPr/>
          </p:nvPicPr>
          <p:blipFill>
            <a:blip r:embed="rId5"/>
            <a:stretch/>
          </p:blipFill>
          <p:spPr>
            <a:xfrm>
              <a:off x="3865680" y="23702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982680" y="2844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952720" y="944640"/>
            <a:ext cx="902520" cy="710640"/>
            <a:chOff x="2952720" y="944640"/>
            <a:chExt cx="902520" cy="710640"/>
          </a:xfrm>
        </p:grpSpPr>
        <p:sp>
          <p:nvSpPr>
            <p:cNvPr id="76" name=""/>
            <p:cNvSpPr/>
            <p:nvPr/>
          </p:nvSpPr>
          <p:spPr>
            <a:xfrm>
              <a:off x="3099960" y="9446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2952720" y="10875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2952720" y="10875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373920" y="11336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5920" y="13273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87360" y="14241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05280" y="2633760"/>
            <a:ext cx="833040" cy="717120"/>
            <a:chOff x="3005280" y="2633760"/>
            <a:chExt cx="833040" cy="717120"/>
          </a:xfrm>
        </p:grpSpPr>
        <p:sp>
          <p:nvSpPr>
            <p:cNvPr id="83" name=""/>
            <p:cNvSpPr/>
            <p:nvPr/>
          </p:nvSpPr>
          <p:spPr>
            <a:xfrm>
              <a:off x="3009960" y="26337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56720" y="2840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9560" y="3067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mh2l_p" descr=""/>
            <p:cNvPicPr/>
            <p:nvPr/>
          </p:nvPicPr>
          <p:blipFill>
            <a:blip r:embed="rId8"/>
            <a:stretch/>
          </p:blipFill>
          <p:spPr>
            <a:xfrm>
              <a:off x="3005280" y="27766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345120" y="32133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903400" y="1662120"/>
            <a:ext cx="1048320" cy="831240"/>
            <a:chOff x="2903400" y="1662120"/>
            <a:chExt cx="1048320" cy="831240"/>
          </a:xfrm>
        </p:grpSpPr>
        <p:sp>
          <p:nvSpPr>
            <p:cNvPr id="89" name=""/>
            <p:cNvSpPr/>
            <p:nvPr/>
          </p:nvSpPr>
          <p:spPr>
            <a:xfrm>
              <a:off x="3440880" y="18525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53800" y="1662120"/>
              <a:ext cx="94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 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30800" y="215100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corporate_travel_sm_CLR" descr=""/>
            <p:cNvPicPr/>
            <p:nvPr/>
          </p:nvPicPr>
          <p:blipFill>
            <a:blip r:embed="rId9"/>
            <a:stretch/>
          </p:blipFill>
          <p:spPr>
            <a:xfrm>
              <a:off x="2903400" y="1800360"/>
              <a:ext cx="52704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144600" y="2262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043000" y="976320"/>
            <a:ext cx="878760" cy="699480"/>
            <a:chOff x="2043000" y="976320"/>
            <a:chExt cx="878760" cy="699480"/>
          </a:xfrm>
        </p:grpSpPr>
        <p:sp>
          <p:nvSpPr>
            <p:cNvPr id="95" name=""/>
            <p:cNvSpPr/>
            <p:nvPr/>
          </p:nvSpPr>
          <p:spPr>
            <a:xfrm>
              <a:off x="2291760" y="976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כ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0"/>
            <a:stretch/>
          </p:blipFill>
          <p:spPr>
            <a:xfrm>
              <a:off x="2043000" y="1033560"/>
              <a:ext cx="2970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1"/>
            <a:stretch/>
          </p:blipFill>
          <p:spPr>
            <a:xfrm>
              <a:off x="2043000" y="1033560"/>
              <a:ext cx="2970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518560" y="11779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48640" y="1346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07160" y="14446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066760" y="2709720"/>
            <a:ext cx="846720" cy="707400"/>
            <a:chOff x="2066760" y="2709720"/>
            <a:chExt cx="846720" cy="707400"/>
          </a:xfrm>
        </p:grpSpPr>
        <p:grpSp>
          <p:nvGrpSpPr>
            <p:cNvPr id="102" name=""/>
            <p:cNvGrpSpPr/>
            <p:nvPr/>
          </p:nvGrpSpPr>
          <p:grpSpPr>
            <a:xfrm>
              <a:off x="2066760" y="2800440"/>
              <a:ext cx="361440" cy="332640"/>
              <a:chOff x="2066760" y="2800440"/>
              <a:chExt cx="361440" cy="332640"/>
            </a:xfrm>
          </p:grpSpPr>
          <p:sp>
            <p:nvSpPr>
              <p:cNvPr id="103" name=""/>
              <p:cNvSpPr/>
              <p:nvPr/>
            </p:nvSpPr>
            <p:spPr>
              <a:xfrm>
                <a:off x="2066760" y="2800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47480" y="2800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66760" y="29667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47480" y="29667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498400" y="29034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6840" y="30970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57360" y="27097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6360" y="31860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52360" y="1195560"/>
            <a:ext cx="808560" cy="707040"/>
            <a:chOff x="1152360" y="1195560"/>
            <a:chExt cx="808560" cy="707040"/>
          </a:xfrm>
        </p:grpSpPr>
        <p:grpSp>
          <p:nvGrpSpPr>
            <p:cNvPr id="112" name=""/>
            <p:cNvGrpSpPr/>
            <p:nvPr/>
          </p:nvGrpSpPr>
          <p:grpSpPr>
            <a:xfrm>
              <a:off x="1152360" y="1285560"/>
              <a:ext cx="361440" cy="332640"/>
              <a:chOff x="1152360" y="1285560"/>
              <a:chExt cx="361440" cy="332640"/>
            </a:xfrm>
          </p:grpSpPr>
          <p:sp>
            <p:nvSpPr>
              <p:cNvPr id="113" name=""/>
              <p:cNvSpPr/>
              <p:nvPr/>
            </p:nvSpPr>
            <p:spPr>
              <a:xfrm>
                <a:off x="1152360" y="12855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33080" y="12855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52360" y="14518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33080" y="14518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583640" y="13888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32440" y="15825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2960" y="11955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9760" y="16714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03400" y="2357280"/>
            <a:ext cx="901440" cy="755280"/>
            <a:chOff x="1103400" y="2357280"/>
            <a:chExt cx="901440" cy="755280"/>
          </a:xfrm>
        </p:grpSpPr>
        <p:sp>
          <p:nvSpPr>
            <p:cNvPr id="122" name=""/>
            <p:cNvSpPr/>
            <p:nvPr/>
          </p:nvSpPr>
          <p:spPr>
            <a:xfrm>
              <a:off x="1672560" y="255744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03400" y="23572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430280" y="2558880"/>
              <a:ext cx="191880" cy="226800"/>
              <a:chOff x="1430280" y="2558880"/>
              <a:chExt cx="191880" cy="22680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30280" y="25588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30280" y="25588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"/>
            <p:cNvGrpSpPr/>
            <p:nvPr/>
          </p:nvGrpSpPr>
          <p:grpSpPr>
            <a:xfrm>
              <a:off x="1180800" y="2548080"/>
              <a:ext cx="199800" cy="246960"/>
              <a:chOff x="1180800" y="2548080"/>
              <a:chExt cx="199800" cy="2469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80800" y="25480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80800" y="25480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>
              <a:off x="1410480" y="2779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63160" y="2881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1600" y="1719360"/>
            <a:ext cx="887040" cy="726480"/>
            <a:chOff x="201600" y="1719360"/>
            <a:chExt cx="887040" cy="726480"/>
          </a:xfrm>
        </p:grpSpPr>
        <p:pic>
          <p:nvPicPr>
            <p:cNvPr id="133" name="acs1" descr=""/>
            <p:cNvPicPr/>
            <p:nvPr/>
          </p:nvPicPr>
          <p:blipFill>
            <a:blip r:embed="rId16"/>
            <a:stretch/>
          </p:blipFill>
          <p:spPr>
            <a:xfrm>
              <a:off x="201600" y="1752840"/>
              <a:ext cx="36684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63760" y="171936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ימ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1480" y="18907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3040" y="21160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ר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0320" y="2214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815080" y="46353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842000" y="3425760"/>
            <a:ext cx="771480" cy="715320"/>
            <a:chOff x="4842000" y="3425760"/>
            <a:chExt cx="771480" cy="715320"/>
          </a:xfrm>
        </p:grpSpPr>
        <p:pic>
          <p:nvPicPr>
            <p:cNvPr id="140" name="" descr=""/>
            <p:cNvPicPr/>
            <p:nvPr/>
          </p:nvPicPr>
          <p:blipFill>
            <a:blip r:embed="rId17"/>
            <a:stretch/>
          </p:blipFill>
          <p:spPr>
            <a:xfrm>
              <a:off x="5060880" y="344160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8"/>
            <a:stretch/>
          </p:blipFill>
          <p:spPr>
            <a:xfrm>
              <a:off x="4842000" y="345132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231520" y="36068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3200" y="3868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360" y="34257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0760" y="400356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15000" y="4281480"/>
            <a:ext cx="833040" cy="717120"/>
            <a:chOff x="4815000" y="4281480"/>
            <a:chExt cx="833040" cy="717120"/>
          </a:xfrm>
        </p:grpSpPr>
        <p:sp>
          <p:nvSpPr>
            <p:cNvPr id="147" name=""/>
            <p:cNvSpPr/>
            <p:nvPr/>
          </p:nvSpPr>
          <p:spPr>
            <a:xfrm>
              <a:off x="4819680" y="42814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66440" y="44877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9280" y="47149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mh2l_p" descr=""/>
            <p:cNvPicPr/>
            <p:nvPr/>
          </p:nvPicPr>
          <p:blipFill>
            <a:blip r:embed="rId19"/>
            <a:stretch/>
          </p:blipFill>
          <p:spPr>
            <a:xfrm>
              <a:off x="4815000" y="44244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154840" y="48610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772160" y="5024520"/>
            <a:ext cx="944640" cy="704880"/>
            <a:chOff x="4772160" y="5024520"/>
            <a:chExt cx="944640" cy="704880"/>
          </a:xfrm>
        </p:grpSpPr>
        <p:sp>
          <p:nvSpPr>
            <p:cNvPr id="153" name=""/>
            <p:cNvSpPr/>
            <p:nvPr/>
          </p:nvSpPr>
          <p:spPr>
            <a:xfrm>
              <a:off x="4861080" y="502452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1360" y="52023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5120" y="54039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11720" y="55659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woman_at_pottery_wheel_ty_CLR_Horiz" descr=""/>
            <p:cNvPicPr/>
            <p:nvPr/>
          </p:nvPicPr>
          <p:blipFill>
            <a:blip r:embed="rId20"/>
            <a:stretch/>
          </p:blipFill>
          <p:spPr>
            <a:xfrm>
              <a:off x="4772160" y="517068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3881520" y="3909960"/>
            <a:ext cx="811080" cy="707400"/>
            <a:chOff x="3881520" y="3909960"/>
            <a:chExt cx="811080" cy="707400"/>
          </a:xfrm>
        </p:grpSpPr>
        <p:sp>
          <p:nvSpPr>
            <p:cNvPr id="159" name=""/>
            <p:cNvSpPr/>
            <p:nvPr/>
          </p:nvSpPr>
          <p:spPr>
            <a:xfrm>
              <a:off x="4444920" y="390996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07400" y="40939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9720" y="42973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yoga" descr=""/>
            <p:cNvPicPr/>
            <p:nvPr/>
          </p:nvPicPr>
          <p:blipFill>
            <a:blip r:embed="rId21"/>
            <a:stretch/>
          </p:blipFill>
          <p:spPr>
            <a:xfrm>
              <a:off x="3881520" y="394308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053600" y="43862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27520" y="4951440"/>
            <a:ext cx="924120" cy="705600"/>
            <a:chOff x="3827520" y="4951440"/>
            <a:chExt cx="924120" cy="705600"/>
          </a:xfrm>
        </p:grpSpPr>
        <p:sp>
          <p:nvSpPr>
            <p:cNvPr id="165" name=""/>
            <p:cNvSpPr/>
            <p:nvPr/>
          </p:nvSpPr>
          <p:spPr>
            <a:xfrm>
              <a:off x="4364640" y="5160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080" y="53355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34040" y="496728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germ_squishing_around_ty_CLR" descr=""/>
            <p:cNvPicPr/>
            <p:nvPr/>
          </p:nvPicPr>
          <p:blipFill>
            <a:blip r:embed="rId22"/>
            <a:stretch/>
          </p:blipFill>
          <p:spPr>
            <a:xfrm>
              <a:off x="3827520" y="49514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944520" y="54259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43360" y="3373560"/>
            <a:ext cx="901800" cy="710280"/>
            <a:chOff x="2943360" y="3373560"/>
            <a:chExt cx="901800" cy="710280"/>
          </a:xfrm>
        </p:grpSpPr>
        <p:sp>
          <p:nvSpPr>
            <p:cNvPr id="171" name=""/>
            <p:cNvSpPr/>
            <p:nvPr/>
          </p:nvSpPr>
          <p:spPr>
            <a:xfrm>
              <a:off x="3089880" y="33735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3"/>
            <a:stretch/>
          </p:blipFill>
          <p:spPr>
            <a:xfrm>
              <a:off x="2943360" y="3516120"/>
              <a:ext cx="29484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4"/>
            <a:stretch/>
          </p:blipFill>
          <p:spPr>
            <a:xfrm>
              <a:off x="2943360" y="3516120"/>
              <a:ext cx="29484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64200" y="35622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55840" y="37558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77640" y="38527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95560" y="5396040"/>
            <a:ext cx="833040" cy="669240"/>
            <a:chOff x="2995560" y="5396040"/>
            <a:chExt cx="833040" cy="669240"/>
          </a:xfrm>
        </p:grpSpPr>
        <p:sp>
          <p:nvSpPr>
            <p:cNvPr id="178" name=""/>
            <p:cNvSpPr/>
            <p:nvPr/>
          </p:nvSpPr>
          <p:spPr>
            <a:xfrm>
              <a:off x="3000240" y="53960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47000" y="5602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00200" y="57816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mh2l_p" descr=""/>
            <p:cNvPicPr/>
            <p:nvPr/>
          </p:nvPicPr>
          <p:blipFill>
            <a:blip r:embed="rId25"/>
            <a:stretch/>
          </p:blipFill>
          <p:spPr>
            <a:xfrm>
              <a:off x="2995560" y="553896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335400" y="59277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000600" y="4729320"/>
            <a:ext cx="834480" cy="754920"/>
            <a:chOff x="3000600" y="4729320"/>
            <a:chExt cx="834480" cy="754920"/>
          </a:xfrm>
        </p:grpSpPr>
        <p:sp>
          <p:nvSpPr>
            <p:cNvPr id="184" name=""/>
            <p:cNvSpPr/>
            <p:nvPr/>
          </p:nvSpPr>
          <p:spPr>
            <a:xfrm>
              <a:off x="3511080" y="49294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00600" y="47293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268800" y="4930920"/>
              <a:ext cx="191880" cy="226800"/>
              <a:chOff x="3268800" y="4930920"/>
              <a:chExt cx="191880" cy="2268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68800" y="4930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268800" y="4930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3019320" y="4919760"/>
              <a:ext cx="199800" cy="247320"/>
              <a:chOff x="3019320" y="4919760"/>
              <a:chExt cx="199800" cy="247320"/>
            </a:xfrm>
          </p:grpSpPr>
          <p:pic>
            <p:nvPicPr>
              <p:cNvPr id="19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019320" y="4919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019320" y="4919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"/>
            <p:cNvSpPr/>
            <p:nvPr/>
          </p:nvSpPr>
          <p:spPr>
            <a:xfrm>
              <a:off x="3249000" y="51516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67640" y="52531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55880" y="3986280"/>
            <a:ext cx="1048320" cy="831240"/>
            <a:chOff x="2855880" y="3986280"/>
            <a:chExt cx="1048320" cy="831240"/>
          </a:xfrm>
        </p:grpSpPr>
        <p:sp>
          <p:nvSpPr>
            <p:cNvPr id="195" name=""/>
            <p:cNvSpPr/>
            <p:nvPr/>
          </p:nvSpPr>
          <p:spPr>
            <a:xfrm>
              <a:off x="3393360" y="41767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6280" y="3986280"/>
              <a:ext cx="94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 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3280" y="44751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corporate_travel_sm_CLR" descr=""/>
            <p:cNvPicPr/>
            <p:nvPr/>
          </p:nvPicPr>
          <p:blipFill>
            <a:blip r:embed="rId30"/>
            <a:stretch/>
          </p:blipFill>
          <p:spPr>
            <a:xfrm>
              <a:off x="2855880" y="4124520"/>
              <a:ext cx="52704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097080" y="4586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062080" y="3548160"/>
            <a:ext cx="878400" cy="699480"/>
            <a:chOff x="2062080" y="3548160"/>
            <a:chExt cx="878400" cy="699480"/>
          </a:xfrm>
        </p:grpSpPr>
        <p:sp>
          <p:nvSpPr>
            <p:cNvPr id="201" name=""/>
            <p:cNvSpPr/>
            <p:nvPr/>
          </p:nvSpPr>
          <p:spPr>
            <a:xfrm>
              <a:off x="2310480" y="354816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כ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1"/>
            <a:stretch/>
          </p:blipFill>
          <p:spPr>
            <a:xfrm>
              <a:off x="2062080" y="3605400"/>
              <a:ext cx="29664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2"/>
            <a:stretch/>
          </p:blipFill>
          <p:spPr>
            <a:xfrm>
              <a:off x="2062080" y="3605400"/>
              <a:ext cx="2966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536920" y="37497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7360" y="39178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5520" y="401652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33640" y="3767040"/>
            <a:ext cx="809280" cy="707400"/>
            <a:chOff x="1133640" y="3767040"/>
            <a:chExt cx="809280" cy="707400"/>
          </a:xfrm>
        </p:grpSpPr>
        <p:grpSp>
          <p:nvGrpSpPr>
            <p:cNvPr id="208" name=""/>
            <p:cNvGrpSpPr/>
            <p:nvPr/>
          </p:nvGrpSpPr>
          <p:grpSpPr>
            <a:xfrm>
              <a:off x="1133640" y="3857760"/>
              <a:ext cx="361440" cy="332640"/>
              <a:chOff x="1133640" y="3857760"/>
              <a:chExt cx="361440" cy="33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1133640" y="38577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14360" y="38577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33640" y="40240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14360" y="40240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565640" y="39607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13720" y="41544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7670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91320" y="42433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122480" y="4786200"/>
            <a:ext cx="901440" cy="755280"/>
            <a:chOff x="1122480" y="4786200"/>
            <a:chExt cx="901440" cy="755280"/>
          </a:xfrm>
        </p:grpSpPr>
        <p:sp>
          <p:nvSpPr>
            <p:cNvPr id="218" name=""/>
            <p:cNvSpPr/>
            <p:nvPr/>
          </p:nvSpPr>
          <p:spPr>
            <a:xfrm>
              <a:off x="1691640" y="498636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2480" y="47862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449360" y="4987800"/>
              <a:ext cx="191880" cy="226800"/>
              <a:chOff x="1449360" y="4987800"/>
              <a:chExt cx="191880" cy="22680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449360" y="4987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449360" y="4987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1199880" y="4977000"/>
              <a:ext cx="199800" cy="246960"/>
              <a:chOff x="1199880" y="4977000"/>
              <a:chExt cx="199800" cy="246960"/>
            </a:xfrm>
          </p:grpSpPr>
          <p:pic>
            <p:nvPicPr>
              <p:cNvPr id="22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199880" y="4977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199880" y="4977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"/>
            <p:cNvSpPr/>
            <p:nvPr/>
          </p:nvSpPr>
          <p:spPr>
            <a:xfrm>
              <a:off x="1429560" y="5208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2240" y="53103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776920" y="73407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800600" y="7777080"/>
            <a:ext cx="944640" cy="704880"/>
            <a:chOff x="4800600" y="7777080"/>
            <a:chExt cx="944640" cy="704880"/>
          </a:xfrm>
        </p:grpSpPr>
        <p:sp>
          <p:nvSpPr>
            <p:cNvPr id="230" name=""/>
            <p:cNvSpPr/>
            <p:nvPr/>
          </p:nvSpPr>
          <p:spPr>
            <a:xfrm>
              <a:off x="4889520" y="777708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29800" y="79549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63560" y="81565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40160" y="83185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woman_at_pottery_wheel_ty_CLR_Horiz" descr=""/>
            <p:cNvPicPr/>
            <p:nvPr/>
          </p:nvPicPr>
          <p:blipFill>
            <a:blip r:embed="rId37"/>
            <a:stretch/>
          </p:blipFill>
          <p:spPr>
            <a:xfrm>
              <a:off x="4800600" y="792324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4789800" y="6072120"/>
            <a:ext cx="901440" cy="754920"/>
            <a:chOff x="4789800" y="6072120"/>
            <a:chExt cx="901440" cy="754920"/>
          </a:xfrm>
        </p:grpSpPr>
        <p:sp>
          <p:nvSpPr>
            <p:cNvPr id="236" name=""/>
            <p:cNvSpPr/>
            <p:nvPr/>
          </p:nvSpPr>
          <p:spPr>
            <a:xfrm>
              <a:off x="5358960" y="627192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89800" y="60721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116680" y="6273360"/>
              <a:ext cx="191880" cy="226440"/>
              <a:chOff x="5116680" y="6273360"/>
              <a:chExt cx="191880" cy="2264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116680" y="62733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6680" y="62733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4867200" y="6262560"/>
              <a:ext cx="199800" cy="246600"/>
              <a:chOff x="4867200" y="6262560"/>
              <a:chExt cx="199800" cy="24660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867200" y="62625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867200" y="62625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"/>
            <p:cNvSpPr/>
            <p:nvPr/>
          </p:nvSpPr>
          <p:spPr>
            <a:xfrm>
              <a:off x="5096880" y="64940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9560" y="65959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843440" y="7043760"/>
            <a:ext cx="833040" cy="717120"/>
            <a:chOff x="4843440" y="7043760"/>
            <a:chExt cx="833040" cy="717120"/>
          </a:xfrm>
        </p:grpSpPr>
        <p:sp>
          <p:nvSpPr>
            <p:cNvPr id="247" name=""/>
            <p:cNvSpPr/>
            <p:nvPr/>
          </p:nvSpPr>
          <p:spPr>
            <a:xfrm>
              <a:off x="4848120" y="70437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4880" y="7250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7720" y="7477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mh2l_p" descr=""/>
            <p:cNvPicPr/>
            <p:nvPr/>
          </p:nvPicPr>
          <p:blipFill>
            <a:blip r:embed="rId42"/>
            <a:stretch/>
          </p:blipFill>
          <p:spPr>
            <a:xfrm>
              <a:off x="4843440" y="71866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83280" y="76233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905280" y="6443640"/>
            <a:ext cx="808560" cy="708840"/>
            <a:chOff x="3905280" y="6443640"/>
            <a:chExt cx="808560" cy="708840"/>
          </a:xfrm>
        </p:grpSpPr>
        <p:grpSp>
          <p:nvGrpSpPr>
            <p:cNvPr id="253" name=""/>
            <p:cNvGrpSpPr/>
            <p:nvPr/>
          </p:nvGrpSpPr>
          <p:grpSpPr>
            <a:xfrm>
              <a:off x="3905280" y="6534000"/>
              <a:ext cx="361440" cy="332640"/>
              <a:chOff x="3905280" y="6534000"/>
              <a:chExt cx="361440" cy="33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3905280" y="6534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86000" y="6534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905280" y="6700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86000" y="6700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336560" y="66373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85360" y="68310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95880" y="64436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880" y="692136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24720" y="7443720"/>
            <a:ext cx="834480" cy="754920"/>
            <a:chOff x="3924720" y="7443720"/>
            <a:chExt cx="834480" cy="754920"/>
          </a:xfrm>
        </p:grpSpPr>
        <p:sp>
          <p:nvSpPr>
            <p:cNvPr id="263" name=""/>
            <p:cNvSpPr/>
            <p:nvPr/>
          </p:nvSpPr>
          <p:spPr>
            <a:xfrm>
              <a:off x="4435200" y="764352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24720" y="74437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192920" y="7644960"/>
              <a:ext cx="191880" cy="226440"/>
              <a:chOff x="4192920" y="7644960"/>
              <a:chExt cx="191880" cy="226440"/>
            </a:xfrm>
          </p:grpSpPr>
          <p:pic>
            <p:nvPicPr>
              <p:cNvPr id="26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192920" y="7644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192920" y="7644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8" name=""/>
            <p:cNvGrpSpPr/>
            <p:nvPr/>
          </p:nvGrpSpPr>
          <p:grpSpPr>
            <a:xfrm>
              <a:off x="3943440" y="7634160"/>
              <a:ext cx="199800" cy="246600"/>
              <a:chOff x="3943440" y="7634160"/>
              <a:chExt cx="199800" cy="246600"/>
            </a:xfrm>
          </p:grpSpPr>
          <p:pic>
            <p:nvPicPr>
              <p:cNvPr id="26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43440" y="76341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943440" y="763416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"/>
            <p:cNvSpPr/>
            <p:nvPr/>
          </p:nvSpPr>
          <p:spPr>
            <a:xfrm>
              <a:off x="4173120" y="7865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5800" y="79675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971800" y="6049800"/>
            <a:ext cx="901800" cy="710640"/>
            <a:chOff x="2971800" y="6049800"/>
            <a:chExt cx="901800" cy="710640"/>
          </a:xfrm>
        </p:grpSpPr>
        <p:sp>
          <p:nvSpPr>
            <p:cNvPr id="274" name=""/>
            <p:cNvSpPr/>
            <p:nvPr/>
          </p:nvSpPr>
          <p:spPr>
            <a:xfrm>
              <a:off x="3118320" y="60498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47"/>
            <a:stretch/>
          </p:blipFill>
          <p:spPr>
            <a:xfrm>
              <a:off x="2971800" y="619272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8"/>
            <a:stretch/>
          </p:blipFill>
          <p:spPr>
            <a:xfrm>
              <a:off x="2971800" y="619272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392640" y="62388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4280" y="64324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06080" y="65293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981520" y="6815160"/>
            <a:ext cx="834480" cy="754920"/>
            <a:chOff x="2981520" y="6815160"/>
            <a:chExt cx="834480" cy="754920"/>
          </a:xfrm>
        </p:grpSpPr>
        <p:sp>
          <p:nvSpPr>
            <p:cNvPr id="281" name=""/>
            <p:cNvSpPr/>
            <p:nvPr/>
          </p:nvSpPr>
          <p:spPr>
            <a:xfrm>
              <a:off x="3492000" y="701496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681516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249720" y="7016400"/>
              <a:ext cx="191880" cy="226440"/>
              <a:chOff x="3249720" y="7016400"/>
              <a:chExt cx="191880" cy="226440"/>
            </a:xfrm>
          </p:grpSpPr>
          <p:pic>
            <p:nvPicPr>
              <p:cNvPr id="284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3249720" y="7016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3249720" y="7016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6" name=""/>
            <p:cNvGrpSpPr/>
            <p:nvPr/>
          </p:nvGrpSpPr>
          <p:grpSpPr>
            <a:xfrm>
              <a:off x="3000240" y="7005600"/>
              <a:ext cx="199800" cy="246600"/>
              <a:chOff x="3000240" y="7005600"/>
              <a:chExt cx="199800" cy="246600"/>
            </a:xfrm>
          </p:grpSpPr>
          <p:pic>
            <p:nvPicPr>
              <p:cNvPr id="287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3000240" y="70056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3000240" y="70056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"/>
            <p:cNvSpPr/>
            <p:nvPr/>
          </p:nvSpPr>
          <p:spPr>
            <a:xfrm>
              <a:off x="3229920" y="72370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7338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95480" y="7612200"/>
            <a:ext cx="970920" cy="910440"/>
            <a:chOff x="2895480" y="7612200"/>
            <a:chExt cx="970920" cy="910440"/>
          </a:xfrm>
        </p:grpSpPr>
        <p:sp>
          <p:nvSpPr>
            <p:cNvPr id="292" name=""/>
            <p:cNvSpPr/>
            <p:nvPr/>
          </p:nvSpPr>
          <p:spPr>
            <a:xfrm>
              <a:off x="2900880" y="761220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98120" y="784224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21360" y="8189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earthy_pollution_sm_CLR" descr=""/>
            <p:cNvPicPr/>
            <p:nvPr/>
          </p:nvPicPr>
          <p:blipFill>
            <a:blip r:embed="rId53"/>
            <a:stretch/>
          </p:blipFill>
          <p:spPr>
            <a:xfrm>
              <a:off x="2895480" y="7719840"/>
              <a:ext cx="54432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177000" y="82915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076480" y="6681960"/>
            <a:ext cx="846360" cy="707040"/>
            <a:chOff x="2076480" y="6681960"/>
            <a:chExt cx="846360" cy="707040"/>
          </a:xfrm>
        </p:grpSpPr>
        <p:grpSp>
          <p:nvGrpSpPr>
            <p:cNvPr id="298" name=""/>
            <p:cNvGrpSpPr/>
            <p:nvPr/>
          </p:nvGrpSpPr>
          <p:grpSpPr>
            <a:xfrm>
              <a:off x="2076480" y="6772320"/>
              <a:ext cx="361440" cy="332640"/>
              <a:chOff x="2076480" y="6772320"/>
              <a:chExt cx="361440" cy="332640"/>
            </a:xfrm>
          </p:grpSpPr>
          <p:sp>
            <p:nvSpPr>
              <p:cNvPr id="299" name=""/>
              <p:cNvSpPr/>
              <p:nvPr/>
            </p:nvSpPr>
            <p:spPr>
              <a:xfrm>
                <a:off x="2076480" y="6772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57200" y="6772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76480" y="69386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57200" y="69386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507400" y="68752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6200" y="70689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66720" y="66819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15720" y="7157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81160" y="7710480"/>
            <a:ext cx="833040" cy="717120"/>
            <a:chOff x="2081160" y="7710480"/>
            <a:chExt cx="833040" cy="717120"/>
          </a:xfrm>
        </p:grpSpPr>
        <p:sp>
          <p:nvSpPr>
            <p:cNvPr id="308" name=""/>
            <p:cNvSpPr/>
            <p:nvPr/>
          </p:nvSpPr>
          <p:spPr>
            <a:xfrm>
              <a:off x="2085840" y="77104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2600" y="79167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5440" y="81439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mh2l_p" descr=""/>
            <p:cNvPicPr/>
            <p:nvPr/>
          </p:nvPicPr>
          <p:blipFill>
            <a:blip r:embed="rId54"/>
            <a:stretch/>
          </p:blipFill>
          <p:spPr>
            <a:xfrm>
              <a:off x="2081160" y="78534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421000" y="82900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109520" y="6529320"/>
            <a:ext cx="984240" cy="756720"/>
            <a:chOff x="1109520" y="6529320"/>
            <a:chExt cx="984240" cy="756720"/>
          </a:xfrm>
        </p:grpSpPr>
        <p:pic>
          <p:nvPicPr>
            <p:cNvPr id="314" name="Geoshapes_10_md_wht" descr=""/>
            <p:cNvPicPr/>
            <p:nvPr/>
          </p:nvPicPr>
          <p:blipFill>
            <a:blip r:embed="rId55"/>
            <a:stretch/>
          </p:blipFill>
          <p:spPr>
            <a:xfrm>
              <a:off x="1109520" y="6567480"/>
              <a:ext cx="4273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415880" y="69418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6080" y="6529320"/>
              <a:ext cx="5187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71760" y="6721560"/>
              <a:ext cx="522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70549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133640" y="7539120"/>
            <a:ext cx="846360" cy="707400"/>
            <a:chOff x="1133640" y="7539120"/>
            <a:chExt cx="846360" cy="707400"/>
          </a:xfrm>
        </p:grpSpPr>
        <p:grpSp>
          <p:nvGrpSpPr>
            <p:cNvPr id="320" name=""/>
            <p:cNvGrpSpPr/>
            <p:nvPr/>
          </p:nvGrpSpPr>
          <p:grpSpPr>
            <a:xfrm>
              <a:off x="1133640" y="7629840"/>
              <a:ext cx="361440" cy="332640"/>
              <a:chOff x="1133640" y="7629840"/>
              <a:chExt cx="361440" cy="332640"/>
            </a:xfrm>
          </p:grpSpPr>
          <p:sp>
            <p:nvSpPr>
              <p:cNvPr id="321" name=""/>
              <p:cNvSpPr/>
              <p:nvPr/>
            </p:nvSpPr>
            <p:spPr>
              <a:xfrm>
                <a:off x="1133640" y="7629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14360" y="7629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33640" y="7796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14360" y="7796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564560" y="77328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3360" y="79264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3880" y="753912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72880" y="8015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0680" y="4233960"/>
            <a:ext cx="887040" cy="726480"/>
            <a:chOff x="220680" y="4233960"/>
            <a:chExt cx="887040" cy="726480"/>
          </a:xfrm>
        </p:grpSpPr>
        <p:pic>
          <p:nvPicPr>
            <p:cNvPr id="330" name="acs1" descr=""/>
            <p:cNvPicPr/>
            <p:nvPr/>
          </p:nvPicPr>
          <p:blipFill>
            <a:blip r:embed="rId56"/>
            <a:stretch/>
          </p:blipFill>
          <p:spPr>
            <a:xfrm>
              <a:off x="220680" y="4267440"/>
              <a:ext cx="36684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82840" y="423396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ימ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0560" y="4405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2120" y="4630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ר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400" y="4729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82600" y="723600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14316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7960" y="581040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2360" y="581040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48120" y="581040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48120" y="84866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848664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00240" y="84866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52360" y="84866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דורית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31840" y="1677960"/>
            <a:ext cx="894960" cy="855000"/>
            <a:chOff x="2031840" y="1677960"/>
            <a:chExt cx="894960" cy="855000"/>
          </a:xfrm>
        </p:grpSpPr>
        <p:sp>
          <p:nvSpPr>
            <p:cNvPr id="345" name=""/>
            <p:cNvSpPr/>
            <p:nvPr/>
          </p:nvSpPr>
          <p:spPr>
            <a:xfrm>
              <a:off x="2603520" y="17845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5200" y="19638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18480" y="21924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0760" y="2301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noahs_ark_rocking_ty_CLR" descr=""/>
            <p:cNvPicPr/>
            <p:nvPr/>
          </p:nvPicPr>
          <p:blipFill>
            <a:blip r:embed="rId57"/>
            <a:stretch/>
          </p:blipFill>
          <p:spPr>
            <a:xfrm>
              <a:off x="2031840" y="1677960"/>
              <a:ext cx="64008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2022480" y="4344840"/>
            <a:ext cx="894600" cy="855000"/>
            <a:chOff x="2022480" y="4344840"/>
            <a:chExt cx="894600" cy="855000"/>
          </a:xfrm>
        </p:grpSpPr>
        <p:sp>
          <p:nvSpPr>
            <p:cNvPr id="351" name=""/>
            <p:cNvSpPr/>
            <p:nvPr/>
          </p:nvSpPr>
          <p:spPr>
            <a:xfrm>
              <a:off x="2593440" y="44514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35480" y="46306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08760" y="48592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90680" y="49687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noahs_ark_rocking_ty_CLR" descr=""/>
            <p:cNvPicPr/>
            <p:nvPr/>
          </p:nvPicPr>
          <p:blipFill>
            <a:blip r:embed="rId58"/>
            <a:stretch/>
          </p:blipFill>
          <p:spPr>
            <a:xfrm>
              <a:off x="2022480" y="43448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"/>
          <p:cNvGrpSpPr/>
          <p:nvPr/>
        </p:nvGrpSpPr>
        <p:grpSpPr>
          <a:xfrm>
            <a:off x="2067120" y="5310360"/>
            <a:ext cx="834480" cy="754920"/>
            <a:chOff x="2067120" y="5310360"/>
            <a:chExt cx="834480" cy="754920"/>
          </a:xfrm>
        </p:grpSpPr>
        <p:sp>
          <p:nvSpPr>
            <p:cNvPr id="357" name=""/>
            <p:cNvSpPr/>
            <p:nvPr/>
          </p:nvSpPr>
          <p:spPr>
            <a:xfrm>
              <a:off x="2577600" y="551016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67120" y="531036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335320" y="5511960"/>
              <a:ext cx="191880" cy="226440"/>
              <a:chOff x="2335320" y="5511960"/>
              <a:chExt cx="191880" cy="226440"/>
            </a:xfrm>
          </p:grpSpPr>
          <p:pic>
            <p:nvPicPr>
              <p:cNvPr id="360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335320" y="5511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2335320" y="5511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2085840" y="5500800"/>
              <a:ext cx="199800" cy="247320"/>
              <a:chOff x="2085840" y="5500800"/>
              <a:chExt cx="199800" cy="247320"/>
            </a:xfrm>
          </p:grpSpPr>
          <p:pic>
            <p:nvPicPr>
              <p:cNvPr id="363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2085840" y="5500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2085840" y="5500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5" name=""/>
            <p:cNvSpPr/>
            <p:nvPr/>
          </p:nvSpPr>
          <p:spPr>
            <a:xfrm>
              <a:off x="2315520" y="5732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68200" y="5834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73160" y="399960"/>
          <a:ext cx="6453000" cy="8340840"/>
        </p:xfrm>
        <a:graphic>
          <a:graphicData uri="http://schemas.openxmlformats.org/drawingml/2006/table">
            <a:tbl>
              <a:tblPr/>
              <a:tblGrid>
                <a:gridCol w="920520"/>
                <a:gridCol w="924120"/>
                <a:gridCol w="920520"/>
                <a:gridCol w="922320"/>
                <a:gridCol w="920880"/>
                <a:gridCol w="924120"/>
                <a:gridCol w="920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5028840" y="56844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02280" y="56844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39560" y="141120"/>
            <a:ext cx="419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"ד - המשך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0720" y="5778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47120" y="5778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14800" y="5778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28120" y="5778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6000" y="2082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86280" y="46353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6920" y="73407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800600" y="2338560"/>
            <a:ext cx="944640" cy="704160"/>
            <a:chOff x="4800600" y="2338560"/>
            <a:chExt cx="944640" cy="704160"/>
          </a:xfrm>
        </p:grpSpPr>
        <p:sp>
          <p:nvSpPr>
            <p:cNvPr id="379" name=""/>
            <p:cNvSpPr/>
            <p:nvPr/>
          </p:nvSpPr>
          <p:spPr>
            <a:xfrm>
              <a:off x="4889520" y="233856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29800" y="2516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63560" y="27176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40160" y="28796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woman_at_pottery_wheel_ty_CLR_Horiz" descr=""/>
            <p:cNvPicPr/>
            <p:nvPr/>
          </p:nvPicPr>
          <p:blipFill>
            <a:blip r:embed="rId1"/>
            <a:stretch/>
          </p:blipFill>
          <p:spPr>
            <a:xfrm>
              <a:off x="4800600" y="2484360"/>
              <a:ext cx="493560" cy="55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4800960" y="1351080"/>
            <a:ext cx="901440" cy="754920"/>
            <a:chOff x="4800960" y="1351080"/>
            <a:chExt cx="901440" cy="754920"/>
          </a:xfrm>
        </p:grpSpPr>
        <p:sp>
          <p:nvSpPr>
            <p:cNvPr id="385" name=""/>
            <p:cNvSpPr/>
            <p:nvPr/>
          </p:nvSpPr>
          <p:spPr>
            <a:xfrm>
              <a:off x="5370120" y="15508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0960" y="13510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127840" y="1552320"/>
              <a:ext cx="191880" cy="226440"/>
              <a:chOff x="5127840" y="1552320"/>
              <a:chExt cx="191880" cy="226440"/>
            </a:xfrm>
          </p:grpSpPr>
          <p:pic>
            <p:nvPicPr>
              <p:cNvPr id="3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27840" y="1552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27840" y="1552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"/>
            <p:cNvGrpSpPr/>
            <p:nvPr/>
          </p:nvGrpSpPr>
          <p:grpSpPr>
            <a:xfrm>
              <a:off x="4878360" y="1541520"/>
              <a:ext cx="199800" cy="246600"/>
              <a:chOff x="4878360" y="1541520"/>
              <a:chExt cx="199800" cy="246600"/>
            </a:xfrm>
          </p:grpSpPr>
          <p:pic>
            <p:nvPicPr>
              <p:cNvPr id="3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8360" y="1541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8360" y="1541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"/>
            <p:cNvSpPr/>
            <p:nvPr/>
          </p:nvSpPr>
          <p:spPr>
            <a:xfrm>
              <a:off x="5108040" y="1773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60720" y="1874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05280" y="871560"/>
            <a:ext cx="809280" cy="707400"/>
            <a:chOff x="3905280" y="871560"/>
            <a:chExt cx="809280" cy="707400"/>
          </a:xfrm>
        </p:grpSpPr>
        <p:grpSp>
          <p:nvGrpSpPr>
            <p:cNvPr id="396" name=""/>
            <p:cNvGrpSpPr/>
            <p:nvPr/>
          </p:nvGrpSpPr>
          <p:grpSpPr>
            <a:xfrm>
              <a:off x="3905280" y="962280"/>
              <a:ext cx="361440" cy="332640"/>
              <a:chOff x="3905280" y="962280"/>
              <a:chExt cx="361440" cy="332640"/>
            </a:xfrm>
          </p:grpSpPr>
          <p:sp>
            <p:nvSpPr>
              <p:cNvPr id="397" name=""/>
              <p:cNvSpPr/>
              <p:nvPr/>
            </p:nvSpPr>
            <p:spPr>
              <a:xfrm>
                <a:off x="3905280" y="9622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6000" y="9622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05280" y="11286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86000" y="11286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337280" y="10652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5360" y="12589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95520" y="8715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62960" y="1347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876840" y="1646280"/>
            <a:ext cx="901440" cy="754920"/>
            <a:chOff x="3876840" y="1646280"/>
            <a:chExt cx="901440" cy="754920"/>
          </a:xfrm>
        </p:grpSpPr>
        <p:sp>
          <p:nvSpPr>
            <p:cNvPr id="406" name=""/>
            <p:cNvSpPr/>
            <p:nvPr/>
          </p:nvSpPr>
          <p:spPr>
            <a:xfrm>
              <a:off x="4446000" y="18460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6840" y="16462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203720" y="1847520"/>
              <a:ext cx="191880" cy="226440"/>
              <a:chOff x="4203720" y="1847520"/>
              <a:chExt cx="191880" cy="226440"/>
            </a:xfrm>
          </p:grpSpPr>
          <p:pic>
            <p:nvPicPr>
              <p:cNvPr id="4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3720" y="1847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03720" y="1847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1" name=""/>
            <p:cNvGrpSpPr/>
            <p:nvPr/>
          </p:nvGrpSpPr>
          <p:grpSpPr>
            <a:xfrm>
              <a:off x="3954240" y="1836720"/>
              <a:ext cx="199800" cy="246600"/>
              <a:chOff x="3954240" y="1836720"/>
              <a:chExt cx="199800" cy="246600"/>
            </a:xfrm>
          </p:grpSpPr>
          <p:pic>
            <p:nvPicPr>
              <p:cNvPr id="4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54240" y="18367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54240" y="18367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"/>
            <p:cNvSpPr/>
            <p:nvPr/>
          </p:nvSpPr>
          <p:spPr>
            <a:xfrm>
              <a:off x="4183920" y="2068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36600" y="21700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7640" y="2367000"/>
            <a:ext cx="876600" cy="812160"/>
            <a:chOff x="3887640" y="2367000"/>
            <a:chExt cx="876600" cy="812160"/>
          </a:xfrm>
        </p:grpSpPr>
        <p:sp>
          <p:nvSpPr>
            <p:cNvPr id="417" name=""/>
            <p:cNvSpPr/>
            <p:nvPr/>
          </p:nvSpPr>
          <p:spPr>
            <a:xfrm>
              <a:off x="4385880" y="268128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8360" y="2367000"/>
              <a:ext cx="515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סגנו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4360" y="28465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colors_v" descr=""/>
            <p:cNvPicPr/>
            <p:nvPr/>
          </p:nvPicPr>
          <p:blipFill>
            <a:blip r:embed="rId10"/>
            <a:stretch/>
          </p:blipFill>
          <p:spPr>
            <a:xfrm>
              <a:off x="3887640" y="246852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colors_p" descr=""/>
            <p:cNvPicPr/>
            <p:nvPr/>
          </p:nvPicPr>
          <p:blipFill>
            <a:blip r:embed="rId11"/>
            <a:stretch/>
          </p:blipFill>
          <p:spPr>
            <a:xfrm>
              <a:off x="4071960" y="2484360"/>
              <a:ext cx="2332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083480" y="294804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960640" y="1300320"/>
            <a:ext cx="917280" cy="783360"/>
            <a:chOff x="2960640" y="1300320"/>
            <a:chExt cx="917280" cy="783360"/>
          </a:xfrm>
        </p:grpSpPr>
        <p:sp>
          <p:nvSpPr>
            <p:cNvPr id="424" name=""/>
            <p:cNvSpPr/>
            <p:nvPr/>
          </p:nvSpPr>
          <p:spPr>
            <a:xfrm>
              <a:off x="3205080" y="1300320"/>
              <a:ext cx="67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 הארץ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7000" y="14875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97320" y="174312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" name="earth_latitude_longitude_lines_sm_CLR" descr=""/>
            <p:cNvPicPr/>
            <p:nvPr/>
          </p:nvPicPr>
          <p:blipFill>
            <a:blip r:embed="rId12"/>
            <a:stretch/>
          </p:blipFill>
          <p:spPr>
            <a:xfrm>
              <a:off x="2960640" y="1446120"/>
              <a:ext cx="47916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3039480" y="1852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066760" y="890640"/>
            <a:ext cx="846720" cy="612000"/>
            <a:chOff x="2066760" y="890640"/>
            <a:chExt cx="846720" cy="612000"/>
          </a:xfrm>
        </p:grpSpPr>
        <p:grpSp>
          <p:nvGrpSpPr>
            <p:cNvPr id="430" name=""/>
            <p:cNvGrpSpPr/>
            <p:nvPr/>
          </p:nvGrpSpPr>
          <p:grpSpPr>
            <a:xfrm>
              <a:off x="2066760" y="981000"/>
              <a:ext cx="361440" cy="332640"/>
              <a:chOff x="2066760" y="981000"/>
              <a:chExt cx="361440" cy="332640"/>
            </a:xfrm>
          </p:grpSpPr>
          <p:sp>
            <p:nvSpPr>
              <p:cNvPr id="431" name=""/>
              <p:cNvSpPr/>
              <p:nvPr/>
            </p:nvSpPr>
            <p:spPr>
              <a:xfrm>
                <a:off x="2066760" y="981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47480" y="981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66760" y="1147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247480" y="1147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2498400" y="10368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66080" y="11732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57360" y="8906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6360" y="12715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071800" y="1433520"/>
            <a:ext cx="833040" cy="678600"/>
            <a:chOff x="2071800" y="1433520"/>
            <a:chExt cx="833040" cy="678600"/>
          </a:xfrm>
        </p:grpSpPr>
        <p:sp>
          <p:nvSpPr>
            <p:cNvPr id="440" name=""/>
            <p:cNvSpPr/>
            <p:nvPr/>
          </p:nvSpPr>
          <p:spPr>
            <a:xfrm>
              <a:off x="2076480" y="143352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23240" y="16398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14240" y="18288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mh2l_p" descr=""/>
            <p:cNvPicPr/>
            <p:nvPr/>
          </p:nvPicPr>
          <p:blipFill>
            <a:blip r:embed="rId13"/>
            <a:stretch/>
          </p:blipFill>
          <p:spPr>
            <a:xfrm>
              <a:off x="2071800" y="157608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449440" y="19746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060640" y="2768760"/>
            <a:ext cx="809640" cy="629640"/>
            <a:chOff x="2060640" y="2768760"/>
            <a:chExt cx="809640" cy="629640"/>
          </a:xfrm>
        </p:grpSpPr>
        <p:pic>
          <p:nvPicPr>
            <p:cNvPr id="446" name="" descr=""/>
            <p:cNvPicPr/>
            <p:nvPr/>
          </p:nvPicPr>
          <p:blipFill>
            <a:blip r:embed="rId14"/>
            <a:stretch/>
          </p:blipFill>
          <p:spPr>
            <a:xfrm>
              <a:off x="2279520" y="283212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15"/>
            <a:stretch/>
          </p:blipFill>
          <p:spPr>
            <a:xfrm>
              <a:off x="2060640" y="2841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488320" y="29304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82920" y="3135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59160" y="276876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51240" y="3260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109520" y="1176480"/>
            <a:ext cx="984240" cy="756360"/>
            <a:chOff x="1109520" y="1176480"/>
            <a:chExt cx="984240" cy="756360"/>
          </a:xfrm>
        </p:grpSpPr>
        <p:pic>
          <p:nvPicPr>
            <p:cNvPr id="453" name="Geoshapes_10_md_wht" descr=""/>
            <p:cNvPicPr/>
            <p:nvPr/>
          </p:nvPicPr>
          <p:blipFill>
            <a:blip r:embed="rId16"/>
            <a:stretch/>
          </p:blipFill>
          <p:spPr>
            <a:xfrm>
              <a:off x="1109520" y="1214280"/>
              <a:ext cx="42732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415880" y="15886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86080" y="1176480"/>
              <a:ext cx="5187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71760" y="1368360"/>
              <a:ext cx="522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62520" y="17017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042920" y="2230560"/>
            <a:ext cx="1015920" cy="853200"/>
            <a:chOff x="1042920" y="2230560"/>
            <a:chExt cx="1015920" cy="853200"/>
          </a:xfrm>
        </p:grpSpPr>
        <p:sp>
          <p:nvSpPr>
            <p:cNvPr id="459" name=""/>
            <p:cNvSpPr/>
            <p:nvPr/>
          </p:nvSpPr>
          <p:spPr>
            <a:xfrm>
              <a:off x="1049400" y="223056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42680" y="23713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75840" y="275580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2" name="funny_men_hand_cart_ty_CLR" descr=""/>
            <p:cNvPicPr/>
            <p:nvPr/>
          </p:nvPicPr>
          <p:blipFill>
            <a:blip r:embed="rId17"/>
            <a:stretch/>
          </p:blipFill>
          <p:spPr>
            <a:xfrm>
              <a:off x="1042920" y="234432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153800" y="2852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45680" y="306864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5360" y="3402000"/>
            <a:ext cx="811080" cy="456840"/>
            <a:chOff x="225360" y="3402000"/>
            <a:chExt cx="811080" cy="456840"/>
          </a:xfrm>
        </p:grpSpPr>
        <p:pic>
          <p:nvPicPr>
            <p:cNvPr id="466" name="" descr=""/>
            <p:cNvPicPr/>
            <p:nvPr/>
          </p:nvPicPr>
          <p:blipFill>
            <a:blip r:embed="rId18"/>
            <a:stretch/>
          </p:blipFill>
          <p:spPr>
            <a:xfrm>
              <a:off x="225360" y="3402000"/>
              <a:ext cx="8110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9"/>
            <a:stretch/>
          </p:blipFill>
          <p:spPr>
            <a:xfrm>
              <a:off x="225360" y="3402000"/>
              <a:ext cx="81108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"/>
          <p:cNvGrpSpPr/>
          <p:nvPr/>
        </p:nvGrpSpPr>
        <p:grpSpPr>
          <a:xfrm>
            <a:off x="4786200" y="3649680"/>
            <a:ext cx="952560" cy="805680"/>
            <a:chOff x="4786200" y="3649680"/>
            <a:chExt cx="952560" cy="805680"/>
          </a:xfrm>
        </p:grpSpPr>
        <p:pic>
          <p:nvPicPr>
            <p:cNvPr id="469" name="girl_playing_ukulele_ty_CLR" descr=""/>
            <p:cNvPicPr/>
            <p:nvPr/>
          </p:nvPicPr>
          <p:blipFill>
            <a:blip r:embed="rId20"/>
            <a:stretch/>
          </p:blipFill>
          <p:spPr>
            <a:xfrm>
              <a:off x="4786200" y="3684240"/>
              <a:ext cx="388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106960" y="3649680"/>
              <a:ext cx="631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 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19200" y="39798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74280" y="4135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8640" y="4224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757760" y="6583320"/>
            <a:ext cx="952560" cy="805680"/>
            <a:chOff x="4757760" y="6583320"/>
            <a:chExt cx="952560" cy="805680"/>
          </a:xfrm>
        </p:grpSpPr>
        <p:pic>
          <p:nvPicPr>
            <p:cNvPr id="475" name="girl_playing_ukulele_ty_CLR" descr=""/>
            <p:cNvPicPr/>
            <p:nvPr/>
          </p:nvPicPr>
          <p:blipFill>
            <a:blip r:embed="rId21"/>
            <a:stretch/>
          </p:blipFill>
          <p:spPr>
            <a:xfrm>
              <a:off x="4757760" y="6617880"/>
              <a:ext cx="388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078520" y="6583320"/>
              <a:ext cx="631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 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90760" y="691344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5840" y="70689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0200" y="7157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867120" y="3424320"/>
            <a:ext cx="906840" cy="707400"/>
            <a:chOff x="3867120" y="3424320"/>
            <a:chExt cx="906840" cy="707400"/>
          </a:xfrm>
        </p:grpSpPr>
        <p:sp>
          <p:nvSpPr>
            <p:cNvPr id="481" name=""/>
            <p:cNvSpPr/>
            <p:nvPr/>
          </p:nvSpPr>
          <p:spPr>
            <a:xfrm>
              <a:off x="4501800" y="342432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86960" y="36115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professor_atomic_energy_sm_CLR" descr=""/>
            <p:cNvPicPr/>
            <p:nvPr/>
          </p:nvPicPr>
          <p:blipFill>
            <a:blip r:embed="rId22"/>
            <a:stretch/>
          </p:blipFill>
          <p:spPr>
            <a:xfrm>
              <a:off x="3867120" y="3460680"/>
              <a:ext cx="6732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202640" y="381312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06720" y="39006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51280" y="3925800"/>
            <a:ext cx="880920" cy="672480"/>
            <a:chOff x="2951280" y="3925800"/>
            <a:chExt cx="880920" cy="672480"/>
          </a:xfrm>
        </p:grpSpPr>
        <p:sp>
          <p:nvSpPr>
            <p:cNvPr id="487" name=""/>
            <p:cNvSpPr/>
            <p:nvPr/>
          </p:nvSpPr>
          <p:spPr>
            <a:xfrm>
              <a:off x="3330000" y="392580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951280" y="3979800"/>
              <a:ext cx="304560" cy="329760"/>
              <a:chOff x="2951280" y="3979800"/>
              <a:chExt cx="304560" cy="329760"/>
            </a:xfrm>
          </p:grpSpPr>
          <p:pic>
            <p:nvPicPr>
              <p:cNvPr id="48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951280" y="39798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51280" y="39798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1" name=""/>
            <p:cNvSpPr/>
            <p:nvPr/>
          </p:nvSpPr>
          <p:spPr>
            <a:xfrm>
              <a:off x="3220200" y="409896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6840" y="426564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9840" y="43671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876400" y="4840200"/>
            <a:ext cx="970920" cy="910800"/>
            <a:chOff x="2876400" y="4840200"/>
            <a:chExt cx="970920" cy="910800"/>
          </a:xfrm>
        </p:grpSpPr>
        <p:sp>
          <p:nvSpPr>
            <p:cNvPr id="495" name=""/>
            <p:cNvSpPr/>
            <p:nvPr/>
          </p:nvSpPr>
          <p:spPr>
            <a:xfrm>
              <a:off x="2881800" y="484020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79400" y="507060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02640" y="5418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earthy_pollution_sm_CLR" descr=""/>
            <p:cNvPicPr/>
            <p:nvPr/>
          </p:nvPicPr>
          <p:blipFill>
            <a:blip r:embed="rId25"/>
            <a:stretch/>
          </p:blipFill>
          <p:spPr>
            <a:xfrm>
              <a:off x="2876400" y="4948200"/>
              <a:ext cx="5443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991960" y="5519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065320" y="2106720"/>
            <a:ext cx="823320" cy="729360"/>
            <a:chOff x="2065320" y="2106720"/>
            <a:chExt cx="823320" cy="729360"/>
          </a:xfrm>
        </p:grpSpPr>
        <p:sp>
          <p:nvSpPr>
            <p:cNvPr id="501" name=""/>
            <p:cNvSpPr/>
            <p:nvPr/>
          </p:nvSpPr>
          <p:spPr>
            <a:xfrm>
              <a:off x="2485440" y="210672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80400" y="22766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69600" y="2508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palette1" descr=""/>
            <p:cNvPicPr/>
            <p:nvPr/>
          </p:nvPicPr>
          <p:blipFill>
            <a:blip r:embed="rId26"/>
            <a:stretch/>
          </p:blipFill>
          <p:spPr>
            <a:xfrm>
              <a:off x="2065320" y="2131920"/>
              <a:ext cx="4129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2378520" y="260496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065320" y="5002200"/>
            <a:ext cx="822960" cy="853560"/>
            <a:chOff x="2065320" y="5002200"/>
            <a:chExt cx="822960" cy="853560"/>
          </a:xfrm>
        </p:grpSpPr>
        <p:sp>
          <p:nvSpPr>
            <p:cNvPr id="507" name=""/>
            <p:cNvSpPr/>
            <p:nvPr/>
          </p:nvSpPr>
          <p:spPr>
            <a:xfrm>
              <a:off x="2485080" y="500220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80040" y="52005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45400" y="5527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palette1" descr=""/>
            <p:cNvPicPr/>
            <p:nvPr/>
          </p:nvPicPr>
          <p:blipFill>
            <a:blip r:embed="rId27"/>
            <a:stretch/>
          </p:blipFill>
          <p:spPr>
            <a:xfrm>
              <a:off x="2065320" y="5056200"/>
              <a:ext cx="4125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2254680" y="562464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090880" y="3481560"/>
            <a:ext cx="811080" cy="707040"/>
            <a:chOff x="2090880" y="3481560"/>
            <a:chExt cx="811080" cy="707040"/>
          </a:xfrm>
        </p:grpSpPr>
        <p:sp>
          <p:nvSpPr>
            <p:cNvPr id="513" name=""/>
            <p:cNvSpPr/>
            <p:nvPr/>
          </p:nvSpPr>
          <p:spPr>
            <a:xfrm>
              <a:off x="2654280" y="348156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16760" y="36651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9080" y="3868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yoga" descr=""/>
            <p:cNvPicPr/>
            <p:nvPr/>
          </p:nvPicPr>
          <p:blipFill>
            <a:blip r:embed="rId28"/>
            <a:stretch/>
          </p:blipFill>
          <p:spPr>
            <a:xfrm>
              <a:off x="2090880" y="3514320"/>
              <a:ext cx="4618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262960" y="39574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813040" y="4211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046240" y="4162320"/>
            <a:ext cx="857880" cy="921600"/>
            <a:chOff x="2046240" y="4162320"/>
            <a:chExt cx="857880" cy="921600"/>
          </a:xfrm>
        </p:grpSpPr>
        <p:pic>
          <p:nvPicPr>
            <p:cNvPr id="520" name="" descr=""/>
            <p:cNvPicPr/>
            <p:nvPr/>
          </p:nvPicPr>
          <p:blipFill>
            <a:blip r:embed="rId29"/>
            <a:stretch/>
          </p:blipFill>
          <p:spPr>
            <a:xfrm>
              <a:off x="2075040" y="4276800"/>
              <a:ext cx="361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0"/>
            <a:stretch/>
          </p:blipFill>
          <p:spPr>
            <a:xfrm>
              <a:off x="2046240" y="4162320"/>
              <a:ext cx="405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242800" y="4375080"/>
              <a:ext cx="64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41440" y="4754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97000" y="48528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109520" y="3843360"/>
            <a:ext cx="984240" cy="756720"/>
            <a:chOff x="1109520" y="3843360"/>
            <a:chExt cx="984240" cy="756720"/>
          </a:xfrm>
        </p:grpSpPr>
        <p:pic>
          <p:nvPicPr>
            <p:cNvPr id="526" name="Geoshapes_10_md_wht" descr=""/>
            <p:cNvPicPr/>
            <p:nvPr/>
          </p:nvPicPr>
          <p:blipFill>
            <a:blip r:embed="rId31"/>
            <a:stretch/>
          </p:blipFill>
          <p:spPr>
            <a:xfrm>
              <a:off x="1109520" y="3881520"/>
              <a:ext cx="4273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1415880" y="42559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86080" y="3843360"/>
              <a:ext cx="5187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71760" y="4035600"/>
              <a:ext cx="522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2520" y="43689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052640" y="4916520"/>
            <a:ext cx="1015920" cy="853560"/>
            <a:chOff x="1052640" y="4916520"/>
            <a:chExt cx="1015920" cy="853560"/>
          </a:xfrm>
        </p:grpSpPr>
        <p:sp>
          <p:nvSpPr>
            <p:cNvPr id="532" name=""/>
            <p:cNvSpPr/>
            <p:nvPr/>
          </p:nvSpPr>
          <p:spPr>
            <a:xfrm>
              <a:off x="1059120" y="491652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52400" y="505764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85560" y="544212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funny_men_hand_cart_ty_CLR" descr=""/>
            <p:cNvPicPr/>
            <p:nvPr/>
          </p:nvPicPr>
          <p:blipFill>
            <a:blip r:embed="rId32"/>
            <a:stretch/>
          </p:blipFill>
          <p:spPr>
            <a:xfrm>
              <a:off x="1052640" y="5030640"/>
              <a:ext cx="579600" cy="4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163520" y="5538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933720" y="5376960"/>
            <a:ext cx="809280" cy="707400"/>
            <a:chOff x="3933720" y="5376960"/>
            <a:chExt cx="809280" cy="707400"/>
          </a:xfrm>
        </p:grpSpPr>
        <p:grpSp>
          <p:nvGrpSpPr>
            <p:cNvPr id="538" name=""/>
            <p:cNvGrpSpPr/>
            <p:nvPr/>
          </p:nvGrpSpPr>
          <p:grpSpPr>
            <a:xfrm>
              <a:off x="3933720" y="5467680"/>
              <a:ext cx="361440" cy="332640"/>
              <a:chOff x="3933720" y="5467680"/>
              <a:chExt cx="361440" cy="332640"/>
            </a:xfrm>
          </p:grpSpPr>
          <p:sp>
            <p:nvSpPr>
              <p:cNvPr id="539" name=""/>
              <p:cNvSpPr/>
              <p:nvPr/>
            </p:nvSpPr>
            <p:spPr>
              <a:xfrm>
                <a:off x="3933720" y="5467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14440" y="5467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33720" y="5634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440" y="56340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4365720" y="55706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800" y="57643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3960" y="53769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91400" y="58532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886200" y="7472520"/>
            <a:ext cx="906840" cy="707040"/>
            <a:chOff x="3886200" y="7472520"/>
            <a:chExt cx="906840" cy="707040"/>
          </a:xfrm>
        </p:grpSpPr>
        <p:sp>
          <p:nvSpPr>
            <p:cNvPr id="548" name=""/>
            <p:cNvSpPr/>
            <p:nvPr/>
          </p:nvSpPr>
          <p:spPr>
            <a:xfrm>
              <a:off x="4520880" y="747252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06040" y="76593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professor_atomic_energy_sm_CLR" descr=""/>
            <p:cNvPicPr/>
            <p:nvPr/>
          </p:nvPicPr>
          <p:blipFill>
            <a:blip r:embed="rId33"/>
            <a:stretch/>
          </p:blipFill>
          <p:spPr>
            <a:xfrm>
              <a:off x="3886200" y="7508520"/>
              <a:ext cx="67320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221720" y="786096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5800" y="7948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941560" y="6735600"/>
            <a:ext cx="880920" cy="672480"/>
            <a:chOff x="2941560" y="6735600"/>
            <a:chExt cx="880920" cy="672480"/>
          </a:xfrm>
        </p:grpSpPr>
        <p:sp>
          <p:nvSpPr>
            <p:cNvPr id="554" name=""/>
            <p:cNvSpPr/>
            <p:nvPr/>
          </p:nvSpPr>
          <p:spPr>
            <a:xfrm>
              <a:off x="3320280" y="673560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2941560" y="6789600"/>
              <a:ext cx="304560" cy="329760"/>
              <a:chOff x="2941560" y="6789600"/>
              <a:chExt cx="304560" cy="329760"/>
            </a:xfrm>
          </p:grpSpPr>
          <p:pic>
            <p:nvPicPr>
              <p:cNvPr id="55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2941560" y="67896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2941560" y="678960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8" name=""/>
            <p:cNvSpPr/>
            <p:nvPr/>
          </p:nvSpPr>
          <p:spPr>
            <a:xfrm>
              <a:off x="3210480" y="690876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37120" y="707544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0120" y="71769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05200" y="7802640"/>
            <a:ext cx="970920" cy="910440"/>
            <a:chOff x="2905200" y="7802640"/>
            <a:chExt cx="970920" cy="910440"/>
          </a:xfrm>
        </p:grpSpPr>
        <p:sp>
          <p:nvSpPr>
            <p:cNvPr id="562" name=""/>
            <p:cNvSpPr/>
            <p:nvPr/>
          </p:nvSpPr>
          <p:spPr>
            <a:xfrm>
              <a:off x="2910600" y="780264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08200" y="803268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1440" y="8380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earthy_pollution_sm_CLR" descr=""/>
            <p:cNvPicPr/>
            <p:nvPr/>
          </p:nvPicPr>
          <p:blipFill>
            <a:blip r:embed="rId36"/>
            <a:stretch/>
          </p:blipFill>
          <p:spPr>
            <a:xfrm>
              <a:off x="2905200" y="7910280"/>
              <a:ext cx="54432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3020760" y="8481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082960" y="6186600"/>
            <a:ext cx="798480" cy="707400"/>
            <a:chOff x="2082960" y="6186600"/>
            <a:chExt cx="798480" cy="707400"/>
          </a:xfrm>
        </p:grpSpPr>
        <p:sp>
          <p:nvSpPr>
            <p:cNvPr id="568" name=""/>
            <p:cNvSpPr/>
            <p:nvPr/>
          </p:nvSpPr>
          <p:spPr>
            <a:xfrm>
              <a:off x="2521080" y="618660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88320" y="63709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30640" y="657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4160" y="66628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acs2" descr=""/>
            <p:cNvPicPr/>
            <p:nvPr/>
          </p:nvPicPr>
          <p:blipFill>
            <a:blip r:embed="rId37"/>
            <a:stretch/>
          </p:blipFill>
          <p:spPr>
            <a:xfrm>
              <a:off x="2082960" y="6245280"/>
              <a:ext cx="3394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2065320" y="6877080"/>
            <a:ext cx="857880" cy="921600"/>
            <a:chOff x="2065320" y="6877080"/>
            <a:chExt cx="857880" cy="921600"/>
          </a:xfrm>
        </p:grpSpPr>
        <p:pic>
          <p:nvPicPr>
            <p:cNvPr id="574" name="" descr=""/>
            <p:cNvPicPr/>
            <p:nvPr/>
          </p:nvPicPr>
          <p:blipFill>
            <a:blip r:embed="rId38"/>
            <a:stretch/>
          </p:blipFill>
          <p:spPr>
            <a:xfrm>
              <a:off x="2094120" y="6991560"/>
              <a:ext cx="361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39"/>
            <a:stretch/>
          </p:blipFill>
          <p:spPr>
            <a:xfrm>
              <a:off x="2065320" y="6877080"/>
              <a:ext cx="405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2261880" y="7089840"/>
              <a:ext cx="64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60520" y="74692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16080" y="7567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109520" y="6224760"/>
            <a:ext cx="984240" cy="756360"/>
            <a:chOff x="1109520" y="6224760"/>
            <a:chExt cx="984240" cy="756360"/>
          </a:xfrm>
        </p:grpSpPr>
        <p:pic>
          <p:nvPicPr>
            <p:cNvPr id="580" name="Geoshapes_10_md_wht" descr=""/>
            <p:cNvPicPr/>
            <p:nvPr/>
          </p:nvPicPr>
          <p:blipFill>
            <a:blip r:embed="rId40"/>
            <a:stretch/>
          </p:blipFill>
          <p:spPr>
            <a:xfrm>
              <a:off x="1109520" y="6262560"/>
              <a:ext cx="42732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1415880" y="66369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86080" y="6224760"/>
              <a:ext cx="5187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71760" y="6416640"/>
              <a:ext cx="522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62520" y="67500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071720" y="7488360"/>
            <a:ext cx="1015920" cy="853200"/>
            <a:chOff x="1071720" y="7488360"/>
            <a:chExt cx="1015920" cy="853200"/>
          </a:xfrm>
        </p:grpSpPr>
        <p:sp>
          <p:nvSpPr>
            <p:cNvPr id="586" name=""/>
            <p:cNvSpPr/>
            <p:nvPr/>
          </p:nvSpPr>
          <p:spPr>
            <a:xfrm>
              <a:off x="1078200" y="748836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71480" y="76291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04640" y="801360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funny_men_hand_cart_ty_CLR" descr=""/>
            <p:cNvPicPr/>
            <p:nvPr/>
          </p:nvPicPr>
          <p:blipFill>
            <a:blip r:embed="rId41"/>
            <a:stretch/>
          </p:blipFill>
          <p:spPr>
            <a:xfrm>
              <a:off x="1071720" y="760212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182600" y="8110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848120" y="314316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05280" y="314316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00240" y="314316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933640" y="2297160"/>
            <a:ext cx="970920" cy="681840"/>
            <a:chOff x="2933640" y="2297160"/>
            <a:chExt cx="970920" cy="681840"/>
          </a:xfrm>
        </p:grpSpPr>
        <p:sp>
          <p:nvSpPr>
            <p:cNvPr id="595" name=""/>
            <p:cNvSpPr/>
            <p:nvPr/>
          </p:nvSpPr>
          <p:spPr>
            <a:xfrm>
              <a:off x="3536640" y="245088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64640" y="2646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earthy_pollution_sm_CLR" descr=""/>
            <p:cNvPicPr/>
            <p:nvPr/>
          </p:nvPicPr>
          <p:blipFill>
            <a:blip r:embed="rId42"/>
            <a:stretch/>
          </p:blipFill>
          <p:spPr>
            <a:xfrm>
              <a:off x="2933640" y="2328840"/>
              <a:ext cx="5446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319920" y="27478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39040" y="22971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4857840" y="581040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76480" y="581040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87640" y="4405320"/>
            <a:ext cx="876600" cy="812160"/>
            <a:chOff x="3887640" y="4405320"/>
            <a:chExt cx="876600" cy="812160"/>
          </a:xfrm>
        </p:grpSpPr>
        <p:sp>
          <p:nvSpPr>
            <p:cNvPr id="603" name=""/>
            <p:cNvSpPr/>
            <p:nvPr/>
          </p:nvSpPr>
          <p:spPr>
            <a:xfrm>
              <a:off x="4385880" y="471960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48360" y="4405320"/>
              <a:ext cx="515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סגנו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94360" y="48848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colors_v" descr=""/>
            <p:cNvPicPr/>
            <p:nvPr/>
          </p:nvPicPr>
          <p:blipFill>
            <a:blip r:embed="rId43"/>
            <a:stretch/>
          </p:blipFill>
          <p:spPr>
            <a:xfrm>
              <a:off x="3887640" y="45068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colors_p" descr=""/>
            <p:cNvPicPr/>
            <p:nvPr/>
          </p:nvPicPr>
          <p:blipFill>
            <a:blip r:embed="rId44"/>
            <a:stretch/>
          </p:blipFill>
          <p:spPr>
            <a:xfrm>
              <a:off x="4071960" y="4522680"/>
              <a:ext cx="2332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083480" y="498636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943440" y="6253200"/>
            <a:ext cx="809640" cy="707400"/>
            <a:chOff x="3943440" y="6253200"/>
            <a:chExt cx="809640" cy="707400"/>
          </a:xfrm>
        </p:grpSpPr>
        <p:grpSp>
          <p:nvGrpSpPr>
            <p:cNvPr id="610" name=""/>
            <p:cNvGrpSpPr/>
            <p:nvPr/>
          </p:nvGrpSpPr>
          <p:grpSpPr>
            <a:xfrm>
              <a:off x="3943440" y="6343920"/>
              <a:ext cx="361440" cy="332640"/>
              <a:chOff x="3943440" y="6343920"/>
              <a:chExt cx="361440" cy="332640"/>
            </a:xfrm>
          </p:grpSpPr>
          <p:sp>
            <p:nvSpPr>
              <p:cNvPr id="611" name=""/>
              <p:cNvSpPr/>
              <p:nvPr/>
            </p:nvSpPr>
            <p:spPr>
              <a:xfrm>
                <a:off x="3943440" y="63439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24160" y="63439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43440" y="65102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24160" y="65102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383360" y="6446880"/>
              <a:ext cx="36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23520" y="66405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33680" y="62532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01120" y="67294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112840" y="7850160"/>
            <a:ext cx="822960" cy="853560"/>
            <a:chOff x="2112840" y="7850160"/>
            <a:chExt cx="822960" cy="853560"/>
          </a:xfrm>
        </p:grpSpPr>
        <p:sp>
          <p:nvSpPr>
            <p:cNvPr id="620" name=""/>
            <p:cNvSpPr/>
            <p:nvPr/>
          </p:nvSpPr>
          <p:spPr>
            <a:xfrm>
              <a:off x="2532600" y="785016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27560" y="80485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2920" y="8375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palette1" descr=""/>
            <p:cNvPicPr/>
            <p:nvPr/>
          </p:nvPicPr>
          <p:blipFill>
            <a:blip r:embed="rId45"/>
            <a:stretch/>
          </p:blipFill>
          <p:spPr>
            <a:xfrm>
              <a:off x="2112840" y="7904160"/>
              <a:ext cx="4125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2302200" y="847260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789440" y="4668840"/>
            <a:ext cx="886320" cy="824760"/>
            <a:chOff x="4789440" y="4668840"/>
            <a:chExt cx="886320" cy="824760"/>
          </a:xfrm>
        </p:grpSpPr>
        <p:sp>
          <p:nvSpPr>
            <p:cNvPr id="626" name=""/>
            <p:cNvSpPr/>
            <p:nvPr/>
          </p:nvSpPr>
          <p:spPr>
            <a:xfrm>
              <a:off x="5154480" y="46688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33760" y="487512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99480" y="51544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5120" y="52624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dna_looking_through_magnifying_glass_ty_CLR" descr=""/>
            <p:cNvPicPr/>
            <p:nvPr/>
          </p:nvPicPr>
          <p:blipFill>
            <a:blip r:embed="rId46"/>
            <a:stretch/>
          </p:blipFill>
          <p:spPr>
            <a:xfrm>
              <a:off x="4789440" y="46753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"/>
          <p:cNvGrpSpPr/>
          <p:nvPr/>
        </p:nvGrpSpPr>
        <p:grpSpPr>
          <a:xfrm>
            <a:off x="4808520" y="7802640"/>
            <a:ext cx="886320" cy="824760"/>
            <a:chOff x="4808520" y="7802640"/>
            <a:chExt cx="886320" cy="824760"/>
          </a:xfrm>
        </p:grpSpPr>
        <p:sp>
          <p:nvSpPr>
            <p:cNvPr id="632" name=""/>
            <p:cNvSpPr/>
            <p:nvPr/>
          </p:nvSpPr>
          <p:spPr>
            <a:xfrm>
              <a:off x="5173560" y="78026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52840" y="800892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18560" y="82882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74200" y="83962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dna_looking_through_magnifying_glass_ty_CLR" descr=""/>
            <p:cNvPicPr/>
            <p:nvPr/>
          </p:nvPicPr>
          <p:blipFill>
            <a:blip r:embed="rId47"/>
            <a:stretch/>
          </p:blipFill>
          <p:spPr>
            <a:xfrm>
              <a:off x="4808520" y="7809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46:58Z</dcterms:created>
  <dc:creator>--</dc:creator>
  <dc:description/>
  <dc:language>en-US</dc:language>
  <cp:lastModifiedBy>--</cp:lastModifiedBy>
  <dcterms:modified xsi:type="dcterms:W3CDTF">2003-10-23T18:31:20Z</dcterms:modified>
  <cp:revision>105</cp:revision>
  <dc:subject/>
  <dc:title>מצגת של PowerPoint</dc:title>
</cp:coreProperties>
</file>