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gif" ContentType="image/gif"/>
  <Override PartName="/ppt/media/image23.wmf" ContentType="image/x-wmf"/>
  <Override PartName="/ppt/media/image22.wmf" ContentType="image/x-wmf"/>
  <Override PartName="/ppt/media/image21.gif" ContentType="image/gif"/>
  <Override PartName="/ppt/media/image20.png" ContentType="image/png"/>
  <Override PartName="/ppt/media/image18.wmf" ContentType="image/x-wmf"/>
  <Override PartName="/ppt/media/image19.wmf" ContentType="image/x-wmf"/>
  <Override PartName="/ppt/media/image17.png" ContentType="image/png"/>
  <Override PartName="/ppt/media/image24.gif" ContentType="image/gif"/>
  <Override PartName="/ppt/media/image2.png" ContentType="image/png"/>
  <Override PartName="/ppt/media/image10.wmf" ContentType="image/x-wmf"/>
  <Override PartName="/ppt/media/image4.png" ContentType="image/png"/>
  <Override PartName="/ppt/media/image32.wmf" ContentType="image/x-wmf"/>
  <Override PartName="/ppt/media/image7.wmf" ContentType="image/x-wmf"/>
  <Override PartName="/ppt/media/image5.gif" ContentType="image/gif"/>
  <Override PartName="/ppt/media/image33.png" ContentType="image/png"/>
  <Override PartName="/ppt/media/image40.gif" ContentType="image/gif"/>
  <Override PartName="/ppt/media/image3.wmf" ContentType="image/x-wmf"/>
  <Override PartName="/ppt/media/image34.gif" ContentType="image/gif"/>
  <Override PartName="/ppt/media/image37.png" ContentType="image/png"/>
  <Override PartName="/ppt/media/image1.gif" ContentType="image/gif"/>
  <Override PartName="/ppt/media/image31.gif" ContentType="image/gif"/>
  <Override PartName="/ppt/media/image35.png" ContentType="image/png"/>
  <Override PartName="/ppt/media/image36.png" ContentType="image/png"/>
  <Override PartName="/ppt/media/image9.wmf" ContentType="image/x-wmf"/>
  <Override PartName="/ppt/media/image39.png" ContentType="image/png"/>
  <Override PartName="/ppt/media/image8.png" ContentType="image/png"/>
  <Override PartName="/ppt/media/image38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13.wmf" ContentType="image/x-wmf"/>
  <Override PartName="/ppt/media/image25.gif" ContentType="image/gif"/>
  <Override PartName="/ppt/media/image14.wmf" ContentType="image/x-wmf"/>
  <Override PartName="/ppt/media/image15.png" ContentType="image/png"/>
  <Override PartName="/ppt/media/image12.wmf" ContentType="image/x-wmf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E01-30E5-4A6A-9781-602423F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643-3F6D-4BBC-978A-A95B619B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D27-CBB8-47C8-A858-AD498B3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118-6172-464F-9CBB-13BB330B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DF7-40DA-4E40-805A-3A64EDF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F94-4FB0-40D5-8AA9-903140DD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C81-3F9D-4E59-81AA-56DC0E7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2A8-F402-4B97-822B-BDE900B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160-06E1-4036-9D53-E45276EE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456-4E31-46A9-9C97-E5EE4DC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917-9F9B-4F71-A340-812B871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C86-596B-46E3-9D25-4A6F94A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956-3612-407F-B79A-448333E51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1.gi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1.wmf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wmf"/><Relationship Id="rId27" Type="http://schemas.openxmlformats.org/officeDocument/2006/relationships/image" Target="../media/image9.wmf"/><Relationship Id="rId28" Type="http://schemas.openxmlformats.org/officeDocument/2006/relationships/image" Target="../media/image10.wmf"/><Relationship Id="rId29" Type="http://schemas.openxmlformats.org/officeDocument/2006/relationships/image" Target="../media/image11.wmf"/><Relationship Id="rId30" Type="http://schemas.openxmlformats.org/officeDocument/2006/relationships/image" Target="../media/image12.wmf"/><Relationship Id="rId31" Type="http://schemas.openxmlformats.org/officeDocument/2006/relationships/image" Target="../media/image9.wmf"/><Relationship Id="rId32" Type="http://schemas.openxmlformats.org/officeDocument/2006/relationships/image" Target="../media/image10.wmf"/><Relationship Id="rId33" Type="http://schemas.openxmlformats.org/officeDocument/2006/relationships/image" Target="../media/image11.wmf"/><Relationship Id="rId34" Type="http://schemas.openxmlformats.org/officeDocument/2006/relationships/image" Target="../media/image12.wmf"/><Relationship Id="rId35" Type="http://schemas.openxmlformats.org/officeDocument/2006/relationships/image" Target="../media/image15.png"/><Relationship Id="rId36" Type="http://schemas.openxmlformats.org/officeDocument/2006/relationships/image" Target="../media/image16.gif"/><Relationship Id="rId37" Type="http://schemas.openxmlformats.org/officeDocument/2006/relationships/image" Target="../media/image17.png"/><Relationship Id="rId38" Type="http://schemas.openxmlformats.org/officeDocument/2006/relationships/image" Target="../media/image18.wmf"/><Relationship Id="rId39" Type="http://schemas.openxmlformats.org/officeDocument/2006/relationships/image" Target="../media/image19.wmf"/><Relationship Id="rId40" Type="http://schemas.openxmlformats.org/officeDocument/2006/relationships/image" Target="../media/image9.wmf"/><Relationship Id="rId41" Type="http://schemas.openxmlformats.org/officeDocument/2006/relationships/image" Target="../media/image10.wmf"/><Relationship Id="rId42" Type="http://schemas.openxmlformats.org/officeDocument/2006/relationships/image" Target="../media/image11.wmf"/><Relationship Id="rId43" Type="http://schemas.openxmlformats.org/officeDocument/2006/relationships/image" Target="../media/image12.wmf"/><Relationship Id="rId44" Type="http://schemas.openxmlformats.org/officeDocument/2006/relationships/image" Target="../media/image20.png"/><Relationship Id="rId45" Type="http://schemas.openxmlformats.org/officeDocument/2006/relationships/image" Target="../media/image17.png"/><Relationship Id="rId46" Type="http://schemas.openxmlformats.org/officeDocument/2006/relationships/image" Target="../media/image16.gif"/><Relationship Id="rId47" Type="http://schemas.openxmlformats.org/officeDocument/2006/relationships/image" Target="../media/image9.wmf"/><Relationship Id="rId48" Type="http://schemas.openxmlformats.org/officeDocument/2006/relationships/image" Target="../media/image10.wmf"/><Relationship Id="rId49" Type="http://schemas.openxmlformats.org/officeDocument/2006/relationships/image" Target="../media/image11.wmf"/><Relationship Id="rId50" Type="http://schemas.openxmlformats.org/officeDocument/2006/relationships/image" Target="../media/image12.wmf"/><Relationship Id="rId51" Type="http://schemas.openxmlformats.org/officeDocument/2006/relationships/image" Target="../media/image20.png"/><Relationship Id="rId52" Type="http://schemas.openxmlformats.org/officeDocument/2006/relationships/image" Target="../media/image16.gif"/><Relationship Id="rId53" Type="http://schemas.openxmlformats.org/officeDocument/2006/relationships/image" Target="../media/image17.png"/><Relationship Id="rId54" Type="http://schemas.openxmlformats.org/officeDocument/2006/relationships/image" Target="../media/image3.wmf"/><Relationship Id="rId55" Type="http://schemas.openxmlformats.org/officeDocument/2006/relationships/image" Target="../media/image15.png"/><Relationship Id="rId56" Type="http://schemas.openxmlformats.org/officeDocument/2006/relationships/image" Target="../media/image21.gi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2.wmf"/><Relationship Id="rId60" Type="http://schemas.openxmlformats.org/officeDocument/2006/relationships/image" Target="../media/image23.wmf"/><Relationship Id="rId61" Type="http://schemas.openxmlformats.org/officeDocument/2006/relationships/image" Target="../media/image24.gif"/><Relationship Id="rId62" Type="http://schemas.openxmlformats.org/officeDocument/2006/relationships/image" Target="../media/image5.gif"/><Relationship Id="rId63" Type="http://schemas.openxmlformats.org/officeDocument/2006/relationships/image" Target="../media/image13.wmf"/><Relationship Id="rId64" Type="http://schemas.openxmlformats.org/officeDocument/2006/relationships/image" Target="../media/image14.wmf"/><Relationship Id="rId65" Type="http://schemas.openxmlformats.org/officeDocument/2006/relationships/image" Target="../media/image25.gif"/><Relationship Id="rId66" Type="http://schemas.openxmlformats.org/officeDocument/2006/relationships/image" Target="../media/image9.wmf"/><Relationship Id="rId67" Type="http://schemas.openxmlformats.org/officeDocument/2006/relationships/image" Target="../media/image10.wmf"/><Relationship Id="rId68" Type="http://schemas.openxmlformats.org/officeDocument/2006/relationships/image" Target="../media/image11.wmf"/><Relationship Id="rId69" Type="http://schemas.openxmlformats.org/officeDocument/2006/relationships/image" Target="../media/image12.wmf"/><Relationship Id="rId70" Type="http://schemas.openxmlformats.org/officeDocument/2006/relationships/image" Target="../media/image2.png"/><Relationship Id="rId71" Type="http://schemas.openxmlformats.org/officeDocument/2006/relationships/image" Target="../media/image26.png"/><Relationship Id="rId72" Type="http://schemas.openxmlformats.org/officeDocument/2006/relationships/image" Target="../media/image27.gif"/><Relationship Id="rId7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1.gi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31.gi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32.wmf"/><Relationship Id="rId19" Type="http://schemas.openxmlformats.org/officeDocument/2006/relationships/image" Target="../media/image27.gi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image" Target="../media/image31.gif"/><Relationship Id="rId23" Type="http://schemas.openxmlformats.org/officeDocument/2006/relationships/image" Target="../media/image13.wmf"/><Relationship Id="rId24" Type="http://schemas.openxmlformats.org/officeDocument/2006/relationships/image" Target="../media/image14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31.gif"/><Relationship Id="rId28" Type="http://schemas.openxmlformats.org/officeDocument/2006/relationships/image" Target="../media/image33.png"/><Relationship Id="rId29" Type="http://schemas.openxmlformats.org/officeDocument/2006/relationships/image" Target="../media/image28.wmf"/><Relationship Id="rId30" Type="http://schemas.openxmlformats.org/officeDocument/2006/relationships/image" Target="../media/image29.wmf"/><Relationship Id="rId31" Type="http://schemas.openxmlformats.org/officeDocument/2006/relationships/image" Target="../media/image31.gif"/><Relationship Id="rId32" Type="http://schemas.openxmlformats.org/officeDocument/2006/relationships/image" Target="../media/image9.wmf"/><Relationship Id="rId33" Type="http://schemas.openxmlformats.org/officeDocument/2006/relationships/image" Target="../media/image10.wmf"/><Relationship Id="rId34" Type="http://schemas.openxmlformats.org/officeDocument/2006/relationships/image" Target="../media/image11.wmf"/><Relationship Id="rId35" Type="http://schemas.openxmlformats.org/officeDocument/2006/relationships/image" Target="../media/image12.wmf"/><Relationship Id="rId36" Type="http://schemas.openxmlformats.org/officeDocument/2006/relationships/image" Target="../media/image20.png"/><Relationship Id="rId37" Type="http://schemas.openxmlformats.org/officeDocument/2006/relationships/image" Target="../media/image4.png"/><Relationship Id="rId38" Type="http://schemas.openxmlformats.org/officeDocument/2006/relationships/image" Target="../media/image34.gif"/><Relationship Id="rId39" Type="http://schemas.openxmlformats.org/officeDocument/2006/relationships/image" Target="../media/image31.gif"/><Relationship Id="rId40" Type="http://schemas.openxmlformats.org/officeDocument/2006/relationships/image" Target="../media/image31.gif"/><Relationship Id="rId41" Type="http://schemas.openxmlformats.org/officeDocument/2006/relationships/image" Target="../media/image20.png"/><Relationship Id="rId42" Type="http://schemas.openxmlformats.org/officeDocument/2006/relationships/image" Target="../media/image28.wmf"/><Relationship Id="rId43" Type="http://schemas.openxmlformats.org/officeDocument/2006/relationships/image" Target="../media/image29.wmf"/><Relationship Id="rId44" Type="http://schemas.openxmlformats.org/officeDocument/2006/relationships/image" Target="../media/image15.png"/><Relationship Id="rId45" Type="http://schemas.openxmlformats.org/officeDocument/2006/relationships/image" Target="../media/image35.png"/><Relationship Id="rId46" Type="http://schemas.openxmlformats.org/officeDocument/2006/relationships/image" Target="../media/image31.gif"/><Relationship Id="rId47" Type="http://schemas.openxmlformats.org/officeDocument/2006/relationships/image" Target="../media/image36.png"/><Relationship Id="rId48" Type="http://schemas.openxmlformats.org/officeDocument/2006/relationships/image" Target="../media/image37.png"/><Relationship Id="rId49" Type="http://schemas.openxmlformats.org/officeDocument/2006/relationships/image" Target="../media/image35.png"/><Relationship Id="rId50" Type="http://schemas.openxmlformats.org/officeDocument/2006/relationships/image" Target="../media/image38.png"/><Relationship Id="rId51" Type="http://schemas.openxmlformats.org/officeDocument/2006/relationships/image" Target="../media/image31.gif"/><Relationship Id="rId52" Type="http://schemas.openxmlformats.org/officeDocument/2006/relationships/image" Target="../media/image28.wmf"/><Relationship Id="rId53" Type="http://schemas.openxmlformats.org/officeDocument/2006/relationships/image" Target="../media/image29.wmf"/><Relationship Id="rId54" Type="http://schemas.openxmlformats.org/officeDocument/2006/relationships/image" Target="../media/image31.gif"/><Relationship Id="rId55" Type="http://schemas.openxmlformats.org/officeDocument/2006/relationships/image" Target="../media/image36.png"/><Relationship Id="rId56" Type="http://schemas.openxmlformats.org/officeDocument/2006/relationships/image" Target="../media/image37.png"/><Relationship Id="rId57" Type="http://schemas.openxmlformats.org/officeDocument/2006/relationships/image" Target="../media/image1.gif"/><Relationship Id="rId58" Type="http://schemas.openxmlformats.org/officeDocument/2006/relationships/image" Target="../media/image17.png"/><Relationship Id="rId59" Type="http://schemas.openxmlformats.org/officeDocument/2006/relationships/image" Target="../media/image39.png"/><Relationship Id="rId60" Type="http://schemas.openxmlformats.org/officeDocument/2006/relationships/image" Target="../media/image13.wmf"/><Relationship Id="rId61" Type="http://schemas.openxmlformats.org/officeDocument/2006/relationships/image" Target="../media/image14.wmf"/><Relationship Id="rId62" Type="http://schemas.openxmlformats.org/officeDocument/2006/relationships/image" Target="../media/image27.gif"/><Relationship Id="rId63" Type="http://schemas.openxmlformats.org/officeDocument/2006/relationships/image" Target="../media/image40.gif"/><Relationship Id="rId64" Type="http://schemas.openxmlformats.org/officeDocument/2006/relationships/image" Target="../media/image40.gif"/><Relationship Id="rId6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45960"/>
          <a:ext cx="876600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7800"/>
                <a:gridCol w="7747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06560" y="66600"/>
            <a:ext cx="350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ה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32680" y="911160"/>
            <a:ext cx="868320" cy="803160"/>
            <a:chOff x="7132680" y="911160"/>
            <a:chExt cx="868320" cy="803160"/>
          </a:xfrm>
        </p:grpSpPr>
        <p:sp>
          <p:nvSpPr>
            <p:cNvPr id="53" name=""/>
            <p:cNvSpPr/>
            <p:nvPr/>
          </p:nvSpPr>
          <p:spPr>
            <a:xfrm>
              <a:off x="7132680" y="91116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7226280" y="10285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3754440" y="930240"/>
            <a:ext cx="868320" cy="803160"/>
            <a:chOff x="3754440" y="930240"/>
            <a:chExt cx="868320" cy="803160"/>
          </a:xfrm>
        </p:grpSpPr>
        <p:sp>
          <p:nvSpPr>
            <p:cNvPr id="56" name=""/>
            <p:cNvSpPr/>
            <p:nvPr/>
          </p:nvSpPr>
          <p:spPr>
            <a:xfrm>
              <a:off x="3754440" y="9302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mushroom_house_sm_CLR" descr=""/>
            <p:cNvPicPr/>
            <p:nvPr/>
          </p:nvPicPr>
          <p:blipFill>
            <a:blip r:embed="rId2"/>
            <a:stretch/>
          </p:blipFill>
          <p:spPr>
            <a:xfrm>
              <a:off x="3848040" y="10476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1763640" y="920880"/>
            <a:ext cx="868320" cy="803160"/>
            <a:chOff x="1763640" y="920880"/>
            <a:chExt cx="868320" cy="803160"/>
          </a:xfrm>
        </p:grpSpPr>
        <p:sp>
          <p:nvSpPr>
            <p:cNvPr id="59" name=""/>
            <p:cNvSpPr/>
            <p:nvPr/>
          </p:nvSpPr>
          <p:spPr>
            <a:xfrm>
              <a:off x="1763640" y="92088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mushroom_house_sm_CLR" descr=""/>
            <p:cNvPicPr/>
            <p:nvPr/>
          </p:nvPicPr>
          <p:blipFill>
            <a:blip r:embed="rId3"/>
            <a:stretch/>
          </p:blipFill>
          <p:spPr>
            <a:xfrm>
              <a:off x="1857240" y="10382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5638680" y="2278080"/>
            <a:ext cx="1190520" cy="548640"/>
            <a:chOff x="5638680" y="2278080"/>
            <a:chExt cx="1190520" cy="548640"/>
          </a:xfrm>
        </p:grpSpPr>
        <p:sp>
          <p:nvSpPr>
            <p:cNvPr id="62" name=""/>
            <p:cNvSpPr/>
            <p:nvPr/>
          </p:nvSpPr>
          <p:spPr>
            <a:xfrm>
              <a:off x="6072480" y="227808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סטרונו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7280" y="242712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71560" y="250668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96680" y="2595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sun_playing_with_beach_ball_ty_b" descr=""/>
            <p:cNvPicPr/>
            <p:nvPr/>
          </p:nvPicPr>
          <p:blipFill>
            <a:blip r:embed="rId4"/>
            <a:stretch/>
          </p:blipFill>
          <p:spPr>
            <a:xfrm>
              <a:off x="5638680" y="2325600"/>
              <a:ext cx="457200" cy="4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5560920" y="1828800"/>
            <a:ext cx="1376640" cy="493200"/>
            <a:chOff x="5560920" y="1828800"/>
            <a:chExt cx="1376640" cy="49320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5560920" y="1828800"/>
              <a:ext cx="4971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094440" y="1851120"/>
              <a:ext cx="804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94560" y="21160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64120" y="2090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84800" y="1989000"/>
              <a:ext cx="601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104240" y="1812960"/>
            <a:ext cx="1130400" cy="651600"/>
            <a:chOff x="7104240" y="1812960"/>
            <a:chExt cx="1130400" cy="651600"/>
          </a:xfrm>
        </p:grpSpPr>
        <p:pic>
          <p:nvPicPr>
            <p:cNvPr id="74" name="ccschoolread4" descr=""/>
            <p:cNvPicPr/>
            <p:nvPr/>
          </p:nvPicPr>
          <p:blipFill>
            <a:blip r:embed="rId6"/>
            <a:stretch/>
          </p:blipFill>
          <p:spPr>
            <a:xfrm>
              <a:off x="7104240" y="1828800"/>
              <a:ext cx="444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316640" y="181296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9440" y="223344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41640" y="217980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4320" y="203040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751200" y="2889360"/>
            <a:ext cx="1010160" cy="851760"/>
            <a:chOff x="3751200" y="2889360"/>
            <a:chExt cx="1010160" cy="851760"/>
          </a:xfrm>
        </p:grpSpPr>
        <p:pic>
          <p:nvPicPr>
            <p:cNvPr id="80" name="ccschoolread4" descr=""/>
            <p:cNvPicPr/>
            <p:nvPr/>
          </p:nvPicPr>
          <p:blipFill>
            <a:blip r:embed="rId7"/>
            <a:stretch/>
          </p:blipFill>
          <p:spPr>
            <a:xfrm>
              <a:off x="3751200" y="3200400"/>
              <a:ext cx="444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166280" y="2889360"/>
              <a:ext cx="4730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07960" y="35100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60160" y="34275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82840" y="32497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846520" y="1814400"/>
            <a:ext cx="1102320" cy="718560"/>
            <a:chOff x="2846520" y="1814400"/>
            <a:chExt cx="1102320" cy="718560"/>
          </a:xfrm>
        </p:grpSpPr>
        <p:sp>
          <p:nvSpPr>
            <p:cNvPr id="86" name=""/>
            <p:cNvSpPr/>
            <p:nvPr/>
          </p:nvSpPr>
          <p:spPr>
            <a:xfrm>
              <a:off x="3372120" y="20844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78680" y="21924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09920" y="1814400"/>
              <a:ext cx="4806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פלאות הב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germ_squishing_around_ty_CLR" descr=""/>
            <p:cNvPicPr/>
            <p:nvPr/>
          </p:nvPicPr>
          <p:blipFill>
            <a:blip r:embed="rId8"/>
            <a:stretch/>
          </p:blipFill>
          <p:spPr>
            <a:xfrm>
              <a:off x="2846520" y="1903320"/>
              <a:ext cx="59328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357720" y="2301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079640" y="2054160"/>
            <a:ext cx="1029240" cy="515160"/>
            <a:chOff x="1079640" y="2054160"/>
            <a:chExt cx="1029240" cy="515160"/>
          </a:xfrm>
        </p:grpSpPr>
        <p:pic>
          <p:nvPicPr>
            <p:cNvPr id="92" name="" descr=""/>
            <p:cNvPicPr/>
            <p:nvPr/>
          </p:nvPicPr>
          <p:blipFill>
            <a:blip r:embed="rId9"/>
            <a:stretch/>
          </p:blipFill>
          <p:spPr>
            <a:xfrm>
              <a:off x="1298160" y="21081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0"/>
            <a:stretch/>
          </p:blipFill>
          <p:spPr>
            <a:xfrm>
              <a:off x="1079640" y="21081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25680" y="2206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4120" y="2297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63480" y="2054160"/>
              <a:ext cx="410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243180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97000" y="1892160"/>
            <a:ext cx="735120" cy="755640"/>
            <a:chOff x="2097000" y="1892160"/>
            <a:chExt cx="735120" cy="755640"/>
          </a:xfrm>
        </p:grpSpPr>
        <p:sp>
          <p:nvSpPr>
            <p:cNvPr id="99" name=""/>
            <p:cNvSpPr/>
            <p:nvPr/>
          </p:nvSpPr>
          <p:spPr>
            <a:xfrm>
              <a:off x="2097000" y="18921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 בבית ה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mushroom_house_sm_CLR" descr=""/>
            <p:cNvPicPr/>
            <p:nvPr/>
          </p:nvPicPr>
          <p:blipFill>
            <a:blip r:embed="rId11"/>
            <a:stretch/>
          </p:blipFill>
          <p:spPr>
            <a:xfrm>
              <a:off x="2133720" y="19620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7319880" y="2779560"/>
            <a:ext cx="864000" cy="673200"/>
            <a:chOff x="7319880" y="2779560"/>
            <a:chExt cx="864000" cy="673200"/>
          </a:xfrm>
        </p:grpSpPr>
        <p:sp>
          <p:nvSpPr>
            <p:cNvPr id="102" name=""/>
            <p:cNvSpPr/>
            <p:nvPr/>
          </p:nvSpPr>
          <p:spPr>
            <a:xfrm>
              <a:off x="7767000" y="2893680"/>
              <a:ext cx="416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85080" y="3159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ccdoll2" descr=""/>
            <p:cNvPicPr/>
            <p:nvPr/>
          </p:nvPicPr>
          <p:blipFill>
            <a:blip r:embed="rId12"/>
            <a:stretch/>
          </p:blipFill>
          <p:spPr>
            <a:xfrm>
              <a:off x="7319880" y="2779560"/>
              <a:ext cx="45720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56240" y="2762280"/>
            <a:ext cx="901440" cy="754920"/>
            <a:chOff x="4656240" y="2762280"/>
            <a:chExt cx="901440" cy="754920"/>
          </a:xfrm>
        </p:grpSpPr>
        <p:sp>
          <p:nvSpPr>
            <p:cNvPr id="106" name=""/>
            <p:cNvSpPr/>
            <p:nvPr/>
          </p:nvSpPr>
          <p:spPr>
            <a:xfrm>
              <a:off x="5225400" y="29620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56240" y="27622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983120" y="2963880"/>
              <a:ext cx="191880" cy="226440"/>
              <a:chOff x="4983120" y="2963880"/>
              <a:chExt cx="191880" cy="22644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83120" y="29638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83120" y="29638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33640" y="2952720"/>
              <a:ext cx="199800" cy="247320"/>
              <a:chOff x="4733640" y="2952720"/>
              <a:chExt cx="199800" cy="2473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33640" y="2952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33640" y="2952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"/>
            <p:cNvSpPr/>
            <p:nvPr/>
          </p:nvSpPr>
          <p:spPr>
            <a:xfrm>
              <a:off x="4963320" y="3184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96920" y="32860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44280" y="2905200"/>
            <a:ext cx="1085760" cy="659520"/>
            <a:chOff x="944280" y="2905200"/>
            <a:chExt cx="1085760" cy="659520"/>
          </a:xfrm>
        </p:grpSpPr>
        <p:sp>
          <p:nvSpPr>
            <p:cNvPr id="117" name=""/>
            <p:cNvSpPr/>
            <p:nvPr/>
          </p:nvSpPr>
          <p:spPr>
            <a:xfrm>
              <a:off x="1672560" y="310500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720" y="2905200"/>
              <a:ext cx="88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קד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430280" y="3106440"/>
              <a:ext cx="192240" cy="226440"/>
              <a:chOff x="1430280" y="3106440"/>
              <a:chExt cx="192240" cy="22644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30280" y="3106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30280" y="3106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1181160" y="3095640"/>
              <a:ext cx="199800" cy="246600"/>
              <a:chOff x="1181160" y="3095640"/>
              <a:chExt cx="199800" cy="2466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181160" y="309564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181160" y="309564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"/>
            <p:cNvSpPr/>
            <p:nvPr/>
          </p:nvSpPr>
          <p:spPr>
            <a:xfrm>
              <a:off x="1667880" y="3336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44280" y="33336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781680" y="3938760"/>
            <a:ext cx="1362960" cy="488160"/>
            <a:chOff x="6781680" y="3938760"/>
            <a:chExt cx="1362960" cy="488160"/>
          </a:xfrm>
        </p:grpSpPr>
        <p:sp>
          <p:nvSpPr>
            <p:cNvPr id="128" name=""/>
            <p:cNvSpPr/>
            <p:nvPr/>
          </p:nvSpPr>
          <p:spPr>
            <a:xfrm>
              <a:off x="7329600" y="411948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37640" y="39387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030800" y="4121280"/>
              <a:ext cx="192240" cy="226440"/>
              <a:chOff x="7030800" y="4121280"/>
              <a:chExt cx="192240" cy="2264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030800" y="41212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030800" y="41212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6781680" y="4110120"/>
              <a:ext cx="199800" cy="247320"/>
              <a:chOff x="6781680" y="4110120"/>
              <a:chExt cx="199800" cy="2473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781680" y="4110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781680" y="4110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7821000" y="4218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6480" y="41958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10240" y="3938760"/>
            <a:ext cx="857160" cy="583200"/>
            <a:chOff x="5610240" y="3938760"/>
            <a:chExt cx="857160" cy="583200"/>
          </a:xfrm>
        </p:grpSpPr>
        <p:sp>
          <p:nvSpPr>
            <p:cNvPr id="139" name=""/>
            <p:cNvSpPr/>
            <p:nvPr/>
          </p:nvSpPr>
          <p:spPr>
            <a:xfrm>
              <a:off x="6046200" y="393876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5800" y="41446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49160" y="4352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09600" y="43844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610240" y="3967200"/>
              <a:ext cx="401400" cy="403920"/>
              <a:chOff x="5610240" y="3967200"/>
              <a:chExt cx="401400" cy="4039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10240" y="3967200"/>
                <a:ext cx="401400" cy="40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10240" y="3967200"/>
                <a:ext cx="401400" cy="403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6" name=""/>
          <p:cNvGrpSpPr/>
          <p:nvPr/>
        </p:nvGrpSpPr>
        <p:grpSpPr>
          <a:xfrm>
            <a:off x="4221000" y="3890880"/>
            <a:ext cx="1027800" cy="640800"/>
            <a:chOff x="4221000" y="3890880"/>
            <a:chExt cx="1027800" cy="640800"/>
          </a:xfrm>
        </p:grpSpPr>
        <p:sp>
          <p:nvSpPr>
            <p:cNvPr id="147" name=""/>
            <p:cNvSpPr/>
            <p:nvPr/>
          </p:nvSpPr>
          <p:spPr>
            <a:xfrm>
              <a:off x="4863240" y="409104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4040" y="3890880"/>
              <a:ext cx="88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קד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620960" y="4092480"/>
              <a:ext cx="191880" cy="226800"/>
              <a:chOff x="4620960" y="4092480"/>
              <a:chExt cx="191880" cy="22680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20960" y="4092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620960" y="4092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4371840" y="4081320"/>
              <a:ext cx="199800" cy="247320"/>
              <a:chOff x="4371840" y="4081320"/>
              <a:chExt cx="199800" cy="24732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71840" y="4081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371840" y="4081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4925160" y="4313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1000" y="4300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8760" y="4233960"/>
            <a:ext cx="1124640" cy="459720"/>
            <a:chOff x="428760" y="4233960"/>
            <a:chExt cx="1124640" cy="459720"/>
          </a:xfrm>
        </p:grpSpPr>
        <p:sp>
          <p:nvSpPr>
            <p:cNvPr id="158" name=""/>
            <p:cNvSpPr/>
            <p:nvPr/>
          </p:nvSpPr>
          <p:spPr>
            <a:xfrm>
              <a:off x="1024200" y="440532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8680" y="42339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77880" y="4406760"/>
              <a:ext cx="192240" cy="226800"/>
              <a:chOff x="677880" y="4406760"/>
              <a:chExt cx="192240" cy="2268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77880" y="4406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77880" y="4406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428760" y="4395960"/>
              <a:ext cx="199800" cy="247320"/>
              <a:chOff x="428760" y="4395960"/>
              <a:chExt cx="199800" cy="24732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28760" y="4395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28760" y="4395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/>
            <p:nvPr/>
          </p:nvSpPr>
          <p:spPr>
            <a:xfrm>
              <a:off x="1229760" y="44848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6240" y="4462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552680" y="4341960"/>
            <a:ext cx="1134360" cy="321840"/>
            <a:chOff x="1552680" y="4341960"/>
            <a:chExt cx="1134360" cy="321840"/>
          </a:xfrm>
        </p:grpSpPr>
        <p:pic>
          <p:nvPicPr>
            <p:cNvPr id="169" name="piano_short" descr=""/>
            <p:cNvPicPr/>
            <p:nvPr/>
          </p:nvPicPr>
          <p:blipFill>
            <a:blip r:embed="rId35"/>
            <a:srcRect l="50084" t="0" r="0" b="0"/>
            <a:stretch/>
          </p:blipFill>
          <p:spPr>
            <a:xfrm>
              <a:off x="1552680" y="440388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195640" y="43419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24520" y="44960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6680" y="3763800"/>
            <a:ext cx="1360440" cy="548640"/>
            <a:chOff x="166680" y="3763800"/>
            <a:chExt cx="1360440" cy="548640"/>
          </a:xfrm>
        </p:grpSpPr>
        <p:sp>
          <p:nvSpPr>
            <p:cNvPr id="173" name=""/>
            <p:cNvSpPr/>
            <p:nvPr/>
          </p:nvSpPr>
          <p:spPr>
            <a:xfrm>
              <a:off x="715680" y="3763800"/>
              <a:ext cx="622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ולנ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029120"/>
              <a:ext cx="384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גיל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35160" y="4098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funny_men_hand_cart_ty_CLR" descr=""/>
            <p:cNvPicPr/>
            <p:nvPr/>
          </p:nvPicPr>
          <p:blipFill>
            <a:blip r:embed="rId36"/>
            <a:stretch/>
          </p:blipFill>
          <p:spPr>
            <a:xfrm>
              <a:off x="166680" y="380196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53680" y="4081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893960" y="3697200"/>
            <a:ext cx="1049400" cy="685800"/>
            <a:chOff x="1893960" y="3697200"/>
            <a:chExt cx="1049400" cy="685800"/>
          </a:xfrm>
        </p:grpSpPr>
        <p:sp>
          <p:nvSpPr>
            <p:cNvPr id="179" name=""/>
            <p:cNvSpPr/>
            <p:nvPr/>
          </p:nvSpPr>
          <p:spPr>
            <a:xfrm>
              <a:off x="2092680" y="369720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95000" y="3876840"/>
              <a:ext cx="56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45200" y="39844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palette1" descr=""/>
            <p:cNvPicPr/>
            <p:nvPr/>
          </p:nvPicPr>
          <p:blipFill>
            <a:blip r:embed="rId37"/>
            <a:stretch/>
          </p:blipFill>
          <p:spPr>
            <a:xfrm>
              <a:off x="1893960" y="3855960"/>
              <a:ext cx="4129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28680" y="410040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40520" y="5183280"/>
            <a:ext cx="1325160" cy="780120"/>
            <a:chOff x="6140520" y="5183280"/>
            <a:chExt cx="1325160" cy="780120"/>
          </a:xfrm>
        </p:grpSpPr>
        <p:pic>
          <p:nvPicPr>
            <p:cNvPr id="185" name="" descr=""/>
            <p:cNvPicPr/>
            <p:nvPr/>
          </p:nvPicPr>
          <p:blipFill>
            <a:blip r:embed="rId38"/>
            <a:stretch/>
          </p:blipFill>
          <p:spPr>
            <a:xfrm>
              <a:off x="6140520" y="5183280"/>
              <a:ext cx="132516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9"/>
            <a:stretch/>
          </p:blipFill>
          <p:spPr>
            <a:xfrm>
              <a:off x="6140520" y="5183280"/>
              <a:ext cx="1325160" cy="78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6522480" y="493560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7520" y="6021360"/>
            <a:ext cx="35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זמני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97120" y="4653000"/>
            <a:ext cx="1028160" cy="602640"/>
            <a:chOff x="4497120" y="4653000"/>
            <a:chExt cx="1028160" cy="602640"/>
          </a:xfrm>
        </p:grpSpPr>
        <p:sp>
          <p:nvSpPr>
            <p:cNvPr id="190" name=""/>
            <p:cNvSpPr/>
            <p:nvPr/>
          </p:nvSpPr>
          <p:spPr>
            <a:xfrm>
              <a:off x="5139000" y="482472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38960" y="46530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878360" y="4835880"/>
              <a:ext cx="192240" cy="226440"/>
              <a:chOff x="4878360" y="4835880"/>
              <a:chExt cx="192240" cy="226440"/>
            </a:xfrm>
          </p:grpSpPr>
          <p:pic>
            <p:nvPicPr>
              <p:cNvPr id="19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878360" y="48358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878360" y="48358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4629240" y="4824720"/>
              <a:ext cx="199800" cy="247320"/>
              <a:chOff x="4629240" y="4824720"/>
              <a:chExt cx="199800" cy="2473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629240" y="4824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629240" y="4824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"/>
            <p:cNvSpPr/>
            <p:nvPr/>
          </p:nvSpPr>
          <p:spPr>
            <a:xfrm>
              <a:off x="5201640" y="49420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7120" y="50245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38600" y="5167440"/>
            <a:ext cx="1124280" cy="439200"/>
            <a:chOff x="3738600" y="5167440"/>
            <a:chExt cx="1124280" cy="439200"/>
          </a:xfrm>
        </p:grpSpPr>
        <p:sp>
          <p:nvSpPr>
            <p:cNvPr id="201" name=""/>
            <p:cNvSpPr/>
            <p:nvPr/>
          </p:nvSpPr>
          <p:spPr>
            <a:xfrm>
              <a:off x="4124520" y="51674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0800" y="533556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9360" y="5438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mh2l_p" descr=""/>
            <p:cNvPicPr/>
            <p:nvPr/>
          </p:nvPicPr>
          <p:blipFill>
            <a:blip r:embed="rId44"/>
            <a:stretch/>
          </p:blipFill>
          <p:spPr>
            <a:xfrm>
              <a:off x="3738600" y="5205240"/>
              <a:ext cx="44604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1760400" y="4745160"/>
            <a:ext cx="983160" cy="872280"/>
            <a:chOff x="1760400" y="4745160"/>
            <a:chExt cx="983160" cy="872280"/>
          </a:xfrm>
        </p:grpSpPr>
        <p:sp>
          <p:nvSpPr>
            <p:cNvPr id="206" name=""/>
            <p:cNvSpPr/>
            <p:nvPr/>
          </p:nvSpPr>
          <p:spPr>
            <a:xfrm>
              <a:off x="1845000" y="474516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85200" y="4971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1200" y="525132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palette1" descr=""/>
            <p:cNvPicPr/>
            <p:nvPr/>
          </p:nvPicPr>
          <p:blipFill>
            <a:blip r:embed="rId45"/>
            <a:stretch/>
          </p:blipFill>
          <p:spPr>
            <a:xfrm>
              <a:off x="1760400" y="4932360"/>
              <a:ext cx="4129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928880" y="538632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90680" y="5106960"/>
            <a:ext cx="1360440" cy="548640"/>
            <a:chOff x="490680" y="5106960"/>
            <a:chExt cx="1360440" cy="548640"/>
          </a:xfrm>
        </p:grpSpPr>
        <p:sp>
          <p:nvSpPr>
            <p:cNvPr id="212" name=""/>
            <p:cNvSpPr/>
            <p:nvPr/>
          </p:nvSpPr>
          <p:spPr>
            <a:xfrm>
              <a:off x="1039680" y="5106960"/>
              <a:ext cx="622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ולנ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5372280"/>
              <a:ext cx="384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גיל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59160" y="54421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funny_men_hand_cart_ty_CLR" descr=""/>
            <p:cNvPicPr/>
            <p:nvPr/>
          </p:nvPicPr>
          <p:blipFill>
            <a:blip r:embed="rId46"/>
            <a:stretch/>
          </p:blipFill>
          <p:spPr>
            <a:xfrm>
              <a:off x="490680" y="514512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77680" y="54244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287600" y="5780160"/>
            <a:ext cx="1012680" cy="659520"/>
            <a:chOff x="4287600" y="5780160"/>
            <a:chExt cx="1012680" cy="659520"/>
          </a:xfrm>
        </p:grpSpPr>
        <p:sp>
          <p:nvSpPr>
            <p:cNvPr id="218" name=""/>
            <p:cNvSpPr/>
            <p:nvPr/>
          </p:nvSpPr>
          <p:spPr>
            <a:xfrm>
              <a:off x="4977720" y="597996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98840" y="57801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725720" y="5981760"/>
              <a:ext cx="191880" cy="226440"/>
              <a:chOff x="4725720" y="5981760"/>
              <a:chExt cx="191880" cy="2264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725720" y="5981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725720" y="5981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4476600" y="5970600"/>
              <a:ext cx="199440" cy="247320"/>
              <a:chOff x="4476600" y="5970600"/>
              <a:chExt cx="199440" cy="24732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4476600" y="59706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4476600" y="59706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"/>
            <p:cNvSpPr/>
            <p:nvPr/>
          </p:nvSpPr>
          <p:spPr>
            <a:xfrm>
              <a:off x="4972680" y="62308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7600" y="6208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24360" y="5770440"/>
            <a:ext cx="832680" cy="601200"/>
            <a:chOff x="3024360" y="5770440"/>
            <a:chExt cx="832680" cy="601200"/>
          </a:xfrm>
        </p:grpSpPr>
        <p:sp>
          <p:nvSpPr>
            <p:cNvPr id="229" name=""/>
            <p:cNvSpPr/>
            <p:nvPr/>
          </p:nvSpPr>
          <p:spPr>
            <a:xfrm>
              <a:off x="3028680" y="57704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75440" y="59770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33040" y="6203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mh2l_p" descr=""/>
            <p:cNvPicPr/>
            <p:nvPr/>
          </p:nvPicPr>
          <p:blipFill>
            <a:blip r:embed="rId51"/>
            <a:stretch/>
          </p:blipFill>
          <p:spPr>
            <a:xfrm>
              <a:off x="3024360" y="5913360"/>
              <a:ext cx="44568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258480" y="5788080"/>
            <a:ext cx="1022040" cy="681840"/>
            <a:chOff x="258480" y="5788080"/>
            <a:chExt cx="1022040" cy="681840"/>
          </a:xfrm>
        </p:grpSpPr>
        <p:sp>
          <p:nvSpPr>
            <p:cNvPr id="234" name=""/>
            <p:cNvSpPr/>
            <p:nvPr/>
          </p:nvSpPr>
          <p:spPr>
            <a:xfrm>
              <a:off x="697680" y="5788080"/>
              <a:ext cx="5828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ולנ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600" y="6081840"/>
              <a:ext cx="384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גיל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49680" y="61801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funny_men_hand_cart_ty_CLR" descr=""/>
            <p:cNvPicPr/>
            <p:nvPr/>
          </p:nvPicPr>
          <p:blipFill>
            <a:blip r:embed="rId52"/>
            <a:stretch/>
          </p:blipFill>
          <p:spPr>
            <a:xfrm>
              <a:off x="290520" y="583560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58480" y="62388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84440" y="5749920"/>
            <a:ext cx="982800" cy="748800"/>
            <a:chOff x="1684440" y="5749920"/>
            <a:chExt cx="982800" cy="748800"/>
          </a:xfrm>
        </p:grpSpPr>
        <p:sp>
          <p:nvSpPr>
            <p:cNvPr id="240" name=""/>
            <p:cNvSpPr/>
            <p:nvPr/>
          </p:nvSpPr>
          <p:spPr>
            <a:xfrm>
              <a:off x="1769040" y="574992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7960" y="59198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5240" y="61516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alette1" descr=""/>
            <p:cNvPicPr/>
            <p:nvPr/>
          </p:nvPicPr>
          <p:blipFill>
            <a:blip r:embed="rId53"/>
            <a:stretch/>
          </p:blipFill>
          <p:spPr>
            <a:xfrm>
              <a:off x="1684440" y="5908680"/>
              <a:ext cx="4129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852560" y="626760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15000" y="1031760"/>
            <a:ext cx="1248120" cy="651960"/>
            <a:chOff x="5715000" y="1031760"/>
            <a:chExt cx="1248120" cy="651960"/>
          </a:xfrm>
        </p:grpSpPr>
        <p:pic>
          <p:nvPicPr>
            <p:cNvPr id="246" name="" descr=""/>
            <p:cNvPicPr/>
            <p:nvPr/>
          </p:nvPicPr>
          <p:blipFill>
            <a:blip r:embed="rId54"/>
            <a:stretch/>
          </p:blipFill>
          <p:spPr>
            <a:xfrm>
              <a:off x="5715000" y="1047600"/>
              <a:ext cx="4968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143760" y="1031760"/>
              <a:ext cx="804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29240" y="132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56000" y="14526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4760" y="1198440"/>
              <a:ext cx="601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781680" y="3398760"/>
            <a:ext cx="1135080" cy="321840"/>
            <a:chOff x="6781680" y="3398760"/>
            <a:chExt cx="1135080" cy="321840"/>
          </a:xfrm>
        </p:grpSpPr>
        <p:pic>
          <p:nvPicPr>
            <p:cNvPr id="252" name="piano_short" descr=""/>
            <p:cNvPicPr/>
            <p:nvPr/>
          </p:nvPicPr>
          <p:blipFill>
            <a:blip r:embed="rId55"/>
            <a:srcRect l="50084" t="0" r="0" b="0"/>
            <a:stretch/>
          </p:blipFill>
          <p:spPr>
            <a:xfrm>
              <a:off x="6781680" y="344160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425360" y="33987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53880" y="35528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627440" y="1790640"/>
            <a:ext cx="943560" cy="850320"/>
            <a:chOff x="4627440" y="1790640"/>
            <a:chExt cx="943560" cy="850320"/>
          </a:xfrm>
        </p:grpSpPr>
        <p:sp>
          <p:nvSpPr>
            <p:cNvPr id="256" name=""/>
            <p:cNvSpPr/>
            <p:nvPr/>
          </p:nvSpPr>
          <p:spPr>
            <a:xfrm>
              <a:off x="5117040" y="20001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5560" y="179064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אוגר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9360" y="22698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corporate_travel_sm_CLR" descr=""/>
            <p:cNvPicPr/>
            <p:nvPr/>
          </p:nvPicPr>
          <p:blipFill>
            <a:blip r:embed="rId56"/>
            <a:stretch/>
          </p:blipFill>
          <p:spPr>
            <a:xfrm>
              <a:off x="4627440" y="1919160"/>
              <a:ext cx="5270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63880" y="24098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094200" y="3892680"/>
            <a:ext cx="880920" cy="672480"/>
            <a:chOff x="3094200" y="3892680"/>
            <a:chExt cx="880920" cy="672480"/>
          </a:xfrm>
        </p:grpSpPr>
        <p:sp>
          <p:nvSpPr>
            <p:cNvPr id="262" name=""/>
            <p:cNvSpPr/>
            <p:nvPr/>
          </p:nvSpPr>
          <p:spPr>
            <a:xfrm>
              <a:off x="3472920" y="389268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094200" y="3946680"/>
              <a:ext cx="304560" cy="329760"/>
              <a:chOff x="3094200" y="3946680"/>
              <a:chExt cx="304560" cy="329760"/>
            </a:xfrm>
          </p:grpSpPr>
          <p:pic>
            <p:nvPicPr>
              <p:cNvPr id="264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3094200" y="394668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3094200" y="394668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6" name=""/>
            <p:cNvSpPr/>
            <p:nvPr/>
          </p:nvSpPr>
          <p:spPr>
            <a:xfrm>
              <a:off x="3373200" y="4065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67160" y="42325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43340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17880" y="4788000"/>
            <a:ext cx="880920" cy="672480"/>
            <a:chOff x="3017880" y="4788000"/>
            <a:chExt cx="880920" cy="672480"/>
          </a:xfrm>
        </p:grpSpPr>
        <p:sp>
          <p:nvSpPr>
            <p:cNvPr id="270" name=""/>
            <p:cNvSpPr/>
            <p:nvPr/>
          </p:nvSpPr>
          <p:spPr>
            <a:xfrm>
              <a:off x="3396600" y="478800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17880" y="4842000"/>
              <a:ext cx="304560" cy="329760"/>
              <a:chOff x="3017880" y="4842000"/>
              <a:chExt cx="304560" cy="3297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3017880" y="48420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3017880" y="48420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4" name=""/>
            <p:cNvSpPr/>
            <p:nvPr/>
          </p:nvSpPr>
          <p:spPr>
            <a:xfrm>
              <a:off x="3296880" y="496116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90840" y="51278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96440" y="52293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5040" y="906480"/>
            <a:ext cx="938520" cy="864360"/>
            <a:chOff x="365040" y="906480"/>
            <a:chExt cx="938520" cy="864360"/>
          </a:xfrm>
        </p:grpSpPr>
        <p:sp>
          <p:nvSpPr>
            <p:cNvPr id="278" name=""/>
            <p:cNvSpPr/>
            <p:nvPr/>
          </p:nvSpPr>
          <p:spPr>
            <a:xfrm>
              <a:off x="993600" y="9936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6840" y="1191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4080" y="14205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4080" y="15397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noahs_ark_rocking_ty_CLR" descr=""/>
            <p:cNvPicPr/>
            <p:nvPr/>
          </p:nvPicPr>
          <p:blipFill>
            <a:blip r:embed="rId61"/>
            <a:stretch/>
          </p:blipFill>
          <p:spPr>
            <a:xfrm>
              <a:off x="365040" y="906480"/>
              <a:ext cx="63972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2865600" y="2732040"/>
            <a:ext cx="998640" cy="781920"/>
            <a:chOff x="2865600" y="2732040"/>
            <a:chExt cx="998640" cy="781920"/>
          </a:xfrm>
        </p:grpSpPr>
        <p:sp>
          <p:nvSpPr>
            <p:cNvPr id="284" name=""/>
            <p:cNvSpPr/>
            <p:nvPr/>
          </p:nvSpPr>
          <p:spPr>
            <a:xfrm>
              <a:off x="3362040" y="309420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31734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71760" y="2814480"/>
              <a:ext cx="480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פלאות הב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germ_squishing_around_ty_CLR" descr=""/>
            <p:cNvPicPr/>
            <p:nvPr/>
          </p:nvPicPr>
          <p:blipFill>
            <a:blip r:embed="rId62"/>
            <a:stretch/>
          </p:blipFill>
          <p:spPr>
            <a:xfrm>
              <a:off x="2865600" y="27320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053520" y="3282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804480" y="2065320"/>
            <a:ext cx="833760" cy="669240"/>
            <a:chOff x="3804480" y="2065320"/>
            <a:chExt cx="833760" cy="669240"/>
          </a:xfrm>
        </p:grpSpPr>
        <p:sp>
          <p:nvSpPr>
            <p:cNvPr id="290" name=""/>
            <p:cNvSpPr/>
            <p:nvPr/>
          </p:nvSpPr>
          <p:spPr>
            <a:xfrm>
              <a:off x="4028760" y="20653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עמל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6640" y="2281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61240" y="25653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4480" y="25970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876840" y="2217600"/>
              <a:ext cx="401040" cy="404640"/>
              <a:chOff x="3876840" y="2217600"/>
              <a:chExt cx="401040" cy="404640"/>
            </a:xfrm>
          </p:grpSpPr>
          <p:pic>
            <p:nvPicPr>
              <p:cNvPr id="295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3876840" y="221760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3876840" y="221760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7" name=""/>
          <p:cNvGrpSpPr/>
          <p:nvPr/>
        </p:nvGrpSpPr>
        <p:grpSpPr>
          <a:xfrm>
            <a:off x="6916680" y="2346480"/>
            <a:ext cx="1045800" cy="470520"/>
            <a:chOff x="6916680" y="2346480"/>
            <a:chExt cx="1045800" cy="470520"/>
          </a:xfrm>
        </p:grpSpPr>
        <p:sp>
          <p:nvSpPr>
            <p:cNvPr id="298" name=""/>
            <p:cNvSpPr/>
            <p:nvPr/>
          </p:nvSpPr>
          <p:spPr>
            <a:xfrm>
              <a:off x="7494480" y="23670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5760" y="25351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50800" y="26128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newtonian_demonstrator_third_law_of_motion_ty_CLR" descr=""/>
            <p:cNvPicPr/>
            <p:nvPr/>
          </p:nvPicPr>
          <p:blipFill>
            <a:blip r:embed="rId65"/>
            <a:stretch/>
          </p:blipFill>
          <p:spPr>
            <a:xfrm>
              <a:off x="6916680" y="2346480"/>
              <a:ext cx="496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274520" y="25858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095880" y="2747880"/>
            <a:ext cx="1094400" cy="602640"/>
            <a:chOff x="6095880" y="2747880"/>
            <a:chExt cx="1094400" cy="602640"/>
          </a:xfrm>
        </p:grpSpPr>
        <p:sp>
          <p:nvSpPr>
            <p:cNvPr id="304" name=""/>
            <p:cNvSpPr/>
            <p:nvPr/>
          </p:nvSpPr>
          <p:spPr>
            <a:xfrm>
              <a:off x="6644160" y="291924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66160" y="27478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345360" y="2949480"/>
              <a:ext cx="191880" cy="226800"/>
              <a:chOff x="6345360" y="2949480"/>
              <a:chExt cx="191880" cy="226800"/>
            </a:xfrm>
          </p:grpSpPr>
          <p:pic>
            <p:nvPicPr>
              <p:cNvPr id="307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6345360" y="2949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6345360" y="2949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"/>
            <p:cNvGrpSpPr/>
            <p:nvPr/>
          </p:nvGrpSpPr>
          <p:grpSpPr>
            <a:xfrm>
              <a:off x="6095880" y="2938320"/>
              <a:ext cx="199800" cy="247320"/>
              <a:chOff x="6095880" y="2938320"/>
              <a:chExt cx="199800" cy="247320"/>
            </a:xfrm>
          </p:grpSpPr>
          <p:pic>
            <p:nvPicPr>
              <p:cNvPr id="310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095880" y="2938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6095880" y="2938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2" name=""/>
            <p:cNvSpPr/>
            <p:nvPr/>
          </p:nvSpPr>
          <p:spPr>
            <a:xfrm>
              <a:off x="6706800" y="3008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83160" y="3119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543640" y="3220920"/>
            <a:ext cx="1190520" cy="548640"/>
            <a:chOff x="5543640" y="3220920"/>
            <a:chExt cx="1190520" cy="548640"/>
          </a:xfrm>
        </p:grpSpPr>
        <p:sp>
          <p:nvSpPr>
            <p:cNvPr id="315" name=""/>
            <p:cNvSpPr/>
            <p:nvPr/>
          </p:nvSpPr>
          <p:spPr>
            <a:xfrm>
              <a:off x="5977440" y="322092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סטרונו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42240" y="3369960"/>
              <a:ext cx="554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6520" y="344952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1640" y="35384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sun_playing_with_beach_ball_ty_b" descr=""/>
            <p:cNvPicPr/>
            <p:nvPr/>
          </p:nvPicPr>
          <p:blipFill>
            <a:blip r:embed="rId70"/>
            <a:stretch/>
          </p:blipFill>
          <p:spPr>
            <a:xfrm>
              <a:off x="5543640" y="3268440"/>
              <a:ext cx="457200" cy="4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28960" y="1827360"/>
            <a:ext cx="769320" cy="884880"/>
            <a:chOff x="228960" y="1827360"/>
            <a:chExt cx="769320" cy="884880"/>
          </a:xfrm>
        </p:grpSpPr>
        <p:sp>
          <p:nvSpPr>
            <p:cNvPr id="321" name=""/>
            <p:cNvSpPr/>
            <p:nvPr/>
          </p:nvSpPr>
          <p:spPr>
            <a:xfrm>
              <a:off x="228960" y="182736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עשיה וז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200" y="23000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4080" y="23842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lb_mu_v" descr=""/>
            <p:cNvPicPr/>
            <p:nvPr/>
          </p:nvPicPr>
          <p:blipFill>
            <a:blip r:embed="rId71"/>
            <a:stretch/>
          </p:blipFill>
          <p:spPr>
            <a:xfrm>
              <a:off x="230040" y="2025360"/>
              <a:ext cx="76824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88360" y="248112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8840" y="4643280"/>
            <a:ext cx="1198440" cy="526680"/>
            <a:chOff x="258840" y="4643280"/>
            <a:chExt cx="1198440" cy="526680"/>
          </a:xfrm>
        </p:grpSpPr>
        <p:sp>
          <p:nvSpPr>
            <p:cNvPr id="327" name=""/>
            <p:cNvSpPr/>
            <p:nvPr/>
          </p:nvSpPr>
          <p:spPr>
            <a:xfrm>
              <a:off x="1029240" y="490680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6880" y="46432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6480" y="480852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addition_2_plus_2_ty_CLR" descr=""/>
            <p:cNvPicPr/>
            <p:nvPr/>
          </p:nvPicPr>
          <p:blipFill>
            <a:blip r:embed="rId72"/>
            <a:stretch/>
          </p:blipFill>
          <p:spPr>
            <a:xfrm>
              <a:off x="258840" y="46432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59920" y="493884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6706080" y="501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7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6320" y="4827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716280" y="930240"/>
            <a:ext cx="868320" cy="803160"/>
            <a:chOff x="3716280" y="930240"/>
            <a:chExt cx="868320" cy="803160"/>
          </a:xfrm>
        </p:grpSpPr>
        <p:sp>
          <p:nvSpPr>
            <p:cNvPr id="337" name=""/>
            <p:cNvSpPr/>
            <p:nvPr/>
          </p:nvSpPr>
          <p:spPr>
            <a:xfrm>
              <a:off x="3716280" y="9302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3809880" y="10476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1077840" y="930240"/>
            <a:ext cx="868320" cy="803160"/>
            <a:chOff x="1077840" y="930240"/>
            <a:chExt cx="868320" cy="803160"/>
          </a:xfrm>
        </p:grpSpPr>
        <p:sp>
          <p:nvSpPr>
            <p:cNvPr id="340" name=""/>
            <p:cNvSpPr/>
            <p:nvPr/>
          </p:nvSpPr>
          <p:spPr>
            <a:xfrm>
              <a:off x="1077840" y="9302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mushroom_house_sm_CLR" descr=""/>
            <p:cNvPicPr/>
            <p:nvPr/>
          </p:nvPicPr>
          <p:blipFill>
            <a:blip r:embed="rId2"/>
            <a:stretch/>
          </p:blipFill>
          <p:spPr>
            <a:xfrm>
              <a:off x="1171440" y="10476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5581800" y="1325520"/>
            <a:ext cx="987840" cy="452520"/>
            <a:chOff x="5581800" y="1325520"/>
            <a:chExt cx="987840" cy="452520"/>
          </a:xfrm>
        </p:grpSpPr>
        <p:sp>
          <p:nvSpPr>
            <p:cNvPr id="343" name=""/>
            <p:cNvSpPr/>
            <p:nvPr/>
          </p:nvSpPr>
          <p:spPr>
            <a:xfrm>
              <a:off x="5814360" y="13255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5581800" y="14587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5581800" y="1392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904360" y="150480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0" y="16034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122880" y="868320"/>
            <a:ext cx="1190880" cy="586440"/>
            <a:chOff x="6122880" y="868320"/>
            <a:chExt cx="1190880" cy="586440"/>
          </a:xfrm>
        </p:grpSpPr>
        <p:sp>
          <p:nvSpPr>
            <p:cNvPr id="349" name=""/>
            <p:cNvSpPr/>
            <p:nvPr/>
          </p:nvSpPr>
          <p:spPr>
            <a:xfrm>
              <a:off x="6653160" y="102204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61520" y="1112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06640" y="1223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55600" y="868320"/>
              <a:ext cx="6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לוסו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mh4l_g" descr=""/>
            <p:cNvPicPr/>
            <p:nvPr/>
          </p:nvPicPr>
          <p:blipFill>
            <a:blip r:embed="rId5"/>
            <a:stretch/>
          </p:blipFill>
          <p:spPr>
            <a:xfrm>
              <a:off x="6122880" y="922320"/>
              <a:ext cx="47952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255600" y="1841400"/>
            <a:ext cx="1130760" cy="651600"/>
            <a:chOff x="255600" y="1841400"/>
            <a:chExt cx="1130760" cy="651600"/>
          </a:xfrm>
        </p:grpSpPr>
        <p:pic>
          <p:nvPicPr>
            <p:cNvPr id="355" name="ccschoolread4" descr=""/>
            <p:cNvPicPr/>
            <p:nvPr/>
          </p:nvPicPr>
          <p:blipFill>
            <a:blip r:embed="rId6"/>
            <a:stretch/>
          </p:blipFill>
          <p:spPr>
            <a:xfrm>
              <a:off x="255600" y="185724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68360" y="184140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800" y="22618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60" y="22082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5680" y="2058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398840" y="1927080"/>
            <a:ext cx="1159200" cy="737640"/>
            <a:chOff x="4398840" y="1927080"/>
            <a:chExt cx="1159200" cy="737640"/>
          </a:xfrm>
        </p:grpSpPr>
        <p:pic>
          <p:nvPicPr>
            <p:cNvPr id="361" name="ccschoolread4" descr=""/>
            <p:cNvPicPr/>
            <p:nvPr/>
          </p:nvPicPr>
          <p:blipFill>
            <a:blip r:embed="rId7"/>
            <a:stretch/>
          </p:blipFill>
          <p:spPr>
            <a:xfrm>
              <a:off x="4398840" y="200016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640040" y="192708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12840" y="2433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65400" y="23511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87720" y="21733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18320" y="1770120"/>
            <a:ext cx="1171800" cy="593640"/>
            <a:chOff x="5818320" y="1770120"/>
            <a:chExt cx="1171800" cy="593640"/>
          </a:xfrm>
        </p:grpSpPr>
        <p:sp>
          <p:nvSpPr>
            <p:cNvPr id="367" name=""/>
            <p:cNvSpPr/>
            <p:nvPr/>
          </p:nvSpPr>
          <p:spPr>
            <a:xfrm>
              <a:off x="6358680" y="20210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57880" y="17766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83000" y="21290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52840" y="193212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girl_holding_123_ty_CLR" descr=""/>
            <p:cNvPicPr/>
            <p:nvPr/>
          </p:nvPicPr>
          <p:blipFill>
            <a:blip r:embed="rId8"/>
            <a:stretch/>
          </p:blipFill>
          <p:spPr>
            <a:xfrm>
              <a:off x="5818320" y="1770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"/>
          <p:cNvGrpSpPr/>
          <p:nvPr/>
        </p:nvGrpSpPr>
        <p:grpSpPr>
          <a:xfrm>
            <a:off x="5600880" y="2278080"/>
            <a:ext cx="987840" cy="452520"/>
            <a:chOff x="5600880" y="2278080"/>
            <a:chExt cx="987840" cy="452520"/>
          </a:xfrm>
        </p:grpSpPr>
        <p:sp>
          <p:nvSpPr>
            <p:cNvPr id="373" name=""/>
            <p:cNvSpPr/>
            <p:nvPr/>
          </p:nvSpPr>
          <p:spPr>
            <a:xfrm>
              <a:off x="5833440" y="22780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9"/>
            <a:stretch/>
          </p:blipFill>
          <p:spPr>
            <a:xfrm>
              <a:off x="5600880" y="24112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0"/>
            <a:stretch/>
          </p:blipFill>
          <p:spPr>
            <a:xfrm>
              <a:off x="5600880" y="23446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923440" y="24573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13880" y="25560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96200" y="2357280"/>
            <a:ext cx="1196640" cy="440640"/>
            <a:chOff x="6496200" y="2357280"/>
            <a:chExt cx="1196640" cy="440640"/>
          </a:xfrm>
        </p:grpSpPr>
        <p:sp>
          <p:nvSpPr>
            <p:cNvPr id="379" name=""/>
            <p:cNvSpPr/>
            <p:nvPr/>
          </p:nvSpPr>
          <p:spPr>
            <a:xfrm>
              <a:off x="7071840" y="2509560"/>
              <a:ext cx="41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360" y="235728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745320" y="2473200"/>
              <a:ext cx="191880" cy="226800"/>
              <a:chOff x="6745320" y="2473200"/>
              <a:chExt cx="191880" cy="226800"/>
            </a:xfrm>
          </p:grpSpPr>
          <p:pic>
            <p:nvPicPr>
              <p:cNvPr id="3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45320" y="24732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45320" y="24732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"/>
            <p:cNvGrpSpPr/>
            <p:nvPr/>
          </p:nvGrpSpPr>
          <p:grpSpPr>
            <a:xfrm>
              <a:off x="6496200" y="2462040"/>
              <a:ext cx="199800" cy="247680"/>
              <a:chOff x="6496200" y="2462040"/>
              <a:chExt cx="199800" cy="2476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96200" y="246204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496200" y="246204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7" name=""/>
            <p:cNvSpPr/>
            <p:nvPr/>
          </p:nvSpPr>
          <p:spPr>
            <a:xfrm>
              <a:off x="7297200" y="2589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3680" y="25668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94000" y="1779480"/>
            <a:ext cx="1171800" cy="593640"/>
            <a:chOff x="3294000" y="1779480"/>
            <a:chExt cx="1171800" cy="593640"/>
          </a:xfrm>
        </p:grpSpPr>
        <p:sp>
          <p:nvSpPr>
            <p:cNvPr id="390" name=""/>
            <p:cNvSpPr/>
            <p:nvPr/>
          </p:nvSpPr>
          <p:spPr>
            <a:xfrm>
              <a:off x="3834360" y="2030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3560" y="17859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8680" y="2138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35000" y="19414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girl_holding_123_ty_CLR" descr=""/>
            <p:cNvPicPr/>
            <p:nvPr/>
          </p:nvPicPr>
          <p:blipFill>
            <a:blip r:embed="rId15"/>
            <a:stretch/>
          </p:blipFill>
          <p:spPr>
            <a:xfrm>
              <a:off x="3294000" y="17794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2927520" y="2254320"/>
            <a:ext cx="1047600" cy="477360"/>
            <a:chOff x="2927520" y="2254320"/>
            <a:chExt cx="1047600" cy="477360"/>
          </a:xfrm>
        </p:grpSpPr>
        <p:pic>
          <p:nvPicPr>
            <p:cNvPr id="396" name="" descr=""/>
            <p:cNvPicPr/>
            <p:nvPr/>
          </p:nvPicPr>
          <p:blipFill>
            <a:blip r:embed="rId16"/>
            <a:stretch/>
          </p:blipFill>
          <p:spPr>
            <a:xfrm>
              <a:off x="3146400" y="22701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7"/>
            <a:stretch/>
          </p:blipFill>
          <p:spPr>
            <a:xfrm>
              <a:off x="2927520" y="22701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418200" y="2444760"/>
              <a:ext cx="50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83160" y="2563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11720" y="225432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37200" y="25941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204920" y="2262240"/>
            <a:ext cx="883800" cy="509040"/>
            <a:chOff x="1204920" y="2262240"/>
            <a:chExt cx="883800" cy="509040"/>
          </a:xfrm>
        </p:grpSpPr>
        <p:sp>
          <p:nvSpPr>
            <p:cNvPr id="403" name=""/>
            <p:cNvSpPr/>
            <p:nvPr/>
          </p:nvSpPr>
          <p:spPr>
            <a:xfrm>
              <a:off x="1476720" y="2262240"/>
              <a:ext cx="61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כני אי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18"/>
            <a:stretch/>
          </p:blipFill>
          <p:spPr>
            <a:xfrm>
              <a:off x="1204920" y="2328840"/>
              <a:ext cx="2970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514160" y="2511360"/>
              <a:ext cx="56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25040" y="2603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32400" y="3076560"/>
            <a:ext cx="911160" cy="621720"/>
            <a:chOff x="7232400" y="3076560"/>
            <a:chExt cx="911160" cy="621720"/>
          </a:xfrm>
        </p:grpSpPr>
        <p:sp>
          <p:nvSpPr>
            <p:cNvPr id="408" name=""/>
            <p:cNvSpPr/>
            <p:nvPr/>
          </p:nvSpPr>
          <p:spPr>
            <a:xfrm>
              <a:off x="7887240" y="351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05800" y="30765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32400" y="346716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61960" y="32608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2" name="addition_2_plus_2_ty_CLR" descr=""/>
            <p:cNvPicPr/>
            <p:nvPr/>
          </p:nvPicPr>
          <p:blipFill>
            <a:blip r:embed="rId19"/>
            <a:stretch/>
          </p:blipFill>
          <p:spPr>
            <a:xfrm>
              <a:off x="7240680" y="313380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"/>
          <p:cNvGrpSpPr/>
          <p:nvPr/>
        </p:nvGrpSpPr>
        <p:grpSpPr>
          <a:xfrm>
            <a:off x="5600880" y="3230640"/>
            <a:ext cx="987840" cy="452520"/>
            <a:chOff x="5600880" y="3230640"/>
            <a:chExt cx="987840" cy="452520"/>
          </a:xfrm>
        </p:grpSpPr>
        <p:sp>
          <p:nvSpPr>
            <p:cNvPr id="414" name=""/>
            <p:cNvSpPr/>
            <p:nvPr/>
          </p:nvSpPr>
          <p:spPr>
            <a:xfrm>
              <a:off x="5833440" y="32306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0"/>
            <a:stretch/>
          </p:blipFill>
          <p:spPr>
            <a:xfrm>
              <a:off x="5600880" y="336384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21"/>
            <a:stretch/>
          </p:blipFill>
          <p:spPr>
            <a:xfrm>
              <a:off x="5600880" y="32972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923440" y="340992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13880" y="35085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208560" y="2732040"/>
            <a:ext cx="1171800" cy="593640"/>
            <a:chOff x="6208560" y="2732040"/>
            <a:chExt cx="1171800" cy="593640"/>
          </a:xfrm>
        </p:grpSpPr>
        <p:sp>
          <p:nvSpPr>
            <p:cNvPr id="420" name=""/>
            <p:cNvSpPr/>
            <p:nvPr/>
          </p:nvSpPr>
          <p:spPr>
            <a:xfrm>
              <a:off x="6748920" y="29829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48120" y="27385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73240" y="3090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49560" y="28940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girl_holding_123_ty_CLR" descr=""/>
            <p:cNvPicPr/>
            <p:nvPr/>
          </p:nvPicPr>
          <p:blipFill>
            <a:blip r:embed="rId22"/>
            <a:stretch/>
          </p:blipFill>
          <p:spPr>
            <a:xfrm>
              <a:off x="6208560" y="27320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4737600" y="2932200"/>
            <a:ext cx="757800" cy="583560"/>
            <a:chOff x="4737600" y="2932200"/>
            <a:chExt cx="757800" cy="583560"/>
          </a:xfrm>
        </p:grpSpPr>
        <p:sp>
          <p:nvSpPr>
            <p:cNvPr id="426" name=""/>
            <p:cNvSpPr/>
            <p:nvPr/>
          </p:nvSpPr>
          <p:spPr>
            <a:xfrm>
              <a:off x="5074560" y="29322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13800" y="31384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77520" y="3346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37600" y="33782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743360" y="2960640"/>
              <a:ext cx="401400" cy="404640"/>
              <a:chOff x="4743360" y="2960640"/>
              <a:chExt cx="401400" cy="404640"/>
            </a:xfrm>
          </p:grpSpPr>
          <p:pic>
            <p:nvPicPr>
              <p:cNvPr id="43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743360" y="29606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743360" y="29606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3" name=""/>
          <p:cNvGrpSpPr/>
          <p:nvPr/>
        </p:nvGrpSpPr>
        <p:grpSpPr>
          <a:xfrm>
            <a:off x="2936880" y="3225960"/>
            <a:ext cx="1047600" cy="477360"/>
            <a:chOff x="2936880" y="3225960"/>
            <a:chExt cx="1047600" cy="477360"/>
          </a:xfrm>
        </p:grpSpPr>
        <p:pic>
          <p:nvPicPr>
            <p:cNvPr id="434" name="" descr=""/>
            <p:cNvPicPr/>
            <p:nvPr/>
          </p:nvPicPr>
          <p:blipFill>
            <a:blip r:embed="rId25"/>
            <a:stretch/>
          </p:blipFill>
          <p:spPr>
            <a:xfrm>
              <a:off x="3155760" y="324180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6"/>
            <a:stretch/>
          </p:blipFill>
          <p:spPr>
            <a:xfrm>
              <a:off x="2936880" y="324180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35040" y="341640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92520" y="3535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21080" y="32259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35658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598920" y="2732040"/>
            <a:ext cx="1171800" cy="593640"/>
            <a:chOff x="3598920" y="2732040"/>
            <a:chExt cx="1171800" cy="593640"/>
          </a:xfrm>
        </p:grpSpPr>
        <p:sp>
          <p:nvSpPr>
            <p:cNvPr id="441" name=""/>
            <p:cNvSpPr/>
            <p:nvPr/>
          </p:nvSpPr>
          <p:spPr>
            <a:xfrm>
              <a:off x="4139280" y="29829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8480" y="27385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3600" y="3090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3440" y="289404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girl_holding_123_ty_CLR" descr=""/>
            <p:cNvPicPr/>
            <p:nvPr/>
          </p:nvPicPr>
          <p:blipFill>
            <a:blip r:embed="rId27"/>
            <a:stretch/>
          </p:blipFill>
          <p:spPr>
            <a:xfrm>
              <a:off x="3598920" y="27320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"/>
          <p:cNvSpPr/>
          <p:nvPr/>
        </p:nvSpPr>
        <p:spPr>
          <a:xfrm>
            <a:off x="1177920" y="468936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candlestick1" descr=""/>
          <p:cNvPicPr/>
          <p:nvPr/>
        </p:nvPicPr>
        <p:blipFill>
          <a:blip r:embed="rId28"/>
          <a:stretch/>
        </p:blipFill>
        <p:spPr>
          <a:xfrm>
            <a:off x="1298520" y="4861080"/>
            <a:ext cx="416160" cy="70164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5610240" y="4183200"/>
            <a:ext cx="987840" cy="451800"/>
            <a:chOff x="5610240" y="4183200"/>
            <a:chExt cx="987840" cy="451800"/>
          </a:xfrm>
        </p:grpSpPr>
        <p:sp>
          <p:nvSpPr>
            <p:cNvPr id="449" name=""/>
            <p:cNvSpPr/>
            <p:nvPr/>
          </p:nvSpPr>
          <p:spPr>
            <a:xfrm>
              <a:off x="5842800" y="41832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29"/>
            <a:stretch/>
          </p:blipFill>
          <p:spPr>
            <a:xfrm>
              <a:off x="5610240" y="43160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0"/>
            <a:stretch/>
          </p:blipFill>
          <p:spPr>
            <a:xfrm>
              <a:off x="5610240" y="42494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932800" y="436212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23240" y="44607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808600" y="3675240"/>
            <a:ext cx="1171800" cy="593640"/>
            <a:chOff x="5808600" y="3675240"/>
            <a:chExt cx="1171800" cy="593640"/>
          </a:xfrm>
        </p:grpSpPr>
        <p:sp>
          <p:nvSpPr>
            <p:cNvPr id="455" name=""/>
            <p:cNvSpPr/>
            <p:nvPr/>
          </p:nvSpPr>
          <p:spPr>
            <a:xfrm>
              <a:off x="6348960" y="39261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160" y="36817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73280" y="4034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9600" y="38372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girl_holding_123_ty_CLR" descr=""/>
            <p:cNvPicPr/>
            <p:nvPr/>
          </p:nvPicPr>
          <p:blipFill>
            <a:blip r:embed="rId31"/>
            <a:stretch/>
          </p:blipFill>
          <p:spPr>
            <a:xfrm>
              <a:off x="5808600" y="36752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"/>
          <p:cNvGrpSpPr/>
          <p:nvPr/>
        </p:nvGrpSpPr>
        <p:grpSpPr>
          <a:xfrm>
            <a:off x="6781680" y="4243320"/>
            <a:ext cx="1196640" cy="418680"/>
            <a:chOff x="6781680" y="4243320"/>
            <a:chExt cx="1196640" cy="418680"/>
          </a:xfrm>
        </p:grpSpPr>
        <p:sp>
          <p:nvSpPr>
            <p:cNvPr id="461" name=""/>
            <p:cNvSpPr/>
            <p:nvPr/>
          </p:nvSpPr>
          <p:spPr>
            <a:xfrm>
              <a:off x="7357320" y="4395600"/>
              <a:ext cx="41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43840" y="42433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030800" y="4359240"/>
              <a:ext cx="192240" cy="226800"/>
              <a:chOff x="7030800" y="4359240"/>
              <a:chExt cx="192240" cy="226800"/>
            </a:xfrm>
          </p:grpSpPr>
          <p:pic>
            <p:nvPicPr>
              <p:cNvPr id="46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030800" y="43592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030800" y="43592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6" name=""/>
            <p:cNvGrpSpPr/>
            <p:nvPr/>
          </p:nvGrpSpPr>
          <p:grpSpPr>
            <a:xfrm>
              <a:off x="6781680" y="4348080"/>
              <a:ext cx="199800" cy="247680"/>
              <a:chOff x="6781680" y="4348080"/>
              <a:chExt cx="199800" cy="247680"/>
            </a:xfrm>
          </p:grpSpPr>
          <p:pic>
            <p:nvPicPr>
              <p:cNvPr id="46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781680" y="434808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81680" y="434808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9" name=""/>
            <p:cNvSpPr/>
            <p:nvPr/>
          </p:nvSpPr>
          <p:spPr>
            <a:xfrm>
              <a:off x="7430400" y="4494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062840" y="3767040"/>
            <a:ext cx="1124280" cy="439560"/>
            <a:chOff x="7062840" y="3767040"/>
            <a:chExt cx="1124280" cy="439560"/>
          </a:xfrm>
        </p:grpSpPr>
        <p:sp>
          <p:nvSpPr>
            <p:cNvPr id="471" name=""/>
            <p:cNvSpPr/>
            <p:nvPr/>
          </p:nvSpPr>
          <p:spPr>
            <a:xfrm>
              <a:off x="7448760" y="37670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65040" y="393552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43600" y="40388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4" name="mh2l_p" descr=""/>
            <p:cNvPicPr/>
            <p:nvPr/>
          </p:nvPicPr>
          <p:blipFill>
            <a:blip r:embed="rId36"/>
            <a:stretch/>
          </p:blipFill>
          <p:spPr>
            <a:xfrm>
              <a:off x="7062840" y="3805200"/>
              <a:ext cx="44604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7085160" y="1822320"/>
            <a:ext cx="1130760" cy="651600"/>
            <a:chOff x="7085160" y="1822320"/>
            <a:chExt cx="1130760" cy="651600"/>
          </a:xfrm>
        </p:grpSpPr>
        <p:pic>
          <p:nvPicPr>
            <p:cNvPr id="476" name="ccschoolread4" descr=""/>
            <p:cNvPicPr/>
            <p:nvPr/>
          </p:nvPicPr>
          <p:blipFill>
            <a:blip r:embed="rId37"/>
            <a:stretch/>
          </p:blipFill>
          <p:spPr>
            <a:xfrm>
              <a:off x="7085160" y="183816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297920" y="182232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70360" y="22428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22920" y="21891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45240" y="20397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969920" y="1849320"/>
            <a:ext cx="886320" cy="653760"/>
            <a:chOff x="1969920" y="1849320"/>
            <a:chExt cx="886320" cy="653760"/>
          </a:xfrm>
        </p:grpSpPr>
        <p:sp>
          <p:nvSpPr>
            <p:cNvPr id="482" name=""/>
            <p:cNvSpPr/>
            <p:nvPr/>
          </p:nvSpPr>
          <p:spPr>
            <a:xfrm>
              <a:off x="2334960" y="184932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14240" y="205596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80320" y="233532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dna_looking_through_magnifying_glass_ty_CLR" descr=""/>
            <p:cNvPicPr/>
            <p:nvPr/>
          </p:nvPicPr>
          <p:blipFill>
            <a:blip r:embed="rId38"/>
            <a:stretch/>
          </p:blipFill>
          <p:spPr>
            <a:xfrm>
              <a:off x="1969920" y="185580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"/>
          <p:cNvGrpSpPr/>
          <p:nvPr/>
        </p:nvGrpSpPr>
        <p:grpSpPr>
          <a:xfrm>
            <a:off x="4379760" y="4113360"/>
            <a:ext cx="1171800" cy="593640"/>
            <a:chOff x="4379760" y="4113360"/>
            <a:chExt cx="1171800" cy="593640"/>
          </a:xfrm>
        </p:grpSpPr>
        <p:sp>
          <p:nvSpPr>
            <p:cNvPr id="487" name=""/>
            <p:cNvSpPr/>
            <p:nvPr/>
          </p:nvSpPr>
          <p:spPr>
            <a:xfrm>
              <a:off x="4920120" y="4364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19320" y="41198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44440" y="44722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14280" y="427536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girl_holding_123_ty_CLR" descr=""/>
            <p:cNvPicPr/>
            <p:nvPr/>
          </p:nvPicPr>
          <p:blipFill>
            <a:blip r:embed="rId39"/>
            <a:stretch/>
          </p:blipFill>
          <p:spPr>
            <a:xfrm>
              <a:off x="4379760" y="41133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6923160" y="4694400"/>
            <a:ext cx="1171800" cy="593640"/>
            <a:chOff x="6923160" y="4694400"/>
            <a:chExt cx="1171800" cy="593640"/>
          </a:xfrm>
        </p:grpSpPr>
        <p:sp>
          <p:nvSpPr>
            <p:cNvPr id="493" name=""/>
            <p:cNvSpPr/>
            <p:nvPr/>
          </p:nvSpPr>
          <p:spPr>
            <a:xfrm>
              <a:off x="7463520" y="49453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62720" y="47008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87840" y="5053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74240" y="485640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girl_holding_123_ty_CLR" descr=""/>
            <p:cNvPicPr/>
            <p:nvPr/>
          </p:nvPicPr>
          <p:blipFill>
            <a:blip r:embed="rId40"/>
            <a:stretch/>
          </p:blipFill>
          <p:spPr>
            <a:xfrm>
              <a:off x="6923160" y="469440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"/>
          <p:cNvGrpSpPr/>
          <p:nvPr/>
        </p:nvGrpSpPr>
        <p:grpSpPr>
          <a:xfrm>
            <a:off x="5815080" y="4681440"/>
            <a:ext cx="1124280" cy="439200"/>
            <a:chOff x="5815080" y="4681440"/>
            <a:chExt cx="1124280" cy="439200"/>
          </a:xfrm>
        </p:grpSpPr>
        <p:sp>
          <p:nvSpPr>
            <p:cNvPr id="499" name=""/>
            <p:cNvSpPr/>
            <p:nvPr/>
          </p:nvSpPr>
          <p:spPr>
            <a:xfrm>
              <a:off x="6201000" y="46814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17280" y="484992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57680" y="4952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mh2l_p" descr=""/>
            <p:cNvPicPr/>
            <p:nvPr/>
          </p:nvPicPr>
          <p:blipFill>
            <a:blip r:embed="rId41"/>
            <a:stretch/>
          </p:blipFill>
          <p:spPr>
            <a:xfrm>
              <a:off x="5815080" y="4719600"/>
              <a:ext cx="44604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"/>
          <p:cNvGrpSpPr/>
          <p:nvPr/>
        </p:nvGrpSpPr>
        <p:grpSpPr>
          <a:xfrm>
            <a:off x="5619600" y="5173560"/>
            <a:ext cx="987840" cy="452520"/>
            <a:chOff x="5619600" y="5173560"/>
            <a:chExt cx="987840" cy="452520"/>
          </a:xfrm>
        </p:grpSpPr>
        <p:sp>
          <p:nvSpPr>
            <p:cNvPr id="504" name=""/>
            <p:cNvSpPr/>
            <p:nvPr/>
          </p:nvSpPr>
          <p:spPr>
            <a:xfrm>
              <a:off x="5852160" y="51735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" descr=""/>
            <p:cNvPicPr/>
            <p:nvPr/>
          </p:nvPicPr>
          <p:blipFill>
            <a:blip r:embed="rId42"/>
            <a:stretch/>
          </p:blipFill>
          <p:spPr>
            <a:xfrm>
              <a:off x="5619600" y="530676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43"/>
            <a:stretch/>
          </p:blipFill>
          <p:spPr>
            <a:xfrm>
              <a:off x="5619600" y="52401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942160" y="53528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32600" y="54514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848640" y="5256360"/>
            <a:ext cx="1134360" cy="321840"/>
            <a:chOff x="6848640" y="5256360"/>
            <a:chExt cx="1134360" cy="321840"/>
          </a:xfrm>
        </p:grpSpPr>
        <p:pic>
          <p:nvPicPr>
            <p:cNvPr id="510" name="piano_short" descr=""/>
            <p:cNvPicPr/>
            <p:nvPr/>
          </p:nvPicPr>
          <p:blipFill>
            <a:blip r:embed="rId44"/>
            <a:srcRect l="50084" t="0" r="0" b="0"/>
            <a:stretch/>
          </p:blipFill>
          <p:spPr>
            <a:xfrm>
              <a:off x="6848640" y="531828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491600" y="52563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0480" y="5410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632480" y="4754520"/>
            <a:ext cx="888840" cy="723960"/>
            <a:chOff x="4632480" y="4754520"/>
            <a:chExt cx="888840" cy="723960"/>
          </a:xfrm>
        </p:grpSpPr>
        <p:pic>
          <p:nvPicPr>
            <p:cNvPr id="514" name="ccj8a" descr=""/>
            <p:cNvPicPr/>
            <p:nvPr/>
          </p:nvPicPr>
          <p:blipFill>
            <a:blip r:embed="rId45"/>
            <a:stretch/>
          </p:blipFill>
          <p:spPr>
            <a:xfrm>
              <a:off x="4632480" y="4910040"/>
              <a:ext cx="8888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703040" y="47545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ילד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598920" y="4637160"/>
            <a:ext cx="1171800" cy="593640"/>
            <a:chOff x="3598920" y="4637160"/>
            <a:chExt cx="1171800" cy="593640"/>
          </a:xfrm>
        </p:grpSpPr>
        <p:sp>
          <p:nvSpPr>
            <p:cNvPr id="517" name=""/>
            <p:cNvSpPr/>
            <p:nvPr/>
          </p:nvSpPr>
          <p:spPr>
            <a:xfrm>
              <a:off x="4139280" y="48880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38480" y="46436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63600" y="49960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50000" y="479916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girl_holding_123_ty_CLR" descr=""/>
            <p:cNvPicPr/>
            <p:nvPr/>
          </p:nvPicPr>
          <p:blipFill>
            <a:blip r:embed="rId46"/>
            <a:stretch/>
          </p:blipFill>
          <p:spPr>
            <a:xfrm>
              <a:off x="3598920" y="46371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2916360" y="5116680"/>
            <a:ext cx="1202760" cy="548280"/>
            <a:chOff x="2916360" y="5116680"/>
            <a:chExt cx="1202760" cy="548280"/>
          </a:xfrm>
        </p:grpSpPr>
        <p:sp>
          <p:nvSpPr>
            <p:cNvPr id="523" name=""/>
            <p:cNvSpPr/>
            <p:nvPr/>
          </p:nvSpPr>
          <p:spPr>
            <a:xfrm>
              <a:off x="3310560" y="5116680"/>
              <a:ext cx="80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6120" y="526716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45280" y="53463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62320" y="543384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colors_v" descr=""/>
            <p:cNvPicPr/>
            <p:nvPr/>
          </p:nvPicPr>
          <p:blipFill>
            <a:blip r:embed="rId47"/>
            <a:stretch/>
          </p:blipFill>
          <p:spPr>
            <a:xfrm>
              <a:off x="2916360" y="5192640"/>
              <a:ext cx="21276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colors_p" descr=""/>
            <p:cNvPicPr/>
            <p:nvPr/>
          </p:nvPicPr>
          <p:blipFill>
            <a:blip r:embed="rId48"/>
            <a:stretch/>
          </p:blipFill>
          <p:spPr>
            <a:xfrm>
              <a:off x="3100320" y="5208480"/>
              <a:ext cx="23364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"/>
          <p:cNvGrpSpPr/>
          <p:nvPr/>
        </p:nvGrpSpPr>
        <p:grpSpPr>
          <a:xfrm>
            <a:off x="6975360" y="5610240"/>
            <a:ext cx="1195560" cy="568440"/>
            <a:chOff x="6975360" y="5610240"/>
            <a:chExt cx="1195560" cy="568440"/>
          </a:xfrm>
        </p:grpSpPr>
        <p:pic>
          <p:nvPicPr>
            <p:cNvPr id="530" name="ccj8a" descr=""/>
            <p:cNvPicPr/>
            <p:nvPr/>
          </p:nvPicPr>
          <p:blipFill>
            <a:blip r:embed="rId49"/>
            <a:stretch/>
          </p:blipFill>
          <p:spPr>
            <a:xfrm>
              <a:off x="6975360" y="5610240"/>
              <a:ext cx="88920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804440" y="5759280"/>
              <a:ext cx="366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לד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675480" y="6188040"/>
            <a:ext cx="1158840" cy="424800"/>
            <a:chOff x="6675480" y="6188040"/>
            <a:chExt cx="1158840" cy="424800"/>
          </a:xfrm>
        </p:grpSpPr>
        <p:sp>
          <p:nvSpPr>
            <p:cNvPr id="533" name=""/>
            <p:cNvSpPr/>
            <p:nvPr/>
          </p:nvSpPr>
          <p:spPr>
            <a:xfrm>
              <a:off x="6963480" y="618804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44480" y="631980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15080" y="63993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21280" y="6381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7" name="v1" descr=""/>
            <p:cNvPicPr/>
            <p:nvPr/>
          </p:nvPicPr>
          <p:blipFill>
            <a:blip r:embed="rId50"/>
            <a:stretch/>
          </p:blipFill>
          <p:spPr>
            <a:xfrm>
              <a:off x="6675480" y="619776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5742000" y="5599080"/>
            <a:ext cx="1005120" cy="593640"/>
            <a:chOff x="5742000" y="5599080"/>
            <a:chExt cx="1005120" cy="593640"/>
          </a:xfrm>
        </p:grpSpPr>
        <p:sp>
          <p:nvSpPr>
            <p:cNvPr id="539" name=""/>
            <p:cNvSpPr/>
            <p:nvPr/>
          </p:nvSpPr>
          <p:spPr>
            <a:xfrm>
              <a:off x="6282360" y="58500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81920" y="56055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93080" y="576108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girl_holding_123_ty_CLR" descr=""/>
            <p:cNvPicPr/>
            <p:nvPr/>
          </p:nvPicPr>
          <p:blipFill>
            <a:blip r:embed="rId51"/>
            <a:stretch/>
          </p:blipFill>
          <p:spPr>
            <a:xfrm>
              <a:off x="5742000" y="55990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"/>
          <p:cNvGrpSpPr/>
          <p:nvPr/>
        </p:nvGrpSpPr>
        <p:grpSpPr>
          <a:xfrm>
            <a:off x="5591160" y="6097680"/>
            <a:ext cx="987840" cy="452520"/>
            <a:chOff x="5591160" y="6097680"/>
            <a:chExt cx="987840" cy="452520"/>
          </a:xfrm>
        </p:grpSpPr>
        <p:sp>
          <p:nvSpPr>
            <p:cNvPr id="544" name=""/>
            <p:cNvSpPr/>
            <p:nvPr/>
          </p:nvSpPr>
          <p:spPr>
            <a:xfrm>
              <a:off x="5823720" y="60976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2"/>
            <a:stretch/>
          </p:blipFill>
          <p:spPr>
            <a:xfrm>
              <a:off x="5591160" y="62308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53"/>
            <a:stretch/>
          </p:blipFill>
          <p:spPr>
            <a:xfrm>
              <a:off x="5591160" y="61642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5913720" y="62769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04160" y="63756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656240" y="5680080"/>
            <a:ext cx="817200" cy="628200"/>
            <a:chOff x="4656240" y="5680080"/>
            <a:chExt cx="817200" cy="628200"/>
          </a:xfrm>
        </p:grpSpPr>
        <p:sp>
          <p:nvSpPr>
            <p:cNvPr id="550" name=""/>
            <p:cNvSpPr/>
            <p:nvPr/>
          </p:nvSpPr>
          <p:spPr>
            <a:xfrm>
              <a:off x="5091840" y="6140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57640" y="57340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19200" y="5918040"/>
              <a:ext cx="335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3" name="girl_holding_123_ty_CLR" descr=""/>
            <p:cNvPicPr/>
            <p:nvPr/>
          </p:nvPicPr>
          <p:blipFill>
            <a:blip r:embed="rId54"/>
            <a:stretch/>
          </p:blipFill>
          <p:spPr>
            <a:xfrm>
              <a:off x="4656240" y="56800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11400" y="3830760"/>
            <a:ext cx="859680" cy="786600"/>
            <a:chOff x="3011400" y="3830760"/>
            <a:chExt cx="859680" cy="786600"/>
          </a:xfrm>
        </p:grpSpPr>
        <p:sp>
          <p:nvSpPr>
            <p:cNvPr id="561" name=""/>
            <p:cNvSpPr/>
            <p:nvPr/>
          </p:nvSpPr>
          <p:spPr>
            <a:xfrm>
              <a:off x="3062520" y="3830760"/>
              <a:ext cx="80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41600" y="40006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59240" y="423252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33360" y="438624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colors_v" descr=""/>
            <p:cNvPicPr/>
            <p:nvPr/>
          </p:nvPicPr>
          <p:blipFill>
            <a:blip r:embed="rId55"/>
            <a:stretch/>
          </p:blipFill>
          <p:spPr>
            <a:xfrm>
              <a:off x="3011400" y="4021200"/>
              <a:ext cx="2124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colors_p" descr=""/>
            <p:cNvPicPr/>
            <p:nvPr/>
          </p:nvPicPr>
          <p:blipFill>
            <a:blip r:embed="rId56"/>
            <a:stretch/>
          </p:blipFill>
          <p:spPr>
            <a:xfrm>
              <a:off x="3195360" y="4037040"/>
              <a:ext cx="23292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7324560" y="958680"/>
            <a:ext cx="736560" cy="746280"/>
            <a:chOff x="7324560" y="958680"/>
            <a:chExt cx="736560" cy="746280"/>
          </a:xfrm>
        </p:grpSpPr>
        <p:sp>
          <p:nvSpPr>
            <p:cNvPr id="568" name=""/>
            <p:cNvSpPr/>
            <p:nvPr/>
          </p:nvSpPr>
          <p:spPr>
            <a:xfrm>
              <a:off x="7478640" y="958680"/>
              <a:ext cx="582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י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mushroom_house_sm_CLR" descr=""/>
            <p:cNvPicPr/>
            <p:nvPr/>
          </p:nvPicPr>
          <p:blipFill>
            <a:blip r:embed="rId57"/>
            <a:stretch/>
          </p:blipFill>
          <p:spPr>
            <a:xfrm>
              <a:off x="7324560" y="101916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2903400" y="5587920"/>
            <a:ext cx="982800" cy="748800"/>
            <a:chOff x="2903400" y="5587920"/>
            <a:chExt cx="982800" cy="748800"/>
          </a:xfrm>
        </p:grpSpPr>
        <p:sp>
          <p:nvSpPr>
            <p:cNvPr id="571" name=""/>
            <p:cNvSpPr/>
            <p:nvPr/>
          </p:nvSpPr>
          <p:spPr>
            <a:xfrm>
              <a:off x="2988000" y="558792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46920" y="57578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64200" y="59896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alette1" descr=""/>
            <p:cNvPicPr/>
            <p:nvPr/>
          </p:nvPicPr>
          <p:blipFill>
            <a:blip r:embed="rId58"/>
            <a:stretch/>
          </p:blipFill>
          <p:spPr>
            <a:xfrm>
              <a:off x="2903400" y="5746680"/>
              <a:ext cx="4129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071520" y="610560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827520" y="5762520"/>
            <a:ext cx="891720" cy="805320"/>
            <a:chOff x="3827520" y="5762520"/>
            <a:chExt cx="891720" cy="805320"/>
          </a:xfrm>
        </p:grpSpPr>
        <p:sp>
          <p:nvSpPr>
            <p:cNvPr id="577" name=""/>
            <p:cNvSpPr/>
            <p:nvPr/>
          </p:nvSpPr>
          <p:spPr>
            <a:xfrm>
              <a:off x="4163040" y="5762520"/>
              <a:ext cx="5446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5400" y="6165720"/>
              <a:ext cx="573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, סתיו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ן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 והל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dragon_blowing_fire_sm_CLR" descr=""/>
            <p:cNvPicPr/>
            <p:nvPr/>
          </p:nvPicPr>
          <p:blipFill>
            <a:blip r:embed="rId59"/>
            <a:stretch/>
          </p:blipFill>
          <p:spPr>
            <a:xfrm>
              <a:off x="3827520" y="5889600"/>
              <a:ext cx="479520" cy="5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1762200" y="2903400"/>
            <a:ext cx="942480" cy="583920"/>
            <a:chOff x="1762200" y="2903400"/>
            <a:chExt cx="942480" cy="583920"/>
          </a:xfrm>
        </p:grpSpPr>
        <p:sp>
          <p:nvSpPr>
            <p:cNvPr id="581" name=""/>
            <p:cNvSpPr/>
            <p:nvPr/>
          </p:nvSpPr>
          <p:spPr>
            <a:xfrm>
              <a:off x="2095200" y="290340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עמל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23080" y="3110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04360" y="33177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לב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46880" y="334980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1762200" y="2932200"/>
              <a:ext cx="401040" cy="404280"/>
              <a:chOff x="1762200" y="2932200"/>
              <a:chExt cx="401040" cy="404280"/>
            </a:xfrm>
          </p:grpSpPr>
          <p:pic>
            <p:nvPicPr>
              <p:cNvPr id="586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1762200" y="293220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1762200" y="293220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8" name=""/>
          <p:cNvGrpSpPr/>
          <p:nvPr/>
        </p:nvGrpSpPr>
        <p:grpSpPr>
          <a:xfrm>
            <a:off x="4002120" y="3672000"/>
            <a:ext cx="1209240" cy="526320"/>
            <a:chOff x="4002120" y="3672000"/>
            <a:chExt cx="1209240" cy="526320"/>
          </a:xfrm>
        </p:grpSpPr>
        <p:sp>
          <p:nvSpPr>
            <p:cNvPr id="589" name=""/>
            <p:cNvSpPr/>
            <p:nvPr/>
          </p:nvSpPr>
          <p:spPr>
            <a:xfrm>
              <a:off x="5010840" y="39355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38600" y="36720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69120" y="383688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addition_2_plus_2_ty_CLR" descr=""/>
            <p:cNvPicPr/>
            <p:nvPr/>
          </p:nvPicPr>
          <p:blipFill>
            <a:blip r:embed="rId62"/>
            <a:stretch/>
          </p:blipFill>
          <p:spPr>
            <a:xfrm>
              <a:off x="4002120" y="36813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032000" y="39672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806560" y="66600"/>
            <a:ext cx="350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ה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90600" y="2862360"/>
            <a:ext cx="989280" cy="823320"/>
            <a:chOff x="390600" y="2862360"/>
            <a:chExt cx="989280" cy="823320"/>
          </a:xfrm>
        </p:grpSpPr>
        <p:sp>
          <p:nvSpPr>
            <p:cNvPr id="596" name=""/>
            <p:cNvSpPr/>
            <p:nvPr/>
          </p:nvSpPr>
          <p:spPr>
            <a:xfrm>
              <a:off x="635760" y="2913120"/>
              <a:ext cx="665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קס -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ל או נכ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68400" y="332748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5520" y="319572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2760" y="3454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pharaoh_egyptian_dancing_sm_CLR" descr=""/>
            <p:cNvPicPr/>
            <p:nvPr/>
          </p:nvPicPr>
          <p:blipFill>
            <a:blip r:embed="rId63"/>
            <a:stretch/>
          </p:blipFill>
          <p:spPr>
            <a:xfrm>
              <a:off x="390600" y="2862360"/>
              <a:ext cx="45720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"/>
          <p:cNvGrpSpPr/>
          <p:nvPr/>
        </p:nvGrpSpPr>
        <p:grpSpPr>
          <a:xfrm>
            <a:off x="419040" y="3786120"/>
            <a:ext cx="989280" cy="823320"/>
            <a:chOff x="419040" y="3786120"/>
            <a:chExt cx="989280" cy="823320"/>
          </a:xfrm>
        </p:grpSpPr>
        <p:sp>
          <p:nvSpPr>
            <p:cNvPr id="602" name=""/>
            <p:cNvSpPr/>
            <p:nvPr/>
          </p:nvSpPr>
          <p:spPr>
            <a:xfrm>
              <a:off x="664200" y="3836880"/>
              <a:ext cx="665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קס -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ל או נכ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6840" y="425124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3960" y="41194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200" y="4378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pharaoh_egyptian_dancing_sm_CLR" descr=""/>
            <p:cNvPicPr/>
            <p:nvPr/>
          </p:nvPicPr>
          <p:blipFill>
            <a:blip r:embed="rId64"/>
            <a:stretch/>
          </p:blipFill>
          <p:spPr>
            <a:xfrm>
              <a:off x="419040" y="3786120"/>
              <a:ext cx="45720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--</cp:lastModifiedBy>
  <dcterms:modified xsi:type="dcterms:W3CDTF">2004-10-13T04:26:13Z</dcterms:modified>
  <cp:revision>210</cp:revision>
  <dc:subject/>
  <dc:title>מצגת של PowerPoint</dc:title>
</cp:coreProperties>
</file>