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8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5.png" ContentType="image/png"/>
  <Override PartName="/ppt/media/image2.gif" ContentType="image/gif"/>
  <Override PartName="/ppt/media/image22.gif" ContentType="image/gif"/>
  <Override PartName="/ppt/media/image20.wmf" ContentType="image/x-wmf"/>
  <Override PartName="/ppt/media/image19.wmf" ContentType="image/x-wmf"/>
  <Override PartName="/ppt/media/image21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12.wmf" ContentType="image/x-wmf"/>
  <Override PartName="/ppt/media/image14.gif" ContentType="image/gif"/>
  <Override PartName="/ppt/media/image10.png" ContentType="image/png"/>
  <Override PartName="/ppt/media/image5.png" ContentType="image/png"/>
  <Override PartName="/ppt/media/image32.png" ContentType="image/png"/>
  <Override PartName="/ppt/media/image4.gif" ContentType="image/gif"/>
  <Override PartName="/ppt/media/image34.png" ContentType="image/png"/>
  <Override PartName="/ppt/media/image38.png" ContentType="image/png"/>
  <Override PartName="/ppt/media/image35.gif" ContentType="image/gif"/>
  <Override PartName="/ppt/media/image42.png" ContentType="image/png"/>
  <Override PartName="/ppt/media/image43.png" ContentType="image/png"/>
  <Override PartName="/ppt/media/image50.gif" ContentType="image/gif"/>
  <Override PartName="/ppt/media/image13.gif" ContentType="image/gif"/>
  <Override PartName="/ppt/media/image44.gif" ContentType="image/gif"/>
  <Override PartName="/ppt/media/image45.png" ContentType="image/png"/>
  <Override PartName="/ppt/media/image46.gif" ContentType="image/gif"/>
  <Override PartName="/ppt/media/image39.png" ContentType="image/png"/>
  <Override PartName="/ppt/media/image9.wmf" ContentType="image/x-wmf"/>
  <Override PartName="/ppt/media/image41.png" ContentType="image/png"/>
  <Override PartName="/ppt/media/image47.gif" ContentType="image/gif"/>
  <Override PartName="/ppt/media/image49.gif" ContentType="image/gif"/>
  <Override PartName="/ppt/media/image7.wmf" ContentType="image/x-wmf"/>
  <Override PartName="/ppt/media/image37.wmf" ContentType="image/x-wmf"/>
  <Override PartName="/ppt/media/image31.png" ContentType="image/png"/>
  <Override PartName="/ppt/media/image30.png" ContentType="image/png"/>
  <Override PartName="/ppt/media/image40.png" ContentType="image/png"/>
  <Override PartName="/ppt/media/image8.wmf" ContentType="image/x-wmf"/>
  <Override PartName="/ppt/media/image1.gif" ContentType="image/gi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86A-BB60-4035-9932-6EA7714E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55D-43FF-43AB-88AE-BA35647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EF9-3F72-45EA-9ABC-525BC853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C1F-5246-4F76-A036-219E406E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903-0320-4247-ADF9-F71957F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AF1-A16C-42FE-BC2C-026A610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A00-C95E-4AC2-A9B8-F5A76329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1F2-01E9-4082-BBDF-DC4AF494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027-A53A-4E9A-9D78-A89927A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8EA-F2DD-463A-BE6D-B3B0A9D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B41-9DFB-4F47-8E1F-1EB452C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1D7-2F47-47AD-8F12-4DC9DA6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2F29-864B-494B-9028-EE397F5E2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4.gif"/><Relationship Id="rId12" Type="http://schemas.openxmlformats.org/officeDocument/2006/relationships/image" Target="../media/image3.gif"/><Relationship Id="rId13" Type="http://schemas.openxmlformats.org/officeDocument/2006/relationships/image" Target="../media/image2.gif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1.wmf"/><Relationship Id="rId19" Type="http://schemas.openxmlformats.org/officeDocument/2006/relationships/image" Target="../media/image12.wmf"/><Relationship Id="rId20" Type="http://schemas.openxmlformats.org/officeDocument/2006/relationships/image" Target="../media/image13.gif"/><Relationship Id="rId21" Type="http://schemas.openxmlformats.org/officeDocument/2006/relationships/image" Target="../media/image14.gif"/><Relationship Id="rId22" Type="http://schemas.openxmlformats.org/officeDocument/2006/relationships/image" Target="../media/image6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2.gif"/><Relationship Id="rId27" Type="http://schemas.openxmlformats.org/officeDocument/2006/relationships/image" Target="../media/image4.gif"/><Relationship Id="rId28" Type="http://schemas.openxmlformats.org/officeDocument/2006/relationships/image" Target="../media/image15.jpeg"/><Relationship Id="rId29" Type="http://schemas.openxmlformats.org/officeDocument/2006/relationships/image" Target="../media/image6.wmf"/><Relationship Id="rId30" Type="http://schemas.openxmlformats.org/officeDocument/2006/relationships/image" Target="../media/image7.wmf"/><Relationship Id="rId31" Type="http://schemas.openxmlformats.org/officeDocument/2006/relationships/image" Target="../media/image8.wmf"/><Relationship Id="rId32" Type="http://schemas.openxmlformats.org/officeDocument/2006/relationships/image" Target="../media/image9.wmf"/><Relationship Id="rId33" Type="http://schemas.openxmlformats.org/officeDocument/2006/relationships/image" Target="../media/image16.gif"/><Relationship Id="rId34" Type="http://schemas.openxmlformats.org/officeDocument/2006/relationships/image" Target="../media/image17.gif"/><Relationship Id="rId35" Type="http://schemas.openxmlformats.org/officeDocument/2006/relationships/image" Target="../media/image2.gif"/><Relationship Id="rId36" Type="http://schemas.openxmlformats.org/officeDocument/2006/relationships/image" Target="../media/image18.gif"/><Relationship Id="rId37" Type="http://schemas.openxmlformats.org/officeDocument/2006/relationships/image" Target="../media/image10.png"/><Relationship Id="rId38" Type="http://schemas.openxmlformats.org/officeDocument/2006/relationships/image" Target="../media/image6.wmf"/><Relationship Id="rId39" Type="http://schemas.openxmlformats.org/officeDocument/2006/relationships/image" Target="../media/image7.wmf"/><Relationship Id="rId40" Type="http://schemas.openxmlformats.org/officeDocument/2006/relationships/image" Target="../media/image8.wmf"/><Relationship Id="rId41" Type="http://schemas.openxmlformats.org/officeDocument/2006/relationships/image" Target="../media/image9.wmf"/><Relationship Id="rId42" Type="http://schemas.openxmlformats.org/officeDocument/2006/relationships/image" Target="../media/image16.gif"/><Relationship Id="rId43" Type="http://schemas.openxmlformats.org/officeDocument/2006/relationships/image" Target="../media/image17.gif"/><Relationship Id="rId44" Type="http://schemas.openxmlformats.org/officeDocument/2006/relationships/image" Target="../media/image19.wmf"/><Relationship Id="rId45" Type="http://schemas.openxmlformats.org/officeDocument/2006/relationships/image" Target="../media/image20.wmf"/><Relationship Id="rId46" Type="http://schemas.openxmlformats.org/officeDocument/2006/relationships/image" Target="../media/image6.wmf"/><Relationship Id="rId47" Type="http://schemas.openxmlformats.org/officeDocument/2006/relationships/image" Target="../media/image7.wmf"/><Relationship Id="rId48" Type="http://schemas.openxmlformats.org/officeDocument/2006/relationships/image" Target="../media/image8.wmf"/><Relationship Id="rId49" Type="http://schemas.openxmlformats.org/officeDocument/2006/relationships/image" Target="../media/image9.wmf"/><Relationship Id="rId50" Type="http://schemas.openxmlformats.org/officeDocument/2006/relationships/image" Target="../media/image21.png"/><Relationship Id="rId51" Type="http://schemas.openxmlformats.org/officeDocument/2006/relationships/image" Target="../media/image16.gif"/><Relationship Id="rId52" Type="http://schemas.openxmlformats.org/officeDocument/2006/relationships/image" Target="../media/image13.gif"/><Relationship Id="rId53" Type="http://schemas.openxmlformats.org/officeDocument/2006/relationships/image" Target="../media/image16.gif"/><Relationship Id="rId54" Type="http://schemas.openxmlformats.org/officeDocument/2006/relationships/image" Target="../media/image22.gif"/><Relationship Id="rId55" Type="http://schemas.openxmlformats.org/officeDocument/2006/relationships/image" Target="../media/image17.gif"/><Relationship Id="rId56" Type="http://schemas.openxmlformats.org/officeDocument/2006/relationships/image" Target="../media/image11.wmf"/><Relationship Id="rId57" Type="http://schemas.openxmlformats.org/officeDocument/2006/relationships/image" Target="../media/image12.wmf"/><Relationship Id="rId58" Type="http://schemas.openxmlformats.org/officeDocument/2006/relationships/image" Target="../media/image13.gif"/><Relationship Id="rId59" Type="http://schemas.openxmlformats.org/officeDocument/2006/relationships/image" Target="../media/image6.wmf"/><Relationship Id="rId60" Type="http://schemas.openxmlformats.org/officeDocument/2006/relationships/image" Target="../media/image7.wmf"/><Relationship Id="rId61" Type="http://schemas.openxmlformats.org/officeDocument/2006/relationships/image" Target="../media/image8.wmf"/><Relationship Id="rId62" Type="http://schemas.openxmlformats.org/officeDocument/2006/relationships/image" Target="../media/image9.wmf"/><Relationship Id="rId63" Type="http://schemas.openxmlformats.org/officeDocument/2006/relationships/image" Target="../media/image16.gif"/><Relationship Id="rId64" Type="http://schemas.openxmlformats.org/officeDocument/2006/relationships/image" Target="../media/image5.png"/><Relationship Id="rId65" Type="http://schemas.openxmlformats.org/officeDocument/2006/relationships/image" Target="../media/image23.wmf"/><Relationship Id="rId66" Type="http://schemas.openxmlformats.org/officeDocument/2006/relationships/image" Target="../media/image24.wmf"/><Relationship Id="rId67" Type="http://schemas.openxmlformats.org/officeDocument/2006/relationships/image" Target="../media/image10.png"/><Relationship Id="rId68" Type="http://schemas.openxmlformats.org/officeDocument/2006/relationships/image" Target="../media/image17.gif"/><Relationship Id="rId69" Type="http://schemas.openxmlformats.org/officeDocument/2006/relationships/image" Target="../media/image25.png"/><Relationship Id="rId70" Type="http://schemas.openxmlformats.org/officeDocument/2006/relationships/image" Target="../media/image23.wmf"/><Relationship Id="rId71" Type="http://schemas.openxmlformats.org/officeDocument/2006/relationships/image" Target="../media/image24.wmf"/><Relationship Id="rId72" Type="http://schemas.openxmlformats.org/officeDocument/2006/relationships/image" Target="../media/image16.gif"/><Relationship Id="rId73" Type="http://schemas.openxmlformats.org/officeDocument/2006/relationships/image" Target="../media/image26.png"/><Relationship Id="rId74" Type="http://schemas.openxmlformats.org/officeDocument/2006/relationships/image" Target="../media/image27.gif"/><Relationship Id="rId75" Type="http://schemas.openxmlformats.org/officeDocument/2006/relationships/image" Target="../media/image28.gif"/><Relationship Id="rId76" Type="http://schemas.openxmlformats.org/officeDocument/2006/relationships/image" Target="../media/image6.wmf"/><Relationship Id="rId77" Type="http://schemas.openxmlformats.org/officeDocument/2006/relationships/image" Target="../media/image7.wmf"/><Relationship Id="rId78" Type="http://schemas.openxmlformats.org/officeDocument/2006/relationships/image" Target="../media/image8.wmf"/><Relationship Id="rId79" Type="http://schemas.openxmlformats.org/officeDocument/2006/relationships/image" Target="../media/image9.wmf"/><Relationship Id="rId80" Type="http://schemas.openxmlformats.org/officeDocument/2006/relationships/image" Target="../media/image29.gif"/><Relationship Id="rId81" Type="http://schemas.openxmlformats.org/officeDocument/2006/relationships/image" Target="../media/image6.wmf"/><Relationship Id="rId82" Type="http://schemas.openxmlformats.org/officeDocument/2006/relationships/image" Target="../media/image7.wmf"/><Relationship Id="rId83" Type="http://schemas.openxmlformats.org/officeDocument/2006/relationships/image" Target="../media/image8.wmf"/><Relationship Id="rId84" Type="http://schemas.openxmlformats.org/officeDocument/2006/relationships/image" Target="../media/image9.wmf"/><Relationship Id="rId85" Type="http://schemas.openxmlformats.org/officeDocument/2006/relationships/image" Target="../media/image23.wmf"/><Relationship Id="rId86" Type="http://schemas.openxmlformats.org/officeDocument/2006/relationships/image" Target="../media/image24.wmf"/><Relationship Id="rId87" Type="http://schemas.openxmlformats.org/officeDocument/2006/relationships/image" Target="../media/image26.png"/><Relationship Id="rId88" Type="http://schemas.openxmlformats.org/officeDocument/2006/relationships/image" Target="../media/image17.gif"/><Relationship Id="rId89" Type="http://schemas.openxmlformats.org/officeDocument/2006/relationships/image" Target="../media/image30.png"/><Relationship Id="rId90" Type="http://schemas.openxmlformats.org/officeDocument/2006/relationships/image" Target="../media/image16.gif"/><Relationship Id="rId91" Type="http://schemas.openxmlformats.org/officeDocument/2006/relationships/image" Target="../media/image23.wmf"/><Relationship Id="rId92" Type="http://schemas.openxmlformats.org/officeDocument/2006/relationships/image" Target="../media/image24.wmf"/><Relationship Id="rId93" Type="http://schemas.openxmlformats.org/officeDocument/2006/relationships/image" Target="../media/image6.wmf"/><Relationship Id="rId94" Type="http://schemas.openxmlformats.org/officeDocument/2006/relationships/image" Target="../media/image7.wmf"/><Relationship Id="rId95" Type="http://schemas.openxmlformats.org/officeDocument/2006/relationships/image" Target="../media/image8.wmf"/><Relationship Id="rId96" Type="http://schemas.openxmlformats.org/officeDocument/2006/relationships/image" Target="../media/image9.wmf"/><Relationship Id="rId97" Type="http://schemas.openxmlformats.org/officeDocument/2006/relationships/image" Target="../media/image27.gif"/><Relationship Id="rId98" Type="http://schemas.openxmlformats.org/officeDocument/2006/relationships/image" Target="../media/image29.gif"/><Relationship Id="rId99" Type="http://schemas.openxmlformats.org/officeDocument/2006/relationships/image" Target="../media/image23.wmf"/><Relationship Id="rId100" Type="http://schemas.openxmlformats.org/officeDocument/2006/relationships/image" Target="../media/image24.wmf"/><Relationship Id="rId101" Type="http://schemas.openxmlformats.org/officeDocument/2006/relationships/image" Target="../media/image31.png"/><Relationship Id="rId102" Type="http://schemas.openxmlformats.org/officeDocument/2006/relationships/image" Target="../media/image15.jpeg"/><Relationship Id="rId103" Type="http://schemas.openxmlformats.org/officeDocument/2006/relationships/image" Target="../media/image6.wmf"/><Relationship Id="rId104" Type="http://schemas.openxmlformats.org/officeDocument/2006/relationships/image" Target="../media/image7.wmf"/><Relationship Id="rId105" Type="http://schemas.openxmlformats.org/officeDocument/2006/relationships/image" Target="../media/image8.wmf"/><Relationship Id="rId106" Type="http://schemas.openxmlformats.org/officeDocument/2006/relationships/image" Target="../media/image9.wmf"/><Relationship Id="rId107" Type="http://schemas.openxmlformats.org/officeDocument/2006/relationships/image" Target="../media/image23.wmf"/><Relationship Id="rId108" Type="http://schemas.openxmlformats.org/officeDocument/2006/relationships/image" Target="../media/image24.wmf"/><Relationship Id="rId109" Type="http://schemas.openxmlformats.org/officeDocument/2006/relationships/image" Target="../media/image11.wmf"/><Relationship Id="rId110" Type="http://schemas.openxmlformats.org/officeDocument/2006/relationships/image" Target="../media/image12.wmf"/><Relationship Id="rId111" Type="http://schemas.openxmlformats.org/officeDocument/2006/relationships/image" Target="../media/image2.gif"/><Relationship Id="rId112" Type="http://schemas.openxmlformats.org/officeDocument/2006/relationships/image" Target="../media/image28.gif"/><Relationship Id="rId113" Type="http://schemas.openxmlformats.org/officeDocument/2006/relationships/image" Target="../media/image32.png"/><Relationship Id="rId114" Type="http://schemas.openxmlformats.org/officeDocument/2006/relationships/image" Target="../media/image33.gif"/><Relationship Id="rId1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34.png"/><Relationship Id="rId8" Type="http://schemas.openxmlformats.org/officeDocument/2006/relationships/image" Target="../media/image16.gi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35.gi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image" Target="../media/image9.wmf"/><Relationship Id="rId19" Type="http://schemas.openxmlformats.org/officeDocument/2006/relationships/image" Target="../media/image16.gif"/><Relationship Id="rId20" Type="http://schemas.openxmlformats.org/officeDocument/2006/relationships/image" Target="../media/image5.png"/><Relationship Id="rId21" Type="http://schemas.openxmlformats.org/officeDocument/2006/relationships/image" Target="../media/image13.gif"/><Relationship Id="rId22" Type="http://schemas.openxmlformats.org/officeDocument/2006/relationships/image" Target="../media/image6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3.gif"/><Relationship Id="rId27" Type="http://schemas.openxmlformats.org/officeDocument/2006/relationships/image" Target="../media/image5.png"/><Relationship Id="rId28" Type="http://schemas.openxmlformats.org/officeDocument/2006/relationships/image" Target="../media/image16.gif"/><Relationship Id="rId29" Type="http://schemas.openxmlformats.org/officeDocument/2006/relationships/image" Target="../media/image6.wmf"/><Relationship Id="rId30" Type="http://schemas.openxmlformats.org/officeDocument/2006/relationships/image" Target="../media/image7.wmf"/><Relationship Id="rId31" Type="http://schemas.openxmlformats.org/officeDocument/2006/relationships/image" Target="../media/image8.wmf"/><Relationship Id="rId32" Type="http://schemas.openxmlformats.org/officeDocument/2006/relationships/image" Target="../media/image9.wmf"/><Relationship Id="rId33" Type="http://schemas.openxmlformats.org/officeDocument/2006/relationships/image" Target="../media/image34.png"/><Relationship Id="rId34" Type="http://schemas.openxmlformats.org/officeDocument/2006/relationships/image" Target="../media/image4.gif"/><Relationship Id="rId35" Type="http://schemas.openxmlformats.org/officeDocument/2006/relationships/image" Target="../media/image26.png"/><Relationship Id="rId36" Type="http://schemas.openxmlformats.org/officeDocument/2006/relationships/image" Target="../media/image35.gif"/><Relationship Id="rId37" Type="http://schemas.openxmlformats.org/officeDocument/2006/relationships/image" Target="../media/image21.png"/><Relationship Id="rId38" Type="http://schemas.openxmlformats.org/officeDocument/2006/relationships/image" Target="../media/image3.gif"/><Relationship Id="rId39" Type="http://schemas.openxmlformats.org/officeDocument/2006/relationships/image" Target="../media/image34.png"/><Relationship Id="rId40" Type="http://schemas.openxmlformats.org/officeDocument/2006/relationships/image" Target="../media/image30.png"/><Relationship Id="rId41" Type="http://schemas.openxmlformats.org/officeDocument/2006/relationships/image" Target="../media/image35.gif"/><Relationship Id="rId42" Type="http://schemas.openxmlformats.org/officeDocument/2006/relationships/image" Target="../media/image21.png"/><Relationship Id="rId43" Type="http://schemas.openxmlformats.org/officeDocument/2006/relationships/image" Target="../media/image16.gif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35.gif"/><Relationship Id="rId47" Type="http://schemas.openxmlformats.org/officeDocument/2006/relationships/image" Target="../media/image16.gif"/><Relationship Id="rId48" Type="http://schemas.openxmlformats.org/officeDocument/2006/relationships/image" Target="../media/image35.gif"/><Relationship Id="rId49" Type="http://schemas.openxmlformats.org/officeDocument/2006/relationships/image" Target="../media/image26.png"/><Relationship Id="rId50" Type="http://schemas.openxmlformats.org/officeDocument/2006/relationships/image" Target="../media/image26.png"/><Relationship Id="rId51" Type="http://schemas.openxmlformats.org/officeDocument/2006/relationships/image" Target="../media/image16.gif"/><Relationship Id="rId52" Type="http://schemas.openxmlformats.org/officeDocument/2006/relationships/image" Target="../media/image35.gif"/><Relationship Id="rId53" Type="http://schemas.openxmlformats.org/officeDocument/2006/relationships/image" Target="../media/image16.gif"/><Relationship Id="rId54" Type="http://schemas.openxmlformats.org/officeDocument/2006/relationships/image" Target="../media/image34.png"/><Relationship Id="rId55" Type="http://schemas.openxmlformats.org/officeDocument/2006/relationships/image" Target="../media/image36.wmf"/><Relationship Id="rId56" Type="http://schemas.openxmlformats.org/officeDocument/2006/relationships/image" Target="../media/image37.wmf"/><Relationship Id="rId57" Type="http://schemas.openxmlformats.org/officeDocument/2006/relationships/image" Target="../media/image13.gif"/><Relationship Id="rId58" Type="http://schemas.openxmlformats.org/officeDocument/2006/relationships/image" Target="../media/image38.png"/><Relationship Id="rId59" Type="http://schemas.openxmlformats.org/officeDocument/2006/relationships/image" Target="../media/image35.gif"/><Relationship Id="rId60" Type="http://schemas.openxmlformats.org/officeDocument/2006/relationships/image" Target="../media/image11.wmf"/><Relationship Id="rId61" Type="http://schemas.openxmlformats.org/officeDocument/2006/relationships/image" Target="../media/image12.wmf"/><Relationship Id="rId62" Type="http://schemas.openxmlformats.org/officeDocument/2006/relationships/image" Target="../media/image21.png"/><Relationship Id="rId63" Type="http://schemas.openxmlformats.org/officeDocument/2006/relationships/image" Target="../media/image35.gif"/><Relationship Id="rId64" Type="http://schemas.openxmlformats.org/officeDocument/2006/relationships/image" Target="../media/image16.gif"/><Relationship Id="rId65" Type="http://schemas.openxmlformats.org/officeDocument/2006/relationships/image" Target="../media/image10.png"/><Relationship Id="rId66" Type="http://schemas.openxmlformats.org/officeDocument/2006/relationships/image" Target="../media/image10.png"/><Relationship Id="rId67" Type="http://schemas.openxmlformats.org/officeDocument/2006/relationships/image" Target="../media/image39.png"/><Relationship Id="rId68" Type="http://schemas.openxmlformats.org/officeDocument/2006/relationships/image" Target="../media/image15.jpeg"/><Relationship Id="rId69" Type="http://schemas.openxmlformats.org/officeDocument/2006/relationships/image" Target="../media/image40.png"/><Relationship Id="rId70" Type="http://schemas.openxmlformats.org/officeDocument/2006/relationships/image" Target="../media/image39.png"/><Relationship Id="rId71" Type="http://schemas.openxmlformats.org/officeDocument/2006/relationships/image" Target="../media/image14.gif"/><Relationship Id="rId72" Type="http://schemas.openxmlformats.org/officeDocument/2006/relationships/image" Target="../media/image26.png"/><Relationship Id="rId73" Type="http://schemas.openxmlformats.org/officeDocument/2006/relationships/image" Target="../media/image6.wmf"/><Relationship Id="rId74" Type="http://schemas.openxmlformats.org/officeDocument/2006/relationships/image" Target="../media/image7.wmf"/><Relationship Id="rId75" Type="http://schemas.openxmlformats.org/officeDocument/2006/relationships/image" Target="../media/image8.wmf"/><Relationship Id="rId76" Type="http://schemas.openxmlformats.org/officeDocument/2006/relationships/image" Target="../media/image9.wmf"/><Relationship Id="rId77" Type="http://schemas.openxmlformats.org/officeDocument/2006/relationships/image" Target="../media/image6.wmf"/><Relationship Id="rId78" Type="http://schemas.openxmlformats.org/officeDocument/2006/relationships/image" Target="../media/image7.wmf"/><Relationship Id="rId79" Type="http://schemas.openxmlformats.org/officeDocument/2006/relationships/image" Target="../media/image8.wmf"/><Relationship Id="rId80" Type="http://schemas.openxmlformats.org/officeDocument/2006/relationships/image" Target="../media/image9.wmf"/><Relationship Id="rId81" Type="http://schemas.openxmlformats.org/officeDocument/2006/relationships/image" Target="../media/image2.gif"/><Relationship Id="rId82" Type="http://schemas.openxmlformats.org/officeDocument/2006/relationships/image" Target="../media/image11.wmf"/><Relationship Id="rId83" Type="http://schemas.openxmlformats.org/officeDocument/2006/relationships/image" Target="../media/image12.wmf"/><Relationship Id="rId84" Type="http://schemas.openxmlformats.org/officeDocument/2006/relationships/image" Target="../media/image41.png"/><Relationship Id="rId85" Type="http://schemas.openxmlformats.org/officeDocument/2006/relationships/image" Target="../media/image42.png"/><Relationship Id="rId86" Type="http://schemas.openxmlformats.org/officeDocument/2006/relationships/image" Target="../media/image36.wmf"/><Relationship Id="rId87" Type="http://schemas.openxmlformats.org/officeDocument/2006/relationships/image" Target="../media/image37.wmf"/><Relationship Id="rId88" Type="http://schemas.openxmlformats.org/officeDocument/2006/relationships/image" Target="../media/image43.png"/><Relationship Id="rId89" Type="http://schemas.openxmlformats.org/officeDocument/2006/relationships/image" Target="../media/image39.png"/><Relationship Id="rId90" Type="http://schemas.openxmlformats.org/officeDocument/2006/relationships/image" Target="../media/image44.gif"/><Relationship Id="rId91" Type="http://schemas.openxmlformats.org/officeDocument/2006/relationships/image" Target="../media/image42.png"/><Relationship Id="rId92" Type="http://schemas.openxmlformats.org/officeDocument/2006/relationships/image" Target="../media/image39.png"/><Relationship Id="rId93" Type="http://schemas.openxmlformats.org/officeDocument/2006/relationships/image" Target="../media/image45.png"/><Relationship Id="rId94" Type="http://schemas.openxmlformats.org/officeDocument/2006/relationships/image" Target="../media/image44.gif"/><Relationship Id="rId95" Type="http://schemas.openxmlformats.org/officeDocument/2006/relationships/image" Target="../media/image17.gif"/><Relationship Id="rId96" Type="http://schemas.openxmlformats.org/officeDocument/2006/relationships/image" Target="../media/image46.gif"/><Relationship Id="rId9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16.gif"/><Relationship Id="rId7" Type="http://schemas.openxmlformats.org/officeDocument/2006/relationships/image" Target="../media/image47.gif"/><Relationship Id="rId8" Type="http://schemas.openxmlformats.org/officeDocument/2006/relationships/image" Target="../media/image5.png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13.gif"/><Relationship Id="rId12" Type="http://schemas.openxmlformats.org/officeDocument/2006/relationships/image" Target="../media/image16.gi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image" Target="../media/image47.gif"/><Relationship Id="rId18" Type="http://schemas.openxmlformats.org/officeDocument/2006/relationships/image" Target="../media/image4.gif"/><Relationship Id="rId19" Type="http://schemas.openxmlformats.org/officeDocument/2006/relationships/image" Target="../media/image47.gif"/><Relationship Id="rId20" Type="http://schemas.openxmlformats.org/officeDocument/2006/relationships/image" Target="../media/image23.wmf"/><Relationship Id="rId21" Type="http://schemas.openxmlformats.org/officeDocument/2006/relationships/image" Target="../media/image24.wmf"/><Relationship Id="rId22" Type="http://schemas.openxmlformats.org/officeDocument/2006/relationships/image" Target="../media/image4.gif"/><Relationship Id="rId23" Type="http://schemas.openxmlformats.org/officeDocument/2006/relationships/image" Target="../media/image6.wmf"/><Relationship Id="rId24" Type="http://schemas.openxmlformats.org/officeDocument/2006/relationships/image" Target="../media/image7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16.gif"/><Relationship Id="rId28" Type="http://schemas.openxmlformats.org/officeDocument/2006/relationships/image" Target="../media/image47.gif"/><Relationship Id="rId29" Type="http://schemas.openxmlformats.org/officeDocument/2006/relationships/image" Target="../media/image10.png"/><Relationship Id="rId30" Type="http://schemas.openxmlformats.org/officeDocument/2006/relationships/image" Target="../media/image28.gif"/><Relationship Id="rId31" Type="http://schemas.openxmlformats.org/officeDocument/2006/relationships/image" Target="../media/image23.wmf"/><Relationship Id="rId32" Type="http://schemas.openxmlformats.org/officeDocument/2006/relationships/image" Target="../media/image24.wmf"/><Relationship Id="rId33" Type="http://schemas.openxmlformats.org/officeDocument/2006/relationships/image" Target="../media/image6.wm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35.gif"/><Relationship Id="rId38" Type="http://schemas.openxmlformats.org/officeDocument/2006/relationships/image" Target="../media/image47.gif"/><Relationship Id="rId39" Type="http://schemas.openxmlformats.org/officeDocument/2006/relationships/image" Target="../media/image16.gif"/><Relationship Id="rId40" Type="http://schemas.openxmlformats.org/officeDocument/2006/relationships/image" Target="../media/image17.gif"/><Relationship Id="rId41" Type="http://schemas.openxmlformats.org/officeDocument/2006/relationships/image" Target="../media/image35.gif"/><Relationship Id="rId42" Type="http://schemas.openxmlformats.org/officeDocument/2006/relationships/image" Target="../media/image20.wmf"/><Relationship Id="rId43" Type="http://schemas.openxmlformats.org/officeDocument/2006/relationships/image" Target="../media/image16.gif"/><Relationship Id="rId44" Type="http://schemas.openxmlformats.org/officeDocument/2006/relationships/image" Target="../media/image5.png"/><Relationship Id="rId45" Type="http://schemas.openxmlformats.org/officeDocument/2006/relationships/image" Target="../media/image13.gif"/><Relationship Id="rId46" Type="http://schemas.openxmlformats.org/officeDocument/2006/relationships/image" Target="../media/image48.wmf"/><Relationship Id="rId47" Type="http://schemas.openxmlformats.org/officeDocument/2006/relationships/image" Target="../media/image49.gif"/><Relationship Id="rId48" Type="http://schemas.openxmlformats.org/officeDocument/2006/relationships/image" Target="../media/image50.gif"/><Relationship Id="rId49" Type="http://schemas.openxmlformats.org/officeDocument/2006/relationships/image" Target="../media/image26.png"/><Relationship Id="rId50" Type="http://schemas.openxmlformats.org/officeDocument/2006/relationships/image" Target="../media/image10.png"/><Relationship Id="rId5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2880" y="18720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748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99080" y="24559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0680" y="45072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35560" y="-38160"/>
            <a:ext cx="36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סמסטר א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90920" y="17784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704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6360" y="250344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485120" y="644400"/>
            <a:ext cx="737280" cy="715320"/>
            <a:chOff x="7485120" y="644400"/>
            <a:chExt cx="737280" cy="715320"/>
          </a:xfrm>
        </p:grpSpPr>
        <p:sp>
          <p:nvSpPr>
            <p:cNvPr id="72" name=""/>
            <p:cNvSpPr/>
            <p:nvPr/>
          </p:nvSpPr>
          <p:spPr>
            <a:xfrm>
              <a:off x="7485120" y="6444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7607160" y="6573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78360" y="11286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108840" y="582480"/>
            <a:ext cx="923040" cy="672480"/>
            <a:chOff x="6108840" y="582480"/>
            <a:chExt cx="923040" cy="672480"/>
          </a:xfrm>
        </p:grpSpPr>
        <p:sp>
          <p:nvSpPr>
            <p:cNvPr id="76" name=""/>
            <p:cNvSpPr/>
            <p:nvPr/>
          </p:nvSpPr>
          <p:spPr>
            <a:xfrm>
              <a:off x="6632280" y="6602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13280" y="93492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97080" y="76356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noahs_ark_rocking_ty_CLR" descr=""/>
            <p:cNvPicPr/>
            <p:nvPr/>
          </p:nvPicPr>
          <p:blipFill>
            <a:blip r:embed="rId2"/>
            <a:stretch/>
          </p:blipFill>
          <p:spPr>
            <a:xfrm>
              <a:off x="6108840" y="582480"/>
              <a:ext cx="639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479280" y="1023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81360" y="642960"/>
            <a:ext cx="1074600" cy="604800"/>
            <a:chOff x="4581360" y="642960"/>
            <a:chExt cx="1074600" cy="604800"/>
          </a:xfrm>
        </p:grpSpPr>
        <p:sp>
          <p:nvSpPr>
            <p:cNvPr id="82" name=""/>
            <p:cNvSpPr/>
            <p:nvPr/>
          </p:nvSpPr>
          <p:spPr>
            <a:xfrm>
              <a:off x="5093640" y="72540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81360" y="64296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54600" y="76032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walking_1_sm_CLR" descr=""/>
            <p:cNvPicPr/>
            <p:nvPr/>
          </p:nvPicPr>
          <p:blipFill>
            <a:blip r:embed="rId3"/>
            <a:stretch/>
          </p:blipFill>
          <p:spPr>
            <a:xfrm>
              <a:off x="5313240" y="773280"/>
              <a:ext cx="3427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917240" y="824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157640" y="987480"/>
            <a:ext cx="1007280" cy="596880"/>
            <a:chOff x="4157640" y="987480"/>
            <a:chExt cx="1007280" cy="596880"/>
          </a:xfrm>
        </p:grpSpPr>
        <p:sp>
          <p:nvSpPr>
            <p:cNvPr id="88" name=""/>
            <p:cNvSpPr/>
            <p:nvPr/>
          </p:nvSpPr>
          <p:spPr>
            <a:xfrm>
              <a:off x="4638600" y="120672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2160" y="105912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25920" y="987480"/>
              <a:ext cx="39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atomic_energy_sm_CLR" descr=""/>
            <p:cNvPicPr/>
            <p:nvPr/>
          </p:nvPicPr>
          <p:blipFill>
            <a:blip r:embed="rId4"/>
            <a:stretch/>
          </p:blipFill>
          <p:spPr>
            <a:xfrm>
              <a:off x="4157640" y="99540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612320" y="1319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403240" y="1079640"/>
            <a:ext cx="881640" cy="489600"/>
            <a:chOff x="5403240" y="1079640"/>
            <a:chExt cx="881640" cy="489600"/>
          </a:xfrm>
        </p:grpSpPr>
        <p:pic>
          <p:nvPicPr>
            <p:cNvPr id="94" name="bkcl1a" descr=""/>
            <p:cNvPicPr/>
            <p:nvPr/>
          </p:nvPicPr>
          <p:blipFill>
            <a:blip r:embed="rId5"/>
            <a:stretch/>
          </p:blipFill>
          <p:spPr>
            <a:xfrm>
              <a:off x="5848560" y="119664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871240" y="107964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35080" y="126828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8840" y="110628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03240" y="1338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48640" y="1128600"/>
            <a:ext cx="925920" cy="450360"/>
            <a:chOff x="6848640" y="1128600"/>
            <a:chExt cx="925920" cy="450360"/>
          </a:xfrm>
        </p:grpSpPr>
        <p:sp>
          <p:nvSpPr>
            <p:cNvPr id="100" name=""/>
            <p:cNvSpPr/>
            <p:nvPr/>
          </p:nvSpPr>
          <p:spPr>
            <a:xfrm>
              <a:off x="6865200" y="112860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68960" y="1292040"/>
              <a:ext cx="191880" cy="226800"/>
              <a:chOff x="7068960" y="1292040"/>
              <a:chExt cx="191880" cy="2268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68960" y="12920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68960" y="12920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6848640" y="1280880"/>
              <a:ext cx="199800" cy="247320"/>
              <a:chOff x="6848640" y="1280880"/>
              <a:chExt cx="199800" cy="247320"/>
            </a:xfrm>
          </p:grpSpPr>
          <p:pic>
            <p:nvPicPr>
              <p:cNvPr id="1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48640" y="12808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848640" y="12808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7506000" y="12459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7560" y="12459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21960" y="1347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334200" y="1574640"/>
            <a:ext cx="1113840" cy="514440"/>
            <a:chOff x="6334200" y="1574640"/>
            <a:chExt cx="1113840" cy="514440"/>
          </a:xfrm>
        </p:grpSpPr>
        <p:sp>
          <p:nvSpPr>
            <p:cNvPr id="111" name=""/>
            <p:cNvSpPr/>
            <p:nvPr/>
          </p:nvSpPr>
          <p:spPr>
            <a:xfrm>
              <a:off x="6479640" y="15746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6600" y="1672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1240" y="1653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girl" descr=""/>
            <p:cNvPicPr/>
            <p:nvPr/>
          </p:nvPicPr>
          <p:blipFill>
            <a:blip r:embed="rId10"/>
            <a:stretch/>
          </p:blipFill>
          <p:spPr>
            <a:xfrm>
              <a:off x="6334200" y="1668240"/>
              <a:ext cx="341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84560" y="1795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214960" y="1547640"/>
            <a:ext cx="874440" cy="678600"/>
            <a:chOff x="5214960" y="1547640"/>
            <a:chExt cx="874440" cy="678600"/>
          </a:xfrm>
        </p:grpSpPr>
        <p:sp>
          <p:nvSpPr>
            <p:cNvPr id="117" name=""/>
            <p:cNvSpPr/>
            <p:nvPr/>
          </p:nvSpPr>
          <p:spPr>
            <a:xfrm>
              <a:off x="5798880" y="19778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8560" y="182052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0760" y="1606320"/>
              <a:ext cx="458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atomic_energy_sm_CLR" descr=""/>
            <p:cNvPicPr/>
            <p:nvPr/>
          </p:nvPicPr>
          <p:blipFill>
            <a:blip r:embed="rId11"/>
            <a:stretch/>
          </p:blipFill>
          <p:spPr>
            <a:xfrm>
              <a:off x="5214960" y="154764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64720" y="1995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255920" y="1563840"/>
            <a:ext cx="834120" cy="548640"/>
            <a:chOff x="4255920" y="1563840"/>
            <a:chExt cx="834120" cy="548640"/>
          </a:xfrm>
        </p:grpSpPr>
        <p:sp>
          <p:nvSpPr>
            <p:cNvPr id="123" name=""/>
            <p:cNvSpPr/>
            <p:nvPr/>
          </p:nvSpPr>
          <p:spPr>
            <a:xfrm>
              <a:off x="4827240" y="179244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66880" y="1567080"/>
              <a:ext cx="567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7840" y="182736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walking_1_sm_CLR" descr=""/>
            <p:cNvPicPr/>
            <p:nvPr/>
          </p:nvPicPr>
          <p:blipFill>
            <a:blip r:embed="rId12"/>
            <a:stretch/>
          </p:blipFill>
          <p:spPr>
            <a:xfrm>
              <a:off x="4255920" y="1563840"/>
              <a:ext cx="342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17280" y="18813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8680" y="1963800"/>
            <a:ext cx="1102320" cy="586800"/>
            <a:chOff x="5908680" y="1963800"/>
            <a:chExt cx="1102320" cy="586800"/>
          </a:xfrm>
        </p:grpSpPr>
        <p:sp>
          <p:nvSpPr>
            <p:cNvPr id="129" name=""/>
            <p:cNvSpPr/>
            <p:nvPr/>
          </p:nvSpPr>
          <p:spPr>
            <a:xfrm>
              <a:off x="6575400" y="208944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96200" y="224028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54320" y="220212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noahs_ark_rocking_ty_CLR" descr=""/>
            <p:cNvPicPr/>
            <p:nvPr/>
          </p:nvPicPr>
          <p:blipFill>
            <a:blip r:embed="rId13"/>
            <a:stretch/>
          </p:blipFill>
          <p:spPr>
            <a:xfrm>
              <a:off x="5908680" y="1963800"/>
              <a:ext cx="6397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41480" y="23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286160" y="2052720"/>
            <a:ext cx="818280" cy="526320"/>
            <a:chOff x="4286160" y="2052720"/>
            <a:chExt cx="818280" cy="526320"/>
          </a:xfrm>
        </p:grpSpPr>
        <p:sp>
          <p:nvSpPr>
            <p:cNvPr id="135" name=""/>
            <p:cNvSpPr/>
            <p:nvPr/>
          </p:nvSpPr>
          <p:spPr>
            <a:xfrm>
              <a:off x="4437720" y="2052720"/>
              <a:ext cx="66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516200" y="2178000"/>
              <a:ext cx="192240" cy="226800"/>
              <a:chOff x="4516200" y="2178000"/>
              <a:chExt cx="192240" cy="22680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16200" y="2178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16200" y="2178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" name=""/>
            <p:cNvGrpSpPr/>
            <p:nvPr/>
          </p:nvGrpSpPr>
          <p:grpSpPr>
            <a:xfrm>
              <a:off x="4286160" y="2176560"/>
              <a:ext cx="199800" cy="247320"/>
              <a:chOff x="4286160" y="2176560"/>
              <a:chExt cx="199800" cy="2473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86160" y="2176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86160" y="2176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"/>
            <p:cNvSpPr/>
            <p:nvPr/>
          </p:nvSpPr>
          <p:spPr>
            <a:xfrm>
              <a:off x="4676760" y="21319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11760" y="2246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075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038560" y="2125800"/>
            <a:ext cx="851040" cy="434160"/>
            <a:chOff x="5038560" y="2125800"/>
            <a:chExt cx="851040" cy="434160"/>
          </a:xfrm>
        </p:grpSpPr>
        <p:sp>
          <p:nvSpPr>
            <p:cNvPr id="146" name=""/>
            <p:cNvSpPr/>
            <p:nvPr/>
          </p:nvSpPr>
          <p:spPr>
            <a:xfrm>
              <a:off x="5608440" y="212580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8"/>
            <a:stretch/>
          </p:blipFill>
          <p:spPr>
            <a:xfrm>
              <a:off x="5038560" y="22305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9"/>
            <a:stretch/>
          </p:blipFill>
          <p:spPr>
            <a:xfrm>
              <a:off x="5105160" y="216396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381640" y="216216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74960" y="226080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2440" y="2328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294680" y="2705040"/>
            <a:ext cx="947160" cy="601560"/>
            <a:chOff x="7294680" y="2705040"/>
            <a:chExt cx="947160" cy="601560"/>
          </a:xfrm>
        </p:grpSpPr>
        <p:sp>
          <p:nvSpPr>
            <p:cNvPr id="153" name=""/>
            <p:cNvSpPr/>
            <p:nvPr/>
          </p:nvSpPr>
          <p:spPr>
            <a:xfrm>
              <a:off x="7702560" y="28256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3280" y="27050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50240" y="28508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girl_holding_123_ty_CLR" descr=""/>
            <p:cNvPicPr/>
            <p:nvPr/>
          </p:nvPicPr>
          <p:blipFill>
            <a:blip r:embed="rId20"/>
            <a:stretch/>
          </p:blipFill>
          <p:spPr>
            <a:xfrm>
              <a:off x="7294680" y="271296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689240" y="2928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70320" y="2733840"/>
            <a:ext cx="1035360" cy="559440"/>
            <a:chOff x="4270320" y="2733840"/>
            <a:chExt cx="1035360" cy="559440"/>
          </a:xfrm>
        </p:grpSpPr>
        <p:sp>
          <p:nvSpPr>
            <p:cNvPr id="159" name=""/>
            <p:cNvSpPr/>
            <p:nvPr/>
          </p:nvSpPr>
          <p:spPr>
            <a:xfrm>
              <a:off x="4770000" y="2949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32400" y="2733840"/>
              <a:ext cx="7477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– יוון העת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4920" y="297468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roman_speaker_sm_CLR" descr=""/>
            <p:cNvPicPr/>
            <p:nvPr/>
          </p:nvPicPr>
          <p:blipFill>
            <a:blip r:embed="rId21"/>
            <a:stretch/>
          </p:blipFill>
          <p:spPr>
            <a:xfrm>
              <a:off x="4270320" y="2743200"/>
              <a:ext cx="474840" cy="5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50480" y="3062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600440" y="3224160"/>
            <a:ext cx="859680" cy="497520"/>
            <a:chOff x="4600440" y="3224160"/>
            <a:chExt cx="859680" cy="497520"/>
          </a:xfrm>
        </p:grpSpPr>
        <p:sp>
          <p:nvSpPr>
            <p:cNvPr id="165" name=""/>
            <p:cNvSpPr/>
            <p:nvPr/>
          </p:nvSpPr>
          <p:spPr>
            <a:xfrm>
              <a:off x="4852800" y="322416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830480" y="3349440"/>
              <a:ext cx="192240" cy="226800"/>
              <a:chOff x="4830480" y="3349440"/>
              <a:chExt cx="192240" cy="2268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830480" y="33494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30480" y="33494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"/>
            <p:cNvGrpSpPr/>
            <p:nvPr/>
          </p:nvGrpSpPr>
          <p:grpSpPr>
            <a:xfrm>
              <a:off x="4600440" y="3348000"/>
              <a:ext cx="199800" cy="246960"/>
              <a:chOff x="4600440" y="3348000"/>
              <a:chExt cx="199800" cy="24696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600440" y="33480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600440" y="33480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" name=""/>
            <p:cNvSpPr/>
            <p:nvPr/>
          </p:nvSpPr>
          <p:spPr>
            <a:xfrm>
              <a:off x="4991040" y="33033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26040" y="34081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7520" y="3490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03840" y="3097080"/>
            <a:ext cx="990000" cy="596520"/>
            <a:chOff x="6603840" y="3097080"/>
            <a:chExt cx="990000" cy="596520"/>
          </a:xfrm>
        </p:grpSpPr>
        <p:sp>
          <p:nvSpPr>
            <p:cNvPr id="176" name=""/>
            <p:cNvSpPr/>
            <p:nvPr/>
          </p:nvSpPr>
          <p:spPr>
            <a:xfrm>
              <a:off x="7146720" y="316548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10800" y="340200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83080" y="32590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noahs_ark_rocking_ty_CLR" descr=""/>
            <p:cNvPicPr/>
            <p:nvPr/>
          </p:nvPicPr>
          <p:blipFill>
            <a:blip r:embed="rId26"/>
            <a:stretch/>
          </p:blipFill>
          <p:spPr>
            <a:xfrm>
              <a:off x="6603840" y="3097080"/>
              <a:ext cx="6400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041240" y="346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272200" y="2805120"/>
            <a:ext cx="950760" cy="680400"/>
            <a:chOff x="5272200" y="2805120"/>
            <a:chExt cx="950760" cy="680400"/>
          </a:xfrm>
        </p:grpSpPr>
        <p:sp>
          <p:nvSpPr>
            <p:cNvPr id="182" name=""/>
            <p:cNvSpPr/>
            <p:nvPr/>
          </p:nvSpPr>
          <p:spPr>
            <a:xfrm>
              <a:off x="5892120" y="33019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34880" y="316368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64320" y="2949480"/>
              <a:ext cx="4586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תגל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atomic_energy_sm_CLR" descr=""/>
            <p:cNvPicPr/>
            <p:nvPr/>
          </p:nvPicPr>
          <p:blipFill>
            <a:blip r:embed="rId27"/>
            <a:stretch/>
          </p:blipFill>
          <p:spPr>
            <a:xfrm>
              <a:off x="5272200" y="280512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422320" y="3252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407360" y="3649680"/>
            <a:ext cx="777240" cy="482040"/>
            <a:chOff x="7407360" y="3649680"/>
            <a:chExt cx="777240" cy="482040"/>
          </a:xfrm>
        </p:grpSpPr>
        <p:sp>
          <p:nvSpPr>
            <p:cNvPr id="188" name=""/>
            <p:cNvSpPr/>
            <p:nvPr/>
          </p:nvSpPr>
          <p:spPr>
            <a:xfrm>
              <a:off x="7655760" y="364968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ה ה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47480" y="377208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39080" y="377676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GreekVase_small" descr=""/>
            <p:cNvPicPr/>
            <p:nvPr/>
          </p:nvPicPr>
          <p:blipFill>
            <a:blip r:embed="rId28"/>
            <a:stretch/>
          </p:blipFill>
          <p:spPr>
            <a:xfrm>
              <a:off x="7407360" y="3719520"/>
              <a:ext cx="21420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632000" y="3900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886280" y="3719520"/>
            <a:ext cx="1023840" cy="421560"/>
            <a:chOff x="4886280" y="3719520"/>
            <a:chExt cx="1023840" cy="421560"/>
          </a:xfrm>
        </p:grpSpPr>
        <p:sp>
          <p:nvSpPr>
            <p:cNvPr id="194" name=""/>
            <p:cNvSpPr/>
            <p:nvPr/>
          </p:nvSpPr>
          <p:spPr>
            <a:xfrm>
              <a:off x="5139000" y="371952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116320" y="3844800"/>
              <a:ext cx="192240" cy="226800"/>
              <a:chOff x="5116320" y="3844800"/>
              <a:chExt cx="192240" cy="2268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5116320" y="3844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16320" y="3844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"/>
            <p:cNvGrpSpPr/>
            <p:nvPr/>
          </p:nvGrpSpPr>
          <p:grpSpPr>
            <a:xfrm>
              <a:off x="4886280" y="3833640"/>
              <a:ext cx="199800" cy="247320"/>
              <a:chOff x="4886280" y="3833640"/>
              <a:chExt cx="199800" cy="247320"/>
            </a:xfrm>
          </p:grpSpPr>
          <p:pic>
            <p:nvPicPr>
              <p:cNvPr id="19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86280" y="3833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886280" y="3833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5543640" y="37987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24040" y="3789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7200" y="3909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486400" y="4219560"/>
            <a:ext cx="1126080" cy="464400"/>
            <a:chOff x="5486400" y="4219560"/>
            <a:chExt cx="1126080" cy="464400"/>
          </a:xfrm>
        </p:grpSpPr>
        <p:sp>
          <p:nvSpPr>
            <p:cNvPr id="205" name=""/>
            <p:cNvSpPr/>
            <p:nvPr/>
          </p:nvSpPr>
          <p:spPr>
            <a:xfrm>
              <a:off x="6086160" y="43592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1160" y="421956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25200" y="43848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addition_2_plus_2_ty_CLR" descr=""/>
            <p:cNvPicPr/>
            <p:nvPr/>
          </p:nvPicPr>
          <p:blipFill>
            <a:blip r:embed="rId33"/>
            <a:stretch/>
          </p:blipFill>
          <p:spPr>
            <a:xfrm>
              <a:off x="5486400" y="42292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059880" y="445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980400" y="4068720"/>
            <a:ext cx="816840" cy="615240"/>
            <a:chOff x="6980400" y="4068720"/>
            <a:chExt cx="816840" cy="615240"/>
          </a:xfrm>
        </p:grpSpPr>
        <p:pic>
          <p:nvPicPr>
            <p:cNvPr id="211" name="accountant_raising_pencil_sm_CLR" descr=""/>
            <p:cNvPicPr/>
            <p:nvPr/>
          </p:nvPicPr>
          <p:blipFill>
            <a:blip r:embed="rId34"/>
            <a:stretch/>
          </p:blipFill>
          <p:spPr>
            <a:xfrm>
              <a:off x="6980400" y="406872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338960" y="42573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5920" y="43480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96040" y="41144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44640" y="445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375080" y="4078440"/>
            <a:ext cx="951840" cy="605520"/>
            <a:chOff x="4375080" y="4078440"/>
            <a:chExt cx="951840" cy="605520"/>
          </a:xfrm>
        </p:grpSpPr>
        <p:sp>
          <p:nvSpPr>
            <p:cNvPr id="217" name=""/>
            <p:cNvSpPr/>
            <p:nvPr/>
          </p:nvSpPr>
          <p:spPr>
            <a:xfrm>
              <a:off x="4937040" y="411768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77720" y="438300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73040" y="423036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noahs_ark_rocking_ty_CLR" descr=""/>
            <p:cNvPicPr/>
            <p:nvPr/>
          </p:nvPicPr>
          <p:blipFill>
            <a:blip r:embed="rId35"/>
            <a:stretch/>
          </p:blipFill>
          <p:spPr>
            <a:xfrm>
              <a:off x="4375080" y="4078440"/>
              <a:ext cx="6397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774320" y="4452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34200" y="3708360"/>
            <a:ext cx="812160" cy="575640"/>
            <a:chOff x="6334200" y="3708360"/>
            <a:chExt cx="812160" cy="575640"/>
          </a:xfrm>
        </p:grpSpPr>
        <p:pic>
          <p:nvPicPr>
            <p:cNvPr id="223" name="Neon_question_mark_md_wht" descr=""/>
            <p:cNvPicPr/>
            <p:nvPr/>
          </p:nvPicPr>
          <p:blipFill>
            <a:blip r:embed="rId36"/>
            <a:stretch/>
          </p:blipFill>
          <p:spPr>
            <a:xfrm>
              <a:off x="6334200" y="3710160"/>
              <a:ext cx="3459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907320" y="3708360"/>
              <a:ext cx="8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2600" y="38260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99960" y="3930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93760" y="4052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250760" y="4651200"/>
            <a:ext cx="1019520" cy="556560"/>
            <a:chOff x="7250760" y="4651200"/>
            <a:chExt cx="1019520" cy="556560"/>
          </a:xfrm>
        </p:grpSpPr>
        <p:sp>
          <p:nvSpPr>
            <p:cNvPr id="229" name=""/>
            <p:cNvSpPr/>
            <p:nvPr/>
          </p:nvSpPr>
          <p:spPr>
            <a:xfrm>
              <a:off x="7250760" y="46512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57720" y="476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95080" y="48636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girl" descr=""/>
            <p:cNvPicPr/>
            <p:nvPr/>
          </p:nvPicPr>
          <p:blipFill>
            <a:blip r:embed="rId37"/>
            <a:stretch/>
          </p:blipFill>
          <p:spPr>
            <a:xfrm>
              <a:off x="7457760" y="4773240"/>
              <a:ext cx="3416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717680" y="4976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657840" y="5167440"/>
            <a:ext cx="1024200" cy="421560"/>
            <a:chOff x="6657840" y="5167440"/>
            <a:chExt cx="1024200" cy="421560"/>
          </a:xfrm>
        </p:grpSpPr>
        <p:sp>
          <p:nvSpPr>
            <p:cNvPr id="235" name=""/>
            <p:cNvSpPr/>
            <p:nvPr/>
          </p:nvSpPr>
          <p:spPr>
            <a:xfrm>
              <a:off x="6872400" y="51674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888240" y="5292720"/>
              <a:ext cx="191880" cy="226800"/>
              <a:chOff x="6888240" y="5292720"/>
              <a:chExt cx="191880" cy="2268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888240" y="52927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888240" y="52927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9" name=""/>
            <p:cNvGrpSpPr/>
            <p:nvPr/>
          </p:nvGrpSpPr>
          <p:grpSpPr>
            <a:xfrm>
              <a:off x="6657840" y="5281560"/>
              <a:ext cx="199800" cy="247320"/>
              <a:chOff x="6657840" y="5281560"/>
              <a:chExt cx="199800" cy="247320"/>
            </a:xfrm>
          </p:grpSpPr>
          <p:pic>
            <p:nvPicPr>
              <p:cNvPr id="240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657840" y="5281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57840" y="5281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"/>
            <p:cNvSpPr/>
            <p:nvPr/>
          </p:nvSpPr>
          <p:spPr>
            <a:xfrm>
              <a:off x="7315560" y="52466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76880" y="5246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79400" y="5357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276800" y="4638600"/>
            <a:ext cx="1083240" cy="607320"/>
            <a:chOff x="4276800" y="4638600"/>
            <a:chExt cx="1083240" cy="607320"/>
          </a:xfrm>
        </p:grpSpPr>
        <p:sp>
          <p:nvSpPr>
            <p:cNvPr id="246" name=""/>
            <p:cNvSpPr/>
            <p:nvPr/>
          </p:nvSpPr>
          <p:spPr>
            <a:xfrm>
              <a:off x="4284720" y="4638600"/>
              <a:ext cx="1023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67560" y="4921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97240" y="495612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addition_2_plus_2_ty_CLR" descr=""/>
            <p:cNvPicPr/>
            <p:nvPr/>
          </p:nvPicPr>
          <p:blipFill>
            <a:blip r:embed="rId42"/>
            <a:stretch/>
          </p:blipFill>
          <p:spPr>
            <a:xfrm>
              <a:off x="4276800" y="47721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93400" y="5014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310440" y="4621320"/>
            <a:ext cx="749160" cy="615240"/>
            <a:chOff x="6310440" y="4621320"/>
            <a:chExt cx="749160" cy="615240"/>
          </a:xfrm>
        </p:grpSpPr>
        <p:pic>
          <p:nvPicPr>
            <p:cNvPr id="252" name="accountant_raising_pencil_sm_CLR" descr=""/>
            <p:cNvPicPr/>
            <p:nvPr/>
          </p:nvPicPr>
          <p:blipFill>
            <a:blip r:embed="rId43"/>
            <a:stretch/>
          </p:blipFill>
          <p:spPr>
            <a:xfrm>
              <a:off x="6310440" y="462132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669000" y="480996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240" y="490068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6080" y="46670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2520" y="500544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540400" y="5630760"/>
            <a:ext cx="1500120" cy="856800"/>
            <a:chOff x="5540400" y="5630760"/>
            <a:chExt cx="1500120" cy="856800"/>
          </a:xfrm>
        </p:grpSpPr>
        <p:grpSp>
          <p:nvGrpSpPr>
            <p:cNvPr id="258" name=""/>
            <p:cNvGrpSpPr/>
            <p:nvPr/>
          </p:nvGrpSpPr>
          <p:grpSpPr>
            <a:xfrm>
              <a:off x="5540400" y="5706720"/>
              <a:ext cx="1325520" cy="780840"/>
              <a:chOff x="5540400" y="5706720"/>
              <a:chExt cx="1325520" cy="7808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540400" y="57067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540400" y="57067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6497280" y="5630760"/>
              <a:ext cx="54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ת ספ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467320" y="4672080"/>
            <a:ext cx="955080" cy="421560"/>
            <a:chOff x="5467320" y="4672080"/>
            <a:chExt cx="955080" cy="421560"/>
          </a:xfrm>
        </p:grpSpPr>
        <p:sp>
          <p:nvSpPr>
            <p:cNvPr id="263" name=""/>
            <p:cNvSpPr/>
            <p:nvPr/>
          </p:nvSpPr>
          <p:spPr>
            <a:xfrm>
              <a:off x="5693040" y="467208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697360" y="4816800"/>
              <a:ext cx="192240" cy="226440"/>
              <a:chOff x="5697360" y="4816800"/>
              <a:chExt cx="192240" cy="226440"/>
            </a:xfrm>
          </p:grpSpPr>
          <p:pic>
            <p:nvPicPr>
              <p:cNvPr id="26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697360" y="48168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697360" y="48168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7" name=""/>
            <p:cNvGrpSpPr/>
            <p:nvPr/>
          </p:nvGrpSpPr>
          <p:grpSpPr>
            <a:xfrm>
              <a:off x="5467320" y="4805640"/>
              <a:ext cx="199800" cy="247320"/>
              <a:chOff x="5467320" y="4805640"/>
              <a:chExt cx="199800" cy="247320"/>
            </a:xfrm>
          </p:grpSpPr>
          <p:pic>
            <p:nvPicPr>
              <p:cNvPr id="268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467320" y="4805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467320" y="4805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0" name=""/>
            <p:cNvSpPr/>
            <p:nvPr/>
          </p:nvSpPr>
          <p:spPr>
            <a:xfrm>
              <a:off x="6204240" y="47516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55120" y="47516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9800" y="4862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504920" y="1541520"/>
            <a:ext cx="656640" cy="685080"/>
            <a:chOff x="7504920" y="1541520"/>
            <a:chExt cx="656640" cy="685080"/>
          </a:xfrm>
        </p:grpSpPr>
        <p:sp>
          <p:nvSpPr>
            <p:cNvPr id="274" name=""/>
            <p:cNvSpPr/>
            <p:nvPr/>
          </p:nvSpPr>
          <p:spPr>
            <a:xfrm>
              <a:off x="7504920" y="1541520"/>
              <a:ext cx="649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 שבל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46920" y="192888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37680" y="18986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lb_mu_v" descr=""/>
            <p:cNvPicPr/>
            <p:nvPr/>
          </p:nvPicPr>
          <p:blipFill>
            <a:blip r:embed="rId50"/>
            <a:stretch/>
          </p:blipFill>
          <p:spPr>
            <a:xfrm>
              <a:off x="7508880" y="1711440"/>
              <a:ext cx="63360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14000" y="199548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189840" y="2714760"/>
            <a:ext cx="884520" cy="559440"/>
            <a:chOff x="6189840" y="2714760"/>
            <a:chExt cx="884520" cy="559440"/>
          </a:xfrm>
        </p:grpSpPr>
        <p:sp>
          <p:nvSpPr>
            <p:cNvPr id="280" name=""/>
            <p:cNvSpPr/>
            <p:nvPr/>
          </p:nvSpPr>
          <p:spPr>
            <a:xfrm>
              <a:off x="6829560" y="29304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1560" y="283212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addition_2_plus_2_ty_CLR" descr=""/>
            <p:cNvPicPr/>
            <p:nvPr/>
          </p:nvPicPr>
          <p:blipFill>
            <a:blip r:embed="rId51"/>
            <a:stretch/>
          </p:blipFill>
          <p:spPr>
            <a:xfrm>
              <a:off x="6257880" y="279072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307920" y="3043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89840" y="27147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370320" y="579600"/>
            <a:ext cx="975600" cy="593640"/>
            <a:chOff x="3370320" y="579600"/>
            <a:chExt cx="975600" cy="593640"/>
          </a:xfrm>
        </p:grpSpPr>
        <p:sp>
          <p:nvSpPr>
            <p:cNvPr id="286" name=""/>
            <p:cNvSpPr/>
            <p:nvPr/>
          </p:nvSpPr>
          <p:spPr>
            <a:xfrm>
              <a:off x="3883320" y="8352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08640" y="6098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5600" y="7556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girl_holding_123_ty_CLR" descr=""/>
            <p:cNvPicPr/>
            <p:nvPr/>
          </p:nvPicPr>
          <p:blipFill>
            <a:blip r:embed="rId52"/>
            <a:stretch/>
          </p:blipFill>
          <p:spPr>
            <a:xfrm>
              <a:off x="3370320" y="57960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793320" y="928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095560" y="628560"/>
            <a:ext cx="1209240" cy="455040"/>
            <a:chOff x="2095560" y="628560"/>
            <a:chExt cx="1209240" cy="455040"/>
          </a:xfrm>
        </p:grpSpPr>
        <p:sp>
          <p:nvSpPr>
            <p:cNvPr id="292" name=""/>
            <p:cNvSpPr/>
            <p:nvPr/>
          </p:nvSpPr>
          <p:spPr>
            <a:xfrm>
              <a:off x="2674800" y="758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60680" y="6285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3200" y="784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addition_2_plus_2_ty_CLR" descr=""/>
            <p:cNvPicPr/>
            <p:nvPr/>
          </p:nvPicPr>
          <p:blipFill>
            <a:blip r:embed="rId53"/>
            <a:stretch/>
          </p:blipFill>
          <p:spPr>
            <a:xfrm>
              <a:off x="2095560" y="647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669760" y="85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93720" y="809640"/>
            <a:ext cx="909720" cy="607320"/>
            <a:chOff x="693720" y="809640"/>
            <a:chExt cx="909720" cy="607320"/>
          </a:xfrm>
        </p:grpSpPr>
        <p:pic>
          <p:nvPicPr>
            <p:cNvPr id="298" name="knight_shield_and_sword_lg_wht" descr=""/>
            <p:cNvPicPr/>
            <p:nvPr/>
          </p:nvPicPr>
          <p:blipFill>
            <a:blip r:embed="rId54"/>
            <a:stretch/>
          </p:blipFill>
          <p:spPr>
            <a:xfrm>
              <a:off x="693720" y="809640"/>
              <a:ext cx="43164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009800" y="10731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720" y="828720"/>
              <a:ext cx="7477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– ימי הבינ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3480" y="109872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31040" y="11858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595520" y="1001880"/>
            <a:ext cx="816840" cy="615240"/>
            <a:chOff x="1595520" y="1001880"/>
            <a:chExt cx="816840" cy="615240"/>
          </a:xfrm>
        </p:grpSpPr>
        <p:pic>
          <p:nvPicPr>
            <p:cNvPr id="304" name="accountant_raising_pencil_sm_CLR" descr=""/>
            <p:cNvPicPr/>
            <p:nvPr/>
          </p:nvPicPr>
          <p:blipFill>
            <a:blip r:embed="rId55"/>
            <a:stretch/>
          </p:blipFill>
          <p:spPr>
            <a:xfrm>
              <a:off x="1595520" y="100188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954080" y="119052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20320" y="128124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1160" y="104760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59760" y="138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067200" y="1154160"/>
            <a:ext cx="695520" cy="462960"/>
            <a:chOff x="3067200" y="1154160"/>
            <a:chExt cx="695520" cy="462960"/>
          </a:xfrm>
        </p:grpSpPr>
        <p:sp>
          <p:nvSpPr>
            <p:cNvPr id="310" name=""/>
            <p:cNvSpPr/>
            <p:nvPr/>
          </p:nvSpPr>
          <p:spPr>
            <a:xfrm>
              <a:off x="3436920" y="11541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56"/>
            <a:stretch/>
          </p:blipFill>
          <p:spPr>
            <a:xfrm>
              <a:off x="3067200" y="12589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57"/>
            <a:stretch/>
          </p:blipFill>
          <p:spPr>
            <a:xfrm>
              <a:off x="3095640" y="11923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58440" y="134316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84240" y="1308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98160" y="138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265560" y="2760840"/>
            <a:ext cx="975600" cy="593640"/>
            <a:chOff x="3265560" y="2760840"/>
            <a:chExt cx="975600" cy="593640"/>
          </a:xfrm>
        </p:grpSpPr>
        <p:sp>
          <p:nvSpPr>
            <p:cNvPr id="317" name=""/>
            <p:cNvSpPr/>
            <p:nvPr/>
          </p:nvSpPr>
          <p:spPr>
            <a:xfrm>
              <a:off x="3778560" y="30164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03880" y="27910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30840" y="293688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girl_holding_123_ty_CLR" descr=""/>
            <p:cNvPicPr/>
            <p:nvPr/>
          </p:nvPicPr>
          <p:blipFill>
            <a:blip r:embed="rId58"/>
            <a:stretch/>
          </p:blipFill>
          <p:spPr>
            <a:xfrm>
              <a:off x="3265560" y="276084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688560" y="3110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228840" y="2071800"/>
            <a:ext cx="850320" cy="497880"/>
            <a:chOff x="3228840" y="2071800"/>
            <a:chExt cx="850320" cy="497880"/>
          </a:xfrm>
        </p:grpSpPr>
        <p:sp>
          <p:nvSpPr>
            <p:cNvPr id="323" name=""/>
            <p:cNvSpPr/>
            <p:nvPr/>
          </p:nvSpPr>
          <p:spPr>
            <a:xfrm>
              <a:off x="3252960" y="20718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459240" y="2216160"/>
              <a:ext cx="191880" cy="226800"/>
              <a:chOff x="3459240" y="2216160"/>
              <a:chExt cx="191880" cy="2268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3459240" y="2216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3459240" y="2216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7" name=""/>
            <p:cNvGrpSpPr/>
            <p:nvPr/>
          </p:nvGrpSpPr>
          <p:grpSpPr>
            <a:xfrm>
              <a:off x="3228840" y="2205000"/>
              <a:ext cx="199800" cy="247320"/>
              <a:chOff x="3228840" y="2205000"/>
              <a:chExt cx="199800" cy="247320"/>
            </a:xfrm>
          </p:grpSpPr>
          <p:pic>
            <p:nvPicPr>
              <p:cNvPr id="328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3228840" y="2205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3228840" y="2205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>
              <a:off x="3648240" y="21319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62000" y="2246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26560" y="2338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055520" y="1571760"/>
            <a:ext cx="1069920" cy="521640"/>
            <a:chOff x="1055520" y="1571760"/>
            <a:chExt cx="1069920" cy="521640"/>
          </a:xfrm>
        </p:grpSpPr>
        <p:sp>
          <p:nvSpPr>
            <p:cNvPr id="334" name=""/>
            <p:cNvSpPr/>
            <p:nvPr/>
          </p:nvSpPr>
          <p:spPr>
            <a:xfrm>
              <a:off x="1720440" y="1873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0640" y="15717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35480" y="17463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addition_2_plus_2_ty_CLR" descr=""/>
            <p:cNvPicPr/>
            <p:nvPr/>
          </p:nvPicPr>
          <p:blipFill>
            <a:blip r:embed="rId63"/>
            <a:stretch/>
          </p:blipFill>
          <p:spPr>
            <a:xfrm>
              <a:off x="1055520" y="15908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095840" y="1862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22680" y="2003400"/>
            <a:ext cx="1008360" cy="547200"/>
            <a:chOff x="1822680" y="2003400"/>
            <a:chExt cx="1008360" cy="547200"/>
          </a:xfrm>
        </p:grpSpPr>
        <p:pic>
          <p:nvPicPr>
            <p:cNvPr id="340" name="bkcl1a" descr=""/>
            <p:cNvPicPr/>
            <p:nvPr/>
          </p:nvPicPr>
          <p:blipFill>
            <a:blip r:embed="rId64"/>
            <a:stretch/>
          </p:blipFill>
          <p:spPr>
            <a:xfrm>
              <a:off x="1942920" y="2140200"/>
              <a:ext cx="41868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822680" y="200340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2880" y="225900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72200" y="222120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78440" y="23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52840" y="1598760"/>
            <a:ext cx="702360" cy="451800"/>
            <a:chOff x="3552840" y="1598760"/>
            <a:chExt cx="702360" cy="451800"/>
          </a:xfrm>
        </p:grpSpPr>
        <p:sp>
          <p:nvSpPr>
            <p:cNvPr id="346" name=""/>
            <p:cNvSpPr/>
            <p:nvPr/>
          </p:nvSpPr>
          <p:spPr>
            <a:xfrm>
              <a:off x="3845880" y="1598760"/>
              <a:ext cx="40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78360" y="18511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552840" y="1646280"/>
              <a:ext cx="401400" cy="404280"/>
              <a:chOff x="3552840" y="1646280"/>
              <a:chExt cx="401400" cy="404280"/>
            </a:xfrm>
          </p:grpSpPr>
          <p:pic>
            <p:nvPicPr>
              <p:cNvPr id="349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3552840" y="164628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3552840" y="164628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1" name=""/>
            <p:cNvSpPr/>
            <p:nvPr/>
          </p:nvSpPr>
          <p:spPr>
            <a:xfrm>
              <a:off x="3934800" y="17082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421720" y="1593720"/>
            <a:ext cx="1000440" cy="566280"/>
            <a:chOff x="2421720" y="1593720"/>
            <a:chExt cx="1000440" cy="566280"/>
          </a:xfrm>
        </p:grpSpPr>
        <p:sp>
          <p:nvSpPr>
            <p:cNvPr id="353" name=""/>
            <p:cNvSpPr/>
            <p:nvPr/>
          </p:nvSpPr>
          <p:spPr>
            <a:xfrm>
              <a:off x="2421720" y="15937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28680" y="16923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66040" y="18064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girl" descr=""/>
            <p:cNvPicPr/>
            <p:nvPr/>
          </p:nvPicPr>
          <p:blipFill>
            <a:blip r:embed="rId67"/>
            <a:stretch/>
          </p:blipFill>
          <p:spPr>
            <a:xfrm>
              <a:off x="2619360" y="1716120"/>
              <a:ext cx="3412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869560" y="1928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166840" y="2744640"/>
            <a:ext cx="930600" cy="546120"/>
            <a:chOff x="2166840" y="2744640"/>
            <a:chExt cx="930600" cy="546120"/>
          </a:xfrm>
        </p:grpSpPr>
        <p:pic>
          <p:nvPicPr>
            <p:cNvPr id="359" name="accountant_raising_pencil_sm_CLR" descr=""/>
            <p:cNvPicPr/>
            <p:nvPr/>
          </p:nvPicPr>
          <p:blipFill>
            <a:blip r:embed="rId68"/>
            <a:stretch/>
          </p:blipFill>
          <p:spPr>
            <a:xfrm>
              <a:off x="2166840" y="2744640"/>
              <a:ext cx="4748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782800" y="29430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5920" y="2900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2840" y="279036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8040" y="3004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450800" y="3193920"/>
            <a:ext cx="800280" cy="480600"/>
            <a:chOff x="1450800" y="3193920"/>
            <a:chExt cx="800280" cy="480600"/>
          </a:xfrm>
        </p:grpSpPr>
        <p:pic>
          <p:nvPicPr>
            <p:cNvPr id="365" name="pcandlestick1" descr=""/>
            <p:cNvPicPr/>
            <p:nvPr/>
          </p:nvPicPr>
          <p:blipFill>
            <a:blip r:embed="rId69"/>
            <a:stretch/>
          </p:blipFill>
          <p:spPr>
            <a:xfrm>
              <a:off x="1450800" y="3193920"/>
              <a:ext cx="2746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965240" y="341640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33760" y="338292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73200" y="3206880"/>
              <a:ext cx="6778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וחוג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73720" y="3537000"/>
              <a:ext cx="37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19240" y="3151080"/>
            <a:ext cx="666000" cy="509400"/>
            <a:chOff x="219240" y="3151080"/>
            <a:chExt cx="666000" cy="509400"/>
          </a:xfrm>
        </p:grpSpPr>
        <p:sp>
          <p:nvSpPr>
            <p:cNvPr id="371" name=""/>
            <p:cNvSpPr/>
            <p:nvPr/>
          </p:nvSpPr>
          <p:spPr>
            <a:xfrm>
              <a:off x="318960" y="31510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3000" y="341316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19240" y="3255840"/>
              <a:ext cx="401400" cy="404640"/>
              <a:chOff x="219240" y="3255840"/>
              <a:chExt cx="401400" cy="404640"/>
            </a:xfrm>
          </p:grpSpPr>
          <p:pic>
            <p:nvPicPr>
              <p:cNvPr id="374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219240" y="32558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219240" y="32558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6" name=""/>
            <p:cNvSpPr/>
            <p:nvPr/>
          </p:nvSpPr>
          <p:spPr>
            <a:xfrm>
              <a:off x="582480" y="32605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478960" y="3191040"/>
            <a:ext cx="1092600" cy="521640"/>
            <a:chOff x="2478960" y="3191040"/>
            <a:chExt cx="1092600" cy="521640"/>
          </a:xfrm>
        </p:grpSpPr>
        <p:sp>
          <p:nvSpPr>
            <p:cNvPr id="378" name=""/>
            <p:cNvSpPr/>
            <p:nvPr/>
          </p:nvSpPr>
          <p:spPr>
            <a:xfrm>
              <a:off x="2939400" y="35118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3760" y="3276720"/>
              <a:ext cx="604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89960" y="35370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addition_2_plus_2_ty_CLR" descr=""/>
            <p:cNvPicPr/>
            <p:nvPr/>
          </p:nvPicPr>
          <p:blipFill>
            <a:blip r:embed="rId72"/>
            <a:stretch/>
          </p:blipFill>
          <p:spPr>
            <a:xfrm>
              <a:off x="2552760" y="31910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47896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398760" y="3724200"/>
            <a:ext cx="817560" cy="607320"/>
            <a:chOff x="3398760" y="3724200"/>
            <a:chExt cx="817560" cy="607320"/>
          </a:xfrm>
        </p:grpSpPr>
        <p:sp>
          <p:nvSpPr>
            <p:cNvPr id="384" name=""/>
            <p:cNvSpPr/>
            <p:nvPr/>
          </p:nvSpPr>
          <p:spPr>
            <a:xfrm>
              <a:off x="4019400" y="39877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98760" y="372420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09240" y="3889440"/>
              <a:ext cx="214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boy" descr=""/>
            <p:cNvPicPr/>
            <p:nvPr/>
          </p:nvPicPr>
          <p:blipFill>
            <a:blip r:embed="rId73"/>
            <a:stretch/>
          </p:blipFill>
          <p:spPr>
            <a:xfrm>
              <a:off x="3591000" y="387180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881520" y="41004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763640" y="3660840"/>
            <a:ext cx="1068840" cy="632520"/>
            <a:chOff x="1763640" y="3660840"/>
            <a:chExt cx="1068840" cy="632520"/>
          </a:xfrm>
        </p:grpSpPr>
        <p:sp>
          <p:nvSpPr>
            <p:cNvPr id="390" name=""/>
            <p:cNvSpPr/>
            <p:nvPr/>
          </p:nvSpPr>
          <p:spPr>
            <a:xfrm>
              <a:off x="2563560" y="399096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05440" y="395748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35320" y="371448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colored_pencils_writing_sm_CLR" descr=""/>
            <p:cNvPicPr/>
            <p:nvPr/>
          </p:nvPicPr>
          <p:blipFill>
            <a:blip r:embed="rId74"/>
            <a:stretch/>
          </p:blipFill>
          <p:spPr>
            <a:xfrm>
              <a:off x="1763640" y="3660840"/>
              <a:ext cx="65412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241000" y="4062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271600" y="4660920"/>
            <a:ext cx="664560" cy="604080"/>
            <a:chOff x="2271600" y="4660920"/>
            <a:chExt cx="664560" cy="604080"/>
          </a:xfrm>
        </p:grpSpPr>
        <p:sp>
          <p:nvSpPr>
            <p:cNvPr id="396" name=""/>
            <p:cNvSpPr/>
            <p:nvPr/>
          </p:nvSpPr>
          <p:spPr>
            <a:xfrm>
              <a:off x="2412000" y="47368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83560" y="5033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58080" y="48560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44560" y="49449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eiffel_tower_flag_waving_sm_CLR" descr=""/>
            <p:cNvPicPr/>
            <p:nvPr/>
          </p:nvPicPr>
          <p:blipFill>
            <a:blip r:embed="rId75"/>
            <a:stretch/>
          </p:blipFill>
          <p:spPr>
            <a:xfrm>
              <a:off x="2271600" y="4660920"/>
              <a:ext cx="3700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2552760" y="4214880"/>
            <a:ext cx="1052640" cy="421560"/>
            <a:chOff x="2552760" y="4214880"/>
            <a:chExt cx="1052640" cy="421560"/>
          </a:xfrm>
        </p:grpSpPr>
        <p:sp>
          <p:nvSpPr>
            <p:cNvPr id="402" name=""/>
            <p:cNvSpPr/>
            <p:nvPr/>
          </p:nvSpPr>
          <p:spPr>
            <a:xfrm>
              <a:off x="2605680" y="421488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2773440" y="4349520"/>
              <a:ext cx="191880" cy="226800"/>
              <a:chOff x="2773440" y="4349520"/>
              <a:chExt cx="191880" cy="226800"/>
            </a:xfrm>
          </p:grpSpPr>
          <p:pic>
            <p:nvPicPr>
              <p:cNvPr id="404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2773440" y="4349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2773440" y="43495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6" name=""/>
            <p:cNvGrpSpPr/>
            <p:nvPr/>
          </p:nvGrpSpPr>
          <p:grpSpPr>
            <a:xfrm>
              <a:off x="2552760" y="4338720"/>
              <a:ext cx="199800" cy="247320"/>
              <a:chOff x="2552760" y="4338720"/>
              <a:chExt cx="199800" cy="247320"/>
            </a:xfrm>
          </p:grpSpPr>
          <p:pic>
            <p:nvPicPr>
              <p:cNvPr id="407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2552760" y="4338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2552760" y="43387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9" name=""/>
            <p:cNvSpPr/>
            <p:nvPr/>
          </p:nvSpPr>
          <p:spPr>
            <a:xfrm>
              <a:off x="3238920" y="4294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46960" y="429408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ט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64600" y="4405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3160" y="4667400"/>
            <a:ext cx="933840" cy="601560"/>
            <a:chOff x="173160" y="4667400"/>
            <a:chExt cx="933840" cy="601560"/>
          </a:xfrm>
        </p:grpSpPr>
        <p:sp>
          <p:nvSpPr>
            <p:cNvPr id="413" name=""/>
            <p:cNvSpPr/>
            <p:nvPr/>
          </p:nvSpPr>
          <p:spPr>
            <a:xfrm>
              <a:off x="741600" y="481032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360" y="4919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160" y="4667400"/>
              <a:ext cx="820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 ו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heart_dancing_sm_CLR" descr=""/>
            <p:cNvPicPr/>
            <p:nvPr/>
          </p:nvPicPr>
          <p:blipFill>
            <a:blip r:embed="rId80"/>
            <a:stretch/>
          </p:blipFill>
          <p:spPr>
            <a:xfrm>
              <a:off x="212400" y="4694400"/>
              <a:ext cx="6379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54400" y="5024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14880" y="5205240"/>
            <a:ext cx="1191960" cy="412200"/>
            <a:chOff x="614880" y="5205240"/>
            <a:chExt cx="1191960" cy="412200"/>
          </a:xfrm>
        </p:grpSpPr>
        <p:sp>
          <p:nvSpPr>
            <p:cNvPr id="419" name=""/>
            <p:cNvSpPr/>
            <p:nvPr/>
          </p:nvSpPr>
          <p:spPr>
            <a:xfrm>
              <a:off x="614880" y="520524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1011240" y="5330520"/>
              <a:ext cx="192240" cy="226800"/>
              <a:chOff x="1011240" y="5330520"/>
              <a:chExt cx="192240" cy="226800"/>
            </a:xfrm>
          </p:grpSpPr>
          <p:pic>
            <p:nvPicPr>
              <p:cNvPr id="421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101124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1011240" y="53305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781200" y="5319360"/>
              <a:ext cx="199800" cy="247320"/>
              <a:chOff x="781200" y="5319360"/>
              <a:chExt cx="199800" cy="247320"/>
            </a:xfrm>
          </p:grpSpPr>
          <p:pic>
            <p:nvPicPr>
              <p:cNvPr id="42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781200" y="531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781200" y="531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"/>
            <p:cNvSpPr/>
            <p:nvPr/>
          </p:nvSpPr>
          <p:spPr>
            <a:xfrm>
              <a:off x="1200600" y="5284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0800" y="53989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3616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295280" y="4722840"/>
            <a:ext cx="868320" cy="534600"/>
            <a:chOff x="1295280" y="4722840"/>
            <a:chExt cx="868320" cy="534600"/>
          </a:xfrm>
        </p:grpSpPr>
        <p:sp>
          <p:nvSpPr>
            <p:cNvPr id="430" name=""/>
            <p:cNvSpPr/>
            <p:nvPr/>
          </p:nvSpPr>
          <p:spPr>
            <a:xfrm>
              <a:off x="1573200" y="4751280"/>
              <a:ext cx="590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–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'וגינ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משח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0760" y="5089680"/>
              <a:ext cx="26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295280" y="4722840"/>
              <a:ext cx="401400" cy="404280"/>
              <a:chOff x="1295280" y="4722840"/>
              <a:chExt cx="401400" cy="404280"/>
            </a:xfrm>
          </p:grpSpPr>
          <p:pic>
            <p:nvPicPr>
              <p:cNvPr id="433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1295280" y="47228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1295280" y="47228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5" name=""/>
            <p:cNvSpPr/>
            <p:nvPr/>
          </p:nvSpPr>
          <p:spPr>
            <a:xfrm>
              <a:off x="1867680" y="50896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03520" y="5562720"/>
            <a:ext cx="804240" cy="597600"/>
            <a:chOff x="3503520" y="5562720"/>
            <a:chExt cx="804240" cy="597600"/>
          </a:xfrm>
        </p:grpSpPr>
        <p:sp>
          <p:nvSpPr>
            <p:cNvPr id="437" name=""/>
            <p:cNvSpPr/>
            <p:nvPr/>
          </p:nvSpPr>
          <p:spPr>
            <a:xfrm>
              <a:off x="4006800" y="58258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03520" y="556272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קרוא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11920" y="572760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boy" descr=""/>
            <p:cNvPicPr/>
            <p:nvPr/>
          </p:nvPicPr>
          <p:blipFill>
            <a:blip r:embed="rId87"/>
            <a:stretch/>
          </p:blipFill>
          <p:spPr>
            <a:xfrm>
              <a:off x="3514680" y="570996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3755160" y="5929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069560" y="5592600"/>
            <a:ext cx="972000" cy="546120"/>
            <a:chOff x="1069560" y="5592600"/>
            <a:chExt cx="972000" cy="546120"/>
          </a:xfrm>
        </p:grpSpPr>
        <p:pic>
          <p:nvPicPr>
            <p:cNvPr id="443" name="accountant_raising_pencil_sm_CLR" descr=""/>
            <p:cNvPicPr/>
            <p:nvPr/>
          </p:nvPicPr>
          <p:blipFill>
            <a:blip r:embed="rId88"/>
            <a:stretch/>
          </p:blipFill>
          <p:spPr>
            <a:xfrm>
              <a:off x="1566720" y="5592600"/>
              <a:ext cx="4748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306440" y="577224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9560" y="5729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63520" y="562932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83680" y="5843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947960" y="5994360"/>
            <a:ext cx="761400" cy="589680"/>
            <a:chOff x="1947960" y="5994360"/>
            <a:chExt cx="761400" cy="589680"/>
          </a:xfrm>
        </p:grpSpPr>
        <p:sp>
          <p:nvSpPr>
            <p:cNvPr id="449" name=""/>
            <p:cNvSpPr/>
            <p:nvPr/>
          </p:nvSpPr>
          <p:spPr>
            <a:xfrm>
              <a:off x="1955160" y="599436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5920" y="6219720"/>
              <a:ext cx="19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9720" y="60656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2" name="yoga" descr=""/>
            <p:cNvPicPr/>
            <p:nvPr/>
          </p:nvPicPr>
          <p:blipFill>
            <a:blip r:embed="rId89"/>
            <a:stretch/>
          </p:blipFill>
          <p:spPr>
            <a:xfrm>
              <a:off x="1947960" y="6110280"/>
              <a:ext cx="46152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222280" y="63529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048120" y="6095880"/>
            <a:ext cx="1158120" cy="511920"/>
            <a:chOff x="3048120" y="6095880"/>
            <a:chExt cx="1158120" cy="511920"/>
          </a:xfrm>
        </p:grpSpPr>
        <p:sp>
          <p:nvSpPr>
            <p:cNvPr id="455" name=""/>
            <p:cNvSpPr/>
            <p:nvPr/>
          </p:nvSpPr>
          <p:spPr>
            <a:xfrm>
              <a:off x="3996720" y="639756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51440" y="6095880"/>
              <a:ext cx="871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6240" y="62607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addition_2_plus_2_ty_CLR" descr=""/>
            <p:cNvPicPr/>
            <p:nvPr/>
          </p:nvPicPr>
          <p:blipFill>
            <a:blip r:embed="rId90"/>
            <a:stretch/>
          </p:blipFill>
          <p:spPr>
            <a:xfrm>
              <a:off x="3048120" y="620064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536280" y="6376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81080" y="627120"/>
            <a:ext cx="519120" cy="791280"/>
            <a:chOff x="181080" y="627120"/>
            <a:chExt cx="519120" cy="791280"/>
          </a:xfrm>
        </p:grpSpPr>
        <p:sp>
          <p:nvSpPr>
            <p:cNvPr id="461" name=""/>
            <p:cNvSpPr/>
            <p:nvPr/>
          </p:nvSpPr>
          <p:spPr>
            <a:xfrm>
              <a:off x="181080" y="627120"/>
              <a:ext cx="51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238320" y="769680"/>
              <a:ext cx="401400" cy="404280"/>
              <a:chOff x="238320" y="769680"/>
              <a:chExt cx="401400" cy="404280"/>
            </a:xfrm>
          </p:grpSpPr>
          <p:pic>
            <p:nvPicPr>
              <p:cNvPr id="463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238320" y="76968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238320" y="76968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5" name=""/>
            <p:cNvSpPr/>
            <p:nvPr/>
          </p:nvSpPr>
          <p:spPr>
            <a:xfrm>
              <a:off x="315360" y="11271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8040" y="1250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77520" y="2747880"/>
            <a:ext cx="1020600" cy="526320"/>
            <a:chOff x="677520" y="2747880"/>
            <a:chExt cx="1020600" cy="526320"/>
          </a:xfrm>
        </p:grpSpPr>
        <p:sp>
          <p:nvSpPr>
            <p:cNvPr id="468" name=""/>
            <p:cNvSpPr/>
            <p:nvPr/>
          </p:nvSpPr>
          <p:spPr>
            <a:xfrm>
              <a:off x="677520" y="2747880"/>
              <a:ext cx="986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תג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020600" y="2892240"/>
              <a:ext cx="192240" cy="226440"/>
              <a:chOff x="1020600" y="2892240"/>
              <a:chExt cx="192240" cy="226440"/>
            </a:xfrm>
          </p:grpSpPr>
          <p:pic>
            <p:nvPicPr>
              <p:cNvPr id="470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1020600" y="28922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1020600" y="28922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2" name=""/>
            <p:cNvGrpSpPr/>
            <p:nvPr/>
          </p:nvGrpSpPr>
          <p:grpSpPr>
            <a:xfrm>
              <a:off x="790560" y="2881080"/>
              <a:ext cx="199800" cy="247320"/>
              <a:chOff x="790560" y="2881080"/>
              <a:chExt cx="199800" cy="247320"/>
            </a:xfrm>
          </p:grpSpPr>
          <p:pic>
            <p:nvPicPr>
              <p:cNvPr id="473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790560" y="2881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790560" y="28810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5" name=""/>
            <p:cNvSpPr/>
            <p:nvPr/>
          </p:nvSpPr>
          <p:spPr>
            <a:xfrm>
              <a:off x="1267200" y="2836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01840" y="29509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45520" y="3043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87880" y="4594320"/>
            <a:ext cx="1039680" cy="689760"/>
            <a:chOff x="3287880" y="4594320"/>
            <a:chExt cx="1039680" cy="689760"/>
          </a:xfrm>
        </p:grpSpPr>
        <p:sp>
          <p:nvSpPr>
            <p:cNvPr id="479" name=""/>
            <p:cNvSpPr/>
            <p:nvPr/>
          </p:nvSpPr>
          <p:spPr>
            <a:xfrm>
              <a:off x="3925800" y="489600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43800" y="496728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59200" y="464832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colored_pencils_writing_sm_CLR" descr=""/>
            <p:cNvPicPr/>
            <p:nvPr/>
          </p:nvPicPr>
          <p:blipFill>
            <a:blip r:embed="rId97"/>
            <a:stretch/>
          </p:blipFill>
          <p:spPr>
            <a:xfrm>
              <a:off x="3287880" y="4594320"/>
              <a:ext cx="65412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3764880" y="5052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25280" y="5600880"/>
            <a:ext cx="934560" cy="601560"/>
            <a:chOff x="125280" y="5600880"/>
            <a:chExt cx="934560" cy="601560"/>
          </a:xfrm>
        </p:grpSpPr>
        <p:sp>
          <p:nvSpPr>
            <p:cNvPr id="485" name=""/>
            <p:cNvSpPr/>
            <p:nvPr/>
          </p:nvSpPr>
          <p:spPr>
            <a:xfrm>
              <a:off x="694080" y="57438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5760" y="58532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5280" y="5600880"/>
              <a:ext cx="82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 ו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8" name="heart_dancing_sm_CLR" descr=""/>
            <p:cNvPicPr/>
            <p:nvPr/>
          </p:nvPicPr>
          <p:blipFill>
            <a:blip r:embed="rId98"/>
            <a:stretch/>
          </p:blipFill>
          <p:spPr>
            <a:xfrm>
              <a:off x="164880" y="5627880"/>
              <a:ext cx="63828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507240" y="5958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76440" y="6037200"/>
            <a:ext cx="915840" cy="524880"/>
            <a:chOff x="676440" y="6037200"/>
            <a:chExt cx="915840" cy="524880"/>
          </a:xfrm>
        </p:grpSpPr>
        <p:sp>
          <p:nvSpPr>
            <p:cNvPr id="491" name=""/>
            <p:cNvSpPr/>
            <p:nvPr/>
          </p:nvSpPr>
          <p:spPr>
            <a:xfrm>
              <a:off x="1001880" y="6037200"/>
              <a:ext cx="590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–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ג'וגינ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משחק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09440" y="6394320"/>
              <a:ext cx="26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676440" y="6113520"/>
              <a:ext cx="401040" cy="404280"/>
              <a:chOff x="676440" y="6113520"/>
              <a:chExt cx="401040" cy="404280"/>
            </a:xfrm>
          </p:grpSpPr>
          <p:pic>
            <p:nvPicPr>
              <p:cNvPr id="494" name="" descr=""/>
              <p:cNvPicPr/>
              <p:nvPr/>
            </p:nvPicPr>
            <p:blipFill>
              <a:blip r:embed="rId99"/>
              <a:stretch/>
            </p:blipFill>
            <p:spPr>
              <a:xfrm>
                <a:off x="676440" y="61135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" descr=""/>
              <p:cNvPicPr/>
              <p:nvPr/>
            </p:nvPicPr>
            <p:blipFill>
              <a:blip r:embed="rId100"/>
              <a:stretch/>
            </p:blipFill>
            <p:spPr>
              <a:xfrm>
                <a:off x="676440" y="611352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6" name=""/>
            <p:cNvSpPr/>
            <p:nvPr/>
          </p:nvSpPr>
          <p:spPr>
            <a:xfrm>
              <a:off x="1296360" y="63943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023240" y="2109960"/>
            <a:ext cx="1141560" cy="469080"/>
            <a:chOff x="7023240" y="2109960"/>
            <a:chExt cx="1141560" cy="469080"/>
          </a:xfrm>
        </p:grpSpPr>
        <p:pic>
          <p:nvPicPr>
            <p:cNvPr id="498" name="mark19" descr=""/>
            <p:cNvPicPr/>
            <p:nvPr/>
          </p:nvPicPr>
          <p:blipFill>
            <a:blip r:embed="rId101"/>
            <a:stretch/>
          </p:blipFill>
          <p:spPr>
            <a:xfrm>
              <a:off x="7023240" y="2109960"/>
              <a:ext cx="2966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293960" y="217476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קראת 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10880" y="22971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01040" y="22590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10440" y="23479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54160" y="1582560"/>
            <a:ext cx="762480" cy="577080"/>
            <a:chOff x="254160" y="1582560"/>
            <a:chExt cx="762480" cy="577080"/>
          </a:xfrm>
        </p:grpSpPr>
        <p:sp>
          <p:nvSpPr>
            <p:cNvPr id="504" name=""/>
            <p:cNvSpPr/>
            <p:nvPr/>
          </p:nvSpPr>
          <p:spPr>
            <a:xfrm>
              <a:off x="420840" y="1582560"/>
              <a:ext cx="592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יד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280" y="18000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5880" y="180468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GreekVase_small" descr=""/>
            <p:cNvPicPr/>
            <p:nvPr/>
          </p:nvPicPr>
          <p:blipFill>
            <a:blip r:embed="rId102"/>
            <a:stretch/>
          </p:blipFill>
          <p:spPr>
            <a:xfrm>
              <a:off x="254160" y="1690560"/>
              <a:ext cx="2142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76640" y="19285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81040" y="2081160"/>
            <a:ext cx="926640" cy="450360"/>
            <a:chOff x="581040" y="2081160"/>
            <a:chExt cx="926640" cy="450360"/>
          </a:xfrm>
        </p:grpSpPr>
        <p:sp>
          <p:nvSpPr>
            <p:cNvPr id="510" name=""/>
            <p:cNvSpPr/>
            <p:nvPr/>
          </p:nvSpPr>
          <p:spPr>
            <a:xfrm>
              <a:off x="597960" y="20811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801720" y="2244600"/>
              <a:ext cx="192240" cy="226800"/>
              <a:chOff x="801720" y="2244600"/>
              <a:chExt cx="192240" cy="226800"/>
            </a:xfrm>
          </p:grpSpPr>
          <p:pic>
            <p:nvPicPr>
              <p:cNvPr id="512" name="" descr=""/>
              <p:cNvPicPr/>
              <p:nvPr/>
            </p:nvPicPr>
            <p:blipFill>
              <a:blip r:embed="rId103"/>
              <a:stretch/>
            </p:blipFill>
            <p:spPr>
              <a:xfrm>
                <a:off x="801720" y="22446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104"/>
              <a:stretch/>
            </p:blipFill>
            <p:spPr>
              <a:xfrm>
                <a:off x="801720" y="22446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4" name=""/>
            <p:cNvGrpSpPr/>
            <p:nvPr/>
          </p:nvGrpSpPr>
          <p:grpSpPr>
            <a:xfrm>
              <a:off x="581040" y="2233440"/>
              <a:ext cx="199800" cy="247320"/>
              <a:chOff x="581040" y="2233440"/>
              <a:chExt cx="199800" cy="247320"/>
            </a:xfrm>
          </p:grpSpPr>
          <p:pic>
            <p:nvPicPr>
              <p:cNvPr id="515" name="" descr=""/>
              <p:cNvPicPr/>
              <p:nvPr/>
            </p:nvPicPr>
            <p:blipFill>
              <a:blip r:embed="rId105"/>
              <a:stretch/>
            </p:blipFill>
            <p:spPr>
              <a:xfrm>
                <a:off x="581040" y="2233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" descr=""/>
              <p:cNvPicPr/>
              <p:nvPr/>
            </p:nvPicPr>
            <p:blipFill>
              <a:blip r:embed="rId106"/>
              <a:stretch/>
            </p:blipFill>
            <p:spPr>
              <a:xfrm>
                <a:off x="581040" y="22334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"/>
            <p:cNvSpPr/>
            <p:nvPr/>
          </p:nvSpPr>
          <p:spPr>
            <a:xfrm>
              <a:off x="1238760" y="2198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14560" y="21985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55080" y="2300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28600" y="3713040"/>
            <a:ext cx="990360" cy="447120"/>
            <a:chOff x="228600" y="3713040"/>
            <a:chExt cx="990360" cy="447120"/>
          </a:xfrm>
        </p:grpSpPr>
        <p:sp>
          <p:nvSpPr>
            <p:cNvPr id="521" name=""/>
            <p:cNvSpPr/>
            <p:nvPr/>
          </p:nvSpPr>
          <p:spPr>
            <a:xfrm>
              <a:off x="624240" y="3722400"/>
              <a:ext cx="52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2000" y="38131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228600" y="3713040"/>
              <a:ext cx="401400" cy="404280"/>
              <a:chOff x="228600" y="3713040"/>
              <a:chExt cx="401400" cy="404280"/>
            </a:xfrm>
          </p:grpSpPr>
          <p:pic>
            <p:nvPicPr>
              <p:cNvPr id="524" name="" descr=""/>
              <p:cNvPicPr/>
              <p:nvPr/>
            </p:nvPicPr>
            <p:blipFill>
              <a:blip r:embed="rId107"/>
              <a:stretch/>
            </p:blipFill>
            <p:spPr>
              <a:xfrm>
                <a:off x="228600" y="37130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" descr=""/>
              <p:cNvPicPr/>
              <p:nvPr/>
            </p:nvPicPr>
            <p:blipFill>
              <a:blip r:embed="rId108"/>
              <a:stretch/>
            </p:blipFill>
            <p:spPr>
              <a:xfrm>
                <a:off x="228600" y="371304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6" name=""/>
            <p:cNvSpPr/>
            <p:nvPr/>
          </p:nvSpPr>
          <p:spPr>
            <a:xfrm>
              <a:off x="915480" y="38131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4920" y="392904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שע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574720" y="5578560"/>
            <a:ext cx="775080" cy="558000"/>
            <a:chOff x="2574720" y="5578560"/>
            <a:chExt cx="775080" cy="558000"/>
          </a:xfrm>
        </p:grpSpPr>
        <p:sp>
          <p:nvSpPr>
            <p:cNvPr id="529" name=""/>
            <p:cNvSpPr/>
            <p:nvPr/>
          </p:nvSpPr>
          <p:spPr>
            <a:xfrm>
              <a:off x="2574720" y="557856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/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109"/>
            <a:stretch/>
          </p:blipFill>
          <p:spPr>
            <a:xfrm>
              <a:off x="2581200" y="57974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10"/>
            <a:stretch/>
          </p:blipFill>
          <p:spPr>
            <a:xfrm>
              <a:off x="2609640" y="57304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950920" y="5757480"/>
              <a:ext cx="8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36680" y="57225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74160" y="5905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442120" y="5011560"/>
            <a:ext cx="990000" cy="596520"/>
            <a:chOff x="5442120" y="5011560"/>
            <a:chExt cx="990000" cy="596520"/>
          </a:xfrm>
        </p:grpSpPr>
        <p:sp>
          <p:nvSpPr>
            <p:cNvPr id="536" name=""/>
            <p:cNvSpPr/>
            <p:nvPr/>
          </p:nvSpPr>
          <p:spPr>
            <a:xfrm>
              <a:off x="5985000" y="507996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27840" y="531648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21360" y="517356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פ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9" name="noahs_ark_rocking_ty_CLR" descr=""/>
            <p:cNvPicPr/>
            <p:nvPr/>
          </p:nvPicPr>
          <p:blipFill>
            <a:blip r:embed="rId111"/>
            <a:stretch/>
          </p:blipFill>
          <p:spPr>
            <a:xfrm>
              <a:off x="5442120" y="5011560"/>
              <a:ext cx="6400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5879520" y="5376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176480" y="4013280"/>
            <a:ext cx="664560" cy="604080"/>
            <a:chOff x="1176480" y="4013280"/>
            <a:chExt cx="664560" cy="604080"/>
          </a:xfrm>
        </p:grpSpPr>
        <p:sp>
          <p:nvSpPr>
            <p:cNvPr id="542" name=""/>
            <p:cNvSpPr/>
            <p:nvPr/>
          </p:nvSpPr>
          <p:spPr>
            <a:xfrm>
              <a:off x="1316880" y="408924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88440" y="438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62960" y="42084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15960" y="4297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eiffel_tower_flag_waving_sm_CLR" descr=""/>
            <p:cNvPicPr/>
            <p:nvPr/>
          </p:nvPicPr>
          <p:blipFill>
            <a:blip r:embed="rId112"/>
            <a:stretch/>
          </p:blipFill>
          <p:spPr>
            <a:xfrm>
              <a:off x="1176480" y="4013280"/>
              <a:ext cx="37008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7" name=""/>
          <p:cNvGrpSpPr/>
          <p:nvPr/>
        </p:nvGrpSpPr>
        <p:grpSpPr>
          <a:xfrm>
            <a:off x="2847960" y="4876920"/>
            <a:ext cx="871920" cy="685800"/>
            <a:chOff x="2847960" y="4876920"/>
            <a:chExt cx="871920" cy="685800"/>
          </a:xfrm>
        </p:grpSpPr>
        <p:sp>
          <p:nvSpPr>
            <p:cNvPr id="548" name=""/>
            <p:cNvSpPr/>
            <p:nvPr/>
          </p:nvSpPr>
          <p:spPr>
            <a:xfrm>
              <a:off x="2908800" y="4876920"/>
              <a:ext cx="53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75720" y="5137200"/>
              <a:ext cx="12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פ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0" name="man_reading_newspaper_still" descr=""/>
            <p:cNvPicPr/>
            <p:nvPr/>
          </p:nvPicPr>
          <p:blipFill>
            <a:blip r:embed="rId113"/>
            <a:stretch/>
          </p:blipFill>
          <p:spPr>
            <a:xfrm>
              <a:off x="2847960" y="5091120"/>
              <a:ext cx="3618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151440" y="5137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25880" y="5262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295880" y="5143680"/>
            <a:ext cx="957600" cy="492840"/>
            <a:chOff x="4295880" y="5143680"/>
            <a:chExt cx="957600" cy="492840"/>
          </a:xfrm>
        </p:grpSpPr>
        <p:sp>
          <p:nvSpPr>
            <p:cNvPr id="554" name=""/>
            <p:cNvSpPr/>
            <p:nvPr/>
          </p:nvSpPr>
          <p:spPr>
            <a:xfrm>
              <a:off x="4722480" y="5203800"/>
              <a:ext cx="39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ב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59080" y="529272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ע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62720" y="528336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40760" y="5405400"/>
              <a:ext cx="55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emerald_lg_CLR" descr=""/>
            <p:cNvPicPr/>
            <p:nvPr/>
          </p:nvPicPr>
          <p:blipFill>
            <a:blip r:embed="rId114"/>
            <a:stretch/>
          </p:blipFill>
          <p:spPr>
            <a:xfrm>
              <a:off x="4295880" y="5143680"/>
              <a:ext cx="46656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552600" y="3278160"/>
            <a:ext cx="877680" cy="434520"/>
            <a:chOff x="552600" y="3278160"/>
            <a:chExt cx="877680" cy="434520"/>
          </a:xfrm>
        </p:grpSpPr>
        <p:sp>
          <p:nvSpPr>
            <p:cNvPr id="560" name=""/>
            <p:cNvSpPr/>
            <p:nvPr/>
          </p:nvSpPr>
          <p:spPr>
            <a:xfrm>
              <a:off x="1159920" y="32781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1"/>
            <a:stretch/>
          </p:blipFill>
          <p:spPr>
            <a:xfrm>
              <a:off x="552600" y="3383280"/>
              <a:ext cx="29484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618840" y="33163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1026720" y="3314880"/>
              <a:ext cx="8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70720" y="34131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5760" y="348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85680" y="2082960"/>
            <a:ext cx="850320" cy="537480"/>
            <a:chOff x="85680" y="2082960"/>
            <a:chExt cx="850320" cy="537480"/>
          </a:xfrm>
        </p:grpSpPr>
        <p:sp>
          <p:nvSpPr>
            <p:cNvPr id="567" name=""/>
            <p:cNvSpPr/>
            <p:nvPr/>
          </p:nvSpPr>
          <p:spPr>
            <a:xfrm>
              <a:off x="560160" y="20829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85680" y="23018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257040" y="2120760"/>
              <a:ext cx="295560" cy="3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752400" y="2227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3400" y="2342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896080" y="1120680"/>
            <a:ext cx="850320" cy="538200"/>
            <a:chOff x="5896080" y="1120680"/>
            <a:chExt cx="850320" cy="538200"/>
          </a:xfrm>
        </p:grpSpPr>
        <p:sp>
          <p:nvSpPr>
            <p:cNvPr id="573" name=""/>
            <p:cNvSpPr/>
            <p:nvPr/>
          </p:nvSpPr>
          <p:spPr>
            <a:xfrm>
              <a:off x="6370560" y="112068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5"/>
            <a:stretch/>
          </p:blipFill>
          <p:spPr>
            <a:xfrm>
              <a:off x="5896080" y="133992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6"/>
            <a:stretch/>
          </p:blipFill>
          <p:spPr>
            <a:xfrm>
              <a:off x="6067440" y="115884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6399720" y="12654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93800" y="13809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2132280" y="18720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8748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99080" y="24559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30680" y="45072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35560" y="-38160"/>
            <a:ext cx="36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סמסטר א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372400" y="679320"/>
            <a:ext cx="867600" cy="471240"/>
            <a:chOff x="2372400" y="679320"/>
            <a:chExt cx="867600" cy="471240"/>
          </a:xfrm>
        </p:grpSpPr>
        <p:pic>
          <p:nvPicPr>
            <p:cNvPr id="606" name="Research3" descr=""/>
            <p:cNvPicPr/>
            <p:nvPr/>
          </p:nvPicPr>
          <p:blipFill>
            <a:blip r:embed="rId7"/>
            <a:stretch/>
          </p:blipFill>
          <p:spPr>
            <a:xfrm>
              <a:off x="2417760" y="793440"/>
              <a:ext cx="4507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372400" y="67932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35080" y="7678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16840" y="749160"/>
              <a:ext cx="3560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52920" y="8521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733840" y="1171440"/>
            <a:ext cx="1078920" cy="464400"/>
            <a:chOff x="2733840" y="1171440"/>
            <a:chExt cx="1078920" cy="464400"/>
          </a:xfrm>
        </p:grpSpPr>
        <p:sp>
          <p:nvSpPr>
            <p:cNvPr id="612" name=""/>
            <p:cNvSpPr/>
            <p:nvPr/>
          </p:nvSpPr>
          <p:spPr>
            <a:xfrm>
              <a:off x="3286800" y="13111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51440" y="11714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25840" y="133668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addition_2_plus_2_ty_CLR" descr=""/>
            <p:cNvPicPr/>
            <p:nvPr/>
          </p:nvPicPr>
          <p:blipFill>
            <a:blip r:embed="rId8"/>
            <a:stretch/>
          </p:blipFill>
          <p:spPr>
            <a:xfrm>
              <a:off x="2733840" y="11808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3260160" y="1404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419040" y="650880"/>
            <a:ext cx="907560" cy="451800"/>
            <a:chOff x="419040" y="650880"/>
            <a:chExt cx="907560" cy="451800"/>
          </a:xfrm>
        </p:grpSpPr>
        <p:pic>
          <p:nvPicPr>
            <p:cNvPr id="618" name="bkcl1a" descr=""/>
            <p:cNvPicPr/>
            <p:nvPr/>
          </p:nvPicPr>
          <p:blipFill>
            <a:blip r:embed="rId9"/>
            <a:stretch/>
          </p:blipFill>
          <p:spPr>
            <a:xfrm>
              <a:off x="419040" y="73980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89400" y="65088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680" y="7923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86840" y="75420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4000" y="871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857160" y="1138320"/>
            <a:ext cx="869400" cy="430920"/>
            <a:chOff x="857160" y="1138320"/>
            <a:chExt cx="869400" cy="430920"/>
          </a:xfrm>
        </p:grpSpPr>
        <p:sp>
          <p:nvSpPr>
            <p:cNvPr id="624" name=""/>
            <p:cNvSpPr/>
            <p:nvPr/>
          </p:nvSpPr>
          <p:spPr>
            <a:xfrm>
              <a:off x="901800" y="1138320"/>
              <a:ext cx="488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068120" y="1272960"/>
              <a:ext cx="192240" cy="226440"/>
              <a:chOff x="1068120" y="1272960"/>
              <a:chExt cx="192240" cy="226440"/>
            </a:xfrm>
          </p:grpSpPr>
          <p:pic>
            <p:nvPicPr>
              <p:cNvPr id="6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68120" y="12729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68120" y="12729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8" name=""/>
            <p:cNvGrpSpPr/>
            <p:nvPr/>
          </p:nvGrpSpPr>
          <p:grpSpPr>
            <a:xfrm>
              <a:off x="857160" y="1261800"/>
              <a:ext cx="199800" cy="246960"/>
              <a:chOff x="857160" y="1261800"/>
              <a:chExt cx="199800" cy="246960"/>
            </a:xfrm>
          </p:grpSpPr>
          <p:pic>
            <p:nvPicPr>
              <p:cNvPr id="62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7160" y="12618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7160" y="12618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"/>
            <p:cNvSpPr/>
            <p:nvPr/>
          </p:nvSpPr>
          <p:spPr>
            <a:xfrm>
              <a:off x="1499040" y="12078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61880" y="12078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73960" y="1338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124720" y="1574640"/>
            <a:ext cx="979200" cy="598680"/>
            <a:chOff x="2124720" y="1574640"/>
            <a:chExt cx="979200" cy="598680"/>
          </a:xfrm>
        </p:grpSpPr>
        <p:pic>
          <p:nvPicPr>
            <p:cNvPr id="635" name="child_finger_painting_sm_CLR" descr=""/>
            <p:cNvPicPr/>
            <p:nvPr/>
          </p:nvPicPr>
          <p:blipFill>
            <a:blip r:embed="rId14"/>
            <a:stretch/>
          </p:blipFill>
          <p:spPr>
            <a:xfrm>
              <a:off x="2160720" y="1655640"/>
              <a:ext cx="5169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124720" y="1574640"/>
              <a:ext cx="97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 ודמוי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04600" y="17035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70280" y="16686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49800" y="177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071880" y="2124000"/>
            <a:ext cx="978840" cy="459720"/>
            <a:chOff x="3071880" y="2124000"/>
            <a:chExt cx="978840" cy="459720"/>
          </a:xfrm>
        </p:grpSpPr>
        <p:sp>
          <p:nvSpPr>
            <p:cNvPr id="641" name=""/>
            <p:cNvSpPr/>
            <p:nvPr/>
          </p:nvSpPr>
          <p:spPr>
            <a:xfrm>
              <a:off x="3071880" y="21240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3373200" y="2268360"/>
              <a:ext cx="192240" cy="226800"/>
              <a:chOff x="3373200" y="2268360"/>
              <a:chExt cx="192240" cy="226800"/>
            </a:xfrm>
          </p:grpSpPr>
          <p:pic>
            <p:nvPicPr>
              <p:cNvPr id="64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73200" y="22683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373200" y="22683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5" name=""/>
            <p:cNvGrpSpPr/>
            <p:nvPr/>
          </p:nvGrpSpPr>
          <p:grpSpPr>
            <a:xfrm>
              <a:off x="3162240" y="2257560"/>
              <a:ext cx="199800" cy="247320"/>
              <a:chOff x="3162240" y="2257560"/>
              <a:chExt cx="199800" cy="24732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162240" y="2257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162240" y="2257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"/>
            <p:cNvSpPr/>
            <p:nvPr/>
          </p:nvSpPr>
          <p:spPr>
            <a:xfrm>
              <a:off x="3591000" y="21556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23840" y="2251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8120" y="2352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131840" y="2000160"/>
            <a:ext cx="1036800" cy="588240"/>
            <a:chOff x="1131840" y="2000160"/>
            <a:chExt cx="1036800" cy="588240"/>
          </a:xfrm>
        </p:grpSpPr>
        <p:sp>
          <p:nvSpPr>
            <p:cNvPr id="652" name=""/>
            <p:cNvSpPr/>
            <p:nvPr/>
          </p:nvSpPr>
          <p:spPr>
            <a:xfrm>
              <a:off x="1131840" y="200016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33200" y="23587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5840" y="227952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addition_2_plus_2_ty_CLR" descr=""/>
            <p:cNvPicPr/>
            <p:nvPr/>
          </p:nvPicPr>
          <p:blipFill>
            <a:blip r:embed="rId19"/>
            <a:stretch/>
          </p:blipFill>
          <p:spPr>
            <a:xfrm>
              <a:off x="1323720" y="2095200"/>
              <a:ext cx="585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1392480" y="2357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33320" y="1593720"/>
            <a:ext cx="907200" cy="404280"/>
            <a:chOff x="733320" y="1593720"/>
            <a:chExt cx="907200" cy="404280"/>
          </a:xfrm>
        </p:grpSpPr>
        <p:pic>
          <p:nvPicPr>
            <p:cNvPr id="658" name="bkcl1a" descr=""/>
            <p:cNvPicPr/>
            <p:nvPr/>
          </p:nvPicPr>
          <p:blipFill>
            <a:blip r:embed="rId20"/>
            <a:stretch/>
          </p:blipFill>
          <p:spPr>
            <a:xfrm>
              <a:off x="733320" y="160632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1117800" y="159372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58120" y="171576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00760" y="16779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87920" y="1766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389320" y="2712960"/>
            <a:ext cx="984600" cy="593640"/>
            <a:chOff x="2389320" y="2712960"/>
            <a:chExt cx="984600" cy="593640"/>
          </a:xfrm>
        </p:grpSpPr>
        <p:sp>
          <p:nvSpPr>
            <p:cNvPr id="664" name=""/>
            <p:cNvSpPr/>
            <p:nvPr/>
          </p:nvSpPr>
          <p:spPr>
            <a:xfrm>
              <a:off x="2835000" y="28922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26920" y="274320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11120" y="291780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girl_holding_123_ty_CLR" descr=""/>
            <p:cNvPicPr/>
            <p:nvPr/>
          </p:nvPicPr>
          <p:blipFill>
            <a:blip r:embed="rId21"/>
            <a:stretch/>
          </p:blipFill>
          <p:spPr>
            <a:xfrm>
              <a:off x="2389320" y="27129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2821320" y="2995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260000" y="2776680"/>
            <a:ext cx="1087920" cy="430920"/>
            <a:chOff x="1260000" y="2776680"/>
            <a:chExt cx="1087920" cy="430920"/>
          </a:xfrm>
        </p:grpSpPr>
        <p:sp>
          <p:nvSpPr>
            <p:cNvPr id="670" name=""/>
            <p:cNvSpPr/>
            <p:nvPr/>
          </p:nvSpPr>
          <p:spPr>
            <a:xfrm>
              <a:off x="1260000" y="2776680"/>
              <a:ext cx="767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1515960" y="2911320"/>
              <a:ext cx="192240" cy="226440"/>
              <a:chOff x="1515960" y="2911320"/>
              <a:chExt cx="192240" cy="226440"/>
            </a:xfrm>
          </p:grpSpPr>
          <p:pic>
            <p:nvPicPr>
              <p:cNvPr id="672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15960" y="29113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15960" y="29113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4" name=""/>
            <p:cNvGrpSpPr/>
            <p:nvPr/>
          </p:nvGrpSpPr>
          <p:grpSpPr>
            <a:xfrm>
              <a:off x="1285920" y="2909880"/>
              <a:ext cx="199800" cy="246960"/>
              <a:chOff x="1285920" y="2909880"/>
              <a:chExt cx="199800" cy="246960"/>
            </a:xfrm>
          </p:grpSpPr>
          <p:pic>
            <p:nvPicPr>
              <p:cNvPr id="67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285920" y="29098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285920" y="290988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7" name=""/>
            <p:cNvSpPr/>
            <p:nvPr/>
          </p:nvSpPr>
          <p:spPr>
            <a:xfrm>
              <a:off x="1981440" y="28652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1880" y="286524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69320" y="2976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03560" y="3154320"/>
            <a:ext cx="834120" cy="567720"/>
            <a:chOff x="3103560" y="3154320"/>
            <a:chExt cx="834120" cy="567720"/>
          </a:xfrm>
        </p:grpSpPr>
        <p:sp>
          <p:nvSpPr>
            <p:cNvPr id="681" name=""/>
            <p:cNvSpPr/>
            <p:nvPr/>
          </p:nvSpPr>
          <p:spPr>
            <a:xfrm>
              <a:off x="3674880" y="338292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14880" y="3157560"/>
              <a:ext cx="566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35480" y="341784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walking_1_sm_CLR" descr=""/>
            <p:cNvPicPr/>
            <p:nvPr/>
          </p:nvPicPr>
          <p:blipFill>
            <a:blip r:embed="rId26"/>
            <a:stretch/>
          </p:blipFill>
          <p:spPr>
            <a:xfrm>
              <a:off x="3103560" y="3154320"/>
              <a:ext cx="343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336492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41560" y="3689280"/>
            <a:ext cx="819000" cy="661320"/>
            <a:chOff x="241560" y="3689280"/>
            <a:chExt cx="819000" cy="661320"/>
          </a:xfrm>
        </p:grpSpPr>
        <p:pic>
          <p:nvPicPr>
            <p:cNvPr id="687" name="bkcl1a" descr=""/>
            <p:cNvPicPr/>
            <p:nvPr/>
          </p:nvPicPr>
          <p:blipFill>
            <a:blip r:embed="rId27"/>
            <a:stretch/>
          </p:blipFill>
          <p:spPr>
            <a:xfrm>
              <a:off x="362160" y="3826080"/>
              <a:ext cx="4190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241560" y="368928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7840" y="40784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0080" y="39067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7440" y="41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979560" y="4038480"/>
            <a:ext cx="1037160" cy="626400"/>
            <a:chOff x="979560" y="4038480"/>
            <a:chExt cx="1037160" cy="626400"/>
          </a:xfrm>
        </p:grpSpPr>
        <p:sp>
          <p:nvSpPr>
            <p:cNvPr id="693" name=""/>
            <p:cNvSpPr/>
            <p:nvPr/>
          </p:nvSpPr>
          <p:spPr>
            <a:xfrm>
              <a:off x="979560" y="4038480"/>
              <a:ext cx="1023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81280" y="4435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53920" y="43560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6" name="addition_2_plus_2_ty_CLR" descr=""/>
            <p:cNvPicPr/>
            <p:nvPr/>
          </p:nvPicPr>
          <p:blipFill>
            <a:blip r:embed="rId28"/>
            <a:stretch/>
          </p:blipFill>
          <p:spPr>
            <a:xfrm>
              <a:off x="1171440" y="417168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240560" y="4433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133800" y="4176720"/>
            <a:ext cx="1071720" cy="431280"/>
            <a:chOff x="3133800" y="4176720"/>
            <a:chExt cx="1071720" cy="431280"/>
          </a:xfrm>
        </p:grpSpPr>
        <p:sp>
          <p:nvSpPr>
            <p:cNvPr id="699" name=""/>
            <p:cNvSpPr/>
            <p:nvPr/>
          </p:nvSpPr>
          <p:spPr>
            <a:xfrm>
              <a:off x="3148560" y="4176720"/>
              <a:ext cx="912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364200" y="4330800"/>
              <a:ext cx="191880" cy="226800"/>
              <a:chOff x="3364200" y="4330800"/>
              <a:chExt cx="191880" cy="226800"/>
            </a:xfrm>
          </p:grpSpPr>
          <p:pic>
            <p:nvPicPr>
              <p:cNvPr id="70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364200" y="43308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364200" y="43308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3133800" y="4329360"/>
              <a:ext cx="199800" cy="247320"/>
              <a:chOff x="3133800" y="4329360"/>
              <a:chExt cx="199800" cy="247320"/>
            </a:xfrm>
          </p:grpSpPr>
          <p:pic>
            <p:nvPicPr>
              <p:cNvPr id="704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133800" y="432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133800" y="4329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6" name=""/>
            <p:cNvSpPr/>
            <p:nvPr/>
          </p:nvSpPr>
          <p:spPr>
            <a:xfrm>
              <a:off x="3839040" y="42847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47080" y="428472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ט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07840" y="43768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410280" y="4651200"/>
            <a:ext cx="867600" cy="471600"/>
            <a:chOff x="3410280" y="4651200"/>
            <a:chExt cx="867600" cy="471600"/>
          </a:xfrm>
        </p:grpSpPr>
        <p:pic>
          <p:nvPicPr>
            <p:cNvPr id="710" name="Research3" descr=""/>
            <p:cNvPicPr/>
            <p:nvPr/>
          </p:nvPicPr>
          <p:blipFill>
            <a:blip r:embed="rId33"/>
            <a:stretch/>
          </p:blipFill>
          <p:spPr>
            <a:xfrm>
              <a:off x="3456000" y="4765680"/>
              <a:ext cx="45036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3410280" y="465120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2960" y="47401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02240" y="4730760"/>
              <a:ext cx="276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90800" y="484344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567160" y="4624560"/>
            <a:ext cx="895680" cy="672840"/>
            <a:chOff x="2567160" y="4624560"/>
            <a:chExt cx="895680" cy="672840"/>
          </a:xfrm>
        </p:grpSpPr>
        <p:sp>
          <p:nvSpPr>
            <p:cNvPr id="716" name=""/>
            <p:cNvSpPr/>
            <p:nvPr/>
          </p:nvSpPr>
          <p:spPr>
            <a:xfrm>
              <a:off x="3140280" y="486396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63680" y="47257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963880" y="4644720"/>
              <a:ext cx="391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9" name="atomic_energy_sm_CLR" descr=""/>
            <p:cNvPicPr/>
            <p:nvPr/>
          </p:nvPicPr>
          <p:blipFill>
            <a:blip r:embed="rId34"/>
            <a:stretch/>
          </p:blipFill>
          <p:spPr>
            <a:xfrm>
              <a:off x="2567160" y="46245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3012120" y="492912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303800" y="3676680"/>
            <a:ext cx="823320" cy="807480"/>
            <a:chOff x="4303800" y="3676680"/>
            <a:chExt cx="823320" cy="807480"/>
          </a:xfrm>
        </p:grpSpPr>
        <p:sp>
          <p:nvSpPr>
            <p:cNvPr id="722" name=""/>
            <p:cNvSpPr/>
            <p:nvPr/>
          </p:nvSpPr>
          <p:spPr>
            <a:xfrm>
              <a:off x="4732200" y="4121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03800" y="3676680"/>
              <a:ext cx="69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סעו של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6800" y="400356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boy" descr=""/>
            <p:cNvPicPr/>
            <p:nvPr/>
          </p:nvPicPr>
          <p:blipFill>
            <a:blip r:embed="rId35"/>
            <a:stretch/>
          </p:blipFill>
          <p:spPr>
            <a:xfrm>
              <a:off x="4362480" y="3833640"/>
              <a:ext cx="34272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574520" y="4253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398760" y="5079960"/>
            <a:ext cx="928080" cy="537480"/>
            <a:chOff x="3398760" y="5079960"/>
            <a:chExt cx="928080" cy="537480"/>
          </a:xfrm>
        </p:grpSpPr>
        <p:pic>
          <p:nvPicPr>
            <p:cNvPr id="728" name="child_finger_painting_sm_CLR" descr=""/>
            <p:cNvPicPr/>
            <p:nvPr/>
          </p:nvPicPr>
          <p:blipFill>
            <a:blip r:embed="rId36"/>
            <a:stretch/>
          </p:blipFill>
          <p:spPr>
            <a:xfrm>
              <a:off x="3398760" y="508500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3697560" y="5079960"/>
              <a:ext cx="445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27960" y="52880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7424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69080" y="4608360"/>
            <a:ext cx="772200" cy="570960"/>
            <a:chOff x="469080" y="4608360"/>
            <a:chExt cx="772200" cy="570960"/>
          </a:xfrm>
        </p:grpSpPr>
        <p:sp>
          <p:nvSpPr>
            <p:cNvPr id="733" name=""/>
            <p:cNvSpPr/>
            <p:nvPr/>
          </p:nvSpPr>
          <p:spPr>
            <a:xfrm>
              <a:off x="909720" y="4608360"/>
              <a:ext cx="3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5440" y="465264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14120" y="4965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lb_mu_v" descr=""/>
            <p:cNvPicPr/>
            <p:nvPr/>
          </p:nvPicPr>
          <p:blipFill>
            <a:blip r:embed="rId37"/>
            <a:stretch/>
          </p:blipFill>
          <p:spPr>
            <a:xfrm>
              <a:off x="584280" y="4778280"/>
              <a:ext cx="63288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469080" y="4948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65360" y="4640400"/>
            <a:ext cx="834120" cy="586440"/>
            <a:chOff x="1665360" y="4640400"/>
            <a:chExt cx="834120" cy="586440"/>
          </a:xfrm>
        </p:grpSpPr>
        <p:sp>
          <p:nvSpPr>
            <p:cNvPr id="739" name=""/>
            <p:cNvSpPr/>
            <p:nvPr/>
          </p:nvSpPr>
          <p:spPr>
            <a:xfrm>
              <a:off x="2236680" y="488808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76320" y="4662360"/>
              <a:ext cx="567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97280" y="492300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walking_1_sm_CLR" descr=""/>
            <p:cNvPicPr/>
            <p:nvPr/>
          </p:nvPicPr>
          <p:blipFill>
            <a:blip r:embed="rId38"/>
            <a:stretch/>
          </p:blipFill>
          <p:spPr>
            <a:xfrm>
              <a:off x="1665360" y="4640400"/>
              <a:ext cx="3427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1926360" y="4995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363280" y="5594400"/>
            <a:ext cx="944640" cy="471600"/>
            <a:chOff x="5363280" y="5594400"/>
            <a:chExt cx="944640" cy="471600"/>
          </a:xfrm>
        </p:grpSpPr>
        <p:pic>
          <p:nvPicPr>
            <p:cNvPr id="745" name="Research3" descr=""/>
            <p:cNvPicPr/>
            <p:nvPr/>
          </p:nvPicPr>
          <p:blipFill>
            <a:blip r:embed="rId39"/>
            <a:stretch/>
          </p:blipFill>
          <p:spPr>
            <a:xfrm>
              <a:off x="5408640" y="5708880"/>
              <a:ext cx="45108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5363280" y="559440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78600" y="56833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43000" y="56642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20120" y="579600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199600" y="5808600"/>
            <a:ext cx="615240" cy="808920"/>
            <a:chOff x="2199600" y="5808600"/>
            <a:chExt cx="615240" cy="808920"/>
          </a:xfrm>
        </p:grpSpPr>
        <p:sp>
          <p:nvSpPr>
            <p:cNvPr id="751" name=""/>
            <p:cNvSpPr/>
            <p:nvPr/>
          </p:nvSpPr>
          <p:spPr>
            <a:xfrm>
              <a:off x="2228760" y="580860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91040" y="62895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3" name="yoga" descr=""/>
            <p:cNvPicPr/>
            <p:nvPr/>
          </p:nvPicPr>
          <p:blipFill>
            <a:blip r:embed="rId40"/>
            <a:stretch/>
          </p:blipFill>
          <p:spPr>
            <a:xfrm>
              <a:off x="2259000" y="5934240"/>
              <a:ext cx="4618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2199600" y="6386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345120" y="5565600"/>
            <a:ext cx="944280" cy="598320"/>
            <a:chOff x="3345120" y="5565600"/>
            <a:chExt cx="944280" cy="598320"/>
          </a:xfrm>
        </p:grpSpPr>
        <p:pic>
          <p:nvPicPr>
            <p:cNvPr id="756" name="child_finger_painting_sm_CLR" descr=""/>
            <p:cNvPicPr/>
            <p:nvPr/>
          </p:nvPicPr>
          <p:blipFill>
            <a:blip r:embed="rId41"/>
            <a:stretch/>
          </p:blipFill>
          <p:spPr>
            <a:xfrm>
              <a:off x="3360600" y="5646240"/>
              <a:ext cx="517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3345120" y="5565600"/>
              <a:ext cx="944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אומנ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23200" y="56592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50400" y="5767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993400" y="6080040"/>
            <a:ext cx="1035360" cy="542160"/>
            <a:chOff x="2993400" y="6080040"/>
            <a:chExt cx="1035360" cy="542160"/>
          </a:xfrm>
        </p:grpSpPr>
        <p:sp>
          <p:nvSpPr>
            <p:cNvPr id="761" name=""/>
            <p:cNvSpPr/>
            <p:nvPr/>
          </p:nvSpPr>
          <p:spPr>
            <a:xfrm>
              <a:off x="3070800" y="6080040"/>
              <a:ext cx="95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בשי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91080" y="64386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83000" y="63990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lb_mu_v" descr=""/>
            <p:cNvPicPr/>
            <p:nvPr/>
          </p:nvPicPr>
          <p:blipFill>
            <a:blip r:embed="rId42"/>
            <a:stretch/>
          </p:blipFill>
          <p:spPr>
            <a:xfrm>
              <a:off x="3251160" y="6221160"/>
              <a:ext cx="63324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2993400" y="6391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227240" y="5619600"/>
            <a:ext cx="1037160" cy="569160"/>
            <a:chOff x="1227240" y="5619600"/>
            <a:chExt cx="1037160" cy="569160"/>
          </a:xfrm>
        </p:grpSpPr>
        <p:sp>
          <p:nvSpPr>
            <p:cNvPr id="767" name=""/>
            <p:cNvSpPr/>
            <p:nvPr/>
          </p:nvSpPr>
          <p:spPr>
            <a:xfrm>
              <a:off x="1227240" y="5619600"/>
              <a:ext cx="102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לקראת תיכ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28960" y="59590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01600" y="587988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י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" name="addition_2_plus_2_ty_CLR" descr=""/>
            <p:cNvPicPr/>
            <p:nvPr/>
          </p:nvPicPr>
          <p:blipFill>
            <a:blip r:embed="rId43"/>
            <a:stretch/>
          </p:blipFill>
          <p:spPr>
            <a:xfrm>
              <a:off x="1419480" y="56955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1488240" y="5957640"/>
              <a:ext cx="559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900" spc="-1" strike="noStrike">
                  <a:solidFill>
                    <a:srgbClr val="ff0000"/>
                  </a:solidFill>
                  <a:latin typeface="Arial"/>
                  <a:ea typeface="Arial"/>
                </a:rPr>
                <a:t>?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3278880" y="650880"/>
            <a:ext cx="1000440" cy="565920"/>
            <a:chOff x="3278880" y="650880"/>
            <a:chExt cx="1000440" cy="565920"/>
          </a:xfrm>
        </p:grpSpPr>
        <p:sp>
          <p:nvSpPr>
            <p:cNvPr id="773" name=""/>
            <p:cNvSpPr/>
            <p:nvPr/>
          </p:nvSpPr>
          <p:spPr>
            <a:xfrm>
              <a:off x="3278880" y="6508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85840" y="749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3200" y="8632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girl" descr=""/>
            <p:cNvPicPr/>
            <p:nvPr/>
          </p:nvPicPr>
          <p:blipFill>
            <a:blip r:embed="rId44"/>
            <a:stretch/>
          </p:blipFill>
          <p:spPr>
            <a:xfrm>
              <a:off x="3476520" y="77292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3726720" y="98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269520" y="1584360"/>
            <a:ext cx="1000440" cy="565920"/>
            <a:chOff x="3269520" y="1584360"/>
            <a:chExt cx="1000440" cy="565920"/>
          </a:xfrm>
        </p:grpSpPr>
        <p:sp>
          <p:nvSpPr>
            <p:cNvPr id="779" name=""/>
            <p:cNvSpPr/>
            <p:nvPr/>
          </p:nvSpPr>
          <p:spPr>
            <a:xfrm>
              <a:off x="3269520" y="15843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76480" y="16826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13840" y="17967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2" name="girl" descr=""/>
            <p:cNvPicPr/>
            <p:nvPr/>
          </p:nvPicPr>
          <p:blipFill>
            <a:blip r:embed="rId45"/>
            <a:stretch/>
          </p:blipFill>
          <p:spPr>
            <a:xfrm>
              <a:off x="3467160" y="170640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717360" y="1919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1707840" y="822240"/>
            <a:ext cx="942840" cy="775800"/>
            <a:chOff x="1707840" y="822240"/>
            <a:chExt cx="942840" cy="775800"/>
          </a:xfrm>
        </p:grpSpPr>
        <p:pic>
          <p:nvPicPr>
            <p:cNvPr id="785" name="child_finger_painting_sm_CLR" descr=""/>
            <p:cNvPicPr/>
            <p:nvPr/>
          </p:nvPicPr>
          <p:blipFill>
            <a:blip r:embed="rId46"/>
            <a:stretch/>
          </p:blipFill>
          <p:spPr>
            <a:xfrm>
              <a:off x="1722600" y="105552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707840" y="822240"/>
              <a:ext cx="57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וב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דמויו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90520" y="12175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147040" y="10494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98080" y="1366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174720" y="17784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01704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66360" y="250344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3240" y="1152360"/>
            <a:ext cx="1199520" cy="455040"/>
            <a:chOff x="6753240" y="1152360"/>
            <a:chExt cx="1199520" cy="455040"/>
          </a:xfrm>
        </p:grpSpPr>
        <p:sp>
          <p:nvSpPr>
            <p:cNvPr id="794" name=""/>
            <p:cNvSpPr/>
            <p:nvPr/>
          </p:nvSpPr>
          <p:spPr>
            <a:xfrm>
              <a:off x="7332120" y="1282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13400" y="11523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71160" y="13082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7" name="addition_2_plus_2_ty_CLR" descr=""/>
            <p:cNvPicPr/>
            <p:nvPr/>
          </p:nvPicPr>
          <p:blipFill>
            <a:blip r:embed="rId47"/>
            <a:stretch/>
          </p:blipFill>
          <p:spPr>
            <a:xfrm>
              <a:off x="6753240" y="11523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7365240" y="1376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7199280" y="1574640"/>
            <a:ext cx="1022400" cy="690120"/>
            <a:chOff x="7199280" y="1574640"/>
            <a:chExt cx="1022400" cy="690120"/>
          </a:xfrm>
        </p:grpSpPr>
        <p:pic>
          <p:nvPicPr>
            <p:cNvPr id="800" name="child_finger_painting_sm_CLR" descr=""/>
            <p:cNvPicPr/>
            <p:nvPr/>
          </p:nvPicPr>
          <p:blipFill>
            <a:blip r:embed="rId48"/>
            <a:stretch/>
          </p:blipFill>
          <p:spPr>
            <a:xfrm>
              <a:off x="7199280" y="16556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7376760" y="1574640"/>
              <a:ext cx="84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 בשילו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28120" y="19508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56920" y="179208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45960" y="2033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5656320" y="1542960"/>
            <a:ext cx="842400" cy="607320"/>
            <a:chOff x="5656320" y="1542960"/>
            <a:chExt cx="842400" cy="607320"/>
          </a:xfrm>
        </p:grpSpPr>
        <p:sp>
          <p:nvSpPr>
            <p:cNvPr id="806" name=""/>
            <p:cNvSpPr/>
            <p:nvPr/>
          </p:nvSpPr>
          <p:spPr>
            <a:xfrm>
              <a:off x="6132600" y="1825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56320" y="154296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ע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73920" y="170820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9" name="boy" descr=""/>
            <p:cNvPicPr/>
            <p:nvPr/>
          </p:nvPicPr>
          <p:blipFill>
            <a:blip r:embed="rId49"/>
            <a:stretch/>
          </p:blipFill>
          <p:spPr>
            <a:xfrm>
              <a:off x="5715360" y="169056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946120" y="1919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6427800" y="1733400"/>
            <a:ext cx="823320" cy="655200"/>
            <a:chOff x="6427800" y="1733400"/>
            <a:chExt cx="823320" cy="655200"/>
          </a:xfrm>
        </p:grpSpPr>
        <p:sp>
          <p:nvSpPr>
            <p:cNvPr id="812" name=""/>
            <p:cNvSpPr/>
            <p:nvPr/>
          </p:nvSpPr>
          <p:spPr>
            <a:xfrm>
              <a:off x="6844680" y="20257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7800" y="1733400"/>
              <a:ext cx="700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סעו של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41160" y="1908000"/>
              <a:ext cx="115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5" name="boy" descr=""/>
            <p:cNvPicPr/>
            <p:nvPr/>
          </p:nvPicPr>
          <p:blipFill>
            <a:blip r:embed="rId50"/>
            <a:stretch/>
          </p:blipFill>
          <p:spPr>
            <a:xfrm>
              <a:off x="6486480" y="1890720"/>
              <a:ext cx="3430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6698520" y="2157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846680" y="2028960"/>
            <a:ext cx="1137600" cy="550080"/>
            <a:chOff x="4846680" y="2028960"/>
            <a:chExt cx="1137600" cy="550080"/>
          </a:xfrm>
        </p:grpSpPr>
        <p:sp>
          <p:nvSpPr>
            <p:cNvPr id="818" name=""/>
            <p:cNvSpPr/>
            <p:nvPr/>
          </p:nvSpPr>
          <p:spPr>
            <a:xfrm>
              <a:off x="5558760" y="22543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46680" y="2028960"/>
              <a:ext cx="87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66600" y="21747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addition_2_plus_2_ty_CLR" descr=""/>
            <p:cNvPicPr/>
            <p:nvPr/>
          </p:nvPicPr>
          <p:blipFill>
            <a:blip r:embed="rId51"/>
            <a:stretch/>
          </p:blipFill>
          <p:spPr>
            <a:xfrm>
              <a:off x="4943520" y="214308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543168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599160" y="2736720"/>
            <a:ext cx="928080" cy="598320"/>
            <a:chOff x="6599160" y="2736720"/>
            <a:chExt cx="928080" cy="598320"/>
          </a:xfrm>
        </p:grpSpPr>
        <p:pic>
          <p:nvPicPr>
            <p:cNvPr id="824" name="child_finger_painting_sm_CLR" descr=""/>
            <p:cNvPicPr/>
            <p:nvPr/>
          </p:nvPicPr>
          <p:blipFill>
            <a:blip r:embed="rId52"/>
            <a:stretch/>
          </p:blipFill>
          <p:spPr>
            <a:xfrm>
              <a:off x="6599160" y="281772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6634080" y="2736720"/>
              <a:ext cx="844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 בשילו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ומ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75720" y="298908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52200" y="296352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74640" y="3081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098480" y="3200400"/>
            <a:ext cx="1092600" cy="521640"/>
            <a:chOff x="7098480" y="3200400"/>
            <a:chExt cx="1092600" cy="521640"/>
          </a:xfrm>
        </p:grpSpPr>
        <p:sp>
          <p:nvSpPr>
            <p:cNvPr id="830" name=""/>
            <p:cNvSpPr/>
            <p:nvPr/>
          </p:nvSpPr>
          <p:spPr>
            <a:xfrm>
              <a:off x="7570440" y="3521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513560" y="3295800"/>
              <a:ext cx="604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09480" y="354636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3" name="addition_2_plus_2_ty_CLR" descr=""/>
            <p:cNvPicPr/>
            <p:nvPr/>
          </p:nvPicPr>
          <p:blipFill>
            <a:blip r:embed="rId53"/>
            <a:stretch/>
          </p:blipFill>
          <p:spPr>
            <a:xfrm>
              <a:off x="7191360" y="32004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7098480" y="3490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791680" y="3184560"/>
            <a:ext cx="925200" cy="471600"/>
            <a:chOff x="5791680" y="3184560"/>
            <a:chExt cx="925200" cy="471600"/>
          </a:xfrm>
        </p:grpSpPr>
        <p:pic>
          <p:nvPicPr>
            <p:cNvPr id="836" name="Research3" descr=""/>
            <p:cNvPicPr/>
            <p:nvPr/>
          </p:nvPicPr>
          <p:blipFill>
            <a:blip r:embed="rId54"/>
            <a:stretch/>
          </p:blipFill>
          <p:spPr>
            <a:xfrm>
              <a:off x="5837040" y="3299040"/>
              <a:ext cx="4507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791680" y="3184560"/>
              <a:ext cx="79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צר לימו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87560" y="32734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20000" y="3254400"/>
              <a:ext cx="3758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01000" y="3386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365080" y="4092480"/>
            <a:ext cx="554760" cy="596160"/>
            <a:chOff x="5365080" y="4092480"/>
            <a:chExt cx="554760" cy="596160"/>
          </a:xfrm>
        </p:grpSpPr>
        <p:sp>
          <p:nvSpPr>
            <p:cNvPr id="842" name=""/>
            <p:cNvSpPr/>
            <p:nvPr/>
          </p:nvSpPr>
          <p:spPr>
            <a:xfrm>
              <a:off x="5559480" y="409248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5380200" y="4184280"/>
              <a:ext cx="304560" cy="330120"/>
              <a:chOff x="5380200" y="4184280"/>
              <a:chExt cx="304560" cy="330120"/>
            </a:xfrm>
          </p:grpSpPr>
          <p:pic>
            <p:nvPicPr>
              <p:cNvPr id="844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5380200" y="418428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5380200" y="418428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6" name=""/>
            <p:cNvSpPr/>
            <p:nvPr/>
          </p:nvSpPr>
          <p:spPr>
            <a:xfrm>
              <a:off x="5646960" y="426528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66040" y="43653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65080" y="4457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7088760" y="2055960"/>
            <a:ext cx="1106640" cy="537480"/>
            <a:chOff x="7088760" y="2055960"/>
            <a:chExt cx="1106640" cy="537480"/>
          </a:xfrm>
        </p:grpSpPr>
        <p:grpSp>
          <p:nvGrpSpPr>
            <p:cNvPr id="850" name=""/>
            <p:cNvGrpSpPr/>
            <p:nvPr/>
          </p:nvGrpSpPr>
          <p:grpSpPr>
            <a:xfrm>
              <a:off x="7794000" y="2243160"/>
              <a:ext cx="401400" cy="275760"/>
              <a:chOff x="7794000" y="2243160"/>
              <a:chExt cx="401400" cy="275760"/>
            </a:xfrm>
          </p:grpSpPr>
          <p:sp>
            <p:nvSpPr>
              <p:cNvPr id="851" name=""/>
              <p:cNvSpPr/>
              <p:nvPr/>
            </p:nvSpPr>
            <p:spPr>
              <a:xfrm>
                <a:off x="7794000" y="2243160"/>
                <a:ext cx="40140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עברית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843680" y="2351160"/>
                <a:ext cx="291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1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אהוד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154280" y="2055960"/>
              <a:ext cx="6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9900"/>
                  </a:solidFill>
                  <a:latin typeface="Times New Roman"/>
                  <a:cs typeface="Guttman Yad-Brush"/>
                </a:rPr>
                <a:t>א</a:t>
              </a:r>
              <a:r>
                <a:rPr b="0" lang="he-IL" sz="2400" spc="-1" strike="noStrike">
                  <a:solidFill>
                    <a:srgbClr val="cc0000"/>
                  </a:solidFill>
                  <a:latin typeface="Times New Roman"/>
                  <a:cs typeface="Guttman Yad-Brush"/>
                </a:rPr>
                <a:t>ב</a:t>
              </a:r>
              <a:r>
                <a:rPr b="0" lang="he-IL" sz="2400" spc="-1" strike="noStrike">
                  <a:solidFill>
                    <a:srgbClr val="cc00ff"/>
                  </a:solidFill>
                  <a:latin typeface="Times New Roman"/>
                  <a:cs typeface="Guttman Yad-Brush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15440" y="2332080"/>
              <a:ext cx="26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88760" y="234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256520" y="4808520"/>
            <a:ext cx="922680" cy="593640"/>
            <a:chOff x="7256520" y="4808520"/>
            <a:chExt cx="922680" cy="593640"/>
          </a:xfrm>
        </p:grpSpPr>
        <p:sp>
          <p:nvSpPr>
            <p:cNvPr id="857" name=""/>
            <p:cNvSpPr/>
            <p:nvPr/>
          </p:nvSpPr>
          <p:spPr>
            <a:xfrm>
              <a:off x="7947000" y="506412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46960" y="48196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23800" y="4975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girl_holding_123_ty_CLR" descr=""/>
            <p:cNvPicPr/>
            <p:nvPr/>
          </p:nvPicPr>
          <p:blipFill>
            <a:blip r:embed="rId57"/>
            <a:stretch/>
          </p:blipFill>
          <p:spPr>
            <a:xfrm>
              <a:off x="7256520" y="48085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7656480" y="50436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4243680" y="5073480"/>
            <a:ext cx="1142280" cy="501120"/>
            <a:chOff x="4243680" y="5073480"/>
            <a:chExt cx="1142280" cy="501120"/>
          </a:xfrm>
        </p:grpSpPr>
        <p:pic>
          <p:nvPicPr>
            <p:cNvPr id="863" name="image3" descr=""/>
            <p:cNvPicPr/>
            <p:nvPr/>
          </p:nvPicPr>
          <p:blipFill>
            <a:blip r:embed="rId58"/>
            <a:stretch/>
          </p:blipFill>
          <p:spPr>
            <a:xfrm flipH="1">
              <a:off x="4314960" y="5222880"/>
              <a:ext cx="411120" cy="3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4243680" y="507348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חברת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89960" y="52563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30400" y="5222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50480" y="5343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63600" y="4975200"/>
            <a:ext cx="951840" cy="598680"/>
            <a:chOff x="5763600" y="4975200"/>
            <a:chExt cx="951840" cy="598680"/>
          </a:xfrm>
        </p:grpSpPr>
        <p:pic>
          <p:nvPicPr>
            <p:cNvPr id="869" name="child_finger_painting_sm_CLR" descr=""/>
            <p:cNvPicPr/>
            <p:nvPr/>
          </p:nvPicPr>
          <p:blipFill>
            <a:blip r:embed="rId59"/>
            <a:stretch/>
          </p:blipFill>
          <p:spPr>
            <a:xfrm>
              <a:off x="5789520" y="505620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5763600" y="4975200"/>
              <a:ext cx="95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 פלס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22240" y="510408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99800" y="506916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079320" y="5176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4933800" y="4668840"/>
            <a:ext cx="933120" cy="396000"/>
            <a:chOff x="4933800" y="4668840"/>
            <a:chExt cx="933120" cy="396000"/>
          </a:xfrm>
        </p:grpSpPr>
        <p:sp>
          <p:nvSpPr>
            <p:cNvPr id="875" name=""/>
            <p:cNvSpPr/>
            <p:nvPr/>
          </p:nvSpPr>
          <p:spPr>
            <a:xfrm>
              <a:off x="5560560" y="471636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6" name="" descr=""/>
            <p:cNvPicPr/>
            <p:nvPr/>
          </p:nvPicPr>
          <p:blipFill>
            <a:blip r:embed="rId60"/>
            <a:stretch/>
          </p:blipFill>
          <p:spPr>
            <a:xfrm>
              <a:off x="4933800" y="47354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61"/>
            <a:stretch/>
          </p:blipFill>
          <p:spPr>
            <a:xfrm>
              <a:off x="5000400" y="46688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5321160" y="47527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08800" y="48513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07680" y="48337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7480440" y="5713560"/>
            <a:ext cx="650520" cy="675360"/>
            <a:chOff x="7480440" y="5713560"/>
            <a:chExt cx="650520" cy="675360"/>
          </a:xfrm>
        </p:grpSpPr>
        <p:sp>
          <p:nvSpPr>
            <p:cNvPr id="882" name=""/>
            <p:cNvSpPr/>
            <p:nvPr/>
          </p:nvSpPr>
          <p:spPr>
            <a:xfrm>
              <a:off x="7596720" y="5713560"/>
              <a:ext cx="33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872840" y="609120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50640" y="60609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5" name="lb_mu_v" descr=""/>
            <p:cNvPicPr/>
            <p:nvPr/>
          </p:nvPicPr>
          <p:blipFill>
            <a:blip r:embed="rId62"/>
            <a:stretch/>
          </p:blipFill>
          <p:spPr>
            <a:xfrm>
              <a:off x="7480440" y="5873760"/>
              <a:ext cx="633600" cy="22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7517880" y="6157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4258800" y="5594400"/>
            <a:ext cx="951840" cy="597960"/>
            <a:chOff x="4258800" y="5594400"/>
            <a:chExt cx="951840" cy="597960"/>
          </a:xfrm>
        </p:grpSpPr>
        <p:pic>
          <p:nvPicPr>
            <p:cNvPr id="888" name="child_finger_painting_sm_CLR" descr=""/>
            <p:cNvPicPr/>
            <p:nvPr/>
          </p:nvPicPr>
          <p:blipFill>
            <a:blip r:embed="rId63"/>
            <a:stretch/>
          </p:blipFill>
          <p:spPr>
            <a:xfrm>
              <a:off x="4284720" y="56750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258800" y="5594400"/>
              <a:ext cx="951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 פלסט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17440" y="57229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95000" y="56880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74520" y="5795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210360" y="6095880"/>
            <a:ext cx="1314000" cy="502560"/>
            <a:chOff x="6210360" y="6095880"/>
            <a:chExt cx="1314000" cy="502560"/>
          </a:xfrm>
        </p:grpSpPr>
        <p:sp>
          <p:nvSpPr>
            <p:cNvPr id="894" name=""/>
            <p:cNvSpPr/>
            <p:nvPr/>
          </p:nvSpPr>
          <p:spPr>
            <a:xfrm>
              <a:off x="6837120" y="6254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47040" y="60958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2760" y="6280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addition_2_plus_2_ty_CLR" descr=""/>
            <p:cNvPicPr/>
            <p:nvPr/>
          </p:nvPicPr>
          <p:blipFill>
            <a:blip r:embed="rId64"/>
            <a:stretch/>
          </p:blipFill>
          <p:spPr>
            <a:xfrm>
              <a:off x="6210360" y="617220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6851160" y="6367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146000" y="650880"/>
            <a:ext cx="1000440" cy="565920"/>
            <a:chOff x="7146000" y="650880"/>
            <a:chExt cx="1000440" cy="565920"/>
          </a:xfrm>
        </p:grpSpPr>
        <p:sp>
          <p:nvSpPr>
            <p:cNvPr id="900" name=""/>
            <p:cNvSpPr/>
            <p:nvPr/>
          </p:nvSpPr>
          <p:spPr>
            <a:xfrm>
              <a:off x="7146000" y="6508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752960" y="749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0320" y="8632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3" name="girl" descr=""/>
            <p:cNvPicPr/>
            <p:nvPr/>
          </p:nvPicPr>
          <p:blipFill>
            <a:blip r:embed="rId65"/>
            <a:stretch/>
          </p:blipFill>
          <p:spPr>
            <a:xfrm>
              <a:off x="7343640" y="77292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7593840" y="9856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936400" y="3689280"/>
            <a:ext cx="1000440" cy="566280"/>
            <a:chOff x="5936400" y="3689280"/>
            <a:chExt cx="1000440" cy="566280"/>
          </a:xfrm>
        </p:grpSpPr>
        <p:sp>
          <p:nvSpPr>
            <p:cNvPr id="906" name=""/>
            <p:cNvSpPr/>
            <p:nvPr/>
          </p:nvSpPr>
          <p:spPr>
            <a:xfrm>
              <a:off x="5936400" y="36892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43360" y="3787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80720" y="39020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9" name="girl" descr=""/>
            <p:cNvPicPr/>
            <p:nvPr/>
          </p:nvPicPr>
          <p:blipFill>
            <a:blip r:embed="rId66"/>
            <a:stretch/>
          </p:blipFill>
          <p:spPr>
            <a:xfrm>
              <a:off x="6134040" y="3811680"/>
              <a:ext cx="3412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6384240" y="4024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184280" y="708120"/>
            <a:ext cx="696600" cy="861120"/>
            <a:chOff x="4184280" y="708120"/>
            <a:chExt cx="696600" cy="861120"/>
          </a:xfrm>
        </p:grpSpPr>
        <p:sp>
          <p:nvSpPr>
            <p:cNvPr id="912" name=""/>
            <p:cNvSpPr/>
            <p:nvPr/>
          </p:nvSpPr>
          <p:spPr>
            <a:xfrm>
              <a:off x="4588920" y="1265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84280" y="121752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4" name="ccj1a_small" descr=""/>
            <p:cNvPicPr/>
            <p:nvPr/>
          </p:nvPicPr>
          <p:blipFill>
            <a:blip r:embed="rId67"/>
            <a:stretch/>
          </p:blipFill>
          <p:spPr>
            <a:xfrm>
              <a:off x="4295880" y="956880"/>
              <a:ext cx="57456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4264560" y="708120"/>
              <a:ext cx="53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69600" y="1338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416640" y="658800"/>
            <a:ext cx="762480" cy="577080"/>
            <a:chOff x="6416640" y="658800"/>
            <a:chExt cx="762480" cy="577080"/>
          </a:xfrm>
        </p:grpSpPr>
        <p:sp>
          <p:nvSpPr>
            <p:cNvPr id="918" name=""/>
            <p:cNvSpPr/>
            <p:nvPr/>
          </p:nvSpPr>
          <p:spPr>
            <a:xfrm>
              <a:off x="6583320" y="658800"/>
              <a:ext cx="592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יד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74760" y="87624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48360" y="88092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1" name="GreekVase_small" descr=""/>
            <p:cNvPicPr/>
            <p:nvPr/>
          </p:nvPicPr>
          <p:blipFill>
            <a:blip r:embed="rId68"/>
            <a:stretch/>
          </p:blipFill>
          <p:spPr>
            <a:xfrm>
              <a:off x="6416640" y="766800"/>
              <a:ext cx="2142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6639120" y="10047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4889520" y="841320"/>
            <a:ext cx="942480" cy="775440"/>
            <a:chOff x="4889520" y="841320"/>
            <a:chExt cx="942480" cy="775440"/>
          </a:xfrm>
        </p:grpSpPr>
        <p:pic>
          <p:nvPicPr>
            <p:cNvPr id="924" name="computer2" descr=""/>
            <p:cNvPicPr/>
            <p:nvPr/>
          </p:nvPicPr>
          <p:blipFill>
            <a:blip r:embed="rId69"/>
            <a:stretch/>
          </p:blipFill>
          <p:spPr>
            <a:xfrm>
              <a:off x="5003640" y="1127160"/>
              <a:ext cx="35244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889520" y="84132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ושב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36720" y="114912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17280" y="1263600"/>
              <a:ext cx="3560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79400" y="13856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203360" y="1584360"/>
            <a:ext cx="995040" cy="727920"/>
            <a:chOff x="4203360" y="1584360"/>
            <a:chExt cx="995040" cy="727920"/>
          </a:xfrm>
        </p:grpSpPr>
        <p:sp>
          <p:nvSpPr>
            <p:cNvPr id="930" name=""/>
            <p:cNvSpPr/>
            <p:nvPr/>
          </p:nvSpPr>
          <p:spPr>
            <a:xfrm>
              <a:off x="4608000" y="20080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03360" y="1960560"/>
              <a:ext cx="38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2" name="ccj1a_small" descr=""/>
            <p:cNvPicPr/>
            <p:nvPr/>
          </p:nvPicPr>
          <p:blipFill>
            <a:blip r:embed="rId70"/>
            <a:stretch/>
          </p:blipFill>
          <p:spPr>
            <a:xfrm>
              <a:off x="4314960" y="1700280"/>
              <a:ext cx="57456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4220640" y="1584360"/>
              <a:ext cx="97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דמוקרט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86520" y="2081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חוץ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260960" y="3086280"/>
            <a:ext cx="1035360" cy="570960"/>
            <a:chOff x="4260960" y="3086280"/>
            <a:chExt cx="1035360" cy="570960"/>
          </a:xfrm>
        </p:grpSpPr>
        <p:sp>
          <p:nvSpPr>
            <p:cNvPr id="936" name=""/>
            <p:cNvSpPr/>
            <p:nvPr/>
          </p:nvSpPr>
          <p:spPr>
            <a:xfrm>
              <a:off x="4760640" y="32922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79760" y="3086280"/>
              <a:ext cx="890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זרה בזמ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– יוון העת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065560" y="331776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9" name="roman_speaker_sm_CLR" descr=""/>
            <p:cNvPicPr/>
            <p:nvPr/>
          </p:nvPicPr>
          <p:blipFill>
            <a:blip r:embed="rId71"/>
            <a:stretch/>
          </p:blipFill>
          <p:spPr>
            <a:xfrm>
              <a:off x="4260960" y="3143160"/>
              <a:ext cx="47448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4622040" y="3395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5400720" y="2705040"/>
            <a:ext cx="955440" cy="546120"/>
            <a:chOff x="5400720" y="2705040"/>
            <a:chExt cx="955440" cy="546120"/>
          </a:xfrm>
        </p:grpSpPr>
        <p:sp>
          <p:nvSpPr>
            <p:cNvPr id="942" name=""/>
            <p:cNvSpPr/>
            <p:nvPr/>
          </p:nvSpPr>
          <p:spPr>
            <a:xfrm>
              <a:off x="5758560" y="285444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656320" y="2705040"/>
              <a:ext cx="69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עמ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26040" y="287964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5" name="boy" descr=""/>
            <p:cNvPicPr/>
            <p:nvPr/>
          </p:nvPicPr>
          <p:blipFill>
            <a:blip r:embed="rId72"/>
            <a:stretch/>
          </p:blipFill>
          <p:spPr>
            <a:xfrm>
              <a:off x="5400720" y="282420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5726880" y="2957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7182000" y="3700440"/>
            <a:ext cx="982800" cy="431280"/>
            <a:chOff x="7182000" y="3700440"/>
            <a:chExt cx="982800" cy="431280"/>
          </a:xfrm>
        </p:grpSpPr>
        <p:sp>
          <p:nvSpPr>
            <p:cNvPr id="948" name=""/>
            <p:cNvSpPr/>
            <p:nvPr/>
          </p:nvSpPr>
          <p:spPr>
            <a:xfrm>
              <a:off x="7665120" y="370044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7412040" y="3778200"/>
              <a:ext cx="191520" cy="226800"/>
              <a:chOff x="7412040" y="3778200"/>
              <a:chExt cx="191520" cy="226800"/>
            </a:xfrm>
          </p:grpSpPr>
          <p:pic>
            <p:nvPicPr>
              <p:cNvPr id="950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7412040" y="377820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1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7412040" y="377820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2" name=""/>
            <p:cNvGrpSpPr/>
            <p:nvPr/>
          </p:nvGrpSpPr>
          <p:grpSpPr>
            <a:xfrm>
              <a:off x="7182000" y="3776760"/>
              <a:ext cx="199800" cy="247320"/>
              <a:chOff x="7182000" y="3776760"/>
              <a:chExt cx="199800" cy="247320"/>
            </a:xfrm>
          </p:grpSpPr>
          <p:pic>
            <p:nvPicPr>
              <p:cNvPr id="953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182000" y="3776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7182000" y="3776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5" name=""/>
            <p:cNvSpPr/>
            <p:nvPr/>
          </p:nvSpPr>
          <p:spPr>
            <a:xfrm>
              <a:off x="7830360" y="37893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630920" y="378936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675560" y="39006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860160" y="4084560"/>
            <a:ext cx="1106640" cy="537480"/>
            <a:chOff x="6860160" y="4084560"/>
            <a:chExt cx="1106640" cy="537480"/>
          </a:xfrm>
        </p:grpSpPr>
        <p:sp>
          <p:nvSpPr>
            <p:cNvPr id="959" name=""/>
            <p:cNvSpPr/>
            <p:nvPr/>
          </p:nvSpPr>
          <p:spPr>
            <a:xfrm>
              <a:off x="7565400" y="4205160"/>
              <a:ext cx="401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17600" y="4313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י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944760" y="4084560"/>
              <a:ext cx="6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9900"/>
                  </a:solidFill>
                  <a:latin typeface="Times New Roman"/>
                  <a:cs typeface="Guttman Yad-Brush"/>
                </a:rPr>
                <a:t>א</a:t>
              </a:r>
              <a:r>
                <a:rPr b="0" lang="he-IL" sz="2400" spc="-1" strike="noStrike">
                  <a:solidFill>
                    <a:srgbClr val="cc0000"/>
                  </a:solidFill>
                  <a:latin typeface="Times New Roman"/>
                  <a:cs typeface="Guttman Yad-Brush"/>
                </a:rPr>
                <a:t>ב</a:t>
              </a:r>
              <a:r>
                <a:rPr b="0" lang="he-IL" sz="2400" spc="-1" strike="noStrike">
                  <a:solidFill>
                    <a:srgbClr val="cc00ff"/>
                  </a:solidFill>
                  <a:latin typeface="Times New Roman"/>
                  <a:cs typeface="Guttman Yad-Brush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386840" y="4360680"/>
              <a:ext cx="26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cc0000"/>
                  </a:solidFill>
                  <a:latin typeface="Arial"/>
                  <a:ea typeface="Arial"/>
                </a:rPr>
                <a:t>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60160" y="4376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6276960" y="4633920"/>
            <a:ext cx="1059480" cy="431280"/>
            <a:chOff x="6276960" y="4633920"/>
            <a:chExt cx="1059480" cy="431280"/>
          </a:xfrm>
        </p:grpSpPr>
        <p:sp>
          <p:nvSpPr>
            <p:cNvPr id="965" name=""/>
            <p:cNvSpPr/>
            <p:nvPr/>
          </p:nvSpPr>
          <p:spPr>
            <a:xfrm>
              <a:off x="6760440" y="463392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6507000" y="4711680"/>
              <a:ext cx="192240" cy="226800"/>
              <a:chOff x="6507000" y="4711680"/>
              <a:chExt cx="192240" cy="226800"/>
            </a:xfrm>
          </p:grpSpPr>
          <p:pic>
            <p:nvPicPr>
              <p:cNvPr id="967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6507000" y="4711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6507000" y="4711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9" name=""/>
            <p:cNvGrpSpPr/>
            <p:nvPr/>
          </p:nvGrpSpPr>
          <p:grpSpPr>
            <a:xfrm>
              <a:off x="6276960" y="4710240"/>
              <a:ext cx="199800" cy="247320"/>
              <a:chOff x="6276960" y="4710240"/>
              <a:chExt cx="199800" cy="247320"/>
            </a:xfrm>
          </p:grpSpPr>
          <p:pic>
            <p:nvPicPr>
              <p:cNvPr id="97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627696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627696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2" name=""/>
            <p:cNvSpPr/>
            <p:nvPr/>
          </p:nvSpPr>
          <p:spPr>
            <a:xfrm>
              <a:off x="7002000" y="472284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32720" y="4722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65120" y="4834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765680" y="5992920"/>
            <a:ext cx="1052280" cy="605520"/>
            <a:chOff x="4765680" y="5992920"/>
            <a:chExt cx="1052280" cy="605520"/>
          </a:xfrm>
        </p:grpSpPr>
        <p:sp>
          <p:nvSpPr>
            <p:cNvPr id="976" name=""/>
            <p:cNvSpPr/>
            <p:nvPr/>
          </p:nvSpPr>
          <p:spPr>
            <a:xfrm>
              <a:off x="5371920" y="6080040"/>
              <a:ext cx="438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97640" y="6421320"/>
              <a:ext cx="22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48160" y="62877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9" name="noahs_ark_rocking_ty_CLR" descr=""/>
            <p:cNvPicPr/>
            <p:nvPr/>
          </p:nvPicPr>
          <p:blipFill>
            <a:blip r:embed="rId81"/>
            <a:stretch/>
          </p:blipFill>
          <p:spPr>
            <a:xfrm>
              <a:off x="4765680" y="5992920"/>
              <a:ext cx="6393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5154840" y="6367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467400" y="5597640"/>
            <a:ext cx="850320" cy="538200"/>
            <a:chOff x="6467400" y="5597640"/>
            <a:chExt cx="850320" cy="538200"/>
          </a:xfrm>
        </p:grpSpPr>
        <p:sp>
          <p:nvSpPr>
            <p:cNvPr id="982" name=""/>
            <p:cNvSpPr/>
            <p:nvPr/>
          </p:nvSpPr>
          <p:spPr>
            <a:xfrm>
              <a:off x="6941880" y="559764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3" name="" descr=""/>
            <p:cNvPicPr/>
            <p:nvPr/>
          </p:nvPicPr>
          <p:blipFill>
            <a:blip r:embed="rId82"/>
            <a:stretch/>
          </p:blipFill>
          <p:spPr>
            <a:xfrm>
              <a:off x="6467400" y="58168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83"/>
            <a:stretch/>
          </p:blipFill>
          <p:spPr>
            <a:xfrm>
              <a:off x="6638760" y="5635800"/>
              <a:ext cx="29556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6971040" y="574236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65120" y="58579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63840" y="2719440"/>
            <a:ext cx="909720" cy="459720"/>
            <a:chOff x="3363840" y="2719440"/>
            <a:chExt cx="909720" cy="459720"/>
          </a:xfrm>
        </p:grpSpPr>
        <p:pic>
          <p:nvPicPr>
            <p:cNvPr id="988" name="acs1" descr=""/>
            <p:cNvPicPr/>
            <p:nvPr/>
          </p:nvPicPr>
          <p:blipFill>
            <a:blip r:embed="rId84"/>
            <a:stretch/>
          </p:blipFill>
          <p:spPr>
            <a:xfrm>
              <a:off x="3363840" y="2752920"/>
              <a:ext cx="3664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3647880" y="2719440"/>
              <a:ext cx="62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 ב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689280" y="287208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74320" y="2840040"/>
              <a:ext cx="33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י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602520" y="2948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17440" y="2774880"/>
            <a:ext cx="748800" cy="567720"/>
            <a:chOff x="217440" y="2774880"/>
            <a:chExt cx="748800" cy="567720"/>
          </a:xfrm>
        </p:grpSpPr>
        <p:sp>
          <p:nvSpPr>
            <p:cNvPr id="994" name=""/>
            <p:cNvSpPr/>
            <p:nvPr/>
          </p:nvSpPr>
          <p:spPr>
            <a:xfrm>
              <a:off x="634320" y="2886120"/>
              <a:ext cx="302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360" y="302256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6" name="dragon_blowing_fire_sm_CLR" descr=""/>
            <p:cNvPicPr/>
            <p:nvPr/>
          </p:nvPicPr>
          <p:blipFill>
            <a:blip r:embed="rId85"/>
            <a:stretch/>
          </p:blipFill>
          <p:spPr>
            <a:xfrm>
              <a:off x="217440" y="2774880"/>
              <a:ext cx="43164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506160" y="302256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9160" y="311148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888560" y="3130560"/>
            <a:ext cx="554760" cy="596160"/>
            <a:chOff x="1888560" y="3130560"/>
            <a:chExt cx="554760" cy="596160"/>
          </a:xfrm>
        </p:grpSpPr>
        <p:sp>
          <p:nvSpPr>
            <p:cNvPr id="1000" name=""/>
            <p:cNvSpPr/>
            <p:nvPr/>
          </p:nvSpPr>
          <p:spPr>
            <a:xfrm>
              <a:off x="2082960" y="313056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1903680" y="3222360"/>
              <a:ext cx="304560" cy="330120"/>
              <a:chOff x="1903680" y="3222360"/>
              <a:chExt cx="304560" cy="330120"/>
            </a:xfrm>
          </p:grpSpPr>
          <p:pic>
            <p:nvPicPr>
              <p:cNvPr id="1002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1903680" y="322236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3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1903680" y="3222360"/>
                <a:ext cx="3045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4" name=""/>
            <p:cNvSpPr/>
            <p:nvPr/>
          </p:nvSpPr>
          <p:spPr>
            <a:xfrm>
              <a:off x="2170440" y="330336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68280" y="3403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88560" y="34956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162160" y="3705120"/>
            <a:ext cx="965520" cy="550080"/>
            <a:chOff x="2162160" y="3705120"/>
            <a:chExt cx="965520" cy="550080"/>
          </a:xfrm>
        </p:grpSpPr>
        <p:pic>
          <p:nvPicPr>
            <p:cNvPr id="1008" name="mh5l_b" descr=""/>
            <p:cNvPicPr/>
            <p:nvPr/>
          </p:nvPicPr>
          <p:blipFill>
            <a:blip r:embed="rId88"/>
            <a:stretch/>
          </p:blipFill>
          <p:spPr>
            <a:xfrm>
              <a:off x="2187360" y="3827520"/>
              <a:ext cx="479520" cy="4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2896920" y="395280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67240" y="39193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62160" y="3705120"/>
              <a:ext cx="954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שים רעיונות ומהפכ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24680" y="40240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208240" y="5138640"/>
            <a:ext cx="997560" cy="497880"/>
            <a:chOff x="2208240" y="5138640"/>
            <a:chExt cx="997560" cy="497880"/>
          </a:xfrm>
        </p:grpSpPr>
        <p:pic>
          <p:nvPicPr>
            <p:cNvPr id="1014" name="ccj1a_small" descr=""/>
            <p:cNvPicPr/>
            <p:nvPr/>
          </p:nvPicPr>
          <p:blipFill>
            <a:blip r:embed="rId89"/>
            <a:stretch/>
          </p:blipFill>
          <p:spPr>
            <a:xfrm>
              <a:off x="2208240" y="5138640"/>
              <a:ext cx="57492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2754000" y="5222520"/>
              <a:ext cx="45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עד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ומ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08240" y="5405400"/>
              <a:ext cx="32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0000"/>
                  </a:solidFill>
                  <a:latin typeface="Arial"/>
                  <a:ea typeface="Arial"/>
                </a:rPr>
                <a:t>(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874800" y="5078520"/>
            <a:ext cx="1045440" cy="558000"/>
            <a:chOff x="874800" y="5078520"/>
            <a:chExt cx="1045440" cy="558000"/>
          </a:xfrm>
        </p:grpSpPr>
        <p:sp>
          <p:nvSpPr>
            <p:cNvPr id="1018" name=""/>
            <p:cNvSpPr/>
            <p:nvPr/>
          </p:nvSpPr>
          <p:spPr>
            <a:xfrm>
              <a:off x="1298520" y="5078520"/>
              <a:ext cx="61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ולדות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קולנוע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76160" y="528948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0" name="funny_men_hand_cart_ty_CLR" descr=""/>
            <p:cNvPicPr/>
            <p:nvPr/>
          </p:nvPicPr>
          <p:blipFill>
            <a:blip r:embed="rId90"/>
            <a:stretch/>
          </p:blipFill>
          <p:spPr>
            <a:xfrm>
              <a:off x="874800" y="507852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1367640" y="5405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98520" y="5246640"/>
              <a:ext cx="441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17440" y="5060880"/>
            <a:ext cx="746640" cy="567720"/>
            <a:chOff x="217440" y="5060880"/>
            <a:chExt cx="746640" cy="567720"/>
          </a:xfrm>
        </p:grpSpPr>
        <p:sp>
          <p:nvSpPr>
            <p:cNvPr id="1024" name=""/>
            <p:cNvSpPr/>
            <p:nvPr/>
          </p:nvSpPr>
          <p:spPr>
            <a:xfrm>
              <a:off x="634320" y="5172120"/>
              <a:ext cx="302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2360" y="530856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6" name="dragon_blowing_fire_sm_CLR" descr=""/>
            <p:cNvPicPr/>
            <p:nvPr/>
          </p:nvPicPr>
          <p:blipFill>
            <a:blip r:embed="rId91"/>
            <a:stretch/>
          </p:blipFill>
          <p:spPr>
            <a:xfrm>
              <a:off x="217440" y="5060880"/>
              <a:ext cx="43164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506160" y="530856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1480" y="5397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1287360" y="6157800"/>
            <a:ext cx="997560" cy="497880"/>
            <a:chOff x="1287360" y="6157800"/>
            <a:chExt cx="997560" cy="497880"/>
          </a:xfrm>
        </p:grpSpPr>
        <p:pic>
          <p:nvPicPr>
            <p:cNvPr id="1030" name="ccj1a_small" descr=""/>
            <p:cNvPicPr/>
            <p:nvPr/>
          </p:nvPicPr>
          <p:blipFill>
            <a:blip r:embed="rId92"/>
            <a:stretch/>
          </p:blipFill>
          <p:spPr>
            <a:xfrm>
              <a:off x="1287360" y="6157800"/>
              <a:ext cx="574920" cy="33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1833120" y="6241680"/>
              <a:ext cx="45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עד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ומ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87360" y="6424560"/>
              <a:ext cx="32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0000"/>
                  </a:solidFill>
                  <a:latin typeface="Arial"/>
                  <a:ea typeface="Arial"/>
                </a:rPr>
                <a:t>(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2652840" y="5549760"/>
            <a:ext cx="696600" cy="667800"/>
            <a:chOff x="2652840" y="5549760"/>
            <a:chExt cx="696600" cy="667800"/>
          </a:xfrm>
        </p:grpSpPr>
        <p:sp>
          <p:nvSpPr>
            <p:cNvPr id="1034" name=""/>
            <p:cNvSpPr/>
            <p:nvPr/>
          </p:nvSpPr>
          <p:spPr>
            <a:xfrm>
              <a:off x="3117240" y="5949720"/>
              <a:ext cx="23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93120" y="56689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01880" y="5549760"/>
              <a:ext cx="50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7" name="Origami-" descr=""/>
            <p:cNvPicPr/>
            <p:nvPr/>
          </p:nvPicPr>
          <p:blipFill>
            <a:blip r:embed="rId93"/>
            <a:stretch/>
          </p:blipFill>
          <p:spPr>
            <a:xfrm>
              <a:off x="2652840" y="5608440"/>
              <a:ext cx="6346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2697480" y="5986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351000" y="5592600"/>
            <a:ext cx="1045440" cy="558000"/>
            <a:chOff x="351000" y="5592600"/>
            <a:chExt cx="1045440" cy="558000"/>
          </a:xfrm>
        </p:grpSpPr>
        <p:sp>
          <p:nvSpPr>
            <p:cNvPr id="1040" name=""/>
            <p:cNvSpPr/>
            <p:nvPr/>
          </p:nvSpPr>
          <p:spPr>
            <a:xfrm>
              <a:off x="774720" y="5592600"/>
              <a:ext cx="6181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ולדות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קולנוע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52360" y="580356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י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2" name="funny_men_hand_cart_ty_CLR" descr=""/>
            <p:cNvPicPr/>
            <p:nvPr/>
          </p:nvPicPr>
          <p:blipFill>
            <a:blip r:embed="rId94"/>
            <a:stretch/>
          </p:blipFill>
          <p:spPr>
            <a:xfrm>
              <a:off x="351000" y="5592600"/>
              <a:ext cx="57924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843840" y="5919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0720" y="5760720"/>
              <a:ext cx="40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430960" y="620640"/>
            <a:ext cx="877680" cy="615240"/>
            <a:chOff x="5430960" y="620640"/>
            <a:chExt cx="877680" cy="615240"/>
          </a:xfrm>
        </p:grpSpPr>
        <p:pic>
          <p:nvPicPr>
            <p:cNvPr id="1046" name="accountant_raising_pencil_sm_CLR" descr=""/>
            <p:cNvPicPr/>
            <p:nvPr/>
          </p:nvPicPr>
          <p:blipFill>
            <a:blip r:embed="rId95"/>
            <a:stretch/>
          </p:blipFill>
          <p:spPr>
            <a:xfrm>
              <a:off x="5834160" y="62064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5573520" y="80028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41560" y="890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30960" y="657360"/>
              <a:ext cx="468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0760" y="1004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133200" y="5908680"/>
            <a:ext cx="1063080" cy="699480"/>
            <a:chOff x="133200" y="5908680"/>
            <a:chExt cx="1063080" cy="699480"/>
          </a:xfrm>
        </p:grpSpPr>
        <p:sp>
          <p:nvSpPr>
            <p:cNvPr id="1052" name=""/>
            <p:cNvSpPr/>
            <p:nvPr/>
          </p:nvSpPr>
          <p:spPr>
            <a:xfrm>
              <a:off x="563040" y="6164280"/>
              <a:ext cx="6332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03960" y="6261120"/>
              <a:ext cx="26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24600" y="6377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?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4120" y="6218280"/>
              <a:ext cx="33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6" name="guy_waving_vote_sign_sm_CLR" descr=""/>
            <p:cNvPicPr/>
            <p:nvPr/>
          </p:nvPicPr>
          <p:blipFill>
            <a:blip r:embed="rId96"/>
            <a:stretch/>
          </p:blipFill>
          <p:spPr>
            <a:xfrm>
              <a:off x="133200" y="5908680"/>
              <a:ext cx="630360" cy="63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5486400" y="1630440"/>
            <a:ext cx="877680" cy="434160"/>
            <a:chOff x="5486400" y="1630440"/>
            <a:chExt cx="877680" cy="434160"/>
          </a:xfrm>
        </p:grpSpPr>
        <p:sp>
          <p:nvSpPr>
            <p:cNvPr id="1058" name=""/>
            <p:cNvSpPr/>
            <p:nvPr/>
          </p:nvSpPr>
          <p:spPr>
            <a:xfrm>
              <a:off x="6093720" y="1630440"/>
              <a:ext cx="27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9" name="" descr=""/>
            <p:cNvPicPr/>
            <p:nvPr/>
          </p:nvPicPr>
          <p:blipFill>
            <a:blip r:embed="rId1"/>
            <a:stretch/>
          </p:blipFill>
          <p:spPr>
            <a:xfrm>
              <a:off x="5486400" y="1735200"/>
              <a:ext cx="29484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2"/>
            <a:stretch/>
          </p:blipFill>
          <p:spPr>
            <a:xfrm>
              <a:off x="5552640" y="166824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5855760" y="16668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22440" y="176508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59560" y="1833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036480" y="1778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22200" y="1778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196120" y="662292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964120" y="66420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961600" y="249408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0440" y="171360"/>
            <a:ext cx="8772480" cy="66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440" y="371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0440" y="638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90440" y="15717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0440" y="25239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440" y="2733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00160" y="36766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440" y="4638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440" y="5581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182080" y="162000"/>
            <a:ext cx="0" cy="663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257720" y="171360"/>
            <a:ext cx="0" cy="663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224920" y="42552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83480" y="441360"/>
            <a:ext cx="7185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מפגש בוק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0160" y="656280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635560" y="-38160"/>
            <a:ext cx="368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סמסטר א' תשס“ח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7307280" y="644400"/>
            <a:ext cx="868680" cy="763200"/>
            <a:chOff x="7307280" y="644400"/>
            <a:chExt cx="868680" cy="763200"/>
          </a:xfrm>
        </p:grpSpPr>
        <p:sp>
          <p:nvSpPr>
            <p:cNvPr id="1085" name=""/>
            <p:cNvSpPr/>
            <p:nvPr/>
          </p:nvSpPr>
          <p:spPr>
            <a:xfrm>
              <a:off x="7864560" y="10825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891920" y="90648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307280" y="644400"/>
              <a:ext cx="8110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 בעו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ש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atomic_energy_sm_CLR" descr=""/>
            <p:cNvPicPr/>
            <p:nvPr/>
          </p:nvPicPr>
          <p:blipFill>
            <a:blip r:embed="rId3"/>
            <a:stretch/>
          </p:blipFill>
          <p:spPr>
            <a:xfrm>
              <a:off x="7338960" y="728640"/>
              <a:ext cx="5886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7488720" y="1176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4286160" y="998640"/>
            <a:ext cx="583200" cy="591480"/>
            <a:chOff x="4286160" y="998640"/>
            <a:chExt cx="583200" cy="591480"/>
          </a:xfrm>
        </p:grpSpPr>
        <p:sp>
          <p:nvSpPr>
            <p:cNvPr id="1091" name=""/>
            <p:cNvSpPr/>
            <p:nvPr/>
          </p:nvSpPr>
          <p:spPr>
            <a:xfrm>
              <a:off x="4350600" y="998640"/>
              <a:ext cx="409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23840" y="1422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4286160" y="1150920"/>
              <a:ext cx="401040" cy="404640"/>
              <a:chOff x="4286160" y="1150920"/>
              <a:chExt cx="401040" cy="40464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286160" y="115092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86160" y="115092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6" name=""/>
            <p:cNvSpPr/>
            <p:nvPr/>
          </p:nvSpPr>
          <p:spPr>
            <a:xfrm>
              <a:off x="4658400" y="12891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248440" y="1095480"/>
            <a:ext cx="1069920" cy="521640"/>
            <a:chOff x="5248440" y="1095480"/>
            <a:chExt cx="1069920" cy="521640"/>
          </a:xfrm>
        </p:grpSpPr>
        <p:sp>
          <p:nvSpPr>
            <p:cNvPr id="1098" name=""/>
            <p:cNvSpPr/>
            <p:nvPr/>
          </p:nvSpPr>
          <p:spPr>
            <a:xfrm>
              <a:off x="5913360" y="13971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13560" y="10954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28400" y="1270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1" name="addition_2_plus_2_ty_CLR" descr=""/>
            <p:cNvPicPr/>
            <p:nvPr/>
          </p:nvPicPr>
          <p:blipFill>
            <a:blip r:embed="rId6"/>
            <a:stretch/>
          </p:blipFill>
          <p:spPr>
            <a:xfrm>
              <a:off x="5248440" y="11145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"/>
            <p:cNvSpPr/>
            <p:nvPr/>
          </p:nvSpPr>
          <p:spPr>
            <a:xfrm>
              <a:off x="5288760" y="13860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6399360" y="1065240"/>
            <a:ext cx="1148760" cy="593640"/>
            <a:chOff x="6399360" y="1065240"/>
            <a:chExt cx="1148760" cy="593640"/>
          </a:xfrm>
        </p:grpSpPr>
        <p:sp>
          <p:nvSpPr>
            <p:cNvPr id="1104" name=""/>
            <p:cNvSpPr/>
            <p:nvPr/>
          </p:nvSpPr>
          <p:spPr>
            <a:xfrm>
              <a:off x="6959520" y="126504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51840" y="12301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838920" y="113796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וא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7" name="germ_squishing_around_ty_CLR" descr=""/>
            <p:cNvPicPr/>
            <p:nvPr/>
          </p:nvPicPr>
          <p:blipFill>
            <a:blip r:embed="rId7"/>
            <a:stretch/>
          </p:blipFill>
          <p:spPr>
            <a:xfrm>
              <a:off x="6399360" y="106524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6804000" y="134748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753080" y="641520"/>
            <a:ext cx="764640" cy="594360"/>
            <a:chOff x="4753080" y="641520"/>
            <a:chExt cx="764640" cy="594360"/>
          </a:xfrm>
        </p:grpSpPr>
        <p:pic>
          <p:nvPicPr>
            <p:cNvPr id="1110" name="bkcl1a" descr=""/>
            <p:cNvPicPr/>
            <p:nvPr/>
          </p:nvPicPr>
          <p:blipFill>
            <a:blip r:embed="rId8"/>
            <a:stretch/>
          </p:blipFill>
          <p:spPr>
            <a:xfrm>
              <a:off x="4753080" y="730080"/>
              <a:ext cx="4194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023440" y="641520"/>
              <a:ext cx="413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196960" y="915840"/>
              <a:ext cx="2095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20720" y="74448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65120" y="10047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6396480" y="1560600"/>
            <a:ext cx="635400" cy="591480"/>
            <a:chOff x="6396480" y="1560600"/>
            <a:chExt cx="635400" cy="591480"/>
          </a:xfrm>
        </p:grpSpPr>
        <p:sp>
          <p:nvSpPr>
            <p:cNvPr id="1116" name=""/>
            <p:cNvSpPr/>
            <p:nvPr/>
          </p:nvSpPr>
          <p:spPr>
            <a:xfrm>
              <a:off x="6396480" y="1560600"/>
              <a:ext cx="52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66200" y="19843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6448680" y="1712880"/>
              <a:ext cx="401040" cy="404640"/>
              <a:chOff x="6448680" y="1712880"/>
              <a:chExt cx="401040" cy="40464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48680" y="17128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48680" y="1712880"/>
                <a:ext cx="40104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1" name=""/>
            <p:cNvSpPr/>
            <p:nvPr/>
          </p:nvSpPr>
          <p:spPr>
            <a:xfrm>
              <a:off x="6820920" y="18511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5818320" y="598320"/>
            <a:ext cx="975600" cy="593640"/>
            <a:chOff x="5818320" y="598320"/>
            <a:chExt cx="975600" cy="593640"/>
          </a:xfrm>
        </p:grpSpPr>
        <p:sp>
          <p:nvSpPr>
            <p:cNvPr id="1123" name=""/>
            <p:cNvSpPr/>
            <p:nvPr/>
          </p:nvSpPr>
          <p:spPr>
            <a:xfrm>
              <a:off x="6331320" y="853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56640" y="6285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83600" y="7743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6" name="girl_holding_123_ty_CLR" descr=""/>
            <p:cNvPicPr/>
            <p:nvPr/>
          </p:nvPicPr>
          <p:blipFill>
            <a:blip r:embed="rId11"/>
            <a:stretch/>
          </p:blipFill>
          <p:spPr>
            <a:xfrm>
              <a:off x="5818320" y="59832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41320" y="947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4400640" y="1552680"/>
            <a:ext cx="1069920" cy="521640"/>
            <a:chOff x="4400640" y="1552680"/>
            <a:chExt cx="1069920" cy="521640"/>
          </a:xfrm>
        </p:grpSpPr>
        <p:sp>
          <p:nvSpPr>
            <p:cNvPr id="1129" name=""/>
            <p:cNvSpPr/>
            <p:nvPr/>
          </p:nvSpPr>
          <p:spPr>
            <a:xfrm>
              <a:off x="5065560" y="1854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65760" y="15526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-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980600" y="17272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2" name="addition_2_plus_2_ty_CLR" descr=""/>
            <p:cNvPicPr/>
            <p:nvPr/>
          </p:nvPicPr>
          <p:blipFill>
            <a:blip r:embed="rId12"/>
            <a:stretch/>
          </p:blipFill>
          <p:spPr>
            <a:xfrm>
              <a:off x="4400640" y="15717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4440960" y="1843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4305240" y="2004840"/>
            <a:ext cx="818280" cy="554760"/>
            <a:chOff x="4305240" y="2004840"/>
            <a:chExt cx="818280" cy="554760"/>
          </a:xfrm>
        </p:grpSpPr>
        <p:sp>
          <p:nvSpPr>
            <p:cNvPr id="1135" name=""/>
            <p:cNvSpPr/>
            <p:nvPr/>
          </p:nvSpPr>
          <p:spPr>
            <a:xfrm>
              <a:off x="4456800" y="2004840"/>
              <a:ext cx="66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4535280" y="2130120"/>
              <a:ext cx="192240" cy="226800"/>
              <a:chOff x="4535280" y="2130120"/>
              <a:chExt cx="192240" cy="226800"/>
            </a:xfrm>
          </p:grpSpPr>
          <p:pic>
            <p:nvPicPr>
              <p:cNvPr id="113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35280" y="2130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535280" y="2130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9" name=""/>
            <p:cNvGrpSpPr/>
            <p:nvPr/>
          </p:nvGrpSpPr>
          <p:grpSpPr>
            <a:xfrm>
              <a:off x="4305240" y="2128680"/>
              <a:ext cx="199800" cy="247320"/>
              <a:chOff x="4305240" y="2128680"/>
              <a:chExt cx="199800" cy="247320"/>
            </a:xfrm>
          </p:grpSpPr>
          <p:pic>
            <p:nvPicPr>
              <p:cNvPr id="114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05240" y="21286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305240" y="21286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2" name=""/>
            <p:cNvSpPr/>
            <p:nvPr/>
          </p:nvSpPr>
          <p:spPr>
            <a:xfrm>
              <a:off x="4695840" y="20840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17160" y="22176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26640" y="2328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6656400" y="2036880"/>
            <a:ext cx="1149480" cy="593640"/>
            <a:chOff x="6656400" y="2036880"/>
            <a:chExt cx="1149480" cy="593640"/>
          </a:xfrm>
        </p:grpSpPr>
        <p:sp>
          <p:nvSpPr>
            <p:cNvPr id="1146" name=""/>
            <p:cNvSpPr/>
            <p:nvPr/>
          </p:nvSpPr>
          <p:spPr>
            <a:xfrm>
              <a:off x="7216920" y="223668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09240" y="220176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96320" y="2109600"/>
              <a:ext cx="709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זוא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9" name="germ_squishing_around_ty_CLR" descr=""/>
            <p:cNvPicPr/>
            <p:nvPr/>
          </p:nvPicPr>
          <p:blipFill>
            <a:blip r:embed="rId17"/>
            <a:stretch/>
          </p:blipFill>
          <p:spPr>
            <a:xfrm>
              <a:off x="6656400" y="203688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"/>
            <p:cNvSpPr/>
            <p:nvPr/>
          </p:nvSpPr>
          <p:spPr>
            <a:xfrm>
              <a:off x="7061400" y="231912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5100480" y="1890720"/>
            <a:ext cx="1104120" cy="728280"/>
            <a:chOff x="5100480" y="1890720"/>
            <a:chExt cx="1104120" cy="728280"/>
          </a:xfrm>
        </p:grpSpPr>
        <p:sp>
          <p:nvSpPr>
            <p:cNvPr id="1152" name=""/>
            <p:cNvSpPr/>
            <p:nvPr/>
          </p:nvSpPr>
          <p:spPr>
            <a:xfrm>
              <a:off x="5672880" y="23209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20560" y="227808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49840" y="2082960"/>
              <a:ext cx="4586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ס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5" name="atomic_energy_sm_CLR" descr=""/>
            <p:cNvPicPr/>
            <p:nvPr/>
          </p:nvPicPr>
          <p:blipFill>
            <a:blip r:embed="rId18"/>
            <a:stretch/>
          </p:blipFill>
          <p:spPr>
            <a:xfrm>
              <a:off x="5100480" y="189072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5250600" y="23385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551480" y="2751120"/>
            <a:ext cx="1148760" cy="593640"/>
            <a:chOff x="4551480" y="2751120"/>
            <a:chExt cx="1148760" cy="593640"/>
          </a:xfrm>
        </p:grpSpPr>
        <p:sp>
          <p:nvSpPr>
            <p:cNvPr id="1158" name=""/>
            <p:cNvSpPr/>
            <p:nvPr/>
          </p:nvSpPr>
          <p:spPr>
            <a:xfrm>
              <a:off x="5089320" y="29509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403960" y="29160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991040" y="282384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1" name="germ_squishing_around_ty_CLR" descr=""/>
            <p:cNvPicPr/>
            <p:nvPr/>
          </p:nvPicPr>
          <p:blipFill>
            <a:blip r:embed="rId19"/>
            <a:stretch/>
          </p:blipFill>
          <p:spPr>
            <a:xfrm>
              <a:off x="4551480" y="275112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4956120" y="30333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605360" y="2836800"/>
            <a:ext cx="570960" cy="791640"/>
            <a:chOff x="7605360" y="2836800"/>
            <a:chExt cx="570960" cy="791640"/>
          </a:xfrm>
        </p:grpSpPr>
        <p:sp>
          <p:nvSpPr>
            <p:cNvPr id="1164" name=""/>
            <p:cNvSpPr/>
            <p:nvPr/>
          </p:nvSpPr>
          <p:spPr>
            <a:xfrm>
              <a:off x="7605360" y="283680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 –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9240" y="3460680"/>
              <a:ext cx="21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7620120" y="3198600"/>
              <a:ext cx="401400" cy="404280"/>
              <a:chOff x="7620120" y="3198600"/>
              <a:chExt cx="401400" cy="404280"/>
            </a:xfrm>
          </p:grpSpPr>
          <p:pic>
            <p:nvPicPr>
              <p:cNvPr id="116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620120" y="31986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620120" y="31986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9" name=""/>
            <p:cNvSpPr/>
            <p:nvPr/>
          </p:nvSpPr>
          <p:spPr>
            <a:xfrm>
              <a:off x="7945200" y="31939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6729480" y="2890800"/>
            <a:ext cx="874440" cy="678600"/>
            <a:chOff x="6729480" y="2890800"/>
            <a:chExt cx="874440" cy="678600"/>
          </a:xfrm>
        </p:grpSpPr>
        <p:sp>
          <p:nvSpPr>
            <p:cNvPr id="1171" name=""/>
            <p:cNvSpPr/>
            <p:nvPr/>
          </p:nvSpPr>
          <p:spPr>
            <a:xfrm>
              <a:off x="7334280" y="3321000"/>
              <a:ext cx="17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73080" y="3163680"/>
              <a:ext cx="28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לו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45280" y="2949480"/>
              <a:ext cx="458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תזו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4" name="atomic_energy_sm_CLR" descr=""/>
            <p:cNvPicPr/>
            <p:nvPr/>
          </p:nvPicPr>
          <p:blipFill>
            <a:blip r:embed="rId22"/>
            <a:stretch/>
          </p:blipFill>
          <p:spPr>
            <a:xfrm>
              <a:off x="6729480" y="2890800"/>
              <a:ext cx="5889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"/>
            <p:cNvSpPr/>
            <p:nvPr/>
          </p:nvSpPr>
          <p:spPr>
            <a:xfrm>
              <a:off x="6879240" y="3338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3205080"/>
            <a:ext cx="1023840" cy="421560"/>
            <a:chOff x="5486400" y="3205080"/>
            <a:chExt cx="1023840" cy="421560"/>
          </a:xfrm>
        </p:grpSpPr>
        <p:sp>
          <p:nvSpPr>
            <p:cNvPr id="1177" name=""/>
            <p:cNvSpPr/>
            <p:nvPr/>
          </p:nvSpPr>
          <p:spPr>
            <a:xfrm>
              <a:off x="5718960" y="320508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5716440" y="3330360"/>
              <a:ext cx="191880" cy="226800"/>
              <a:chOff x="5716440" y="3330360"/>
              <a:chExt cx="191880" cy="226800"/>
            </a:xfrm>
          </p:grpSpPr>
          <p:pic>
            <p:nvPicPr>
              <p:cNvPr id="117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716440" y="33303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716440" y="33303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1" name=""/>
            <p:cNvGrpSpPr/>
            <p:nvPr/>
          </p:nvGrpSpPr>
          <p:grpSpPr>
            <a:xfrm>
              <a:off x="5486400" y="3319200"/>
              <a:ext cx="199800" cy="247320"/>
              <a:chOff x="5486400" y="3319200"/>
              <a:chExt cx="199800" cy="247320"/>
            </a:xfrm>
          </p:grpSpPr>
          <p:pic>
            <p:nvPicPr>
              <p:cNvPr id="118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486400" y="33192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486400" y="33192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4" name=""/>
            <p:cNvSpPr/>
            <p:nvPr/>
          </p:nvSpPr>
          <p:spPr>
            <a:xfrm>
              <a:off x="6143760" y="32842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35680" y="328428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98240" y="33955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5726880" y="2714760"/>
            <a:ext cx="1092600" cy="521640"/>
            <a:chOff x="5726880" y="2714760"/>
            <a:chExt cx="1092600" cy="521640"/>
          </a:xfrm>
        </p:grpSpPr>
        <p:sp>
          <p:nvSpPr>
            <p:cNvPr id="1188" name=""/>
            <p:cNvSpPr/>
            <p:nvPr/>
          </p:nvSpPr>
          <p:spPr>
            <a:xfrm>
              <a:off x="6187320" y="303552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161040" y="27244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37880" y="3061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1" name="addition_2_plus_2_ty_CLR" descr=""/>
            <p:cNvPicPr/>
            <p:nvPr/>
          </p:nvPicPr>
          <p:blipFill>
            <a:blip r:embed="rId27"/>
            <a:stretch/>
          </p:blipFill>
          <p:spPr>
            <a:xfrm>
              <a:off x="5800680" y="271476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"/>
            <p:cNvSpPr/>
            <p:nvPr/>
          </p:nvSpPr>
          <p:spPr>
            <a:xfrm>
              <a:off x="5726880" y="30052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047000" y="3627360"/>
            <a:ext cx="1148760" cy="593640"/>
            <a:chOff x="7047000" y="3627360"/>
            <a:chExt cx="1148760" cy="593640"/>
          </a:xfrm>
        </p:grpSpPr>
        <p:sp>
          <p:nvSpPr>
            <p:cNvPr id="1194" name=""/>
            <p:cNvSpPr/>
            <p:nvPr/>
          </p:nvSpPr>
          <p:spPr>
            <a:xfrm>
              <a:off x="7646760" y="382716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99480" y="37922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486560" y="370008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7" name="germ_squishing_around_ty_CLR" descr=""/>
            <p:cNvPicPr/>
            <p:nvPr/>
          </p:nvPicPr>
          <p:blipFill>
            <a:blip r:embed="rId28"/>
            <a:stretch/>
          </p:blipFill>
          <p:spPr>
            <a:xfrm>
              <a:off x="7047000" y="36273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"/>
            <p:cNvSpPr/>
            <p:nvPr/>
          </p:nvSpPr>
          <p:spPr>
            <a:xfrm>
              <a:off x="7596000" y="390960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269760" y="3975120"/>
            <a:ext cx="1000440" cy="642240"/>
            <a:chOff x="6269760" y="3975120"/>
            <a:chExt cx="1000440" cy="642240"/>
          </a:xfrm>
        </p:grpSpPr>
        <p:sp>
          <p:nvSpPr>
            <p:cNvPr id="1200" name=""/>
            <p:cNvSpPr/>
            <p:nvPr/>
          </p:nvSpPr>
          <p:spPr>
            <a:xfrm>
              <a:off x="6269760" y="3975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876720" y="40924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14080" y="42256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3" name="girl" descr=""/>
            <p:cNvPicPr/>
            <p:nvPr/>
          </p:nvPicPr>
          <p:blipFill>
            <a:blip r:embed="rId29"/>
            <a:stretch/>
          </p:blipFill>
          <p:spPr>
            <a:xfrm>
              <a:off x="6514920" y="4097160"/>
              <a:ext cx="341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6717600" y="4386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290840" y="3689280"/>
            <a:ext cx="797760" cy="582840"/>
            <a:chOff x="4290840" y="3689280"/>
            <a:chExt cx="797760" cy="582840"/>
          </a:xfrm>
        </p:grpSpPr>
        <p:sp>
          <p:nvSpPr>
            <p:cNvPr id="1206" name=""/>
            <p:cNvSpPr/>
            <p:nvPr/>
          </p:nvSpPr>
          <p:spPr>
            <a:xfrm>
              <a:off x="4526280" y="3689280"/>
              <a:ext cx="502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536000" y="40244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29240" y="380844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06360" y="38973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0" name="eiffel_tower_flag_waving_sm_CLR" descr=""/>
            <p:cNvPicPr/>
            <p:nvPr/>
          </p:nvPicPr>
          <p:blipFill>
            <a:blip r:embed="rId30"/>
            <a:stretch/>
          </p:blipFill>
          <p:spPr>
            <a:xfrm>
              <a:off x="4290840" y="3718080"/>
              <a:ext cx="36972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1" name=""/>
          <p:cNvGrpSpPr/>
          <p:nvPr/>
        </p:nvGrpSpPr>
        <p:grpSpPr>
          <a:xfrm>
            <a:off x="7543800" y="4056120"/>
            <a:ext cx="653040" cy="591840"/>
            <a:chOff x="7543800" y="4056120"/>
            <a:chExt cx="653040" cy="591840"/>
          </a:xfrm>
        </p:grpSpPr>
        <p:sp>
          <p:nvSpPr>
            <p:cNvPr id="1212" name=""/>
            <p:cNvSpPr/>
            <p:nvPr/>
          </p:nvSpPr>
          <p:spPr>
            <a:xfrm>
              <a:off x="7710120" y="4056120"/>
              <a:ext cx="486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55920" y="448020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7543800" y="4208760"/>
              <a:ext cx="401040" cy="404280"/>
              <a:chOff x="7543800" y="4208760"/>
              <a:chExt cx="401040" cy="404280"/>
            </a:xfrm>
          </p:grpSpPr>
          <p:pic>
            <p:nvPicPr>
              <p:cNvPr id="121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7543800" y="420876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543800" y="4208760"/>
                <a:ext cx="401040" cy="404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7" name=""/>
            <p:cNvSpPr/>
            <p:nvPr/>
          </p:nvSpPr>
          <p:spPr>
            <a:xfrm>
              <a:off x="7944840" y="43466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יד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4334040" y="4262400"/>
            <a:ext cx="1014120" cy="430920"/>
            <a:chOff x="4334040" y="4262400"/>
            <a:chExt cx="1014120" cy="430920"/>
          </a:xfrm>
        </p:grpSpPr>
        <p:sp>
          <p:nvSpPr>
            <p:cNvPr id="1219" name=""/>
            <p:cNvSpPr/>
            <p:nvPr/>
          </p:nvSpPr>
          <p:spPr>
            <a:xfrm>
              <a:off x="4586400" y="42624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4564080" y="4387680"/>
              <a:ext cx="192240" cy="226800"/>
              <a:chOff x="4564080" y="4387680"/>
              <a:chExt cx="192240" cy="226800"/>
            </a:xfrm>
          </p:grpSpPr>
          <p:pic>
            <p:nvPicPr>
              <p:cNvPr id="122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564080" y="4387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564080" y="43876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3" name=""/>
            <p:cNvGrpSpPr/>
            <p:nvPr/>
          </p:nvGrpSpPr>
          <p:grpSpPr>
            <a:xfrm>
              <a:off x="4334040" y="4376520"/>
              <a:ext cx="199800" cy="247320"/>
              <a:chOff x="4334040" y="4376520"/>
              <a:chExt cx="199800" cy="247320"/>
            </a:xfrm>
          </p:grpSpPr>
          <p:pic>
            <p:nvPicPr>
              <p:cNvPr id="122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4334040" y="437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334040" y="4376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6" name=""/>
            <p:cNvSpPr/>
            <p:nvPr/>
          </p:nvSpPr>
          <p:spPr>
            <a:xfrm>
              <a:off x="4981680" y="43416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733640" y="4341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36520" y="4462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5002200" y="3679920"/>
            <a:ext cx="1040040" cy="597960"/>
            <a:chOff x="5002200" y="3679920"/>
            <a:chExt cx="1040040" cy="597960"/>
          </a:xfrm>
        </p:grpSpPr>
        <p:pic>
          <p:nvPicPr>
            <p:cNvPr id="1230" name="child_finger_painting_sm_CLR" descr=""/>
            <p:cNvPicPr/>
            <p:nvPr/>
          </p:nvPicPr>
          <p:blipFill>
            <a:blip r:embed="rId37"/>
            <a:stretch/>
          </p:blipFill>
          <p:spPr>
            <a:xfrm>
              <a:off x="5065920" y="376056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"/>
            <p:cNvSpPr/>
            <p:nvPr/>
          </p:nvSpPr>
          <p:spPr>
            <a:xfrm>
              <a:off x="5002200" y="3679920"/>
              <a:ext cx="1040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 דיגיט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45720" y="3808440"/>
              <a:ext cx="26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76200" y="377352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355720" y="388116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4427640" y="4579920"/>
            <a:ext cx="1148760" cy="593640"/>
            <a:chOff x="4427640" y="4579920"/>
            <a:chExt cx="1148760" cy="593640"/>
          </a:xfrm>
        </p:grpSpPr>
        <p:sp>
          <p:nvSpPr>
            <p:cNvPr id="1236" name=""/>
            <p:cNvSpPr/>
            <p:nvPr/>
          </p:nvSpPr>
          <p:spPr>
            <a:xfrm>
              <a:off x="4979520" y="47797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280120" y="47448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67200" y="4652640"/>
              <a:ext cx="709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עלי ח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9" name="germ_squishing_around_ty_CLR" descr=""/>
            <p:cNvPicPr/>
            <p:nvPr/>
          </p:nvPicPr>
          <p:blipFill>
            <a:blip r:embed="rId38"/>
            <a:stretch/>
          </p:blipFill>
          <p:spPr>
            <a:xfrm>
              <a:off x="4427640" y="457992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"/>
            <p:cNvSpPr/>
            <p:nvPr/>
          </p:nvSpPr>
          <p:spPr>
            <a:xfrm>
              <a:off x="4832280" y="486216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077240" y="5114880"/>
            <a:ext cx="1069920" cy="521640"/>
            <a:chOff x="7077240" y="5114880"/>
            <a:chExt cx="1069920" cy="521640"/>
          </a:xfrm>
        </p:grpSpPr>
        <p:sp>
          <p:nvSpPr>
            <p:cNvPr id="1242" name=""/>
            <p:cNvSpPr/>
            <p:nvPr/>
          </p:nvSpPr>
          <p:spPr>
            <a:xfrm>
              <a:off x="7742160" y="5416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42360" y="51148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657200" y="52894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5" name="addition_2_plus_2_ty_CLR" descr=""/>
            <p:cNvPicPr/>
            <p:nvPr/>
          </p:nvPicPr>
          <p:blipFill>
            <a:blip r:embed="rId39"/>
            <a:stretch/>
          </p:blipFill>
          <p:spPr>
            <a:xfrm>
              <a:off x="7077240" y="5133960"/>
              <a:ext cx="58572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7117560" y="54054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5938920" y="5002200"/>
            <a:ext cx="816840" cy="615240"/>
            <a:chOff x="5938920" y="5002200"/>
            <a:chExt cx="816840" cy="615240"/>
          </a:xfrm>
        </p:grpSpPr>
        <p:pic>
          <p:nvPicPr>
            <p:cNvPr id="1248" name="accountant_raising_pencil_sm_CLR" descr=""/>
            <p:cNvPicPr/>
            <p:nvPr/>
          </p:nvPicPr>
          <p:blipFill>
            <a:blip r:embed="rId40"/>
            <a:stretch/>
          </p:blipFill>
          <p:spPr>
            <a:xfrm>
              <a:off x="5938920" y="500220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9" name=""/>
            <p:cNvSpPr/>
            <p:nvPr/>
          </p:nvSpPr>
          <p:spPr>
            <a:xfrm>
              <a:off x="6297480" y="5190840"/>
              <a:ext cx="31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יט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364440" y="528156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154560" y="504792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03160" y="5386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4954320" y="5003640"/>
            <a:ext cx="1040040" cy="598680"/>
            <a:chOff x="4954320" y="5003640"/>
            <a:chExt cx="1040040" cy="598680"/>
          </a:xfrm>
        </p:grpSpPr>
        <p:pic>
          <p:nvPicPr>
            <p:cNvPr id="1254" name="child_finger_painting_sm_CLR" descr=""/>
            <p:cNvPicPr/>
            <p:nvPr/>
          </p:nvPicPr>
          <p:blipFill>
            <a:blip r:embed="rId41"/>
            <a:stretch/>
          </p:blipFill>
          <p:spPr>
            <a:xfrm>
              <a:off x="5018040" y="5084640"/>
              <a:ext cx="517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5" name=""/>
            <p:cNvSpPr/>
            <p:nvPr/>
          </p:nvSpPr>
          <p:spPr>
            <a:xfrm>
              <a:off x="4954320" y="5003640"/>
              <a:ext cx="1040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מנות דיגיט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397840" y="5132520"/>
              <a:ext cx="266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28320" y="509760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קר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07840" y="52052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489000" y="5583240"/>
            <a:ext cx="1195560" cy="961920"/>
            <a:chOff x="6489000" y="5583240"/>
            <a:chExt cx="1195560" cy="961920"/>
          </a:xfrm>
        </p:grpSpPr>
        <p:pic>
          <p:nvPicPr>
            <p:cNvPr id="1260" name="" descr=""/>
            <p:cNvPicPr/>
            <p:nvPr/>
          </p:nvPicPr>
          <p:blipFill>
            <a:blip r:embed="rId42"/>
            <a:stretch/>
          </p:blipFill>
          <p:spPr>
            <a:xfrm>
              <a:off x="6540480" y="5937120"/>
              <a:ext cx="103032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6489000" y="5583240"/>
              <a:ext cx="1195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  -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לסוף השבו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4555080" y="5781600"/>
            <a:ext cx="1092600" cy="521640"/>
            <a:chOff x="4555080" y="5781600"/>
            <a:chExt cx="1092600" cy="521640"/>
          </a:xfrm>
        </p:grpSpPr>
        <p:sp>
          <p:nvSpPr>
            <p:cNvPr id="1263" name=""/>
            <p:cNvSpPr/>
            <p:nvPr/>
          </p:nvSpPr>
          <p:spPr>
            <a:xfrm>
              <a:off x="5015520" y="610236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989240" y="57913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66080" y="61279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6" name="addition_2_plus_2_ty_CLR" descr=""/>
            <p:cNvPicPr/>
            <p:nvPr/>
          </p:nvPicPr>
          <p:blipFill>
            <a:blip r:embed="rId43"/>
            <a:stretch/>
          </p:blipFill>
          <p:spPr>
            <a:xfrm>
              <a:off x="4628880" y="5781600"/>
              <a:ext cx="58608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4555080" y="60721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5480280" y="4108320"/>
            <a:ext cx="1027800" cy="528120"/>
            <a:chOff x="5480280" y="4108320"/>
            <a:chExt cx="1027800" cy="528120"/>
          </a:xfrm>
        </p:grpSpPr>
        <p:pic>
          <p:nvPicPr>
            <p:cNvPr id="1269" name="bkcl1a" descr=""/>
            <p:cNvPicPr/>
            <p:nvPr/>
          </p:nvPicPr>
          <p:blipFill>
            <a:blip r:embed="rId44"/>
            <a:stretch/>
          </p:blipFill>
          <p:spPr>
            <a:xfrm>
              <a:off x="5600520" y="4244760"/>
              <a:ext cx="41904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5480280" y="4108320"/>
              <a:ext cx="819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סיפור שלא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000840" y="4363920"/>
              <a:ext cx="176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30160" y="43257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55480" y="440532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84960" y="4599000"/>
            <a:ext cx="975600" cy="593640"/>
            <a:chOff x="7284960" y="4599000"/>
            <a:chExt cx="975600" cy="593640"/>
          </a:xfrm>
        </p:grpSpPr>
        <p:sp>
          <p:nvSpPr>
            <p:cNvPr id="1275" name=""/>
            <p:cNvSpPr/>
            <p:nvPr/>
          </p:nvSpPr>
          <p:spPr>
            <a:xfrm>
              <a:off x="7797960" y="4854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23280" y="46292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950240" y="47750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8" name="girl_holding_123_ty_CLR" descr=""/>
            <p:cNvPicPr/>
            <p:nvPr/>
          </p:nvPicPr>
          <p:blipFill>
            <a:blip r:embed="rId45"/>
            <a:stretch/>
          </p:blipFill>
          <p:spPr>
            <a:xfrm>
              <a:off x="7284960" y="4599000"/>
              <a:ext cx="5936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7707960" y="49482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4257720" y="5045040"/>
            <a:ext cx="707400" cy="582120"/>
            <a:chOff x="4257720" y="5045040"/>
            <a:chExt cx="707400" cy="582120"/>
          </a:xfrm>
        </p:grpSpPr>
        <p:pic>
          <p:nvPicPr>
            <p:cNvPr id="1281" name="" descr=""/>
            <p:cNvPicPr/>
            <p:nvPr/>
          </p:nvPicPr>
          <p:blipFill>
            <a:blip r:embed="rId46"/>
            <a:stretch/>
          </p:blipFill>
          <p:spPr>
            <a:xfrm>
              <a:off x="4308480" y="50990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"/>
            <p:cNvSpPr/>
            <p:nvPr/>
          </p:nvSpPr>
          <p:spPr>
            <a:xfrm>
              <a:off x="4596480" y="532152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י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59400" y="5173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335480" y="5045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ז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5" name="boy_reading_sm_CLR" descr=""/>
            <p:cNvPicPr/>
            <p:nvPr/>
          </p:nvPicPr>
          <p:blipFill>
            <a:blip r:embed="rId47"/>
            <a:stretch/>
          </p:blipFill>
          <p:spPr>
            <a:xfrm>
              <a:off x="4257720" y="5062680"/>
              <a:ext cx="304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412520" y="539604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8186760" y="404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50-11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196120" y="498780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35-11: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205840" y="9586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244000" y="189216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205840" y="30891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0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196120" y="253044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86760" y="6016680"/>
            <a:ext cx="76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3:20-12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4210200" y="2965320"/>
            <a:ext cx="907920" cy="728280"/>
            <a:chOff x="4210200" y="2965320"/>
            <a:chExt cx="907920" cy="728280"/>
          </a:xfrm>
        </p:grpSpPr>
        <p:pic>
          <p:nvPicPr>
            <p:cNvPr id="1295" name="feather_quill_sm_CLR" descr=""/>
            <p:cNvPicPr/>
            <p:nvPr/>
          </p:nvPicPr>
          <p:blipFill>
            <a:blip r:embed="rId48"/>
            <a:stretch/>
          </p:blipFill>
          <p:spPr>
            <a:xfrm>
              <a:off x="4210200" y="296532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6" name=""/>
            <p:cNvSpPr/>
            <p:nvPr/>
          </p:nvSpPr>
          <p:spPr>
            <a:xfrm>
              <a:off x="4466520" y="3267000"/>
              <a:ext cx="21420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479480" y="3357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697280" y="3257640"/>
              <a:ext cx="42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בכיף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231440" y="346248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7437600" y="1562040"/>
            <a:ext cx="750600" cy="617040"/>
            <a:chOff x="7437600" y="1562040"/>
            <a:chExt cx="750600" cy="617040"/>
          </a:xfrm>
        </p:grpSpPr>
        <p:sp>
          <p:nvSpPr>
            <p:cNvPr id="1301" name=""/>
            <p:cNvSpPr/>
            <p:nvPr/>
          </p:nvSpPr>
          <p:spPr>
            <a:xfrm>
              <a:off x="8057880" y="182556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37600" y="1562040"/>
              <a:ext cx="69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75360" y="1727280"/>
              <a:ext cx="29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4" name="boy" descr=""/>
            <p:cNvPicPr/>
            <p:nvPr/>
          </p:nvPicPr>
          <p:blipFill>
            <a:blip r:embed="rId49"/>
            <a:stretch/>
          </p:blipFill>
          <p:spPr>
            <a:xfrm>
              <a:off x="7591320" y="1709640"/>
              <a:ext cx="3427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"/>
            <p:cNvSpPr/>
            <p:nvPr/>
          </p:nvSpPr>
          <p:spPr>
            <a:xfrm>
              <a:off x="7853400" y="194796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ג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6423840" y="4680000"/>
            <a:ext cx="1000440" cy="565920"/>
            <a:chOff x="6423840" y="4680000"/>
            <a:chExt cx="1000440" cy="565920"/>
          </a:xfrm>
        </p:grpSpPr>
        <p:sp>
          <p:nvSpPr>
            <p:cNvPr id="1307" name=""/>
            <p:cNvSpPr/>
            <p:nvPr/>
          </p:nvSpPr>
          <p:spPr>
            <a:xfrm>
              <a:off x="6423840" y="46800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030800" y="47782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68160" y="48924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0" name="girl" descr=""/>
            <p:cNvPicPr/>
            <p:nvPr/>
          </p:nvPicPr>
          <p:blipFill>
            <a:blip r:embed="rId50"/>
            <a:stretch/>
          </p:blipFill>
          <p:spPr>
            <a:xfrm>
              <a:off x="6621480" y="4802040"/>
              <a:ext cx="3412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1" name=""/>
            <p:cNvSpPr/>
            <p:nvPr/>
          </p:nvSpPr>
          <p:spPr>
            <a:xfrm>
              <a:off x="6871680" y="5014800"/>
              <a:ext cx="55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8-06-06T17:26:17Z</dcterms:modified>
  <cp:revision>1130</cp:revision>
  <dc:subject/>
  <dc:title>מצגת של PowerPoint</dc:title>
</cp:coreProperties>
</file>