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8.gif" ContentType="image/gi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97D-5467-4755-BA53-B6DBF13B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E08-47CA-4FAF-981A-F0E9D5E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1EE-45B4-4B86-A4CE-8DCAFEEE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BF4-A75D-442F-98CC-C4F19D37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F44-ABBD-4055-B42C-E1B969E7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83F-1277-44A9-8F40-7C901F0B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08E-9B00-4F8D-B761-ECB0706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9E2-9EFB-4925-AA89-1CA9B5FB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D22-2CC5-400A-A326-DC5DE692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808-5603-44D0-8FCE-2319D00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551-CDCF-48E0-A75A-033F8C1D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77F-65E4-429F-AC99-C0C2C6EB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9A64-56C1-4409-941E-F93AA461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1.png"/><Relationship Id="rId15" Type="http://schemas.openxmlformats.org/officeDocument/2006/relationships/image" Target="../media/image12.gif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3.png"/><Relationship Id="rId19" Type="http://schemas.openxmlformats.org/officeDocument/2006/relationships/image" Target="../media/image11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11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18.png"/><Relationship Id="rId33" Type="http://schemas.openxmlformats.org/officeDocument/2006/relationships/image" Target="../media/image19.png"/><Relationship Id="rId34" Type="http://schemas.openxmlformats.org/officeDocument/2006/relationships/image" Target="../media/image20.jpeg"/><Relationship Id="rId35" Type="http://schemas.openxmlformats.org/officeDocument/2006/relationships/image" Target="../media/image21.png"/><Relationship Id="rId36" Type="http://schemas.openxmlformats.org/officeDocument/2006/relationships/image" Target="../media/image22.png"/><Relationship Id="rId37" Type="http://schemas.openxmlformats.org/officeDocument/2006/relationships/image" Target="../media/image2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5.jpeg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1640" y="1096920"/>
            <a:ext cx="753768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84080" y="11253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8:30-9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689040"/>
            <a:ext cx="0" cy="581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1280" y="685800"/>
            <a:ext cx="0" cy="58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05160" y="646200"/>
            <a:ext cx="0" cy="587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463720" y="676440"/>
            <a:ext cx="4680" cy="58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13640" y="684360"/>
            <a:ext cx="0" cy="582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3520" y="10494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2440" y="10335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30000" y="10335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5760" y="10335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07480" y="10335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240" y="1044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36640" y="12384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85560" y="12207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80560" y="12333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8200" y="12351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52240" y="12222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07720" y="124452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880" y="1500120"/>
            <a:ext cx="7532640" cy="12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72560" y="189216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9:00-10: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24000" y="145080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בריא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36680" y="23493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יזה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4120" y="23493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ע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18280" y="1463760"/>
            <a:ext cx="79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רכב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כלי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03600" y="145728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סיפור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ויצי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7080" y="146052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ועד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0160" y="146700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סדנאות הור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880" y="2760840"/>
            <a:ext cx="7532640" cy="41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880" y="3174840"/>
            <a:ext cx="753264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75440" y="354168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0:45-12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52840" y="313056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סיפור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בראשי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6000" y="398448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6720" y="399240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גא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63800" y="314964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יסטורי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1000" y="314640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פרלמנ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2640" y="4448160"/>
            <a:ext cx="2506680" cy="60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64080" y="5052960"/>
            <a:ext cx="250344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6120" y="5049720"/>
            <a:ext cx="249084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78320" y="543708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2:45-1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85560" y="39924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33360" y="313992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60160" y="314496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41000" y="39798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דבו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4680" y="6315120"/>
            <a:ext cx="2490480" cy="20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64080" y="6324480"/>
            <a:ext cx="2503440" cy="18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65480" y="626580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1360" y="6261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85840" y="62485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3040" y="62485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50080" y="1328760"/>
            <a:ext cx="169920" cy="142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05560" y="1311120"/>
            <a:ext cx="169920" cy="142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24320" y="1284120"/>
            <a:ext cx="169920" cy="142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88960" y="1325520"/>
            <a:ext cx="169920" cy="142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35560" y="4052880"/>
            <a:ext cx="169920" cy="14292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120" y="1353960"/>
            <a:ext cx="184320" cy="88920"/>
          </a:xfrm>
          <a:custGeom>
            <a:avLst/>
            <a:gdLst>
              <a:gd name="textAreaLeft" fmla="*/ 0 w 184320"/>
              <a:gd name="textAreaRight" fmla="*/ 184680 w 184320"/>
              <a:gd name="textAreaTop" fmla="*/ 11520 h 88920"/>
              <a:gd name="textAreaBottom" fmla="*/ 77400 h 8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16200" y="1336680"/>
            <a:ext cx="184320" cy="88920"/>
          </a:xfrm>
          <a:custGeom>
            <a:avLst/>
            <a:gdLst>
              <a:gd name="textAreaLeft" fmla="*/ 0 w 184320"/>
              <a:gd name="textAreaRight" fmla="*/ 184680 w 184320"/>
              <a:gd name="textAreaTop" fmla="*/ 11520 h 88920"/>
              <a:gd name="textAreaBottom" fmla="*/ 77400 h 88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43440" y="2400480"/>
            <a:ext cx="183960" cy="169560"/>
          </a:xfrm>
          <a:prstGeom prst="donut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8200" y="4035600"/>
            <a:ext cx="209520" cy="156960"/>
          </a:xfrm>
          <a:prstGeom prst="pentagon">
            <a:avLst/>
          </a:prstGeom>
          <a:solidFill>
            <a:srgbClr val="fc7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19840" y="4076640"/>
            <a:ext cx="247680" cy="104760"/>
          </a:xfrm>
          <a:prstGeom prst="parallelogram">
            <a:avLst>
              <a:gd name="adj" fmla="val 5910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femcond112l" descr=""/>
          <p:cNvPicPr/>
          <p:nvPr/>
        </p:nvPicPr>
        <p:blipFill>
          <a:blip r:embed="rId4"/>
          <a:stretch/>
        </p:blipFill>
        <p:spPr>
          <a:xfrm>
            <a:off x="3770280" y="1895400"/>
            <a:ext cx="382680" cy="5079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495760" y="3641760"/>
            <a:ext cx="1149480" cy="288720"/>
            <a:chOff x="5495760" y="3641760"/>
            <a:chExt cx="1149480" cy="288720"/>
          </a:xfrm>
        </p:grpSpPr>
        <p:pic>
          <p:nvPicPr>
            <p:cNvPr id="103" name="mark1" descr=""/>
            <p:cNvPicPr/>
            <p:nvPr/>
          </p:nvPicPr>
          <p:blipFill>
            <a:blip r:embed="rId5"/>
            <a:stretch/>
          </p:blipFill>
          <p:spPr>
            <a:xfrm>
              <a:off x="5495760" y="364176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mark2" descr=""/>
            <p:cNvPicPr/>
            <p:nvPr/>
          </p:nvPicPr>
          <p:blipFill>
            <a:blip r:embed="rId6"/>
            <a:stretch/>
          </p:blipFill>
          <p:spPr>
            <a:xfrm>
              <a:off x="5783400" y="3641760"/>
              <a:ext cx="28728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mark3" descr=""/>
            <p:cNvPicPr/>
            <p:nvPr/>
          </p:nvPicPr>
          <p:blipFill>
            <a:blip r:embed="rId7"/>
            <a:stretch/>
          </p:blipFill>
          <p:spPr>
            <a:xfrm>
              <a:off x="6070680" y="364176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mark4" descr=""/>
            <p:cNvPicPr/>
            <p:nvPr/>
          </p:nvPicPr>
          <p:blipFill>
            <a:blip r:embed="rId8"/>
            <a:stretch/>
          </p:blipFill>
          <p:spPr>
            <a:xfrm>
              <a:off x="6357960" y="364176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rofessor_of_anatomy_md_wht" descr=""/>
          <p:cNvPicPr/>
          <p:nvPr/>
        </p:nvPicPr>
        <p:blipFill>
          <a:blip r:embed="rId9"/>
          <a:stretch/>
        </p:blipFill>
        <p:spPr>
          <a:xfrm>
            <a:off x="5700600" y="1727280"/>
            <a:ext cx="781200" cy="62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56120" y="3463920"/>
            <a:ext cx="484200" cy="431640"/>
          </a:xfrm>
          <a:prstGeom prst="cloudCallout">
            <a:avLst>
              <a:gd name="adj1" fmla="val -75902"/>
              <a:gd name="adj2" fmla="val 66546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kcl1o" descr=""/>
          <p:cNvPicPr/>
          <p:nvPr/>
        </p:nvPicPr>
        <p:blipFill>
          <a:blip r:embed="rId11"/>
          <a:stretch/>
        </p:blipFill>
        <p:spPr>
          <a:xfrm>
            <a:off x="7386480" y="3587760"/>
            <a:ext cx="524160" cy="444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07760" y="6001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אש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6200" y="61272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נ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5120" y="612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לי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8520" y="6271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ביע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97280" y="6145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חמי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9400" y="61272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4680" y="4443480"/>
            <a:ext cx="2492280" cy="61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01640" y="46022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05160" y="4646520"/>
            <a:ext cx="1258920" cy="22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06960" y="4443480"/>
            <a:ext cx="1253880" cy="21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3400" y="874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כיתות א'-ב': מערכת שעות לבחיר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24520" y="6624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94000" y="41799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720960" y="4074480"/>
            <a:ext cx="182520" cy="9072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59360" y="4221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720" y="50515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גיאוגרפי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87800" y="590724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גא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5480" y="5924520"/>
            <a:ext cx="209520" cy="157320"/>
          </a:xfrm>
          <a:prstGeom prst="pentagon">
            <a:avLst/>
          </a:prstGeom>
          <a:solidFill>
            <a:srgbClr val="fc7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rofessor_of_geography_hw" descr=""/>
          <p:cNvPicPr/>
          <p:nvPr/>
        </p:nvPicPr>
        <p:blipFill>
          <a:blip r:embed="rId15"/>
          <a:stretch/>
        </p:blipFill>
        <p:spPr>
          <a:xfrm>
            <a:off x="5665680" y="5345280"/>
            <a:ext cx="800280" cy="587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850000" y="6093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33400" y="591336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גא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25280" y="5002200"/>
            <a:ext cx="56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גו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ונפ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5977080"/>
            <a:ext cx="209880" cy="156960"/>
          </a:xfrm>
          <a:prstGeom prst="pentagon">
            <a:avLst/>
          </a:prstGeom>
          <a:solidFill>
            <a:srgbClr val="fc7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1s" descr=""/>
          <p:cNvPicPr/>
          <p:nvPr/>
        </p:nvPicPr>
        <p:blipFill>
          <a:blip r:embed="rId16"/>
          <a:stretch/>
        </p:blipFill>
        <p:spPr>
          <a:xfrm>
            <a:off x="3638520" y="547056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659040" y="60818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78440" y="5911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ע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38840" y="507672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קהל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16200" y="5987880"/>
            <a:ext cx="184320" cy="169920"/>
          </a:xfrm>
          <a:prstGeom prst="donut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ingers3ds" descr=""/>
          <p:cNvPicPr/>
          <p:nvPr/>
        </p:nvPicPr>
        <p:blipFill>
          <a:blip r:embed="rId17"/>
          <a:stretch/>
        </p:blipFill>
        <p:spPr>
          <a:xfrm>
            <a:off x="2330280" y="5300640"/>
            <a:ext cx="584280" cy="67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16680" y="607860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83040" y="42242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80240" y="2525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70200" y="25239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2440" y="415764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קבלת שב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3280" y="2467080"/>
            <a:ext cx="169920" cy="104760"/>
          </a:xfrm>
          <a:custGeom>
            <a:avLst/>
            <a:gdLst>
              <a:gd name="textAreaLeft" fmla="*/ 42480 w 169920"/>
              <a:gd name="textAreaRight" fmla="*/ 127440 w 169920"/>
              <a:gd name="textAreaTop" fmla="*/ 12960 h 104760"/>
              <a:gd name="textAreaBottom" fmla="*/ 1051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62640" y="3200400"/>
            <a:ext cx="0" cy="12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33360" y="31417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טאי צ'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76560" y="398628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תמ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82960" y="3200400"/>
            <a:ext cx="0" cy="12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88160" y="3154320"/>
            <a:ext cx="79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רכב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כלי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27760" y="3995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ע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7080" y="4075200"/>
            <a:ext cx="184320" cy="169920"/>
          </a:xfrm>
          <a:prstGeom prst="donut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femcond112l" descr=""/>
          <p:cNvPicPr/>
          <p:nvPr/>
        </p:nvPicPr>
        <p:blipFill>
          <a:blip r:embed="rId18"/>
          <a:stretch/>
        </p:blipFill>
        <p:spPr>
          <a:xfrm>
            <a:off x="4295880" y="3586320"/>
            <a:ext cx="407880" cy="474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>
            <a:off x="3558960" y="1509840"/>
            <a:ext cx="4680" cy="12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35080" y="145908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רקט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7520" y="23414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יור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01800" y="5057640"/>
            <a:ext cx="6120" cy="125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9000" y="5027760"/>
            <a:ext cx="9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תחיל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9840" y="590724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דבו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3403440" y="6014520"/>
            <a:ext cx="182520" cy="90720"/>
          </a:xfrm>
          <a:prstGeom prst="roundRect">
            <a:avLst>
              <a:gd name="adj" fmla="val 16667"/>
            </a:avLst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4680" y="3186000"/>
            <a:ext cx="0" cy="12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39800" y="313704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ארכי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טקטו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4720" y="39862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a2" descr=""/>
          <p:cNvPicPr/>
          <p:nvPr/>
        </p:nvPicPr>
        <p:blipFill>
          <a:blip r:embed="rId20"/>
          <a:stretch/>
        </p:blipFill>
        <p:spPr>
          <a:xfrm>
            <a:off x="3013200" y="5530680"/>
            <a:ext cx="239760" cy="274680"/>
          </a:xfrm>
          <a:prstGeom prst="rect">
            <a:avLst/>
          </a:prstGeom>
          <a:ln w="0">
            <a:noFill/>
          </a:ln>
        </p:spPr>
      </p:pic>
      <p:pic>
        <p:nvPicPr>
          <p:cNvPr id="164" name="b2" descr=""/>
          <p:cNvPicPr/>
          <p:nvPr/>
        </p:nvPicPr>
        <p:blipFill>
          <a:blip r:embed="rId21"/>
          <a:stretch/>
        </p:blipFill>
        <p:spPr>
          <a:xfrm>
            <a:off x="3325680" y="5691240"/>
            <a:ext cx="2286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acs1" descr=""/>
          <p:cNvPicPr/>
          <p:nvPr/>
        </p:nvPicPr>
        <p:blipFill>
          <a:blip r:embed="rId22"/>
          <a:stretch/>
        </p:blipFill>
        <p:spPr>
          <a:xfrm>
            <a:off x="6788160" y="355284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334760" y="42130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79080" y="25225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32800" y="314640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59720" y="39816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דבו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373480" y="3430440"/>
            <a:ext cx="563400" cy="571680"/>
            <a:chOff x="2373480" y="3430440"/>
            <a:chExt cx="563400" cy="571680"/>
          </a:xfrm>
        </p:grpSpPr>
        <p:pic>
          <p:nvPicPr>
            <p:cNvPr id="171" name="mark1" descr=""/>
            <p:cNvPicPr/>
            <p:nvPr/>
          </p:nvPicPr>
          <p:blipFill>
            <a:blip r:embed="rId23"/>
            <a:stretch/>
          </p:blipFill>
          <p:spPr>
            <a:xfrm>
              <a:off x="2373480" y="37148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mark2" descr=""/>
            <p:cNvPicPr/>
            <p:nvPr/>
          </p:nvPicPr>
          <p:blipFill>
            <a:blip r:embed="rId24"/>
            <a:stretch/>
          </p:blipFill>
          <p:spPr>
            <a:xfrm>
              <a:off x="2647800" y="371484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mark3" descr=""/>
            <p:cNvPicPr/>
            <p:nvPr/>
          </p:nvPicPr>
          <p:blipFill>
            <a:blip r:embed="rId25"/>
            <a:stretch/>
          </p:blipFill>
          <p:spPr>
            <a:xfrm>
              <a:off x="2376360" y="3430440"/>
              <a:ext cx="28764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mark4" descr=""/>
            <p:cNvPicPr/>
            <p:nvPr/>
          </p:nvPicPr>
          <p:blipFill>
            <a:blip r:embed="rId26"/>
            <a:stretch/>
          </p:blipFill>
          <p:spPr>
            <a:xfrm>
              <a:off x="2649600" y="3430440"/>
              <a:ext cx="28728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 rot="16200000">
            <a:off x="2793960" y="4090680"/>
            <a:ext cx="182520" cy="90360"/>
          </a:xfrm>
          <a:prstGeom prst="roundRect">
            <a:avLst>
              <a:gd name="adj" fmla="val 16667"/>
            </a:avLst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97240" y="42037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02040" y="3573360"/>
            <a:ext cx="1149120" cy="287280"/>
            <a:chOff x="3002040" y="3573360"/>
            <a:chExt cx="1149120" cy="287280"/>
          </a:xfrm>
        </p:grpSpPr>
        <p:pic>
          <p:nvPicPr>
            <p:cNvPr id="178" name="mark1" descr=""/>
            <p:cNvPicPr/>
            <p:nvPr/>
          </p:nvPicPr>
          <p:blipFill>
            <a:blip r:embed="rId28"/>
            <a:stretch/>
          </p:blipFill>
          <p:spPr>
            <a:xfrm>
              <a:off x="3002040" y="357336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mark2" descr=""/>
            <p:cNvPicPr/>
            <p:nvPr/>
          </p:nvPicPr>
          <p:blipFill>
            <a:blip r:embed="rId29"/>
            <a:stretch/>
          </p:blipFill>
          <p:spPr>
            <a:xfrm>
              <a:off x="3289320" y="357336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mark3" descr=""/>
            <p:cNvPicPr/>
            <p:nvPr/>
          </p:nvPicPr>
          <p:blipFill>
            <a:blip r:embed="rId30"/>
            <a:stretch/>
          </p:blipFill>
          <p:spPr>
            <a:xfrm>
              <a:off x="3576600" y="357336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mark4" descr=""/>
            <p:cNvPicPr/>
            <p:nvPr/>
          </p:nvPicPr>
          <p:blipFill>
            <a:blip r:embed="rId31"/>
            <a:stretch/>
          </p:blipFill>
          <p:spPr>
            <a:xfrm>
              <a:off x="3863880" y="357336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7351560" y="42260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24640" y="2344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עינ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55720" y="2390760"/>
            <a:ext cx="182880" cy="1699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ccschread" descr=""/>
          <p:cNvPicPr/>
          <p:nvPr/>
        </p:nvPicPr>
        <p:blipFill>
          <a:blip r:embed="rId32"/>
          <a:stretch/>
        </p:blipFill>
        <p:spPr>
          <a:xfrm>
            <a:off x="2060640" y="1684440"/>
            <a:ext cx="557280" cy="668160"/>
          </a:xfrm>
          <a:prstGeom prst="rect">
            <a:avLst/>
          </a:prstGeom>
          <a:ln w="0">
            <a:noFill/>
          </a:ln>
        </p:spPr>
      </p:pic>
      <p:pic>
        <p:nvPicPr>
          <p:cNvPr id="186" name="_a" descr=""/>
          <p:cNvPicPr/>
          <p:nvPr/>
        </p:nvPicPr>
        <p:blipFill>
          <a:blip r:embed="rId33"/>
          <a:stretch/>
        </p:blipFill>
        <p:spPr>
          <a:xfrm>
            <a:off x="1855800" y="36622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87" name="900_grd7" descr=""/>
          <p:cNvPicPr/>
          <p:nvPr/>
        </p:nvPicPr>
        <p:blipFill>
          <a:blip r:embed="rId34"/>
          <a:stretch/>
        </p:blipFill>
        <p:spPr>
          <a:xfrm>
            <a:off x="2967120" y="1822320"/>
            <a:ext cx="592200" cy="432000"/>
          </a:xfrm>
          <a:prstGeom prst="rect">
            <a:avLst/>
          </a:prstGeom>
          <a:ln w="0">
            <a:noFill/>
          </a:ln>
        </p:spPr>
      </p:pic>
      <p:pic>
        <p:nvPicPr>
          <p:cNvPr id="188" name="ccj1a" descr=""/>
          <p:cNvPicPr/>
          <p:nvPr/>
        </p:nvPicPr>
        <p:blipFill>
          <a:blip r:embed="rId35"/>
          <a:stretch/>
        </p:blipFill>
        <p:spPr>
          <a:xfrm>
            <a:off x="4249800" y="1700280"/>
            <a:ext cx="1170000" cy="674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367080" y="2411280"/>
            <a:ext cx="165240" cy="20664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7760" y="4081320"/>
            <a:ext cx="152640" cy="2635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4046400"/>
            <a:ext cx="137880" cy="138240"/>
          </a:xfrm>
          <a:prstGeom prst="flowChartSummingJunction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87840" y="4218120"/>
            <a:ext cx="3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57360" y="14400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וסיק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33040" y="2352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ע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80240" y="2417760"/>
            <a:ext cx="184320" cy="169920"/>
          </a:xfrm>
          <a:prstGeom prst="donut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rainbownotes100w1" descr=""/>
          <p:cNvPicPr/>
          <p:nvPr/>
        </p:nvPicPr>
        <p:blipFill>
          <a:blip r:embed="rId36"/>
          <a:stretch/>
        </p:blipFill>
        <p:spPr>
          <a:xfrm>
            <a:off x="6729480" y="1873080"/>
            <a:ext cx="1143000" cy="492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54920" y="25448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37280" y="588312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98520" y="504360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טירת הא' ב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0280" y="5996160"/>
            <a:ext cx="247680" cy="104760"/>
          </a:xfrm>
          <a:prstGeom prst="parallelogram">
            <a:avLst>
              <a:gd name="adj" fmla="val 59107"/>
            </a:avLst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castle_PART" descr=""/>
          <p:cNvPicPr/>
          <p:nvPr/>
        </p:nvPicPr>
        <p:blipFill>
          <a:blip r:embed="rId38"/>
          <a:stretch/>
        </p:blipFill>
        <p:spPr>
          <a:xfrm>
            <a:off x="6919920" y="5302080"/>
            <a:ext cx="617400" cy="649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069320" y="60768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11560" y="5052960"/>
            <a:ext cx="0" cy="12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65080" y="50688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בני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33320" y="589608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wdnshapes" descr=""/>
          <p:cNvPicPr/>
          <p:nvPr/>
        </p:nvPicPr>
        <p:blipFill>
          <a:blip r:embed="rId39"/>
          <a:stretch/>
        </p:blipFill>
        <p:spPr>
          <a:xfrm>
            <a:off x="1744560" y="5308560"/>
            <a:ext cx="588960" cy="644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 rot="16200000">
            <a:off x="2081520" y="5991840"/>
            <a:ext cx="208080" cy="82440"/>
          </a:xfrm>
          <a:custGeom>
            <a:avLst/>
            <a:gdLst>
              <a:gd name="textAreaLeft" fmla="*/ 0 w 208080"/>
              <a:gd name="textAreaRight" fmla="*/ 208440 w 208080"/>
              <a:gd name="textAreaTop" fmla="*/ -360 h 82440"/>
              <a:gd name="textAreaBottom" fmla="*/ 82440 h 8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3440" y="2271600"/>
            <a:ext cx="74772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720" y="224640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כדורס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7080" y="27036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:4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2280" y="2508120"/>
            <a:ext cx="263520" cy="249480"/>
          </a:xfrm>
          <a:prstGeom prst="ellipse">
            <a:avLst/>
          </a:prstGeom>
          <a:solidFill>
            <a:srgbClr val="fc7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29800" y="2508120"/>
            <a:ext cx="18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0720" y="2549520"/>
            <a:ext cx="55440" cy="152280"/>
          </a:xfrm>
          <a:custGeom>
            <a:avLst/>
            <a:gdLst/>
            <a:ahLst/>
            <a:rect l="l" t="t" r="r" b="b"/>
            <a:pathLst>
              <a:path w="35" h="96">
                <a:moveTo>
                  <a:pt x="0" y="0"/>
                </a:moveTo>
                <a:cubicBezTo>
                  <a:pt x="17" y="18"/>
                  <a:pt x="35" y="36"/>
                  <a:pt x="35" y="52"/>
                </a:cubicBezTo>
                <a:cubicBezTo>
                  <a:pt x="35" y="68"/>
                  <a:pt x="6" y="89"/>
                  <a:pt x="0" y="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74800" y="2548080"/>
            <a:ext cx="55440" cy="152280"/>
          </a:xfrm>
          <a:custGeom>
            <a:avLst/>
            <a:gdLst/>
            <a:ahLst/>
            <a:rect l="l" t="t" r="r" b="b"/>
            <a:pathLst>
              <a:path w="35" h="96">
                <a:moveTo>
                  <a:pt x="0" y="0"/>
                </a:moveTo>
                <a:cubicBezTo>
                  <a:pt x="17" y="18"/>
                  <a:pt x="35" y="36"/>
                  <a:pt x="35" y="52"/>
                </a:cubicBezTo>
                <a:cubicBezTo>
                  <a:pt x="35" y="68"/>
                  <a:pt x="6" y="89"/>
                  <a:pt x="0" y="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3440" y="1523880"/>
            <a:ext cx="0" cy="142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18:03:28Z</dcterms:created>
  <dc:creator>Administrator</dc:creator>
  <dc:description/>
  <dc:language>en-US</dc:language>
  <cp:lastModifiedBy>Administrator</cp:lastModifiedBy>
  <dcterms:modified xsi:type="dcterms:W3CDTF">2001-09-18T15:34:55Z</dcterms:modified>
  <cp:revision>136</cp:revision>
  <dc:subject/>
  <dc:title>מצגת של PowerPoint</dc:title>
</cp:coreProperties>
</file>