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DBA-B037-4C81-9C78-48E3E9A0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324-2374-4936-A126-32A8FDE9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1AF-68C1-4F68-BE1A-CB5C01DE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381-5913-4F15-80DF-32F9FA15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576-2478-4710-ADF1-17D722CD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73E-A2FE-473D-A482-A24C336A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E65-A74A-4EA9-A809-A42B051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8E5-8630-4ED8-B13A-7A55F075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A4E-D589-4588-A52F-36808320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80A-B86D-4507-8301-7C8B289F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8ED-9E0A-4BDA-8F50-79ECB8E7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740-2D0C-4DCB-9786-56CC69C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D779-C7F2-4319-965D-6BC9F35B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2.png"/><Relationship Id="rId27" Type="http://schemas.openxmlformats.org/officeDocument/2006/relationships/image" Target="../media/image23.jpeg"/><Relationship Id="rId28" Type="http://schemas.openxmlformats.org/officeDocument/2006/relationships/image" Target="../media/image24.gif"/><Relationship Id="rId29" Type="http://schemas.openxmlformats.org/officeDocument/2006/relationships/image" Target="../media/image25.wmf"/><Relationship Id="rId30" Type="http://schemas.openxmlformats.org/officeDocument/2006/relationships/image" Target="../media/image15.png"/><Relationship Id="rId31" Type="http://schemas.openxmlformats.org/officeDocument/2006/relationships/image" Target="../media/image7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image" Target="../media/image15.png"/><Relationship Id="rId35" Type="http://schemas.openxmlformats.org/officeDocument/2006/relationships/image" Target="../media/image3.png"/><Relationship Id="rId36" Type="http://schemas.openxmlformats.org/officeDocument/2006/relationships/image" Target="../media/image4.png"/><Relationship Id="rId37" Type="http://schemas.openxmlformats.org/officeDocument/2006/relationships/image" Target="../media/image23.jpeg"/><Relationship Id="rId38" Type="http://schemas.openxmlformats.org/officeDocument/2006/relationships/image" Target="../media/image26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8.png"/><Relationship Id="rId42" Type="http://schemas.openxmlformats.org/officeDocument/2006/relationships/image" Target="../media/image29.jpeg"/><Relationship Id="rId43" Type="http://schemas.openxmlformats.org/officeDocument/2006/relationships/image" Target="../media/image30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80" y="1093680"/>
            <a:ext cx="8156520" cy="566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68440" y="6526080"/>
            <a:ext cx="680256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760" y="811080"/>
            <a:ext cx="8159760" cy="5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99800" y="961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:00-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28360" y="9586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4884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228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1120" y="94788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971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680" y="96840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440" y="139212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12760" y="16956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9:45-9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9200" y="5144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אש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09120" y="52704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נ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360" y="5270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ל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7240" y="54144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ביע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4640" y="5284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חמ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5120" y="52704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240" y="14400"/>
            <a:ext cx="57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כיתות א'-ב': מערכת שעות לבחירה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סמסטר ב' תשס"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920" y="2359080"/>
            <a:ext cx="81486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85040" y="26398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:35-9: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240" y="344016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240" y="4397400"/>
            <a:ext cx="815652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08360" y="468792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2:20-11: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5200" y="5649840"/>
            <a:ext cx="680256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9800" y="37497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1:30-10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93960" y="58467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:25-12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9400" y="495360"/>
            <a:ext cx="0" cy="625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7160" y="490680"/>
            <a:ext cx="0" cy="626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03720" y="485640"/>
            <a:ext cx="0" cy="627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823840" y="495360"/>
            <a:ext cx="3240" cy="626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461600" y="490680"/>
            <a:ext cx="3240" cy="626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65960" y="490680"/>
            <a:ext cx="0" cy="603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76920" y="13431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דיטצ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01400" y="1944720"/>
            <a:ext cx="610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בן-צ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1400" y="148608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ד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8200" y="204804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ח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5480" y="34480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920" y="3436920"/>
            <a:ext cx="607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טירת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הא' ב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2120" y="4094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stle_PART" descr=""/>
          <p:cNvPicPr/>
          <p:nvPr/>
        </p:nvPicPr>
        <p:blipFill>
          <a:blip r:embed="rId2"/>
          <a:stretch/>
        </p:blipFill>
        <p:spPr>
          <a:xfrm>
            <a:off x="7675560" y="3789360"/>
            <a:ext cx="438120" cy="372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75000" y="3429000"/>
            <a:ext cx="599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410040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23160" y="3836880"/>
            <a:ext cx="561960" cy="287280"/>
            <a:chOff x="6923160" y="3836880"/>
            <a:chExt cx="561960" cy="287280"/>
          </a:xfrm>
        </p:grpSpPr>
        <p:pic>
          <p:nvPicPr>
            <p:cNvPr id="85" name="mark1" descr=""/>
            <p:cNvPicPr/>
            <p:nvPr/>
          </p:nvPicPr>
          <p:blipFill>
            <a:blip r:embed="rId3"/>
            <a:stretch/>
          </p:blipFill>
          <p:spPr>
            <a:xfrm>
              <a:off x="6923160" y="383688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mark2" descr=""/>
            <p:cNvPicPr/>
            <p:nvPr/>
          </p:nvPicPr>
          <p:blipFill>
            <a:blip r:embed="rId4"/>
            <a:stretch/>
          </p:blipFill>
          <p:spPr>
            <a:xfrm>
              <a:off x="7197480" y="383688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7312680" y="44085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4960" y="468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74840" y="500364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פור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52320" y="4417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43320" y="46893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89760" y="501012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62760" y="468144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58080" y="49626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4520" y="5638680"/>
            <a:ext cx="749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יפור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ראש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87440" y="6299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39640" y="55879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היסטור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57466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9600" y="62913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04720" y="13287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בריא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77080" y="14731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4600" y="204624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זה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71920" y="233352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0520" y="30272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7320" y="230040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תאטר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48400" y="24336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58760" y="33987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2" descr=""/>
          <p:cNvPicPr/>
          <p:nvPr/>
        </p:nvPicPr>
        <p:blipFill>
          <a:blip r:embed="rId5"/>
          <a:stretch/>
        </p:blipFill>
        <p:spPr>
          <a:xfrm>
            <a:off x="5621400" y="372276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09" name="b2" descr=""/>
          <p:cNvPicPr/>
          <p:nvPr/>
        </p:nvPicPr>
        <p:blipFill>
          <a:blip r:embed="rId6"/>
          <a:stretch/>
        </p:blipFill>
        <p:spPr>
          <a:xfrm>
            <a:off x="5919840" y="392580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76840" y="35290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1080" y="410364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01800" y="436392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70200" y="5067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5960" y="4519440"/>
            <a:ext cx="4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300720" y="4808520"/>
            <a:ext cx="561960" cy="287280"/>
            <a:chOff x="6300720" y="4808520"/>
            <a:chExt cx="561960" cy="287280"/>
          </a:xfrm>
        </p:grpSpPr>
        <p:pic>
          <p:nvPicPr>
            <p:cNvPr id="116" name="mark1" descr=""/>
            <p:cNvPicPr/>
            <p:nvPr/>
          </p:nvPicPr>
          <p:blipFill>
            <a:blip r:embed="rId7"/>
            <a:stretch/>
          </p:blipFill>
          <p:spPr>
            <a:xfrm>
              <a:off x="6300720" y="48085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mark2" descr=""/>
            <p:cNvPicPr/>
            <p:nvPr/>
          </p:nvPicPr>
          <p:blipFill>
            <a:blip r:embed="rId8"/>
            <a:stretch/>
          </p:blipFill>
          <p:spPr>
            <a:xfrm>
              <a:off x="6575040" y="480852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6229440" y="44179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0080" y="4362480"/>
            <a:ext cx="75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ושבים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תו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47320" y="4705200"/>
            <a:ext cx="4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88000" y="506268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65640" y="630540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57000" y="5815080"/>
            <a:ext cx="4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40440" y="56307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טב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99360" y="13557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cj1a" descr=""/>
          <p:cNvPicPr/>
          <p:nvPr/>
        </p:nvPicPr>
        <p:blipFill>
          <a:blip r:embed="rId9"/>
          <a:stretch/>
        </p:blipFill>
        <p:spPr>
          <a:xfrm>
            <a:off x="4307040" y="158580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64640" y="56134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יני פרלמנ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1880" y="34624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51200" y="4351320"/>
            <a:ext cx="4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גינ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09440" y="505764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70120" y="13525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רקט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8600" y="149400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24840" y="205596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ור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3400" y="1380960"/>
            <a:ext cx="689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האזנ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ווית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3400" y="1628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28600" y="203184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56920" y="23115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17400" y="2441520"/>
            <a:ext cx="4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ג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3040" y="300816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5600" y="34131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33880" y="33814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24640" y="339552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81800" y="37353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08760" y="371304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31400" y="3733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3240" y="40734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נגל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58760" y="40813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37116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1320" y="403560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7720" y="43848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0680" y="45277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9360" y="50529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88920" y="63007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5840" y="587376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77320" y="5634000"/>
            <a:ext cx="709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 כלי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emcond112l" descr=""/>
          <p:cNvPicPr/>
          <p:nvPr/>
        </p:nvPicPr>
        <p:blipFill>
          <a:blip r:embed="rId10"/>
          <a:stretch/>
        </p:blipFill>
        <p:spPr>
          <a:xfrm>
            <a:off x="3579840" y="5934240"/>
            <a:ext cx="355680" cy="444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38040" y="3430440"/>
            <a:ext cx="7218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יפור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וספר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0440" y="3645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55040" y="410364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4560" y="167796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33160" y="168768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ינ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28920" y="136692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0560" y="20210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גאוגרפ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3880" y="20066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42960" y="16732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4760" y="1978200"/>
            <a:ext cx="124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96400" y="23004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ספור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57240" y="242712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64920" y="409104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9120" y="3557520"/>
            <a:ext cx="4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66720" y="34131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טב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15520" y="43624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5960" y="437184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ג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1480" y="4381560"/>
            <a:ext cx="4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12360" y="50385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25160" y="502920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קה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4920" y="629136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נוע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9520" y="561024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קה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singers3ds" descr=""/>
          <p:cNvPicPr/>
          <p:nvPr/>
        </p:nvPicPr>
        <p:blipFill>
          <a:blip r:embed="rId11"/>
          <a:stretch/>
        </p:blipFill>
        <p:spPr>
          <a:xfrm>
            <a:off x="1560600" y="5818320"/>
            <a:ext cx="474480" cy="547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62160" y="56656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85560" y="566244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אמ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96720" y="63151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alette2" descr=""/>
          <p:cNvPicPr/>
          <p:nvPr/>
        </p:nvPicPr>
        <p:blipFill>
          <a:blip r:embed="rId12"/>
          <a:stretch/>
        </p:blipFill>
        <p:spPr>
          <a:xfrm>
            <a:off x="2320920" y="5969160"/>
            <a:ext cx="357120" cy="460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82720" y="134316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כדורס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0200" y="135900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320" y="1360440"/>
            <a:ext cx="38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דנ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83520" y="162396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יצי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2320" y="16556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נג'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520" y="1866960"/>
            <a:ext cx="12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מועדון דמוקרט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40" y="20448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הודית+אי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360" y="164772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3680" y="191448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8760" y="22986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יצי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6680" y="29973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נג'ל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20" y="2328840"/>
            <a:ext cx="76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מועד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דמוקרט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920" y="2909880"/>
            <a:ext cx="619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יהוד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+אית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80" y="3240000"/>
            <a:ext cx="135396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360" y="318924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קבלת שב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8400" y="2901960"/>
            <a:ext cx="610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בן-צב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18400" y="24433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ד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7840" y="230976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דיטצ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480" y="3432240"/>
            <a:ext cx="1352520" cy="1844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99200" y="301464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רח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09920" y="233352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4040" y="141300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3400" y="2365200"/>
            <a:ext cx="0" cy="86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ccj7a" descr=""/>
          <p:cNvPicPr/>
          <p:nvPr/>
        </p:nvPicPr>
        <p:blipFill>
          <a:blip r:embed="rId14"/>
          <a:stretch/>
        </p:blipFill>
        <p:spPr>
          <a:xfrm>
            <a:off x="4240080" y="5864400"/>
            <a:ext cx="1224000" cy="633240"/>
          </a:xfrm>
          <a:prstGeom prst="rect">
            <a:avLst/>
          </a:prstGeom>
          <a:ln w="0">
            <a:noFill/>
          </a:ln>
        </p:spPr>
      </p:pic>
      <p:pic>
        <p:nvPicPr>
          <p:cNvPr id="208" name="ccplant3" descr=""/>
          <p:cNvPicPr/>
          <p:nvPr/>
        </p:nvPicPr>
        <p:blipFill>
          <a:blip r:embed="rId15"/>
          <a:stretch/>
        </p:blipFill>
        <p:spPr>
          <a:xfrm>
            <a:off x="4827600" y="4618080"/>
            <a:ext cx="517680" cy="504720"/>
          </a:xfrm>
          <a:prstGeom prst="rect">
            <a:avLst/>
          </a:prstGeom>
          <a:ln w="0">
            <a:noFill/>
          </a:ln>
        </p:spPr>
      </p:pic>
      <p:pic>
        <p:nvPicPr>
          <p:cNvPr id="209" name="ccschoolread1" descr=""/>
          <p:cNvPicPr/>
          <p:nvPr/>
        </p:nvPicPr>
        <p:blipFill>
          <a:blip r:embed="rId16"/>
          <a:stretch/>
        </p:blipFill>
        <p:spPr>
          <a:xfrm>
            <a:off x="7095960" y="2637000"/>
            <a:ext cx="403560" cy="420480"/>
          </a:xfrm>
          <a:prstGeom prst="rect">
            <a:avLst/>
          </a:prstGeom>
          <a:ln w="0">
            <a:noFill/>
          </a:ln>
        </p:spPr>
      </p:pic>
      <p:pic>
        <p:nvPicPr>
          <p:cNvPr id="210" name="ccschoolread2" descr=""/>
          <p:cNvPicPr/>
          <p:nvPr/>
        </p:nvPicPr>
        <p:blipFill>
          <a:blip r:embed="rId17"/>
          <a:stretch/>
        </p:blipFill>
        <p:spPr>
          <a:xfrm>
            <a:off x="6340320" y="2643120"/>
            <a:ext cx="436680" cy="428760"/>
          </a:xfrm>
          <a:prstGeom prst="rect">
            <a:avLst/>
          </a:prstGeom>
          <a:ln w="0">
            <a:noFill/>
          </a:ln>
        </p:spPr>
      </p:pic>
      <p:pic>
        <p:nvPicPr>
          <p:cNvPr id="211" name="ccschoolread1" descr=""/>
          <p:cNvPicPr/>
          <p:nvPr/>
        </p:nvPicPr>
        <p:blipFill>
          <a:blip r:embed="rId18"/>
          <a:stretch/>
        </p:blipFill>
        <p:spPr>
          <a:xfrm>
            <a:off x="7040520" y="1695600"/>
            <a:ext cx="403200" cy="420480"/>
          </a:xfrm>
          <a:prstGeom prst="rect">
            <a:avLst/>
          </a:prstGeom>
          <a:ln w="0">
            <a:noFill/>
          </a:ln>
        </p:spPr>
      </p:pic>
      <p:pic>
        <p:nvPicPr>
          <p:cNvPr id="212" name="1s" descr=""/>
          <p:cNvPicPr/>
          <p:nvPr/>
        </p:nvPicPr>
        <p:blipFill>
          <a:blip r:embed="rId19"/>
          <a:stretch/>
        </p:blipFill>
        <p:spPr>
          <a:xfrm>
            <a:off x="1984320" y="2693880"/>
            <a:ext cx="292320" cy="292320"/>
          </a:xfrm>
          <a:prstGeom prst="rect">
            <a:avLst/>
          </a:prstGeom>
          <a:ln w="0">
            <a:noFill/>
          </a:ln>
        </p:spPr>
      </p:pic>
      <p:pic>
        <p:nvPicPr>
          <p:cNvPr id="213" name="colors_v" descr=""/>
          <p:cNvPicPr/>
          <p:nvPr/>
        </p:nvPicPr>
        <p:blipFill>
          <a:blip r:embed="rId20"/>
          <a:stretch/>
        </p:blipFill>
        <p:spPr>
          <a:xfrm>
            <a:off x="1012680" y="2575080"/>
            <a:ext cx="265320" cy="406080"/>
          </a:xfrm>
          <a:prstGeom prst="rect">
            <a:avLst/>
          </a:prstGeom>
          <a:ln w="0">
            <a:noFill/>
          </a:ln>
        </p:spPr>
      </p:pic>
      <p:pic>
        <p:nvPicPr>
          <p:cNvPr id="214" name="boy02_1" descr=""/>
          <p:cNvPicPr/>
          <p:nvPr/>
        </p:nvPicPr>
        <p:blipFill>
          <a:blip r:embed="rId21"/>
          <a:stretch/>
        </p:blipFill>
        <p:spPr>
          <a:xfrm>
            <a:off x="504720" y="2668680"/>
            <a:ext cx="290520" cy="258840"/>
          </a:xfrm>
          <a:prstGeom prst="rect">
            <a:avLst/>
          </a:prstGeom>
          <a:ln w="0">
            <a:noFill/>
          </a:ln>
        </p:spPr>
      </p:pic>
      <p:pic>
        <p:nvPicPr>
          <p:cNvPr id="215" name="girl01_1" descr=""/>
          <p:cNvPicPr/>
          <p:nvPr/>
        </p:nvPicPr>
        <p:blipFill>
          <a:blip r:embed="rId22"/>
          <a:stretch/>
        </p:blipFill>
        <p:spPr>
          <a:xfrm>
            <a:off x="142920" y="2647800"/>
            <a:ext cx="328680" cy="277920"/>
          </a:xfrm>
          <a:prstGeom prst="rect">
            <a:avLst/>
          </a:prstGeom>
          <a:ln w="0">
            <a:noFill/>
          </a:ln>
        </p:spPr>
      </p:pic>
      <p:pic>
        <p:nvPicPr>
          <p:cNvPr id="216" name="wdnshapes" descr=""/>
          <p:cNvPicPr/>
          <p:nvPr/>
        </p:nvPicPr>
        <p:blipFill>
          <a:blip r:embed="rId23"/>
          <a:stretch/>
        </p:blipFill>
        <p:spPr>
          <a:xfrm>
            <a:off x="2895480" y="4491000"/>
            <a:ext cx="714600" cy="782640"/>
          </a:xfrm>
          <a:prstGeom prst="rect">
            <a:avLst/>
          </a:prstGeom>
          <a:ln w="0">
            <a:noFill/>
          </a:ln>
        </p:spPr>
      </p:pic>
      <p:pic>
        <p:nvPicPr>
          <p:cNvPr id="217" name="nakuz" descr=""/>
          <p:cNvPicPr/>
          <p:nvPr/>
        </p:nvPicPr>
        <p:blipFill>
          <a:blip r:embed="rId24"/>
          <a:stretch/>
        </p:blipFill>
        <p:spPr>
          <a:xfrm>
            <a:off x="7770960" y="2579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nakuz" descr=""/>
          <p:cNvPicPr/>
          <p:nvPr/>
        </p:nvPicPr>
        <p:blipFill>
          <a:blip r:embed="rId25"/>
          <a:stretch/>
        </p:blipFill>
        <p:spPr>
          <a:xfrm>
            <a:off x="7751880" y="164628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42080" y="4221000"/>
            <a:ext cx="73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פרלמנ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85200" y="567216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bkcl1o" descr=""/>
          <p:cNvPicPr/>
          <p:nvPr/>
        </p:nvPicPr>
        <p:blipFill>
          <a:blip r:embed="rId26"/>
          <a:stretch/>
        </p:blipFill>
        <p:spPr>
          <a:xfrm>
            <a:off x="7705800" y="5981760"/>
            <a:ext cx="412560" cy="3506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176960" y="5954760"/>
            <a:ext cx="360360" cy="250920"/>
          </a:xfrm>
          <a:prstGeom prst="cloudCallout">
            <a:avLst>
              <a:gd name="adj1" fmla="val -119162"/>
              <a:gd name="adj2" fmla="val 150634"/>
            </a:avLst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rofessor_of_anatomy_md_wht" descr=""/>
          <p:cNvPicPr/>
          <p:nvPr/>
        </p:nvPicPr>
        <p:blipFill>
          <a:blip r:embed="rId28"/>
          <a:stretch/>
        </p:blipFill>
        <p:spPr>
          <a:xfrm>
            <a:off x="5894280" y="1689120"/>
            <a:ext cx="517680" cy="41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235560" y="2389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0080" y="301464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EN00378_" descr=""/>
          <p:cNvPicPr/>
          <p:nvPr/>
        </p:nvPicPr>
        <p:blipFill>
          <a:blip r:embed="rId29"/>
          <a:stretch/>
        </p:blipFill>
        <p:spPr>
          <a:xfrm>
            <a:off x="5613480" y="2625840"/>
            <a:ext cx="590400" cy="45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30880" y="345600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81280" y="341460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9880" y="410832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ccschoolread2" descr=""/>
          <p:cNvPicPr/>
          <p:nvPr/>
        </p:nvPicPr>
        <p:blipFill>
          <a:blip r:embed="rId30"/>
          <a:stretch/>
        </p:blipFill>
        <p:spPr>
          <a:xfrm>
            <a:off x="6350040" y="372420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37160" y="23083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ccj1a" descr=""/>
          <p:cNvPicPr/>
          <p:nvPr/>
        </p:nvPicPr>
        <p:blipFill>
          <a:blip r:embed="rId31"/>
          <a:stretch/>
        </p:blipFill>
        <p:spPr>
          <a:xfrm>
            <a:off x="4344840" y="253836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30200" y="34084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98600" y="41115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04360" y="3564000"/>
            <a:ext cx="4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-</a:t>
            </a: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29120" y="3852720"/>
            <a:ext cx="561960" cy="287280"/>
            <a:chOff x="4929120" y="3852720"/>
            <a:chExt cx="561960" cy="287280"/>
          </a:xfrm>
        </p:grpSpPr>
        <p:pic>
          <p:nvPicPr>
            <p:cNvPr id="237" name="mark1" descr=""/>
            <p:cNvPicPr/>
            <p:nvPr/>
          </p:nvPicPr>
          <p:blipFill>
            <a:blip r:embed="rId32"/>
            <a:stretch/>
          </p:blipFill>
          <p:spPr>
            <a:xfrm>
              <a:off x="4929120" y="38527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mark2" descr=""/>
            <p:cNvPicPr/>
            <p:nvPr/>
          </p:nvPicPr>
          <p:blipFill>
            <a:blip r:embed="rId33"/>
            <a:stretch/>
          </p:blipFill>
          <p:spPr>
            <a:xfrm>
              <a:off x="5203440" y="385272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"/>
          <p:cNvSpPr/>
          <p:nvPr/>
        </p:nvSpPr>
        <p:spPr>
          <a:xfrm>
            <a:off x="4271760" y="3413160"/>
            <a:ext cx="616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עברי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20360" y="410688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ccschoolread2" descr=""/>
          <p:cNvPicPr/>
          <p:nvPr/>
        </p:nvPicPr>
        <p:blipFill>
          <a:blip r:embed="rId34"/>
          <a:stretch/>
        </p:blipFill>
        <p:spPr>
          <a:xfrm>
            <a:off x="4340160" y="3722760"/>
            <a:ext cx="436680" cy="428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3270240" y="2717640"/>
            <a:ext cx="561960" cy="287280"/>
            <a:chOff x="3270240" y="2717640"/>
            <a:chExt cx="561960" cy="287280"/>
          </a:xfrm>
        </p:grpSpPr>
        <p:pic>
          <p:nvPicPr>
            <p:cNvPr id="243" name="mark1" descr=""/>
            <p:cNvPicPr/>
            <p:nvPr/>
          </p:nvPicPr>
          <p:blipFill>
            <a:blip r:embed="rId35"/>
            <a:stretch/>
          </p:blipFill>
          <p:spPr>
            <a:xfrm>
              <a:off x="3270240" y="271764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mark2" descr=""/>
            <p:cNvPicPr/>
            <p:nvPr/>
          </p:nvPicPr>
          <p:blipFill>
            <a:blip r:embed="rId36"/>
            <a:stretch/>
          </p:blipFill>
          <p:spPr>
            <a:xfrm>
              <a:off x="3544560" y="2717640"/>
              <a:ext cx="28764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3519360" y="56656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30400" y="57484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5840" y="629280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64800" y="55879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Arial"/>
                <a:cs typeface="Arial"/>
              </a:rPr>
              <a:t>היסטורי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5940360"/>
            <a:ext cx="360360" cy="250920"/>
          </a:xfrm>
          <a:prstGeom prst="cloudCallout">
            <a:avLst>
              <a:gd name="adj1" fmla="val -119162"/>
              <a:gd name="adj2" fmla="val 150634"/>
            </a:avLst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3280" y="13557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חשב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50800" y="135252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06600" y="200988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3320" y="2981160"/>
            <a:ext cx="4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עמ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2160" y="345132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ook45" descr=""/>
          <p:cNvPicPr/>
          <p:nvPr/>
        </p:nvPicPr>
        <p:blipFill>
          <a:blip r:embed="rId38"/>
          <a:stretch/>
        </p:blipFill>
        <p:spPr>
          <a:xfrm>
            <a:off x="2317680" y="3851280"/>
            <a:ext cx="335160" cy="326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38960" y="4735440"/>
            <a:ext cx="9990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רכז אמנ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04800" y="470844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73200" y="468144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39720" y="5005440"/>
            <a:ext cx="1246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6400" y="238428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ss_sun2" descr=""/>
          <p:cNvPicPr/>
          <p:nvPr/>
        </p:nvPicPr>
        <p:blipFill>
          <a:blip r:embed="rId39"/>
          <a:stretch/>
        </p:blipFill>
        <p:spPr>
          <a:xfrm>
            <a:off x="1606680" y="3774960"/>
            <a:ext cx="374400" cy="374760"/>
          </a:xfrm>
          <a:prstGeom prst="rect">
            <a:avLst/>
          </a:prstGeom>
          <a:ln w="0">
            <a:noFill/>
          </a:ln>
        </p:spPr>
      </p:pic>
      <p:pic>
        <p:nvPicPr>
          <p:cNvPr id="262" name="ss_sun2" descr=""/>
          <p:cNvPicPr/>
          <p:nvPr/>
        </p:nvPicPr>
        <p:blipFill>
          <a:blip r:embed="rId40"/>
          <a:stretch/>
        </p:blipFill>
        <p:spPr>
          <a:xfrm>
            <a:off x="6089760" y="6018120"/>
            <a:ext cx="374400" cy="374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316640" y="499104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Arial"/>
              </a:rPr>
              <a:t>א'-ב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36080" y="450072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א'-ו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17720" y="64850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3:40-13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2240" y="650880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9036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5656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028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18400" y="651204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 + ניקיו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wa02" descr=""/>
          <p:cNvPicPr/>
          <p:nvPr/>
        </p:nvPicPr>
        <p:blipFill>
          <a:blip r:embed="rId41"/>
          <a:stretch/>
        </p:blipFill>
        <p:spPr>
          <a:xfrm>
            <a:off x="5759280" y="4911840"/>
            <a:ext cx="228600" cy="239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519360" y="1386000"/>
            <a:ext cx="0" cy="86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900_grd7" descr=""/>
          <p:cNvPicPr/>
          <p:nvPr/>
        </p:nvPicPr>
        <p:blipFill>
          <a:blip r:embed="rId42"/>
          <a:stretch/>
        </p:blipFill>
        <p:spPr>
          <a:xfrm>
            <a:off x="3568680" y="1676520"/>
            <a:ext cx="592200" cy="431640"/>
          </a:xfrm>
          <a:prstGeom prst="rect">
            <a:avLst/>
          </a:prstGeom>
          <a:ln w="0">
            <a:noFill/>
          </a:ln>
        </p:spPr>
      </p:pic>
      <p:pic>
        <p:nvPicPr>
          <p:cNvPr id="274" name="rainbownotes100w1_HALF" descr=""/>
          <p:cNvPicPr/>
          <p:nvPr/>
        </p:nvPicPr>
        <p:blipFill>
          <a:blip r:embed="rId43"/>
          <a:stretch/>
        </p:blipFill>
        <p:spPr>
          <a:xfrm>
            <a:off x="2994120" y="1805040"/>
            <a:ext cx="40464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18:03:28Z</dcterms:created>
  <dc:creator/>
  <dc:description/>
  <dc:language>en-US</dc:language>
  <cp:lastModifiedBy>--</cp:lastModifiedBy>
  <dcterms:modified xsi:type="dcterms:W3CDTF">2002-03-06T21:12:42Z</dcterms:modified>
  <cp:revision>262</cp:revision>
  <dc:subject/>
  <dc:title>מצגת של PowerPoint</dc:title>
</cp:coreProperties>
</file>