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4.png" ContentType="image/png"/>
  <Override PartName="/ppt/media/image23.png" ContentType="image/png"/>
  <Override PartName="/ppt/media/image6.png" ContentType="image/png"/>
  <Override PartName="/ppt/media/image11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9.gif" ContentType="image/gif"/>
  <Override PartName="/ppt/media/image1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72288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51B3-8665-4451-9E19-99AA46B1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130FA-3C45-473B-BC3C-5D34005F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3A5-CADA-42A5-ADCF-54F1D1F19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3EC-0892-4AE6-BE46-EEF0DDD06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E765-1A3B-4876-8A9F-001B01590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FD61-17C6-4517-A140-27E6E9F69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F8DF-84CC-4BA1-A12C-843C692B1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7C64-1130-454D-A622-DF3542865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9C39-C2F2-4C71-BDE2-F6096650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70F-F104-41EB-A5B4-5F421ECAF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27F6-CCAB-4949-B135-27908B6DC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63CE-D3EF-4591-B5D3-D177F97F1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54AA2-9F34-40F7-80CC-709A542AB4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gif"/><Relationship Id="rId4" Type="http://schemas.openxmlformats.org/officeDocument/2006/relationships/image" Target="../media/image3.jpe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image" Target="../media/image9.jpe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14.png"/><Relationship Id="rId18" Type="http://schemas.openxmlformats.org/officeDocument/2006/relationships/image" Target="../media/image6.png"/><Relationship Id="rId19" Type="http://schemas.openxmlformats.org/officeDocument/2006/relationships/image" Target="../media/image7.png"/><Relationship Id="rId20" Type="http://schemas.openxmlformats.org/officeDocument/2006/relationships/image" Target="../media/image15.png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18.png"/><Relationship Id="rId24" Type="http://schemas.openxmlformats.org/officeDocument/2006/relationships/image" Target="../media/image19.gif"/><Relationship Id="rId25" Type="http://schemas.openxmlformats.org/officeDocument/2006/relationships/image" Target="../media/image15.png"/><Relationship Id="rId26" Type="http://schemas.openxmlformats.org/officeDocument/2006/relationships/image" Target="../media/image16.png"/><Relationship Id="rId27" Type="http://schemas.openxmlformats.org/officeDocument/2006/relationships/image" Target="../media/image17.png"/><Relationship Id="rId28" Type="http://schemas.openxmlformats.org/officeDocument/2006/relationships/image" Target="../media/image18.png"/><Relationship Id="rId29" Type="http://schemas.openxmlformats.org/officeDocument/2006/relationships/image" Target="../media/image5.png"/><Relationship Id="rId30" Type="http://schemas.openxmlformats.org/officeDocument/2006/relationships/image" Target="../media/image20.png"/><Relationship Id="rId31" Type="http://schemas.openxmlformats.org/officeDocument/2006/relationships/image" Target="../media/image21.png"/><Relationship Id="rId32" Type="http://schemas.openxmlformats.org/officeDocument/2006/relationships/image" Target="../media/image6.png"/><Relationship Id="rId33" Type="http://schemas.openxmlformats.org/officeDocument/2006/relationships/image" Target="../media/image7.png"/><Relationship Id="rId34" Type="http://schemas.openxmlformats.org/officeDocument/2006/relationships/image" Target="../media/image22.jpeg"/><Relationship Id="rId35" Type="http://schemas.openxmlformats.org/officeDocument/2006/relationships/image" Target="../media/image23.png"/><Relationship Id="rId36" Type="http://schemas.openxmlformats.org/officeDocument/2006/relationships/image" Target="../media/image6.png"/><Relationship Id="rId37" Type="http://schemas.openxmlformats.org/officeDocument/2006/relationships/image" Target="../media/image7.png"/><Relationship Id="rId38" Type="http://schemas.openxmlformats.org/officeDocument/2006/relationships/image" Target="../media/image19.gif"/><Relationship Id="rId39" Type="http://schemas.openxmlformats.org/officeDocument/2006/relationships/image" Target="../media/image4.png"/><Relationship Id="rId4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31640" y="1096920"/>
            <a:ext cx="7537680" cy="40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984080" y="1125360"/>
            <a:ext cx="89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8:30-9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689040"/>
            <a:ext cx="0" cy="581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951280" y="685800"/>
            <a:ext cx="0" cy="5838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205160" y="646200"/>
            <a:ext cx="0" cy="5879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68760" y="676440"/>
            <a:ext cx="9720" cy="583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13640" y="684360"/>
            <a:ext cx="0" cy="582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33520" y="104940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בוק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482440" y="10335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בוק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30000" y="10335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בוק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5760" y="10335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בוק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707480" y="103356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בוק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3240" y="1044720"/>
            <a:ext cx="109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בוק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880" y="1500120"/>
            <a:ext cx="7532640" cy="12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95320" y="3154320"/>
            <a:ext cx="75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בריאו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08000" y="4167360"/>
            <a:ext cx="52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יזהר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37080" y="1460520"/>
            <a:ext cx="62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ועדו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65160" y="2214720"/>
            <a:ext cx="788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סדנאו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הורי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34880" y="2760840"/>
            <a:ext cx="7532640" cy="4172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880" y="3174840"/>
            <a:ext cx="7532640" cy="12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975440" y="354168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0:45-12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56000" y="416232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גא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913360" y="3147840"/>
            <a:ext cx="93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היסטורי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1000" y="3146400"/>
            <a:ext cx="82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פרלמנט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462640" y="4448160"/>
            <a:ext cx="2506680" cy="603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478480" y="5052960"/>
            <a:ext cx="2489040" cy="12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16120" y="5049720"/>
            <a:ext cx="2490840" cy="126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978320" y="5437080"/>
            <a:ext cx="107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12:45-14: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14680" y="6315120"/>
            <a:ext cx="2490480" cy="20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77040" y="6324480"/>
            <a:ext cx="2490480" cy="18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765480" y="626580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סיו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81360" y="62611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סיו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985840" y="62485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סיו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33040" y="62485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סיו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rofessor_of_anatomy_md_wht" descr=""/>
          <p:cNvPicPr/>
          <p:nvPr/>
        </p:nvPicPr>
        <p:blipFill>
          <a:blip r:embed="rId3"/>
          <a:stretch/>
        </p:blipFill>
        <p:spPr>
          <a:xfrm>
            <a:off x="5495760" y="3430440"/>
            <a:ext cx="574920" cy="6271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205680" y="3462480"/>
            <a:ext cx="484200" cy="431640"/>
          </a:xfrm>
          <a:prstGeom prst="cloudCallout">
            <a:avLst>
              <a:gd name="adj1" fmla="val -75902"/>
              <a:gd name="adj2" fmla="val 66546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07760" y="60012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ראשו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866200" y="612720"/>
            <a:ext cx="453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שנ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15120" y="612720"/>
            <a:ext cx="67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שליש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78520" y="627120"/>
            <a:ext cx="61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רביע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97280" y="614520"/>
            <a:ext cx="6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חמיש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69400" y="612720"/>
            <a:ext cx="52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שש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714680" y="4443480"/>
            <a:ext cx="2492280" cy="612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01640" y="460224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פגש סיו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05160" y="4646520"/>
            <a:ext cx="1258920" cy="22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06960" y="4443480"/>
            <a:ext cx="1253880" cy="2160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14640" y="87480"/>
            <a:ext cx="355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800" spc="-1" strike="noStrike" u="sng">
                <a:solidFill>
                  <a:srgbClr val="000000"/>
                </a:solidFill>
                <a:uFillTx/>
                <a:latin typeface="Times New Roman"/>
                <a:cs typeface="Arial"/>
              </a:rPr>
              <a:t>כיתות ג'-ו': מערכת שעות לבחירה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624520" y="6624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12840" y="416736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גא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61800" y="3141720"/>
            <a:ext cx="56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גו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ונפ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1s" descr=""/>
          <p:cNvPicPr/>
          <p:nvPr/>
        </p:nvPicPr>
        <p:blipFill>
          <a:blip r:embed="rId7"/>
          <a:stretch/>
        </p:blipFill>
        <p:spPr>
          <a:xfrm>
            <a:off x="2975040" y="3710160"/>
            <a:ext cx="430200" cy="4302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32440" y="415764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קבלת שב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91440" y="3200400"/>
            <a:ext cx="0" cy="12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782960" y="3200400"/>
            <a:ext cx="0" cy="123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088160" y="3154320"/>
            <a:ext cx="79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הרכבי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כליים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241880" y="41529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נע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femcond112l" descr=""/>
          <p:cNvPicPr/>
          <p:nvPr/>
        </p:nvPicPr>
        <p:blipFill>
          <a:blip r:embed="rId8"/>
          <a:stretch/>
        </p:blipFill>
        <p:spPr>
          <a:xfrm>
            <a:off x="4295880" y="3657600"/>
            <a:ext cx="407880" cy="474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 flipH="1">
            <a:off x="3601800" y="1509840"/>
            <a:ext cx="4680" cy="123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48680" y="1465200"/>
            <a:ext cx="8557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אנגלי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תקדמי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940840" y="245916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דבור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59080" y="3186000"/>
            <a:ext cx="0" cy="12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54320" y="3137040"/>
            <a:ext cx="816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ארכי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טקטור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46120" y="4143240"/>
            <a:ext cx="58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איל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a2" descr=""/>
          <p:cNvPicPr/>
          <p:nvPr/>
        </p:nvPicPr>
        <p:blipFill>
          <a:blip r:embed="rId9"/>
          <a:stretch/>
        </p:blipFill>
        <p:spPr>
          <a:xfrm>
            <a:off x="2994120" y="2011320"/>
            <a:ext cx="239760" cy="274680"/>
          </a:xfrm>
          <a:prstGeom prst="rect">
            <a:avLst/>
          </a:prstGeom>
          <a:ln w="0">
            <a:noFill/>
          </a:ln>
        </p:spPr>
      </p:pic>
      <p:pic>
        <p:nvPicPr>
          <p:cNvPr id="105" name="b2" descr=""/>
          <p:cNvPicPr/>
          <p:nvPr/>
        </p:nvPicPr>
        <p:blipFill>
          <a:blip r:embed="rId10"/>
          <a:stretch/>
        </p:blipFill>
        <p:spPr>
          <a:xfrm>
            <a:off x="3306600" y="2171880"/>
            <a:ext cx="228600" cy="250560"/>
          </a:xfrm>
          <a:prstGeom prst="rect">
            <a:avLst/>
          </a:prstGeom>
          <a:ln w="0">
            <a:noFill/>
          </a:ln>
        </p:spPr>
      </p:pic>
      <p:pic>
        <p:nvPicPr>
          <p:cNvPr id="106" name="_a" descr=""/>
          <p:cNvPicPr/>
          <p:nvPr/>
        </p:nvPicPr>
        <p:blipFill>
          <a:blip r:embed="rId11"/>
          <a:stretch/>
        </p:blipFill>
        <p:spPr>
          <a:xfrm>
            <a:off x="2470320" y="3662280"/>
            <a:ext cx="365040" cy="3650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573360" y="1455840"/>
            <a:ext cx="70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רקטו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679920" y="246708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יור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900_grd7" descr=""/>
          <p:cNvPicPr/>
          <p:nvPr/>
        </p:nvPicPr>
        <p:blipFill>
          <a:blip r:embed="rId12"/>
          <a:stretch/>
        </p:blipFill>
        <p:spPr>
          <a:xfrm>
            <a:off x="3619440" y="1990800"/>
            <a:ext cx="592200" cy="431640"/>
          </a:xfrm>
          <a:prstGeom prst="rect">
            <a:avLst/>
          </a:prstGeom>
          <a:ln w="0">
            <a:noFill/>
          </a:ln>
        </p:spPr>
      </p:pic>
      <p:pic>
        <p:nvPicPr>
          <p:cNvPr id="110" name="ccj1a" descr=""/>
          <p:cNvPicPr/>
          <p:nvPr/>
        </p:nvPicPr>
        <p:blipFill>
          <a:blip r:embed="rId13"/>
          <a:stretch/>
        </p:blipFill>
        <p:spPr>
          <a:xfrm>
            <a:off x="4249800" y="1700280"/>
            <a:ext cx="1170000" cy="674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397240" y="5052960"/>
            <a:ext cx="0" cy="12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58800" y="50403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בני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455920" y="602460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אבי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wdnshapes" descr=""/>
          <p:cNvPicPr/>
          <p:nvPr/>
        </p:nvPicPr>
        <p:blipFill>
          <a:blip r:embed="rId14"/>
          <a:stretch/>
        </p:blipFill>
        <p:spPr>
          <a:xfrm>
            <a:off x="2438280" y="5280120"/>
            <a:ext cx="588960" cy="6444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433440" y="1538280"/>
            <a:ext cx="747720" cy="65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4720" y="1512720"/>
            <a:ext cx="76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כדורס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68240" y="1969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9: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2280" y="1774800"/>
            <a:ext cx="263520" cy="249120"/>
          </a:xfrm>
          <a:prstGeom prst="ellipse">
            <a:avLst/>
          </a:prstGeom>
          <a:solidFill>
            <a:srgbClr val="fc7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829800" y="1774800"/>
            <a:ext cx="180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20720" y="1816200"/>
            <a:ext cx="55440" cy="152280"/>
          </a:xfrm>
          <a:custGeom>
            <a:avLst/>
            <a:gdLst/>
            <a:ahLst/>
            <a:rect l="l" t="t" r="r" b="b"/>
            <a:pathLst>
              <a:path w="35" h="96">
                <a:moveTo>
                  <a:pt x="0" y="0"/>
                </a:moveTo>
                <a:cubicBezTo>
                  <a:pt x="17" y="18"/>
                  <a:pt x="35" y="36"/>
                  <a:pt x="35" y="52"/>
                </a:cubicBezTo>
                <a:cubicBezTo>
                  <a:pt x="35" y="68"/>
                  <a:pt x="6" y="89"/>
                  <a:pt x="0" y="9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874800" y="1814400"/>
            <a:ext cx="55440" cy="152640"/>
          </a:xfrm>
          <a:custGeom>
            <a:avLst/>
            <a:gdLst/>
            <a:ahLst/>
            <a:rect l="l" t="t" r="r" b="b"/>
            <a:pathLst>
              <a:path w="35" h="96">
                <a:moveTo>
                  <a:pt x="0" y="0"/>
                </a:moveTo>
                <a:cubicBezTo>
                  <a:pt x="17" y="18"/>
                  <a:pt x="35" y="36"/>
                  <a:pt x="35" y="52"/>
                </a:cubicBezTo>
                <a:cubicBezTo>
                  <a:pt x="35" y="68"/>
                  <a:pt x="6" y="89"/>
                  <a:pt x="0" y="96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3440" y="1523880"/>
            <a:ext cx="0" cy="1427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02600" y="1496880"/>
            <a:ext cx="0" cy="12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653160" y="1452600"/>
            <a:ext cx="74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שחק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דע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68360" y="2465280"/>
            <a:ext cx="43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נת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d2_sci_experiences_CHANGED" descr=""/>
          <p:cNvPicPr/>
          <p:nvPr/>
        </p:nvPicPr>
        <p:blipFill>
          <a:blip r:embed="rId15"/>
          <a:stretch/>
        </p:blipFill>
        <p:spPr>
          <a:xfrm>
            <a:off x="6772320" y="2011320"/>
            <a:ext cx="507960" cy="4716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7196760" y="1452600"/>
            <a:ext cx="851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תקשור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במקר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95840" y="2463840"/>
            <a:ext cx="4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רו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bkcl1o" descr=""/>
          <p:cNvPicPr/>
          <p:nvPr/>
        </p:nvPicPr>
        <p:blipFill>
          <a:blip r:embed="rId16"/>
          <a:stretch/>
        </p:blipFill>
        <p:spPr>
          <a:xfrm>
            <a:off x="7399440" y="2009880"/>
            <a:ext cx="523800" cy="4442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7317720" y="3130560"/>
            <a:ext cx="669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חשבו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שלב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50840" y="41702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שר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33360" y="3141720"/>
            <a:ext cx="73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טאי צ'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733440" y="4172040"/>
            <a:ext cx="49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תמ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acs1" descr=""/>
          <p:cNvPicPr/>
          <p:nvPr/>
        </p:nvPicPr>
        <p:blipFill>
          <a:blip r:embed="rId17"/>
          <a:stretch/>
        </p:blipFill>
        <p:spPr>
          <a:xfrm>
            <a:off x="6788160" y="3552840"/>
            <a:ext cx="446040" cy="44604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229520" y="5029200"/>
            <a:ext cx="84960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סדנאו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תחלפו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467480" y="5638680"/>
            <a:ext cx="387360" cy="152640"/>
          </a:xfrm>
          <a:custGeom>
            <a:avLst/>
            <a:gdLst>
              <a:gd name="textAreaLeft" fmla="*/ 67680 w 387360"/>
              <a:gd name="textAreaRight" fmla="*/ 280800 w 387360"/>
              <a:gd name="textAreaTop" fmla="*/ 20160 h 152640"/>
              <a:gd name="textAreaBottom" fmla="*/ 132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7439040" y="5805360"/>
            <a:ext cx="372960" cy="208080"/>
          </a:xfrm>
          <a:custGeom>
            <a:avLst/>
            <a:gdLst>
              <a:gd name="textAreaLeft" fmla="*/ 65160 w 372960"/>
              <a:gd name="textAreaRight" fmla="*/ 270360 w 372960"/>
              <a:gd name="textAreaTop" fmla="*/ 27720 h 208080"/>
              <a:gd name="textAreaBottom" fmla="*/ 180360 h 20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606360" y="5027760"/>
            <a:ext cx="8557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אנגלי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תקדמי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a2" descr=""/>
          <p:cNvPicPr/>
          <p:nvPr/>
        </p:nvPicPr>
        <p:blipFill>
          <a:blip r:embed="rId18"/>
          <a:stretch/>
        </p:blipFill>
        <p:spPr>
          <a:xfrm>
            <a:off x="6767640" y="5567400"/>
            <a:ext cx="239760" cy="274680"/>
          </a:xfrm>
          <a:prstGeom prst="rect">
            <a:avLst/>
          </a:prstGeom>
          <a:ln w="0">
            <a:noFill/>
          </a:ln>
        </p:spPr>
      </p:pic>
      <p:pic>
        <p:nvPicPr>
          <p:cNvPr id="140" name="b2" descr=""/>
          <p:cNvPicPr/>
          <p:nvPr/>
        </p:nvPicPr>
        <p:blipFill>
          <a:blip r:embed="rId19"/>
          <a:stretch/>
        </p:blipFill>
        <p:spPr>
          <a:xfrm>
            <a:off x="7048440" y="5761080"/>
            <a:ext cx="228600" cy="25092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758280" y="60292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נע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329600" y="5067360"/>
            <a:ext cx="0" cy="12621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110280" y="1511280"/>
            <a:ext cx="6480" cy="1254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346880" y="3584520"/>
            <a:ext cx="563400" cy="571680"/>
            <a:chOff x="7346880" y="3584520"/>
            <a:chExt cx="563400" cy="571680"/>
          </a:xfrm>
        </p:grpSpPr>
        <p:pic>
          <p:nvPicPr>
            <p:cNvPr id="145" name="mark1" descr=""/>
            <p:cNvPicPr/>
            <p:nvPr/>
          </p:nvPicPr>
          <p:blipFill>
            <a:blip r:embed="rId20"/>
            <a:stretch/>
          </p:blipFill>
          <p:spPr>
            <a:xfrm>
              <a:off x="7346880" y="3868920"/>
              <a:ext cx="28728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mark2" descr=""/>
            <p:cNvPicPr/>
            <p:nvPr/>
          </p:nvPicPr>
          <p:blipFill>
            <a:blip r:embed="rId21"/>
            <a:stretch/>
          </p:blipFill>
          <p:spPr>
            <a:xfrm>
              <a:off x="7621200" y="38689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mark3" descr=""/>
            <p:cNvPicPr/>
            <p:nvPr/>
          </p:nvPicPr>
          <p:blipFill>
            <a:blip r:embed="rId22"/>
            <a:stretch/>
          </p:blipFill>
          <p:spPr>
            <a:xfrm>
              <a:off x="7349760" y="3584520"/>
              <a:ext cx="287640" cy="28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mark4" descr=""/>
            <p:cNvPicPr/>
            <p:nvPr/>
          </p:nvPicPr>
          <p:blipFill>
            <a:blip r:embed="rId23"/>
            <a:stretch/>
          </p:blipFill>
          <p:spPr>
            <a:xfrm>
              <a:off x="7623000" y="3584520"/>
              <a:ext cx="287280" cy="2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9" name=""/>
          <p:cNvSpPr/>
          <p:nvPr/>
        </p:nvSpPr>
        <p:spPr>
          <a:xfrm rot="1203600">
            <a:off x="6200280" y="2066400"/>
            <a:ext cx="379440" cy="3556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114240" y="1454040"/>
            <a:ext cx="709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כ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התחי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הכל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30440" y="246528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מיכ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6026040" y="3187800"/>
            <a:ext cx="6480" cy="125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angela_looking_up_md_wht" descr=""/>
          <p:cNvPicPr/>
          <p:nvPr/>
        </p:nvPicPr>
        <p:blipFill>
          <a:blip r:embed="rId24"/>
          <a:stretch/>
        </p:blipFill>
        <p:spPr>
          <a:xfrm>
            <a:off x="6172200" y="5611680"/>
            <a:ext cx="498600" cy="4986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959800" y="5014800"/>
            <a:ext cx="871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ספרי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פנטזי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60400" y="604044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מיכ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6064200" y="5054760"/>
            <a:ext cx="6480" cy="125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82360" y="4987800"/>
            <a:ext cx="73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חשבו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שלב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80640" y="602784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שר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491080" y="5442120"/>
            <a:ext cx="563400" cy="570960"/>
            <a:chOff x="5491080" y="5442120"/>
            <a:chExt cx="563400" cy="570960"/>
          </a:xfrm>
        </p:grpSpPr>
        <p:pic>
          <p:nvPicPr>
            <p:cNvPr id="160" name="mark1" descr=""/>
            <p:cNvPicPr/>
            <p:nvPr/>
          </p:nvPicPr>
          <p:blipFill>
            <a:blip r:embed="rId25"/>
            <a:stretch/>
          </p:blipFill>
          <p:spPr>
            <a:xfrm>
              <a:off x="5491080" y="5726160"/>
              <a:ext cx="28728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1" name="mark2" descr=""/>
            <p:cNvPicPr/>
            <p:nvPr/>
          </p:nvPicPr>
          <p:blipFill>
            <a:blip r:embed="rId26"/>
            <a:stretch/>
          </p:blipFill>
          <p:spPr>
            <a:xfrm>
              <a:off x="5765400" y="5726160"/>
              <a:ext cx="287640" cy="286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mark3" descr=""/>
            <p:cNvPicPr/>
            <p:nvPr/>
          </p:nvPicPr>
          <p:blipFill>
            <a:blip r:embed="rId27"/>
            <a:stretch/>
          </p:blipFill>
          <p:spPr>
            <a:xfrm>
              <a:off x="5493960" y="5442120"/>
              <a:ext cx="287640" cy="2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mark4" descr=""/>
            <p:cNvPicPr/>
            <p:nvPr/>
          </p:nvPicPr>
          <p:blipFill>
            <a:blip r:embed="rId28"/>
            <a:stretch/>
          </p:blipFill>
          <p:spPr>
            <a:xfrm>
              <a:off x="5767200" y="5442120"/>
              <a:ext cx="287280" cy="28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"/>
          <p:cNvSpPr/>
          <p:nvPr/>
        </p:nvSpPr>
        <p:spPr>
          <a:xfrm>
            <a:off x="4671360" y="3143160"/>
            <a:ext cx="903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שחק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חשבון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שלב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I</a:t>
            </a:r>
            <a:r>
              <a:rPr b="1" lang="he-IL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+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81200" y="3149640"/>
            <a:ext cx="80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הרכבי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כליים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651480" y="41482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נע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femcond112l" descr=""/>
          <p:cNvPicPr/>
          <p:nvPr/>
        </p:nvPicPr>
        <p:blipFill>
          <a:blip r:embed="rId29"/>
          <a:stretch/>
        </p:blipFill>
        <p:spPr>
          <a:xfrm>
            <a:off x="3705120" y="3652920"/>
            <a:ext cx="408240" cy="4744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3564000" y="3200400"/>
            <a:ext cx="0" cy="123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flag_v1" descr=""/>
          <p:cNvPicPr/>
          <p:nvPr/>
        </p:nvPicPr>
        <p:blipFill>
          <a:blip r:embed="rId30"/>
          <a:stretch/>
        </p:blipFill>
        <p:spPr>
          <a:xfrm>
            <a:off x="4835520" y="3794040"/>
            <a:ext cx="219240" cy="409680"/>
          </a:xfrm>
          <a:prstGeom prst="rect">
            <a:avLst/>
          </a:prstGeom>
          <a:ln w="0">
            <a:noFill/>
          </a:ln>
        </p:spPr>
      </p:pic>
      <p:pic>
        <p:nvPicPr>
          <p:cNvPr id="170" name="flag_v2" descr=""/>
          <p:cNvPicPr/>
          <p:nvPr/>
        </p:nvPicPr>
        <p:blipFill>
          <a:blip r:embed="rId31"/>
          <a:stretch/>
        </p:blipFill>
        <p:spPr>
          <a:xfrm>
            <a:off x="5156280" y="3780000"/>
            <a:ext cx="218880" cy="4093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 flipH="1">
            <a:off x="3601800" y="5057640"/>
            <a:ext cx="6120" cy="1254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96560" y="5027760"/>
            <a:ext cx="7963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אנגלי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200" spc="-1" strike="noStrike">
                <a:solidFill>
                  <a:srgbClr val="0000ff"/>
                </a:solidFill>
                <a:latin typeface="Times New Roman"/>
                <a:cs typeface="Arial"/>
              </a:rPr>
              <a:t>מתחילי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45520" y="6035760"/>
            <a:ext cx="67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דבור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a2" descr=""/>
          <p:cNvPicPr/>
          <p:nvPr/>
        </p:nvPicPr>
        <p:blipFill>
          <a:blip r:embed="rId32"/>
          <a:stretch/>
        </p:blipFill>
        <p:spPr>
          <a:xfrm>
            <a:off x="3013200" y="5530680"/>
            <a:ext cx="239760" cy="274680"/>
          </a:xfrm>
          <a:prstGeom prst="rect">
            <a:avLst/>
          </a:prstGeom>
          <a:ln w="0">
            <a:noFill/>
          </a:ln>
        </p:spPr>
      </p:pic>
      <p:pic>
        <p:nvPicPr>
          <p:cNvPr id="175" name="b2" descr=""/>
          <p:cNvPicPr/>
          <p:nvPr/>
        </p:nvPicPr>
        <p:blipFill>
          <a:blip r:embed="rId33"/>
          <a:stretch/>
        </p:blipFill>
        <p:spPr>
          <a:xfrm>
            <a:off x="3325680" y="5691240"/>
            <a:ext cx="228600" cy="250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 rot="1203600">
            <a:off x="3665160" y="5698800"/>
            <a:ext cx="379440" cy="3556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579120" y="5000760"/>
            <a:ext cx="709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כ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התחי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הכל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594960" y="602604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מיכ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398320" y="1522440"/>
            <a:ext cx="4680" cy="123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92120" y="1457280"/>
            <a:ext cx="76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בוא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לתכנו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28840"/>
            <a:ext cx="930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היסטורי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ש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המוסיק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computer" descr=""/>
          <p:cNvPicPr/>
          <p:nvPr/>
        </p:nvPicPr>
        <p:blipFill>
          <a:blip r:embed="rId34"/>
          <a:stretch/>
        </p:blipFill>
        <p:spPr>
          <a:xfrm>
            <a:off x="2419200" y="1967040"/>
            <a:ext cx="501840" cy="4856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364480" y="2440080"/>
            <a:ext cx="660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תמר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8th_2_29x45" descr=""/>
          <p:cNvPicPr/>
          <p:nvPr/>
        </p:nvPicPr>
        <p:blipFill>
          <a:blip r:embed="rId35"/>
          <a:stretch/>
        </p:blipFill>
        <p:spPr>
          <a:xfrm>
            <a:off x="1870200" y="2063880"/>
            <a:ext cx="287280" cy="4442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1810080" y="2444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נע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579680" y="3141720"/>
            <a:ext cx="90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אנגלי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תחילי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a2" descr=""/>
          <p:cNvPicPr/>
          <p:nvPr/>
        </p:nvPicPr>
        <p:blipFill>
          <a:blip r:embed="rId36"/>
          <a:stretch/>
        </p:blipFill>
        <p:spPr>
          <a:xfrm>
            <a:off x="1793880" y="3645000"/>
            <a:ext cx="239760" cy="274680"/>
          </a:xfrm>
          <a:prstGeom prst="rect">
            <a:avLst/>
          </a:prstGeom>
          <a:ln w="0">
            <a:noFill/>
          </a:ln>
        </p:spPr>
      </p:pic>
      <p:pic>
        <p:nvPicPr>
          <p:cNvPr id="188" name="b2" descr=""/>
          <p:cNvPicPr/>
          <p:nvPr/>
        </p:nvPicPr>
        <p:blipFill>
          <a:blip r:embed="rId37"/>
          <a:stretch/>
        </p:blipFill>
        <p:spPr>
          <a:xfrm>
            <a:off x="2106720" y="3805200"/>
            <a:ext cx="228600" cy="2509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795680" y="4146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נע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angela_looking_up_md_wht" descr=""/>
          <p:cNvPicPr/>
          <p:nvPr/>
        </p:nvPicPr>
        <p:blipFill>
          <a:blip r:embed="rId38"/>
          <a:stretch/>
        </p:blipFill>
        <p:spPr>
          <a:xfrm>
            <a:off x="1793880" y="5638680"/>
            <a:ext cx="498600" cy="4986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1624320" y="4998960"/>
            <a:ext cx="871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ספרי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מפנטזי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e-IL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   </a:t>
            </a:r>
            <a:r>
              <a:rPr b="1" lang="en-US" sz="1400" spc="-1" strike="noStrike">
                <a:solidFill>
                  <a:srgbClr val="0000ff"/>
                </a:solidFill>
                <a:latin typeface="Times New Roman"/>
                <a:ea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96400" y="6024600"/>
            <a:ext cx="56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מיכ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565600" y="2489040"/>
            <a:ext cx="489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00"/>
                </a:solidFill>
                <a:latin typeface="Times New Roman"/>
                <a:cs typeface="Arial"/>
              </a:rPr>
              <a:t>גאל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614560" y="1463760"/>
            <a:ext cx="56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גו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400" spc="-1" strike="noStrike">
                <a:solidFill>
                  <a:srgbClr val="0000ff"/>
                </a:solidFill>
                <a:latin typeface="Times New Roman"/>
                <a:cs typeface="Arial"/>
              </a:rPr>
              <a:t>ונפ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1s" descr=""/>
          <p:cNvPicPr/>
          <p:nvPr/>
        </p:nvPicPr>
        <p:blipFill>
          <a:blip r:embed="rId39"/>
          <a:stretch/>
        </p:blipFill>
        <p:spPr>
          <a:xfrm>
            <a:off x="5527800" y="2031840"/>
            <a:ext cx="430200" cy="43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2T18:03:28Z</dcterms:created>
  <dc:creator>Administrator</dc:creator>
  <dc:description/>
  <dc:language>en-US</dc:language>
  <cp:lastModifiedBy>Administrator</cp:lastModifiedBy>
  <dcterms:modified xsi:type="dcterms:W3CDTF">2001-09-18T15:35:48Z</dcterms:modified>
  <cp:revision>166</cp:revision>
  <dc:subject/>
  <dc:title>מצגת של PowerPoint</dc:title>
</cp:coreProperties>
</file>