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169-51D0-45F6-94FA-F0B2A902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225-3980-4350-BECD-A558C55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FE9-CBE8-4079-8E66-6B4E8E2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BE0-BBEB-4DFE-B159-6174EF3E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178-D916-4240-9514-5194EA4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F1D-A8E6-4508-A023-9D528F5C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CB3-5E0E-4020-8033-7B48C0B5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EA4-EE15-4741-A306-D9AA901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82D-7A3F-498A-BCE2-45DC16E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EA2-8E62-49EE-A635-A39BBF2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D48-838C-4490-9CF6-9C1CEE4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5CB-9371-46C8-8A6F-8286F06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9690-972A-447E-B4FB-593FEDD5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gif"/><Relationship Id="rId12" Type="http://schemas.openxmlformats.org/officeDocument/2006/relationships/image" Target="../media/image6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image" Target="../media/image13.gif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14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9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80" y="1093680"/>
            <a:ext cx="8156520" cy="567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68440" y="6526080"/>
            <a:ext cx="68025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760" y="811080"/>
            <a:ext cx="81597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99800" y="961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:00-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28360" y="9586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4884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228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1120" y="9478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680" y="96840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440" y="139212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12760" y="16956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:45-9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9200" y="514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אש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09120" y="52704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נ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360" y="5270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ל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7240" y="5414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ביע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4640" y="5284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חמ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5120" y="52704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0120" y="14400"/>
            <a:ext cx="56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כיתות ג'-ו': מערכת שעות לבחירה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סמסטר ב' תשס"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920" y="2359080"/>
            <a:ext cx="81486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85040" y="26398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:35-9: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240" y="344016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240" y="439740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08360" y="468792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:20-11: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5200" y="5649840"/>
            <a:ext cx="680256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9800" y="37497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:30-10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93960" y="58467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:25-12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9400" y="495360"/>
            <a:ext cx="0" cy="627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7160" y="490680"/>
            <a:ext cx="0" cy="627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3720" y="485640"/>
            <a:ext cx="0" cy="628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7440" y="495360"/>
            <a:ext cx="0" cy="626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63760" y="490680"/>
            <a:ext cx="1440" cy="627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5960" y="490680"/>
            <a:ext cx="0" cy="603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5720" y="1343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דיטצ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32080" y="1373040"/>
            <a:ext cx="666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 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9880" y="13431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ד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34040" y="205092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ח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8000" y="3429000"/>
            <a:ext cx="9824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1840" y="34005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2680" y="44085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84960" y="468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48640" y="50036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טב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2320" y="4417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43320" y="46893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26040" y="50101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62760" y="468144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080" y="49626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84320" y="23115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בריא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33360" y="24559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03840" y="302904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זה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85520" y="1365120"/>
            <a:ext cx="81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הרגש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שבשיר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71280" y="158256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71920" y="233352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0520" y="30272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5720" y="43527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2" descr=""/>
          <p:cNvPicPr/>
          <p:nvPr/>
        </p:nvPicPr>
        <p:blipFill>
          <a:blip r:embed="rId2"/>
          <a:stretch/>
        </p:blipFill>
        <p:spPr>
          <a:xfrm>
            <a:off x="6319800" y="470376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97" name="b2" descr=""/>
          <p:cNvPicPr/>
          <p:nvPr/>
        </p:nvPicPr>
        <p:blipFill>
          <a:blip r:embed="rId3"/>
          <a:stretch/>
        </p:blipFill>
        <p:spPr>
          <a:xfrm>
            <a:off x="6618240" y="489276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35640" y="449568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ד'-ה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6640" y="50706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0600" y="561024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99000" y="63133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66320" y="576576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57960" y="6054840"/>
            <a:ext cx="561960" cy="287280"/>
            <a:chOff x="7257960" y="6054840"/>
            <a:chExt cx="561960" cy="287280"/>
          </a:xfrm>
        </p:grpSpPr>
        <p:pic>
          <p:nvPicPr>
            <p:cNvPr id="104" name="mark1" descr=""/>
            <p:cNvPicPr/>
            <p:nvPr/>
          </p:nvPicPr>
          <p:blipFill>
            <a:blip r:embed="rId4"/>
            <a:stretch/>
          </p:blipFill>
          <p:spPr>
            <a:xfrm>
              <a:off x="7257960" y="60548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mark2" descr=""/>
            <p:cNvPicPr/>
            <p:nvPr/>
          </p:nvPicPr>
          <p:blipFill>
            <a:blip r:embed="rId5"/>
            <a:stretch/>
          </p:blipFill>
          <p:spPr>
            <a:xfrm>
              <a:off x="7532280" y="605484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6229440" y="4417920"/>
            <a:ext cx="144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99000" y="43750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יתולוג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84040" y="50626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8280" y="20239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31200" y="153360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1349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טב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99360" y="13557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cj1a" descr=""/>
          <p:cNvPicPr/>
          <p:nvPr/>
        </p:nvPicPr>
        <p:blipFill>
          <a:blip r:embed="rId6"/>
          <a:stretch/>
        </p:blipFill>
        <p:spPr>
          <a:xfrm>
            <a:off x="4307040" y="158580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64640" y="56134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יני פרלמנ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1880" y="34624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1440" y="435132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גינ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0040" y="505764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8720" y="20001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2000" y="1725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רקט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23160" y="17431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53360" y="1727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ור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85680" y="23115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5840" y="2313000"/>
            <a:ext cx="4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ג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2560" y="23004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7720" y="560700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ושב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תו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7080" y="631044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7280" y="59436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8280" y="341316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מחשב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1320" y="342108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1800" y="37353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8760" y="371304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31400" y="3733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3240" y="40734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58760" y="40813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37116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1320" y="403560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4560" y="16779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33160" y="1687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ינ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77840" y="207648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5880" y="20210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ילוסיק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70920" y="20066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2960" y="16732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4760" y="19782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3800" y="23004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ילוסיק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0160" y="2427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8640" y="409104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0680" y="35575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26320" y="341316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פור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760" y="43624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תאטר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8440" y="4371840"/>
            <a:ext cx="3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8160" y="43815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12360" y="50385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5160" y="502920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קה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8200" y="608184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34880" y="608004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קה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7800" y="631332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מ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33240" y="6286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1880" y="13572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כלכ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4200" y="13590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" y="136044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מולי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3520" y="162396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יצי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20" y="16556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נג'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" y="186696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מועדון דמוקרט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0" y="20448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הודית+אי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360" y="164772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680" y="19144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480" y="3240000"/>
            <a:ext cx="135396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0360" y="318924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480" y="3432240"/>
            <a:ext cx="1352520" cy="18446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ccj7a" descr=""/>
          <p:cNvPicPr/>
          <p:nvPr/>
        </p:nvPicPr>
        <p:blipFill>
          <a:blip r:embed="rId8"/>
          <a:stretch/>
        </p:blipFill>
        <p:spPr>
          <a:xfrm>
            <a:off x="4268880" y="5864400"/>
            <a:ext cx="1224000" cy="633240"/>
          </a:xfrm>
          <a:prstGeom prst="rect">
            <a:avLst/>
          </a:prstGeom>
          <a:ln w="0">
            <a:noFill/>
          </a:ln>
        </p:spPr>
      </p:pic>
      <p:pic>
        <p:nvPicPr>
          <p:cNvPr id="171" name="ccplant3" descr=""/>
          <p:cNvPicPr/>
          <p:nvPr/>
        </p:nvPicPr>
        <p:blipFill>
          <a:blip r:embed="rId9"/>
          <a:stretch/>
        </p:blipFill>
        <p:spPr>
          <a:xfrm>
            <a:off x="5018040" y="4618080"/>
            <a:ext cx="5176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ccschoolread2" descr=""/>
          <p:cNvPicPr/>
          <p:nvPr/>
        </p:nvPicPr>
        <p:blipFill>
          <a:blip r:embed="rId10"/>
          <a:stretch/>
        </p:blipFill>
        <p:spPr>
          <a:xfrm>
            <a:off x="6340320" y="264312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42080" y="422100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רלמנ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5800" y="2062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נית 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0600" y="140796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rofessor_of_anatomy_md_wht" descr=""/>
          <p:cNvPicPr/>
          <p:nvPr/>
        </p:nvPicPr>
        <p:blipFill>
          <a:blip r:embed="rId11"/>
          <a:stretch/>
        </p:blipFill>
        <p:spPr>
          <a:xfrm>
            <a:off x="5573880" y="2671920"/>
            <a:ext cx="517320" cy="41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235560" y="2389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4440" y="378612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1120" y="37432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37160" y="23083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ccj1a" descr=""/>
          <p:cNvPicPr/>
          <p:nvPr/>
        </p:nvPicPr>
        <p:blipFill>
          <a:blip r:embed="rId12"/>
          <a:stretch/>
        </p:blipFill>
        <p:spPr>
          <a:xfrm>
            <a:off x="4344840" y="253836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71760" y="341316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20360" y="41068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cschoolread2" descr=""/>
          <p:cNvPicPr/>
          <p:nvPr/>
        </p:nvPicPr>
        <p:blipFill>
          <a:blip r:embed="rId13"/>
          <a:stretch/>
        </p:blipFill>
        <p:spPr>
          <a:xfrm>
            <a:off x="4340160" y="3722760"/>
            <a:ext cx="436680" cy="428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43280" y="13557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0800" y="13525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34600" y="200988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0040" y="29811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2160" y="3451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38960" y="486396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מ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4800" y="48369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46101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39720" y="507672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ss_sun2" descr=""/>
          <p:cNvPicPr/>
          <p:nvPr/>
        </p:nvPicPr>
        <p:blipFill>
          <a:blip r:embed="rId14"/>
          <a:stretch/>
        </p:blipFill>
        <p:spPr>
          <a:xfrm>
            <a:off x="5702400" y="1736640"/>
            <a:ext cx="374400" cy="37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393680" y="49910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360" y="45007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96760" y="153828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שחקי חשי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45480" y="1568520"/>
            <a:ext cx="403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ו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4040" y="1862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77600" y="1758960"/>
            <a:ext cx="12992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תקשורת במקר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85960" y="18572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72480" y="158436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72480" y="177804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70680" y="20829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07160" y="23130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דיטצ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33520" y="2343240"/>
            <a:ext cx="666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 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1320" y="23130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ד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35480" y="302112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ח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79280" y="304632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27040" y="250812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פור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7840" y="2538360"/>
            <a:ext cx="432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5480" y="2832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79040" y="2728800"/>
            <a:ext cx="12992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תקשורת במקר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87400" y="28274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73920" y="255420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73920" y="27478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72480" y="30528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6920" y="2508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81320" y="3809880"/>
            <a:ext cx="66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5160" y="378144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7560" y="37720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4520" y="4113360"/>
            <a:ext cx="825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היסטור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9040" y="40845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3080" y="40752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53400" y="373392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0575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88920" y="341784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8480" y="34099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3160" y="343044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43760" y="4114800"/>
            <a:ext cx="858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גיאוגרפ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78200" y="40863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8880" y="40766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92600" y="40593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02320" y="372600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goz16z" descr=""/>
          <p:cNvPicPr/>
          <p:nvPr/>
        </p:nvPicPr>
        <p:blipFill>
          <a:blip r:embed="rId15"/>
          <a:stretch/>
        </p:blipFill>
        <p:spPr>
          <a:xfrm>
            <a:off x="5587920" y="4749840"/>
            <a:ext cx="563760" cy="334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238800" y="567072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79480" y="56055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a2" descr=""/>
          <p:cNvPicPr/>
          <p:nvPr/>
        </p:nvPicPr>
        <p:blipFill>
          <a:blip r:embed="rId16"/>
          <a:stretch/>
        </p:blipFill>
        <p:spPr>
          <a:xfrm>
            <a:off x="6300720" y="5942160"/>
            <a:ext cx="239760" cy="274320"/>
          </a:xfrm>
          <a:prstGeom prst="rect">
            <a:avLst/>
          </a:prstGeom>
          <a:ln w="0">
            <a:noFill/>
          </a:ln>
        </p:spPr>
      </p:pic>
      <p:pic>
        <p:nvPicPr>
          <p:cNvPr id="239" name="b2" descr=""/>
          <p:cNvPicPr/>
          <p:nvPr/>
        </p:nvPicPr>
        <p:blipFill>
          <a:blip r:embed="rId17"/>
          <a:stretch/>
        </p:blipFill>
        <p:spPr>
          <a:xfrm>
            <a:off x="6599160" y="614520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474600" y="57484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0" y="630864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9080" y="34005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a2" descr=""/>
          <p:cNvPicPr/>
          <p:nvPr/>
        </p:nvPicPr>
        <p:blipFill>
          <a:blip r:embed="rId18"/>
          <a:stretch/>
        </p:blipFill>
        <p:spPr>
          <a:xfrm>
            <a:off x="4943520" y="376560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244" name="b2" descr=""/>
          <p:cNvPicPr/>
          <p:nvPr/>
        </p:nvPicPr>
        <p:blipFill>
          <a:blip r:embed="rId19"/>
          <a:stretch/>
        </p:blipFill>
        <p:spPr>
          <a:xfrm>
            <a:off x="5270400" y="394020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933080" y="354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9440" y="410364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84560" y="2016000"/>
            <a:ext cx="11196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-פרטנ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68920" y="1990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פי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01960" y="170964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90760" y="13986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ד'-ה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6400" y="14097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14920" y="14130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60360" y="246384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פרים מפנטז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5600" y="26128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1920" y="259560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75920" y="2762280"/>
            <a:ext cx="1123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 כלי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9640" y="287640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72800" y="28623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71600" y="3041640"/>
            <a:ext cx="11196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-פרטנ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02400" y="30132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פי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82880" y="252900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8200" y="28098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87560" y="30765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9400" y="56116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4840" y="631512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45120" y="576756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251160" y="6056280"/>
            <a:ext cx="561960" cy="287280"/>
            <a:chOff x="3251160" y="6056280"/>
            <a:chExt cx="561960" cy="287280"/>
          </a:xfrm>
        </p:grpSpPr>
        <p:pic>
          <p:nvPicPr>
            <p:cNvPr id="268" name="mark1" descr=""/>
            <p:cNvPicPr/>
            <p:nvPr/>
          </p:nvPicPr>
          <p:blipFill>
            <a:blip r:embed="rId20"/>
            <a:stretch/>
          </p:blipFill>
          <p:spPr>
            <a:xfrm>
              <a:off x="3251160" y="605628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mark2" descr=""/>
            <p:cNvPicPr/>
            <p:nvPr/>
          </p:nvPicPr>
          <p:blipFill>
            <a:blip r:embed="rId21"/>
            <a:stretch/>
          </p:blipFill>
          <p:spPr>
            <a:xfrm>
              <a:off x="3525480" y="605628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harpist" descr=""/>
          <p:cNvPicPr/>
          <p:nvPr/>
        </p:nvPicPr>
        <p:blipFill>
          <a:blip r:embed="rId22"/>
          <a:stretch/>
        </p:blipFill>
        <p:spPr>
          <a:xfrm>
            <a:off x="2317680" y="2395440"/>
            <a:ext cx="473040" cy="797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210760" y="34084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56200" y="411156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46480" y="356400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224080" y="3852720"/>
            <a:ext cx="561960" cy="287280"/>
            <a:chOff x="2224080" y="3852720"/>
            <a:chExt cx="561960" cy="287280"/>
          </a:xfrm>
        </p:grpSpPr>
        <p:pic>
          <p:nvPicPr>
            <p:cNvPr id="275" name="mark1" descr=""/>
            <p:cNvPicPr/>
            <p:nvPr/>
          </p:nvPicPr>
          <p:blipFill>
            <a:blip r:embed="rId23"/>
            <a:stretch/>
          </p:blipFill>
          <p:spPr>
            <a:xfrm>
              <a:off x="2224080" y="3852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mark2" descr=""/>
            <p:cNvPicPr/>
            <p:nvPr/>
          </p:nvPicPr>
          <p:blipFill>
            <a:blip r:embed="rId24"/>
            <a:stretch/>
          </p:blipFill>
          <p:spPr>
            <a:xfrm>
              <a:off x="2498400" y="385272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7" name="1s" descr=""/>
          <p:cNvPicPr/>
          <p:nvPr/>
        </p:nvPicPr>
        <p:blipFill>
          <a:blip r:embed="rId25"/>
          <a:stretch/>
        </p:blipFill>
        <p:spPr>
          <a:xfrm>
            <a:off x="1679400" y="381636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39720" y="48340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17320" y="45957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77480" y="4597560"/>
            <a:ext cx="4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ג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4200" y="458460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6040" y="562752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42440" y="5638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3800" y="564192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41000" y="5872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תאטר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7200" y="5881680"/>
            <a:ext cx="3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85800" y="589104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8920" y="610704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09840" y="588816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09840" y="633096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87760" y="23288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כדורס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560" y="2344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6320" y="2332080"/>
            <a:ext cx="38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נ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86760" y="25956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יצי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560" y="2627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נג'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760" y="283860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מועדון דמוקרט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880" y="30160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הודית+אי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1600" y="261936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6920" y="288612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03320" y="64850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:40-13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2240" y="650880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9036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5656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8028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1840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wa02" descr=""/>
          <p:cNvPicPr/>
          <p:nvPr/>
        </p:nvPicPr>
        <p:blipFill>
          <a:blip r:embed="rId26"/>
          <a:stretch/>
        </p:blipFill>
        <p:spPr>
          <a:xfrm>
            <a:off x="5772240" y="6151680"/>
            <a:ext cx="228600" cy="239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297600" y="4368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wdnshapes" descr=""/>
          <p:cNvPicPr/>
          <p:nvPr/>
        </p:nvPicPr>
        <p:blipFill>
          <a:blip r:embed="rId27"/>
          <a:stretch/>
        </p:blipFill>
        <p:spPr>
          <a:xfrm>
            <a:off x="3343320" y="4726080"/>
            <a:ext cx="449280" cy="49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310560" y="451476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wdnshapes" descr=""/>
          <p:cNvPicPr/>
          <p:nvPr/>
        </p:nvPicPr>
        <p:blipFill>
          <a:blip r:embed="rId28"/>
          <a:stretch/>
        </p:blipFill>
        <p:spPr>
          <a:xfrm>
            <a:off x="3343320" y="4726080"/>
            <a:ext cx="449280" cy="492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883040" y="441792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3760" y="435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כלכ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69680" y="4511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04800" y="50403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32160" y="504036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מולי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10shekel" descr=""/>
          <p:cNvPicPr/>
          <p:nvPr/>
        </p:nvPicPr>
        <p:blipFill>
          <a:blip r:embed="rId29"/>
          <a:stretch/>
        </p:blipFill>
        <p:spPr>
          <a:xfrm>
            <a:off x="4351320" y="471024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317" name="ccschoolread1" descr=""/>
          <p:cNvPicPr/>
          <p:nvPr/>
        </p:nvPicPr>
        <p:blipFill>
          <a:blip r:embed="rId30"/>
          <a:stretch/>
        </p:blipFill>
        <p:spPr>
          <a:xfrm>
            <a:off x="6375240" y="1795320"/>
            <a:ext cx="3970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18:03:28Z</dcterms:created>
  <dc:creator/>
  <dc:description/>
  <dc:language>en-US</dc:language>
  <cp:lastModifiedBy>--</cp:lastModifiedBy>
  <dcterms:modified xsi:type="dcterms:W3CDTF">2002-03-16T15:20:30Z</dcterms:modified>
  <cp:revision>300</cp:revision>
  <dc:subject/>
  <dc:title>מצגת של PowerPoint</dc:title>
</cp:coreProperties>
</file>